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27CD-6EA8-4FF3-8DE8-B346A396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763D-0305-4E23-8314-39338D51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F2C5-19FB-4887-8AE5-1A1C5987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73D1-EC63-4EC0-8EB6-3450C595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A519-C706-4F7E-A96E-35130E4E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4835-3378-4CBE-878E-6E520F9B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C8D9-3BEF-46C8-89F6-35BEF167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993B-CEB7-412E-A330-42CA0263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E32C-E5EF-4EC3-9A1E-42EDDBED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0DB6-99D9-4923-AC14-82D616C7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33FA-8E29-4E7B-8BCE-F7ACD417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580A-056A-4528-8274-3876767D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79BD-8AA2-459C-80AD-12194D49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0BD1-7F38-4125-B83E-7D09CE3C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85C8-060B-449A-8F02-1865CFC9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EBD6-0C05-4004-BF74-80366B34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210E-C766-49CC-844C-BAC3B7F2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4625-1FF0-40DF-9ABD-EB502798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B6D1-B3EB-4725-AF94-FBFD7706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8CFC-36F1-491E-B73A-B851BBF4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DF42-BFB5-426D-8CD8-6B793338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9E36-EF46-4F7E-BA7D-743ED206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F43D-4004-4EDC-9DBE-72E7E7E1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FA9F-DE94-4C49-8652-067BC7A1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1E38-60E2-453B-AAFC-91119274308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2044-C00D-452D-93BA-EA243E93878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я к уроку окружающего мира по теме «Что такое экологи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класс 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грамма Л.В. Занк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ил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озуля Н.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50920" y="333360"/>
            <a:ext cx="54007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4968720" cy="5329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859280" y="189000"/>
            <a:ext cx="4032360" cy="63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entury Schoolbook"/>
              </a:rPr>
              <a:t>Давайте будем</a:t>
            </a:r>
            <a:r>
              <a:rPr b="1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Century Schoolbook"/>
              </a:rPr>
              <a:t>беречь планету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Century Schoolbook"/>
              </a:rPr>
              <a:t>Во всей Вселенной</a:t>
            </a:r>
            <a:r>
              <a:rPr b="1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en-US" sz="4800" spc="-1" strike="noStrike">
                <a:solidFill>
                  <a:srgbClr val="009900"/>
                </a:solidFill>
                <a:latin typeface="Century Schoolbook"/>
              </a:rPr>
              <a:t>похожей нету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195640" y="3141720"/>
            <a:ext cx="790560" cy="79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Вод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8137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Воздух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5" name="Рисунок 19" descr="Vozduh-300.jpg"/>
          <p:cNvPicPr/>
          <p:nvPr/>
        </p:nvPicPr>
        <p:blipFill>
          <a:blip r:embed="rId2"/>
          <a:stretch/>
        </p:blipFill>
        <p:spPr>
          <a:xfrm>
            <a:off x="4932360" y="1628640"/>
            <a:ext cx="3960720" cy="4321440"/>
          </a:xfrm>
          <a:prstGeom prst="rect">
            <a:avLst/>
          </a:prstGeom>
          <a:ln w="38160">
            <a:solidFill>
              <a:srgbClr val="05050e"/>
            </a:solidFill>
            <a:miter/>
          </a:ln>
        </p:spPr>
      </p:pic>
      <p:pic>
        <p:nvPicPr>
          <p:cNvPr id="86" name="Рисунок 18" descr="R%20-%20zhilkino2156!.jpg"/>
          <p:cNvPicPr/>
          <p:nvPr/>
        </p:nvPicPr>
        <p:blipFill>
          <a:blip r:embed="rId3"/>
          <a:stretch/>
        </p:blipFill>
        <p:spPr>
          <a:xfrm>
            <a:off x="468360" y="1628640"/>
            <a:ext cx="4032360" cy="4321440"/>
          </a:xfrm>
          <a:prstGeom prst="rect">
            <a:avLst/>
          </a:prstGeom>
          <a:ln w="38160">
            <a:solidFill>
              <a:srgbClr val="05050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Растения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4176720" cy="4969080"/>
          </a:xfrm>
          <a:prstGeom prst="rect">
            <a:avLst/>
          </a:prstGeom>
          <a:ln w="3240">
            <a:solidFill>
              <a:srgbClr val="ccffff"/>
            </a:solidFill>
            <a:miter/>
          </a:ln>
        </p:spPr>
      </p:pic>
      <p:pic>
        <p:nvPicPr>
          <p:cNvPr id="89" name="Рисунок 1" descr="C:\Documents and Settings\Rustemka\Мои документы\Мои рисунки\Рисунки и анимация\PHOTO1\J0185130.JPG"/>
          <p:cNvPicPr/>
          <p:nvPr/>
        </p:nvPicPr>
        <p:blipFill>
          <a:blip r:embed="rId3"/>
          <a:stretch/>
        </p:blipFill>
        <p:spPr>
          <a:xfrm>
            <a:off x="324000" y="1484280"/>
            <a:ext cx="4176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Животные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2296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619280" y="260280"/>
            <a:ext cx="64818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79200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124000" y="260280"/>
            <a:ext cx="5112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43:50Z</dcterms:created>
  <dc:creator>_________________</dc:creator>
  <dc:description/>
  <dc:language>en-US</dc:language>
  <cp:lastModifiedBy>User</cp:lastModifiedBy>
  <dcterms:modified xsi:type="dcterms:W3CDTF">2003-03-02T06:36:07Z</dcterms:modified>
  <cp:revision>14</cp:revision>
  <dc:subject/>
  <dc:title>  Посмотри, мой юный друг, что находится вокруг?</dc:title>
</cp:coreProperties>
</file>