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05A-9964-4E0C-89E8-3EDE61F1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19C-E139-48BD-976D-CC7702FF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ABC-7C32-4ACD-86E5-7FD66A6A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0F2-C535-49C3-8C19-74CF4682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EF81-B91B-4306-B439-47D891F6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B9D9-14EA-44C2-8D36-F8281F3D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098B-E052-4175-B93F-21A744B7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3C3A-479B-4C9A-9A82-5EDAD02B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D59D-BEDF-4775-A597-71B15B44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2B50-0398-4FAF-BEE3-793B37CD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D5FE-AF6C-4DEE-86EE-2F26A993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534-8878-47BE-82C3-22789DD4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33C6-132D-4939-A95D-318EF173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1D7D-1BA9-4FB7-9176-A0561363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88AD-BC3B-4E72-9810-76EA12AE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3EF3-4A9E-4080-8F40-50B4273C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2D6C-A276-491F-A1AE-C13C6AE6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880-12F7-4413-9CC9-601215A7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714-B8D4-48D1-980B-84BA20A7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3AA-3471-4C98-AE10-4CF52F2C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058-B026-472A-8E64-FC18E8D0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71F-323F-4497-8BB0-4063F9F3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B6A-8AA4-4906-8AC3-BD89520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239-1849-4D16-A15B-093AEA68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ADFE-4F3B-4A12-87F7-BEB7BC4915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FE7-94E4-40C1-80F3-D18B581451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 уроку окружающего мира по теме «Что такое эколог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класс 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рамма Л.В. Зан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зуля Н.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0920" y="333360"/>
            <a:ext cx="5400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968720" cy="5329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859280" y="189000"/>
            <a:ext cx="403236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entury Schoolbook"/>
              </a:rPr>
              <a:t>Давайте будем</a:t>
            </a:r>
            <a:r>
              <a:rPr b="1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entury Schoolbook"/>
              </a:rPr>
              <a:t>беречь планету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entury Schoolbook"/>
              </a:rPr>
              <a:t>Во всей Вселенной</a:t>
            </a:r>
            <a:r>
              <a:rPr b="1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Century Schoolbook"/>
              </a:rPr>
              <a:t>похожей нету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195640" y="3141720"/>
            <a:ext cx="790560" cy="79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Вод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137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Воздух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5" name="Рисунок 19" descr="Vozduh-300.jpg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321440"/>
          </a:xfrm>
          <a:prstGeom prst="rect">
            <a:avLst/>
          </a:prstGeom>
          <a:ln w="38160">
            <a:solidFill>
              <a:srgbClr val="05050e"/>
            </a:solidFill>
            <a:miter/>
          </a:ln>
        </p:spPr>
      </p:pic>
      <p:pic>
        <p:nvPicPr>
          <p:cNvPr id="86" name="Рисунок 18" descr="R%20-%20zhilkino2156!.jpg"/>
          <p:cNvPicPr/>
          <p:nvPr/>
        </p:nvPicPr>
        <p:blipFill>
          <a:blip r:embed="rId3"/>
          <a:stretch/>
        </p:blipFill>
        <p:spPr>
          <a:xfrm>
            <a:off x="468360" y="1628640"/>
            <a:ext cx="4032360" cy="4321440"/>
          </a:xfrm>
          <a:prstGeom prst="rect">
            <a:avLst/>
          </a:prstGeom>
          <a:ln w="38160">
            <a:solidFill>
              <a:srgbClr val="05050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Раст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969080"/>
          </a:xfrm>
          <a:prstGeom prst="rect">
            <a:avLst/>
          </a:prstGeom>
          <a:ln w="3240">
            <a:solidFill>
              <a:srgbClr val="ccffff"/>
            </a:solidFill>
            <a:miter/>
          </a:ln>
        </p:spPr>
      </p:pic>
      <p:pic>
        <p:nvPicPr>
          <p:cNvPr id="89" name="Рисунок 1" descr="C:\Documents and Settings\Rustemka\Мои документы\Мои рисунки\Рисунки и анимация\PHOTO1\J0185130.JPG"/>
          <p:cNvPicPr/>
          <p:nvPr/>
        </p:nvPicPr>
        <p:blipFill>
          <a:blip r:embed="rId3"/>
          <a:stretch/>
        </p:blipFill>
        <p:spPr>
          <a:xfrm>
            <a:off x="324000" y="148428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Животны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229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6481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9200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5112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43:50Z</dcterms:created>
  <dc:creator>_________________</dc:creator>
  <dc:description/>
  <dc:language>en-US</dc:language>
  <cp:lastModifiedBy>User</cp:lastModifiedBy>
  <dcterms:modified xsi:type="dcterms:W3CDTF">2003-03-02T06:36:07Z</dcterms:modified>
  <cp:revision>14</cp:revision>
  <dc:subject/>
  <dc:title>  Посмотри, мой юный друг, что находится вокруг?</dc:title>
</cp:coreProperties>
</file>