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A53-AFF8-4ABB-9D43-1824AEB8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86F-F20F-4924-AA31-9FC80A32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B37-F39F-48CA-9C24-8632199D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124-3BF9-4059-A5DE-2E034FE1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11C1-962B-4927-BB0D-7D68C362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22F1-FE88-4C9B-93E5-4A0944A4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5719-CDD5-46AF-96AD-3A71AEC6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BE11-37D2-479F-B924-005284E2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9458-F7DE-4BFB-A2B7-B79838D1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E797-457F-4663-96AC-BE9DA8F3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F194-52A4-488A-B81F-1EE39CCB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897-356C-4589-A3CD-80879FFE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A24B-F90B-4EAE-B08B-8C4213CD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E482-235A-45B9-B9B0-EC84B155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BC04-0262-4781-9307-2BAC8706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1057-C12F-4512-B64C-E377C3E5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2EB0-289A-4E1A-99F0-5FF4096B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ADE2A-9AB0-4122-A409-AC01CCBE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F938C-8913-476D-8E2E-9B7555A0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97A04-19C1-485F-9181-3667C104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654CF-1FB9-4397-BAD1-7B7B8BCA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09C61-65B2-4616-BD90-A75269BE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F2FF-D4FB-4D0E-8E39-0F9D21FE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D0214-40DD-4291-AE15-AB1BAA9B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19FB2-D4A6-4DAA-94B1-F817AA82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58E40-A213-4B18-95BB-2135970E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02EC6-A41A-451E-A4AF-7993D585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76655-9C32-47D1-B0D1-67C71F00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A803F-6E49-4A29-AD20-251AF40F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5848C-77DB-48DC-8EFF-9AE7608E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4965F-74E0-4888-8EC3-E5ED7A2E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C21A7-8C49-44B5-859D-E364BA72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A9FB2-725C-4647-B4BF-EC9478D5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9F3-0243-46E8-B646-ECEA40A6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57291-FC44-44D6-8C18-1BDC78E2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60D88-C238-4042-AF44-0B24B45C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9C3F4-907C-47C5-8927-9BB4DA2B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9A423-ABBA-4532-80E8-D4FEAF0B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EAFE5-ADE0-46BA-AB2C-1ADE7931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9BFD3-389A-4A0D-8D1D-B56EA3F7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267B9-8E85-4F8A-9963-47EFA9D4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ECDD8-5366-45C8-AF91-005A9981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CF731-CC27-42E8-B497-6AF3C07B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EE696-E3BB-489C-AEE7-DEB471504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5859-3A75-449B-90BC-A861E2FE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AE1C2-45FB-49C1-BEEF-D3C384AD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AEE22-2920-4108-808E-30B6BB5A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A31FF-4CFA-4F9B-856C-43F6C459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38F17-0589-4E31-9826-1FB9F019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D727C-271A-4DC8-82C4-F3DEB67D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6C95E-A980-49F7-A8DB-33E98D26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87FE2-161C-4B81-8D37-E36A6A0F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25168-67E3-4C73-8A24-9E45F8AE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06261-39C9-4DCC-86D7-5A8866AC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B9033-43E3-4EDA-B55A-7BA46B82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812E-8AC5-4945-BDC4-92A29934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C8189-A349-407F-8027-3A9F562E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F3E00-E01D-42DB-A496-819C6ECD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D5DE7-621E-4BCC-927B-10EC1CCD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B8D30-1AE8-44D0-A8B4-F1F3DDED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EA920-E4AA-43EE-858A-8771EC64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15EFE-71C7-482F-ABB6-863F8D47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16CA6-C451-45C5-88B9-95029040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4E030-844A-456C-9D29-1D77020C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04560-D073-4765-BAD7-8828B234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3AFE2-16F1-4229-8506-D8F36627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72B3-DADB-47B0-9F78-FC97AF68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321F9-422D-4EBA-8E77-597A2E4B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F0680-3B1F-4389-B349-39A0215B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2A70B-C8A4-4A61-AE43-1CD3D790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FD6B8-40E3-4BC5-BAD3-EAE77A44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6F0A2-FB38-4F3F-897F-C6EFFDBC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C8AD8-ED45-4B9B-8F0B-609386A1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A9AFD-5FE2-403D-8039-54DB2F8C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D8069-E7C7-4459-9CF4-76990625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8EF2E-D142-4291-8DD7-0A2B3DC8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3D451-5484-4102-9CAA-734C6731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64C8-9BA5-450E-8EB3-F89A6A40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7D3F3-E5EA-4924-B959-09C2B5CF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0D1D9-0D5B-4D0C-8DA4-670B8E1A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FD23D-0255-492A-9462-0015B982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6FFBD-0A03-49EB-BD43-7BA11B43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D90E0-EC5A-435F-BD8B-CAE7F95C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90F-663D-40BD-87AC-00BC08D2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D72E-2A00-4E51-AF51-DCC83CF792D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8D97-EEE7-48A5-8BBB-2C19C039A81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7AE7-80BA-493C-B114-3049A6D6E93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72C8-E589-41CC-8582-D04C7056D55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7472-AC69-47E7-9D7C-D7E76B008A1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E37C-CF58-4E45-8210-70B05E38E73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084C-2793-4DD6-9FAC-33A232DB7CE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25002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Лицей № 81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Кузьминых Алёш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20e04"/>
                </a:solidFill>
                <a:latin typeface="Arial"/>
                <a:ea typeface="Arial"/>
              </a:rPr>
              <a:t>Ученик 4 «А» класс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Прямоугольник 4" descr=""/>
          <p:cNvPicPr/>
          <p:nvPr/>
        </p:nvPicPr>
        <p:blipFill>
          <a:blip r:embed="rId1"/>
          <a:stretch/>
        </p:blipFill>
        <p:spPr>
          <a:xfrm>
            <a:off x="927000" y="719280"/>
            <a:ext cx="813132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51536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Радиотелефоны тоже стараются не отставать от времени. Благодаря мощным антеннам, дальнобойные модели последнего поколения способны обеспечивать нормальную связь на расстоянии до 10 километров от базы.</a:t>
            </a:r>
            <a:br>
              <a:rPr sz="1600"/>
            </a:br>
            <a:br>
              <a:rPr sz="16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143080" y="3071880"/>
            <a:ext cx="214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7615080" cy="372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На сегодняшний день развитие телефонной связи достигло своих высот. Практически каждый человек в мире имеет проводной телефон и беспроводной — сотовый телефон. Телефоны обеспечивают связь по всему миру, позволяют людям общаться на расстоянии. А ещё 150 лет назад телефонная связь была мечтой многих изобретателей и энтузиастов.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1571760" y="4143240"/>
            <a:ext cx="1928520" cy="19004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2"/>
          <a:stretch/>
        </p:blipFill>
        <p:spPr>
          <a:xfrm>
            <a:off x="4214880" y="4143240"/>
            <a:ext cx="1285920" cy="1928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"/>
          <p:cNvPicPr/>
          <p:nvPr/>
        </p:nvPicPr>
        <p:blipFill>
          <a:blip r:embed="rId3"/>
          <a:stretch/>
        </p:blipFill>
        <p:spPr>
          <a:xfrm>
            <a:off x="6429240" y="4214880"/>
            <a:ext cx="22147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итерату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Гигантская детская энциклопед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Большая энциклопедия начальной школ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Яндекс. Картин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914400" y="49968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4 февраля 1876 года американец шотландского происхождения Александр Грехам Белл подал в Бюро патентов США заявку на изобретенный им аппарат, который он назвал телефоном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14760" y="2500200"/>
            <a:ext cx="42764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572314"/>
                </a:solidFill>
                <a:latin typeface="Arial"/>
                <a:ea typeface="Arial"/>
              </a:rPr>
              <a:t>Александр</a:t>
            </a:r>
            <a:r>
              <a:rPr b="1" i="1" lang="ru-RU" sz="3600" spc="-1" strike="noStrike">
                <a:solidFill>
                  <a:srgbClr val="572314"/>
                </a:solidFill>
                <a:latin typeface="Arial"/>
                <a:ea typeface="Arial"/>
              </a:rPr>
              <a:t> </a:t>
            </a:r>
            <a:r>
              <a:rPr b="0" i="1" lang="ru-RU" sz="3600" spc="-1" strike="noStrike">
                <a:solidFill>
                  <a:srgbClr val="572314"/>
                </a:solidFill>
                <a:latin typeface="Arial"/>
                <a:ea typeface="Arial"/>
              </a:rPr>
              <a:t>Грехам</a:t>
            </a: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i="1" lang="ru-RU" sz="3600" spc="-1" strike="noStrike">
                <a:solidFill>
                  <a:srgbClr val="572314"/>
                </a:solidFill>
                <a:latin typeface="Arial"/>
                <a:ea typeface="Arial"/>
              </a:rPr>
              <a:t>Белл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1496880" y="1523880"/>
            <a:ext cx="3533760" cy="4664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одился 3 марта  1847 года в Шотландии в городе Эдинбург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мериканский учёный, изобретатель и бизнесмен шотландского происхожд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28440" y="285840"/>
            <a:ext cx="80010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 1873 года Белл работал над изобретением гармонического телеграфа. Этот прибор должен был по одному телеграфному проводу передавать одновременно семь телеграмм Во время опытов 2 июня 1875 года свободный конец одной из пластинок на передающей стороне линии приварился к контакту, этого стало достаточно для решающего шага к изобретению телефон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928960" y="2857680"/>
            <a:ext cx="3929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Corbel"/>
              </a:rPr>
              <a:t>В дальнейшем многие изобретатели совершенствовали первый телефон мечтая сделать домашние проводные телефоны реальностью.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3301920" y="1447920"/>
            <a:ext cx="3765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Большой вклад в развитие телефонной связи внёс Томас Эдисон, в 1877-78 года он изобрёл угольный микрофон с угольным порошком.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3643200" y="2571840"/>
            <a:ext cx="30006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Но сам по себе проводной телефон еще не чего не означает. Для того чтобы можно было звонить в пределах города необходима телефонная станция. Первая телефонная станция была построена в городе Нью-Хейвен (США) в 1978 году. Следующая телефонная станция появилась в Париже (1879 год), а в 1881 году в Москве, Петербурге, Одессе, Берлине, Риге и Варшаве. Благодаря этим станциям, первые проводные телефонные аппараты смогли соединится с друг другом и выполнять свою основную функцию — передавать человеческую речь на довольно большие расстояния.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3143160" y="3214800"/>
            <a:ext cx="42865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1434960" y="357120"/>
            <a:ext cx="74995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1956 г. на свет появился аппарат в виде трубки, где в единое целое собрали телефон, микрофон и номеронабиратель. Хотя новинка тогда имела немалый вес, но пользовалась ажиотажным спросом и долго была в моде. Второе рождение телефон пережил в 80 годы, с внедрением беспроводной системы связи. В результате длительных метаморфоз мобильный аппарат обзавёлся клавиатурой, графическим дисплеем, где есть часы, календарь и другие удобные вещи. Карманные 'карлики' стали практически невесомым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С началом коммерческой эксплуатации спутниковой связи в 1998 г., появились сотовые телефоны, которые при выходе из зоны охвата сотовой компании продолжали работать. Их возможности практически не ограничены, даже если абоненты находятся в самых отдалённых уголках земного шара, а качество передачи звука приближается к идеальному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3071880" y="3357720"/>
            <a:ext cx="4000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ей</cp:lastModifiedBy>
  <dcterms:modified xsi:type="dcterms:W3CDTF">2012-03-14T16:39:31Z</dcterms:modified>
  <cp:revision>76</cp:revision>
  <dc:subject/>
  <dc:title>Слайд 1</dc:title>
</cp:coreProperties>
</file>