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73-9B8E-4429-B58F-905FB346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FF0-3DBA-44CE-8A40-D28622A7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D4E-182C-4960-97E1-DF156B29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866-DBC5-4495-902A-6036DD95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1FC4-99C4-40DD-A8DF-D90D433E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69E-4F44-4638-8B7F-467E14E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DFA5-698D-4800-8438-163666A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BD37-2520-41E2-9060-4746CED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8BA-A690-4553-9520-DB858261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8425-2535-438A-8B5F-D59A2CBA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865-D5B1-4EA7-A7BC-0472F5E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B7A-BCCD-428D-BEC1-4E11E04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BD47-9DC8-407D-919B-147ED98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D9E7-E5AA-4D9C-B4D2-0184B20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EF96-BD63-4E25-8033-3C7D5D8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C7E9-3DC8-481B-BB18-BED20EA1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72D-BD66-4E20-9F05-609D71E8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A163-305A-4B79-879A-CF79E668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6543-2644-4747-B40B-8051CC3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9EE2-8ED6-4422-9A21-5472FBD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84FE-CE7F-4075-A813-3283BE1B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FA2B-555B-4244-AE99-ED1EC2AD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79B-5EE1-462B-BC7C-FB5F6F48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9B95-28A4-40ED-93FD-25EBF75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D615-032E-45C9-99D4-81193D0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A8CD-035C-4015-B063-5E46F8C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73FC-850F-458C-9337-EB004BC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8937-61AA-4DD5-8662-F0AB7BA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E58D-A035-437B-B78F-D4F0F590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8F88-D8B4-4047-949A-6872D3F8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C376-184F-4C72-8C32-9DCF3116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F543-84D7-445E-B1A3-E56982A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EAFC-00EA-4987-9E55-8071A60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675-5B8A-4FDC-8573-D81815A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9168-E53F-4CDB-87A5-E88EDC81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F3F8-C73E-4E95-B8D4-231EADB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EEF7D-5F4F-419B-8039-183F25E8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90D2-AFC5-4E30-BE15-71CBA5D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6871-7392-445F-B4DF-C1B7561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26A4-CEBA-4C7E-8E59-EDD6E66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3A2F-1C05-4C88-ACB9-4F131EA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5706-E872-4716-8842-203F73CF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B28D-5779-40EB-A50C-D5140CD3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1DEA-F7EE-4DA3-B13D-4456847A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840-668B-4DBA-99C4-67AE0A2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E377-3A1E-4106-A555-6B9C389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4B56-F5DE-40DA-950E-E18A172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0102-AA6F-4A1F-9E74-BC0AF5B7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E7D7-65D0-43E2-BFE7-58B77620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41AD-3019-4B0A-BCF3-5FA74FC8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7AAD-92BE-4C85-B131-7C63841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CC8E-3ADA-42B4-ACC5-72897F3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F8D9-2034-4866-8456-EEB920AB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1D62-33F4-4C77-8C0C-F46E72A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EB6D-B14D-48F9-8A68-634DCDB8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DE4-CC4F-4669-86D9-3305661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12942-C912-465A-96AB-BE4D2680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D64A2-7088-49E0-B995-83F7ADBA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F214-E766-417E-A801-3BEE928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4FC2-03DA-4E59-AFB7-15B92AFF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AFF9-D1E9-469C-A257-5C705C8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F55B-7879-4181-961B-C8BEF88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57B7-7F85-41BE-BF70-542609E2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E1BF-5AC0-42F3-8201-FF3D490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EF38-D96C-4A46-9104-99DB921F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9202-BD94-48F0-A853-24669D7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D4C-07FF-4F86-9D87-229F727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40D6-9BEE-4D73-82C7-13EB52F2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1E440-04B1-4C2F-B5FD-170EF80D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49DC1-7565-4236-90E7-57CF9422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410AA-828E-4D46-8C4B-F062604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8855-7EE0-4CA9-B073-6A8D786B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42208-1769-495B-9E2B-838239BC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F654-C531-47BF-AF38-581113FB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CA9D-C9E4-473D-85DC-774B5C5E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FC89-694D-46D2-98F8-F5D14B8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400C-144D-4D43-8E1D-605723EE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711-C58F-4998-8EE5-ECF3DAA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554C1-051A-47CF-834B-1F51C4E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B5F5-E60B-41C6-B7BD-F1DED05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DBEC-F034-44D1-B96C-C0CE407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5E92-9D95-4463-B3CF-20BBCEB2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97B0A-6CD7-487C-A34F-BB34BF9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F27-C9EF-4A5D-969C-C74B2D3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AD5-192A-4514-A77E-01B4C83E53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51D-B9FA-4374-B717-7CED8943E9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A2A-D264-4635-9045-59A78B52CB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98D6-0493-4CBE-B4DB-14AA709716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C27-86CE-40D6-BDC5-366F8B7586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F26-9B3A-4CEC-BA1F-F80E13CA0D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22D2-8721-4820-A420-32608D44A9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2500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Лицей № 8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Кузьминых Алёш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Ученик 4 «А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Прямоугольник 4" descr=""/>
          <p:cNvPicPr/>
          <p:nvPr/>
        </p:nvPicPr>
        <p:blipFill>
          <a:blip r:embed="rId1"/>
          <a:stretch/>
        </p:blipFill>
        <p:spPr>
          <a:xfrm>
            <a:off x="927000" y="719280"/>
            <a:ext cx="81313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51536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адиотелефоны тоже стараются не отставать от времени. Благодаря мощным антеннам, дальнобойные модели последнего поколения способны обеспечивать нормальную связь на расстоянии до 10 километров от базы.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143080" y="3071880"/>
            <a:ext cx="214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 сегодняшний день развитие телефонной связи достигло своих высот. Практически каждый человек в мире имеет проводной телефон и беспроводной — сотовый телефон. Телефоны обеспечивают связь по всему миру, позволяют людям общаться на расстоянии. А ещё 150 лет назад телефонная связь была мечтой многих изобретателей и энтузиастов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1928520" cy="1900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4214880" y="414324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6429240" y="4214880"/>
            <a:ext cx="22147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Гигантская детская энциклопед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Большая энциклопедия начальной школ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Яндекс. Картин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14400" y="4996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4 февраля 1876 года американец шотландского происхождения Александр Грехам Белл подал в Бюро патентов США заявку на изобретенный им аппарат, который он назвал телефоно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4276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Александр</a:t>
            </a:r>
            <a:r>
              <a:rPr b="1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Грехам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Бел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496880" y="1523880"/>
            <a:ext cx="3533760" cy="4664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ился 3 марта  1847 года в Шотландии в городе Эдинбур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ериканский учёный, изобретатель и бизнесмен шотландского происхожд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28440" y="285840"/>
            <a:ext cx="8001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 1873 года Белл работал над изобретением гармонического телеграфа. Этот прибор должен был по одному телеграфному проводу передавать одновременно семь телеграмм Во время опытов 2 июня 1875 года свободный конец одной из пластинок на передающей стороне линии приварился к контакту, этого стало достаточно для решающего шага к изобретению телефон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928960" y="2857680"/>
            <a:ext cx="3929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дальнейшем многие изобретатели совершенствовали первый телефон мечтая сделать домашние проводные телефоны реальностью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301920" y="1447920"/>
            <a:ext cx="376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Большой вклад в развитие телефонной связи внёс Томас Эдисон, в 1877-78 года он изобрёл угольный микрофон с угольным порошком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643200" y="2571840"/>
            <a:ext cx="3000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Но сам по себе проводной телефон еще не чего не означает. Для того чтобы можно было звонить в пределах города необходима телефонная станция. Первая телефонная станция была построена в городе Нью-Хейвен (США) в 1978 году. Следующая телефонная станция появилась в Париже (1879 год), а в 1881 году в Москве, Петербурге, Одессе, Берлине, Риге и Варшаве. Благодаря этим станциям, первые проводные телефонные аппараты смогли соединится с друг другом и выполнять свою основную функцию — передавать человеческую речь на довольно большие расстояни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143160" y="3214800"/>
            <a:ext cx="4286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434960" y="357120"/>
            <a:ext cx="74995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1956 г. на свет появился аппарат в виде трубки, где в единое целое собрали телефон, микрофон и номеронабиратель. Хотя новинка тогда имела немалый вес, но пользовалась ажиотажным спросом и долго была в моде. Второе рождение телефон пережил в 80 годы, с внедрением беспроводной системы связи. В результате длительных метаморфоз мобильный аппарат обзавёлся клавиатурой, графическим дисплеем, где есть часы, календарь и другие удобные вещи. Карманные 'карлики' стали практически невесом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С началом коммерческой эксплуатации спутниковой связи в 1998 г., появились сотовые телефоны, которые при выходе из зоны охвата сотовой компании продолжали работать. Их возможности практически не ограничены, даже если абоненты находятся в самых отдалённых уголках земного шара, а качество передачи звука приближается к идеальному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3071880" y="3357720"/>
            <a:ext cx="4000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2-03-14T16:39:31Z</dcterms:modified>
  <cp:revision>76</cp:revision>
  <dc:subject/>
  <dc:title>Слайд 1</dc:title>
</cp:coreProperties>
</file>