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D96-26A2-4630-9C09-FF6BC4B9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4C9C-B81A-416A-8124-CDD9B832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7E98-A8BB-4183-BDA6-A4414A76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B6C6-45A4-4DA8-B153-B5184489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15FE-91CC-4D39-AA14-987B741A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0AC3-055B-4039-B662-BB6A1B43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6FF8-E9E0-4812-8465-5D5B5600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CF05-1905-4502-ADEC-92264DFB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0B5E-48B8-4993-806C-56DDA2B8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A629-6607-4AE1-AB92-A9822A8B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1AA8-09E4-4579-AF27-8BD9305E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136-465B-4FD5-8683-DAAF21C8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B200-35D2-45CF-B296-B3E225EC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7A60-141F-4C06-8B8A-39C6D3E7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9E7A-F429-4D12-A481-559A6A43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70CA-43E5-4EB7-8ED2-965F354D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AEC1-0791-4413-BE83-14DFF1F9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A60-94C2-45FE-B57D-AAF168C4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FB2-0BBA-4E15-893A-D6FB1783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5CF-7F5E-4717-B268-2769E563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604-9635-4F5D-8BE4-69DCAB87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B94-48F3-4AE4-94CE-86035F43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486D-4647-4E79-8017-EF29E080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A71F-9001-4D77-A4EB-21654DCA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192F-6871-46A4-9DA8-375459A0500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7C2D-45B3-469E-ACA6-D69045B8EFD1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ект 2 «а» клас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Tahoma"/>
              </a:rPr>
              <a:t>«Любимое животное дедушки Корнея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6227640" y="4869000"/>
            <a:ext cx="245772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втор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харова Пол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учин Иль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ководитель проект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ильманбетова З.Б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Результаты социологического исследования (1 этап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ое произведение дедушки Корнея является самы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наменитым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арианты ответ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Мойдодыр», «Чудо-дерево», «Федорино горе», «Краденое солнце», «Крокодил», «Бармалей»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Муха-цокотуха», «Айболит», «Тараканище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 них: «Мойдодыр»-5челове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Муха-цокотуха»-5челове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Айболит»-4челове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Тараканище»-3челове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Краденое солнце»-1челове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Федорино горе»-1челове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Чудо-дерево»-1челове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нализ произведен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Муха-цокотуха»- кузнечик             «Тараканище»- комари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ук                                            медведь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роконожки                                ко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жук                                              рак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арик                                       соба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уха                                            вол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араканы                                     кобы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укашки                                      крокоди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лошки                                        ки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чела                                          гиппопота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бочка и т.д.                              слониха и т.д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Мойдодыр»-котята                          «Путаница»- котя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тята                                                утя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акал                                               свин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учки                                              кошеч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а                                                    куроч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лчица                                             медвед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окодил                                           воробыше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алка                                                 рыб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рова                                               крокоди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жучок  и т.д.                                      жабы и т.д.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долж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Краденое солнце»-заинька                          «Телефон»-сло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рока                                             верблю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журавль                                           крокоди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окодил                                         зайчат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робей                                           мартыш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к                                                  медвед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лк и т.д.                                        цапля и т.д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Бармалей»-акула                                          «Айболит»-коро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рилла                                                        волчиц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окодил                                                       медведиц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лон                                                             ли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егемот и т.д.                                               ос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рбо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йчих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ака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бы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л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ит и т.д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аиболее известные персонаж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окодил-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дведь,медведица-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лк, волчица-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гемот,гиппопотам-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ук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арик-2,паук-2,кобыла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рова-2,рак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циологическое исследование (2 этап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ое животное чаще встречает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роизведениях К.И.Чуковского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окодил-8 челове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бака Авва-4 челове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уха-2 челове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лон-2 челове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езьяна-1 челове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янитолкай-1 челове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егемот-1 челове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ракан-1челове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5"/>
          <p:cNvSpPr txBox="1"/>
          <p:nvPr/>
        </p:nvSpPr>
        <p:spPr>
          <a:xfrm>
            <a:off x="684360" y="2924280"/>
            <a:ext cx="4032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лго,долго крокодил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ре синее тушил,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ирогами и блинами,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сушёными грибами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2843280" y="765000"/>
            <a:ext cx="352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ПУТАНИЦА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2" name="Picture 7" descr="Untitled-Scanned-05"/>
          <p:cNvPicPr/>
          <p:nvPr/>
        </p:nvPicPr>
        <p:blipFill>
          <a:blip r:embed="rId1"/>
          <a:stretch/>
        </p:blipFill>
        <p:spPr>
          <a:xfrm>
            <a:off x="4886280" y="1413000"/>
            <a:ext cx="4257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Untitled-Scanned-01"/>
          <p:cNvPicPr/>
          <p:nvPr/>
        </p:nvPicPr>
        <p:blipFill>
          <a:blip r:embed="rId1"/>
          <a:stretch/>
        </p:blipFill>
        <p:spPr>
          <a:xfrm>
            <a:off x="179280" y="3500280"/>
            <a:ext cx="4248360" cy="3114720"/>
          </a:xfrm>
          <a:prstGeom prst="rect">
            <a:avLst/>
          </a:prstGeom>
          <a:ln w="0">
            <a:noFill/>
          </a:ln>
        </p:spPr>
      </p:pic>
      <p:sp>
        <p:nvSpPr>
          <p:cNvPr id="144" name="WordArt 5"/>
          <p:cNvSpPr txBox="1"/>
          <p:nvPr/>
        </p:nvSpPr>
        <p:spPr>
          <a:xfrm>
            <a:off x="5292720" y="5157720"/>
            <a:ext cx="313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дный крокодил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абу проглотил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Picture 6" descr="Untitled-Scanned-02"/>
          <p:cNvPicPr/>
          <p:nvPr/>
        </p:nvPicPr>
        <p:blipFill>
          <a:blip r:embed="rId2"/>
          <a:stretch/>
        </p:blipFill>
        <p:spPr>
          <a:xfrm>
            <a:off x="4896000" y="1484280"/>
            <a:ext cx="4248000" cy="3492360"/>
          </a:xfrm>
          <a:prstGeom prst="rect">
            <a:avLst/>
          </a:prstGeom>
          <a:ln w="0">
            <a:noFill/>
          </a:ln>
        </p:spPr>
      </p:pic>
      <p:sp>
        <p:nvSpPr>
          <p:cNvPr id="146" name="WordArt 7"/>
          <p:cNvSpPr txBox="1"/>
          <p:nvPr/>
        </p:nvSpPr>
        <p:spPr>
          <a:xfrm>
            <a:off x="2340000" y="692280"/>
            <a:ext cx="4319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ТАРАКАНИЩЕ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Ил. А.Каневского к сказке К.Чуковского «Мойдодыр»"/>
          <p:cNvPicPr/>
          <p:nvPr/>
        </p:nvPicPr>
        <p:blipFill>
          <a:blip r:embed="rId1"/>
          <a:stretch/>
        </p:blipFill>
        <p:spPr>
          <a:xfrm>
            <a:off x="179280" y="2060640"/>
            <a:ext cx="1828800" cy="2000160"/>
          </a:xfrm>
          <a:prstGeom prst="rect">
            <a:avLst/>
          </a:prstGeom>
          <a:ln w="0">
            <a:noFill/>
          </a:ln>
        </p:spPr>
      </p:pic>
      <p:sp>
        <p:nvSpPr>
          <p:cNvPr id="148" name="WordArt 5"/>
          <p:cNvSpPr txBox="1"/>
          <p:nvPr/>
        </p:nvSpPr>
        <p:spPr>
          <a:xfrm>
            <a:off x="2411280" y="549360"/>
            <a:ext cx="410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МОЙДОДЫР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WordArt 6"/>
          <p:cNvSpPr txBox="1"/>
          <p:nvPr/>
        </p:nvSpPr>
        <p:spPr>
          <a:xfrm>
            <a:off x="3276720" y="2637000"/>
            <a:ext cx="561636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друг навстречу мой хороший,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й любимый крокодил 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н с Тотошей и Кокошей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 аллее проходил.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4"/>
          <p:cNvSpPr txBox="1"/>
          <p:nvPr/>
        </p:nvSpPr>
        <p:spPr>
          <a:xfrm>
            <a:off x="2411280" y="260280"/>
            <a:ext cx="446256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ТЕЛЕФОН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1" name="Picture 5" descr="Ил. К.Рудакова к сказке К.Чуковского «Телефон»"/>
          <p:cNvPicPr/>
          <p:nvPr/>
        </p:nvPicPr>
        <p:blipFill>
          <a:blip r:embed="rId1"/>
          <a:stretch/>
        </p:blipFill>
        <p:spPr>
          <a:xfrm>
            <a:off x="5786280" y="2428920"/>
            <a:ext cx="2998800" cy="3960720"/>
          </a:xfrm>
          <a:prstGeom prst="rect">
            <a:avLst/>
          </a:prstGeom>
          <a:ln w="0">
            <a:noFill/>
          </a:ln>
        </p:spPr>
      </p:pic>
      <p:sp>
        <p:nvSpPr>
          <p:cNvPr id="152" name="WordArt 6"/>
          <p:cNvSpPr txBox="1"/>
          <p:nvPr/>
        </p:nvSpPr>
        <p:spPr>
          <a:xfrm>
            <a:off x="539640" y="2997360"/>
            <a:ext cx="453564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...и со слезами просил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Мой милый,хороший,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шли мне колоши,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мне,и жене,и Тотоше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Ил. М.Добужинского к сказке К.Чуковского «Бармалей»"/>
          <p:cNvPicPr/>
          <p:nvPr/>
        </p:nvPicPr>
        <p:blipFill>
          <a:blip r:embed="rId1"/>
          <a:stretch/>
        </p:blipFill>
        <p:spPr>
          <a:xfrm>
            <a:off x="5796000" y="2205000"/>
            <a:ext cx="2890800" cy="3529080"/>
          </a:xfrm>
          <a:prstGeom prst="rect">
            <a:avLst/>
          </a:prstGeom>
          <a:ln w="0">
            <a:noFill/>
          </a:ln>
        </p:spPr>
      </p:pic>
      <p:sp>
        <p:nvSpPr>
          <p:cNvPr id="154" name="WordArt 5"/>
          <p:cNvSpPr txBox="1"/>
          <p:nvPr/>
        </p:nvSpPr>
        <p:spPr>
          <a:xfrm>
            <a:off x="684360" y="2637000"/>
            <a:ext cx="453528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вернулся,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лыбнулся,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смеялся Крокодил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злодея Бармалея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овно муху 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глотил.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2627280" y="620640"/>
            <a:ext cx="360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БАРМАЛЕЙ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ипотез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проанализировать произведения К.И.Чуковского, то можно выявить «любимое» живот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7" descr="Корней Чуковский. Фотография. 1910-е гг."/>
          <p:cNvPicPr/>
          <p:nvPr/>
        </p:nvPicPr>
        <p:blipFill>
          <a:blip r:embed="rId1"/>
          <a:stretch/>
        </p:blipFill>
        <p:spPr>
          <a:xfrm>
            <a:off x="5003640" y="1916280"/>
            <a:ext cx="35499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Рис. Ю.Васнецова к сказке К.И.Чуковсого «Краденое солнце»"/>
          <p:cNvPicPr/>
          <p:nvPr/>
        </p:nvPicPr>
        <p:blipFill>
          <a:blip r:embed="rId1"/>
          <a:stretch/>
        </p:blipFill>
        <p:spPr>
          <a:xfrm>
            <a:off x="395280" y="2060640"/>
            <a:ext cx="3122640" cy="4321080"/>
          </a:xfrm>
          <a:prstGeom prst="rect">
            <a:avLst/>
          </a:prstGeom>
          <a:ln w="0">
            <a:noFill/>
          </a:ln>
        </p:spPr>
      </p:pic>
      <p:sp>
        <p:nvSpPr>
          <p:cNvPr id="157" name="WordArt 5"/>
          <p:cNvSpPr txBox="1"/>
          <p:nvPr/>
        </p:nvSpPr>
        <p:spPr>
          <a:xfrm>
            <a:off x="1763640" y="404640"/>
            <a:ext cx="59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РАДЕНОЕ СОЛНЦЕ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WordArt 6"/>
          <p:cNvSpPr txBox="1"/>
          <p:nvPr/>
        </p:nvSpPr>
        <p:spPr>
          <a:xfrm>
            <a:off x="4284720" y="2276640"/>
            <a:ext cx="41036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 в большой реке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окодил лежит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в зубах его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 огонь горит-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лнце красное ...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Untitled-Scanned-13"/>
          <p:cNvPicPr/>
          <p:nvPr/>
        </p:nvPicPr>
        <p:blipFill>
          <a:blip r:embed="rId1"/>
          <a:stretch/>
        </p:blipFill>
        <p:spPr>
          <a:xfrm>
            <a:off x="0" y="2060640"/>
            <a:ext cx="5580000" cy="3195720"/>
          </a:xfrm>
          <a:prstGeom prst="rect">
            <a:avLst/>
          </a:prstGeom>
          <a:ln w="0">
            <a:noFill/>
          </a:ln>
        </p:spPr>
      </p:pic>
      <p:sp>
        <p:nvSpPr>
          <p:cNvPr id="160" name="WordArt 5"/>
          <p:cNvSpPr txBox="1"/>
          <p:nvPr/>
        </p:nvSpPr>
        <p:spPr>
          <a:xfrm>
            <a:off x="2484360" y="620640"/>
            <a:ext cx="417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РОКОДИЛ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WordArt 6"/>
          <p:cNvSpPr txBox="1"/>
          <p:nvPr/>
        </p:nvSpPr>
        <p:spPr>
          <a:xfrm>
            <a:off x="4716360" y="5200560"/>
            <a:ext cx="4103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л да бы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окодил 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2565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казки К.И.Чуковского популяр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реди детей и помогают 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иентироваться в окружающем  мир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уча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переживат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радоватьс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делают их сильнее и умне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ализ произведений выявил любимое животное дедушки Корнея. Им оказался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рокоди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циологическое исследование показало, что взросл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мнят произведения дедушки Корнея и самым знаменитым персонажем считают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рокоди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17" descr="Untitled-Scanned-17"/>
          <p:cNvPicPr/>
          <p:nvPr/>
        </p:nvPicPr>
        <p:blipFill>
          <a:blip r:embed="rId1"/>
          <a:stretch/>
        </p:blipFill>
        <p:spPr>
          <a:xfrm>
            <a:off x="5716440" y="333360"/>
            <a:ext cx="3129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раклий Андроников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 Талант у Чуковского неиссякаемый, умный, блистательный, весёлый, праздничный. С таким писателем не расставайтесь всю жизнь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Цель проекта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яснить, какие животны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аще всего встречаю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роизведениях писа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К.Чуковский за работой. Ил. М.Ромадина к повести-сказке К.Чуковского «Доктор Айболит»"/>
          <p:cNvPicPr/>
          <p:nvPr/>
        </p:nvPicPr>
        <p:blipFill>
          <a:blip r:embed="rId1"/>
          <a:stretch/>
        </p:blipFill>
        <p:spPr>
          <a:xfrm>
            <a:off x="900000" y="2205000"/>
            <a:ext cx="1819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узнать дополнительную информацию по   творчеству К.И.Чуковског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провести социологическое исследов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составить список наиболее известны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сонажей произведе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выбрать самого знаменитого геро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анализ произведе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иск информа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циологический опро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071109180145d"/>
          <p:cNvPicPr/>
          <p:nvPr/>
        </p:nvPicPr>
        <p:blipFill>
          <a:blip r:embed="rId1"/>
          <a:stretch/>
        </p:blipFill>
        <p:spPr>
          <a:xfrm>
            <a:off x="1258920" y="1838160"/>
            <a:ext cx="6477120" cy="4759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Корней Иванович Чуковский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(настоящее имя и фамилия - </a:t>
            </a:r>
            <a:r>
              <a:rPr b="0" i="1" lang="ru-RU" sz="2000" spc="-1" strike="noStrike">
                <a:solidFill>
                  <a:srgbClr val="333399"/>
                </a:solidFill>
                <a:latin typeface="Tahoma"/>
              </a:rPr>
              <a:t>Николай Васильевич Корнейчуков) (1882-1969)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казочник, критик, переводчик, основоположник советской детской литературы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изведения Корнея Чуковског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900000" y="1989000"/>
            <a:ext cx="26640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йдоды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3348000" y="5589720"/>
            <a:ext cx="26640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утаниц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3419640" y="4365720"/>
            <a:ext cx="266364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аденое солнц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250920" y="3429000"/>
            <a:ext cx="266364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араканищ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6156360" y="3933720"/>
            <a:ext cx="266364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уха-цокотух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684360" y="5157720"/>
            <a:ext cx="266364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еф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6156360" y="5373720"/>
            <a:ext cx="266364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удо-дере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6156360" y="2060640"/>
            <a:ext cx="266364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йбол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Oval 12"/>
          <p:cNvSpPr/>
          <p:nvPr/>
        </p:nvSpPr>
        <p:spPr>
          <a:xfrm>
            <a:off x="3564000" y="2781360"/>
            <a:ext cx="266364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едорино гор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Untitled-Scanned-13"/>
          <p:cNvPicPr/>
          <p:nvPr/>
        </p:nvPicPr>
        <p:blipFill>
          <a:blip r:embed="rId1"/>
          <a:stretch/>
        </p:blipFill>
        <p:spPr>
          <a:xfrm>
            <a:off x="755640" y="1916280"/>
            <a:ext cx="7704000" cy="44114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5"/>
          <p:cNvSpPr txBox="1"/>
          <p:nvPr/>
        </p:nvSpPr>
        <p:spPr>
          <a:xfrm>
            <a:off x="2916360" y="476280"/>
            <a:ext cx="360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окодил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Рис. В.Конашевича к сказке К.И.Чуковского «Муха-Цокотуха»"/>
          <p:cNvPicPr/>
          <p:nvPr/>
        </p:nvPicPr>
        <p:blipFill>
          <a:blip r:embed="rId1"/>
          <a:stretch/>
        </p:blipFill>
        <p:spPr>
          <a:xfrm>
            <a:off x="684360" y="2276640"/>
            <a:ext cx="4679640" cy="3887640"/>
          </a:xfrm>
          <a:prstGeom prst="rect">
            <a:avLst/>
          </a:prstGeom>
          <a:ln w="0">
            <a:noFill/>
          </a:ln>
        </p:spPr>
      </p:pic>
      <p:sp>
        <p:nvSpPr>
          <p:cNvPr id="126" name="WordArt 6"/>
          <p:cNvSpPr txBox="1"/>
          <p:nvPr/>
        </p:nvSpPr>
        <p:spPr>
          <a:xfrm>
            <a:off x="1835280" y="476280"/>
            <a:ext cx="5184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УХА-ЦОКОТУХ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Рис. В.Сутеева к сказке К.И.Чуковского «Айболит»"/>
          <p:cNvPicPr/>
          <p:nvPr/>
        </p:nvPicPr>
        <p:blipFill>
          <a:blip r:embed="rId1"/>
          <a:stretch/>
        </p:blipFill>
        <p:spPr>
          <a:xfrm>
            <a:off x="324000" y="2421000"/>
            <a:ext cx="2825640" cy="3954240"/>
          </a:xfrm>
          <a:prstGeom prst="rect">
            <a:avLst/>
          </a:prstGeom>
          <a:ln w="0">
            <a:noFill/>
          </a:ln>
        </p:spPr>
      </p:pic>
      <p:sp>
        <p:nvSpPr>
          <p:cNvPr id="128" name="WordArt 5"/>
          <p:cNvSpPr txBox="1"/>
          <p:nvPr/>
        </p:nvSpPr>
        <p:spPr>
          <a:xfrm>
            <a:off x="3419640" y="3213000"/>
            <a:ext cx="4968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,если я утону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Если пойду я ко дну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6"/>
          <p:cNvSpPr txBox="1"/>
          <p:nvPr/>
        </p:nvSpPr>
        <p:spPr>
          <a:xfrm>
            <a:off x="2987640" y="476280"/>
            <a:ext cx="3745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АЙБОЛИТ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3:34:09Z</dcterms:created>
  <dc:creator>Customer</dc:creator>
  <dc:description/>
  <dc:language>en-US</dc:language>
  <cp:lastModifiedBy>Admin</cp:lastModifiedBy>
  <dcterms:modified xsi:type="dcterms:W3CDTF">2012-07-07T16:51:12Z</dcterms:modified>
  <cp:revision>13</cp:revision>
  <dc:subject/>
  <dc:title>Проект 1 «а» класса</dc:title>
</cp:coreProperties>
</file>