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BE94-30ED-4697-822B-6813F0BAF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370-8BBB-4A67-BE48-6B2D8F0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426-0B02-4339-AAF9-FE4CC960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3DC-4517-469E-836F-29076444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09C0-82B8-4C36-91A2-80714869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721-AE8A-4AC9-ACC4-0084A5D9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10BC-0700-4A58-B5A2-004B8D2B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29ED-03CF-48F5-BC21-92BDDD18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ED79-3C9B-45E7-8EB9-5507DCC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F114-7C3C-423F-B594-EF196CC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98C6-B0FA-4AB4-A1FB-D8EBF5A7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D28-6D21-46C7-BD18-BA7F759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271D-F9F0-453F-9E7E-6D39F18E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506F-2DC6-4DD4-956F-594C88C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B6A-9DF4-4891-A05B-DB85A0F6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379A-532E-439D-8A02-DF3DCBB7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0C8F-2062-4398-8651-F2C57833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58F-43C0-48B2-885D-4CC58B95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458-60A2-4A15-8FF7-9C48BCD2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DD2-5B5C-442D-90C2-020BA4A3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1BC-45BE-4D44-AC7B-749F8848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B78-50A3-4215-A096-C5B6EC3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383-CDA1-4EB4-A017-21475D0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2B2-CE33-4038-9C0A-52877BD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F13E-93AC-4759-93D9-A53A7C7FBB7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56DF-0599-43F6-B83B-4A71862AB73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ект 2 «а» клас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«Любимое животное дедушки Корнея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6227640" y="4869000"/>
            <a:ext cx="24577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харова Пол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учин Ил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ководитель проек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ильманбетова З.Б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езультаты социологического исследования (1 этап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ое произведение дедушки Корнея является самы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наменитым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рианты отве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Мойдодыр», «Чудо-дерево», «Федорино горе», «Краденое солнце», «Крокодил», «Бармалей»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Муха-цокотуха», «Айболит», «Тараканище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них: «Мойдодыр»-5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Муха-цокотуха»-5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Айболит»-4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Тараканище»-3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раденое солнце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Федорино горе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Чудо-дерево»-1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нализ произвед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Муха-цокотуха»- кузнечик             «Тараканище»- комар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ук                                            медведь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роконожки                                ко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к                                              рак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арик                                       соба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ха                                            вол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раканы                                     кобы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укашки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лошки                                        ки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чела                                          гиппопот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бочка и т.д.                              слониха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Мойдодыр»-котята                          «Путаница»- котя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тята                                                утя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акал                                               свин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учки                                              кошеч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а                                                    куроч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чица                                             медвед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  воробыше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лка                                                 рыб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ова         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чок  и т.д.                                      жабы и т.д.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Краденое солнце»-заинька                          «Телефон»-слон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рока                                             верблю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журавль                                           крокоди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зайчат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робей                                           мартыш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к                                                  медвед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к и т.д.                                        цапля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Бармалей»-акула                                          «Айболит»-кор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рилла                                                        волчи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                                                      медведиц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н                                                             ли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гемот и т.д.                                               о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рбо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йчих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ака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бы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л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т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аиболее известные персонаж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окодил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дведь,медведица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лк, волчица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гемот,гиппопотам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ук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арик-2,паук-2,кобыла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рова-2,рак-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ологическое исследование (2 этап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ое животное чаще встречает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роизведениях К.И.Чуковского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окодил-8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ака Авва-4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ха-2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он-2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зьяна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янитолкай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гемот-1 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ракан-1челов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5"/>
          <p:cNvSpPr txBox="1"/>
          <p:nvPr/>
        </p:nvSpPr>
        <p:spPr>
          <a:xfrm>
            <a:off x="684360" y="2924280"/>
            <a:ext cx="4032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лго,долго крокодил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ре синее тушил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рогами и блинами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сушёными грибами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2843280" y="765000"/>
            <a:ext cx="352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ПУТАНИЦ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Picture 7" descr="Untitled-Scanned-05"/>
          <p:cNvPicPr/>
          <p:nvPr/>
        </p:nvPicPr>
        <p:blipFill>
          <a:blip r:embed="rId1"/>
          <a:stretch/>
        </p:blipFill>
        <p:spPr>
          <a:xfrm>
            <a:off x="4886280" y="1413000"/>
            <a:ext cx="4257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Untitled-Scanned-01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31147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5292720" y="5157720"/>
            <a:ext cx="3132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дный крокодил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абу проглотил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5" name="Picture 6" descr="Untitled-Scanned-02"/>
          <p:cNvPicPr/>
          <p:nvPr/>
        </p:nvPicPr>
        <p:blipFill>
          <a:blip r:embed="rId2"/>
          <a:stretch/>
        </p:blipFill>
        <p:spPr>
          <a:xfrm>
            <a:off x="4896000" y="1484280"/>
            <a:ext cx="4248000" cy="3492360"/>
          </a:xfrm>
          <a:prstGeom prst="rect">
            <a:avLst/>
          </a:prstGeom>
          <a:ln w="0">
            <a:noFill/>
          </a:ln>
        </p:spPr>
      </p:pic>
      <p:sp>
        <p:nvSpPr>
          <p:cNvPr id="146" name="WordArt 7"/>
          <p:cNvSpPr txBox="1"/>
          <p:nvPr/>
        </p:nvSpPr>
        <p:spPr>
          <a:xfrm>
            <a:off x="2340000" y="692280"/>
            <a:ext cx="4319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АРАКАНИЩЕ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Ил. А.Каневского к сказке К.Чуковского «Мойдодыр»"/>
          <p:cNvPicPr/>
          <p:nvPr/>
        </p:nvPicPr>
        <p:blipFill>
          <a:blip r:embed="rId1"/>
          <a:stretch/>
        </p:blipFill>
        <p:spPr>
          <a:xfrm>
            <a:off x="179280" y="2060640"/>
            <a:ext cx="1828800" cy="2000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2411280" y="549360"/>
            <a:ext cx="41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МОЙДОДЫР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3276720" y="2637000"/>
            <a:ext cx="561636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друг навстречу мой хороший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й любимый крокодил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н с Тотошей и Кокошей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аллее проходил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411280" y="260280"/>
            <a:ext cx="446256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ТЕЛЕФОН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1" name="Picture 5" descr="Ил. К.Рудакова к сказке К.Чуковского «Телефон»"/>
          <p:cNvPicPr/>
          <p:nvPr/>
        </p:nvPicPr>
        <p:blipFill>
          <a:blip r:embed="rId1"/>
          <a:stretch/>
        </p:blipFill>
        <p:spPr>
          <a:xfrm>
            <a:off x="5786280" y="2428920"/>
            <a:ext cx="2998800" cy="39607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539640" y="2997360"/>
            <a:ext cx="45356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...и со слезами просил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Мой милый,хороший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шли мне колоши,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мне,и жене,и Тотоше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Ил. М.Добужинского к сказке К.Чуковского «Бармалей»"/>
          <p:cNvPicPr/>
          <p:nvPr/>
        </p:nvPicPr>
        <p:blipFill>
          <a:blip r:embed="rId1"/>
          <a:stretch/>
        </p:blipFill>
        <p:spPr>
          <a:xfrm>
            <a:off x="5796000" y="2205000"/>
            <a:ext cx="2890800" cy="352908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684360" y="2637000"/>
            <a:ext cx="453528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вернулся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лыбнулся,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смеялся Крокодил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злодея Бармалея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но муху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глотил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627280" y="62064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БАРМАЛЕЙ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роанализировать произведения К.И.Чуковского, то можно выявить «любимое» животно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7" descr="Корней Чуковский. Фотография. 1910-е гг."/>
          <p:cNvPicPr/>
          <p:nvPr/>
        </p:nvPicPr>
        <p:blipFill>
          <a:blip r:embed="rId1"/>
          <a:stretch/>
        </p:blipFill>
        <p:spPr>
          <a:xfrm>
            <a:off x="5003640" y="1916280"/>
            <a:ext cx="35499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Рис. Ю.Васнецова к сказке К.И.Чуковсого «Краденое солнце»"/>
          <p:cNvPicPr/>
          <p:nvPr/>
        </p:nvPicPr>
        <p:blipFill>
          <a:blip r:embed="rId1"/>
          <a:stretch/>
        </p:blipFill>
        <p:spPr>
          <a:xfrm>
            <a:off x="395280" y="2060640"/>
            <a:ext cx="3122640" cy="43210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763640" y="40464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РАДЕНОЕ СОЛНЦЕ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284720" y="2276640"/>
            <a:ext cx="4103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 в большой реке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кодил лежит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в зубах его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 огонь горит-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це красное ...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Untitled-Scanned-13"/>
          <p:cNvPicPr/>
          <p:nvPr/>
        </p:nvPicPr>
        <p:blipFill>
          <a:blip r:embed="rId1"/>
          <a:stretch/>
        </p:blipFill>
        <p:spPr>
          <a:xfrm>
            <a:off x="0" y="2060640"/>
            <a:ext cx="5580000" cy="31957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5"/>
          <p:cNvSpPr txBox="1"/>
          <p:nvPr/>
        </p:nvSpPr>
        <p:spPr>
          <a:xfrm>
            <a:off x="2484360" y="620640"/>
            <a:ext cx="417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РОКОДИЛ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WordArt 6"/>
          <p:cNvSpPr txBox="1"/>
          <p:nvPr/>
        </p:nvSpPr>
        <p:spPr>
          <a:xfrm>
            <a:off x="4716360" y="5200560"/>
            <a:ext cx="4103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л да бы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окодил 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2565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азки К.И.Чуковского популяр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и детей и помогают 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иентироваться в окружающем  мир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уча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ережива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радоватьс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делают их сильнее и умне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произведений выявил любимое животное дедушки Корнея. Им оказалс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окоди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циологическое исследование показало, что взросл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нят произведения дедушки Корнея и самым знаменитым персонажем считаю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окоди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7" descr="Untitled-Scanned-17"/>
          <p:cNvPicPr/>
          <p:nvPr/>
        </p:nvPicPr>
        <p:blipFill>
          <a:blip r:embed="rId1"/>
          <a:stretch/>
        </p:blipFill>
        <p:spPr>
          <a:xfrm>
            <a:off x="5716440" y="333360"/>
            <a:ext cx="3129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раклий Андро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 Талант у Чуковского неиссякаемый, умный, блистательный, весёлый, праздничный. С таким писателем не расставайтесь всю жиз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Цель проекта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59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яснить, какие живот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ще всего встречаю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оизведениях писа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К.Чуковский за работой. Ил. М.Ромадина к повести-сказке К.Чуковского «Доктор Айболит»"/>
          <p:cNvPicPr/>
          <p:nvPr/>
        </p:nvPicPr>
        <p:blipFill>
          <a:blip r:embed="rId1"/>
          <a:stretch/>
        </p:blipFill>
        <p:spPr>
          <a:xfrm>
            <a:off x="900000" y="2205000"/>
            <a:ext cx="1819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знать дополнительную информацию по   творчеству К.И.Чуковског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провести социологическое исследо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составить список наиболее известны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сонажей произвед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выбрать самого знаменитого геро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Метод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анализ произвед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иск информ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циологический опро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071109180145d"/>
          <p:cNvPicPr/>
          <p:nvPr/>
        </p:nvPicPr>
        <p:blipFill>
          <a:blip r:embed="rId1"/>
          <a:stretch/>
        </p:blipFill>
        <p:spPr>
          <a:xfrm>
            <a:off x="1258920" y="1838160"/>
            <a:ext cx="6477120" cy="4759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Корней Иванович Чуковск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(настоящее имя и фамилия - </a:t>
            </a:r>
            <a:r>
              <a:rPr b="0" i="1" lang="ru-RU" sz="2000" spc="-1" strike="noStrike">
                <a:solidFill>
                  <a:srgbClr val="333399"/>
                </a:solidFill>
                <a:latin typeface="Tahoma"/>
              </a:rPr>
              <a:t>Николай Васильевич Корнейчуков) (1882-1969)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казочник, критик, переводчик, основоположник советской детской литературы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изведения Корнея Чуковского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900000" y="1989000"/>
            <a:ext cx="26640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йдоды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348000" y="5589720"/>
            <a:ext cx="26640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утаниц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3419640" y="4365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аденое солн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250920" y="342900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араканищ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6156360" y="3933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уха-цокотух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684360" y="5157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156360" y="537372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удо-дере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156360" y="206064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йбол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3564000" y="2781360"/>
            <a:ext cx="266364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орино г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Untitled-Scanned-13"/>
          <p:cNvPicPr/>
          <p:nvPr/>
        </p:nvPicPr>
        <p:blipFill>
          <a:blip r:embed="rId1"/>
          <a:stretch/>
        </p:blipFill>
        <p:spPr>
          <a:xfrm>
            <a:off x="755640" y="1916280"/>
            <a:ext cx="7704000" cy="44114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2916360" y="476280"/>
            <a:ext cx="360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окодил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Рис. В.Конашевича к сказке К.И.Чуковского «Муха-Цокотуха»"/>
          <p:cNvPicPr/>
          <p:nvPr/>
        </p:nvPicPr>
        <p:blipFill>
          <a:blip r:embed="rId1"/>
          <a:stretch/>
        </p:blipFill>
        <p:spPr>
          <a:xfrm>
            <a:off x="684360" y="2276640"/>
            <a:ext cx="4679640" cy="3887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1835280" y="476280"/>
            <a:ext cx="518472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ХА-ЦОКОТУХ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Рис. В.Сутеева к сказке К.И.Чуковского «Айболит»"/>
          <p:cNvPicPr/>
          <p:nvPr/>
        </p:nvPicPr>
        <p:blipFill>
          <a:blip r:embed="rId1"/>
          <a:stretch/>
        </p:blipFill>
        <p:spPr>
          <a:xfrm>
            <a:off x="324000" y="2421000"/>
            <a:ext cx="2825640" cy="3954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3419640" y="3213000"/>
            <a:ext cx="496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,если я утону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сли пойду я ко дну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6"/>
          <p:cNvSpPr txBox="1"/>
          <p:nvPr/>
        </p:nvSpPr>
        <p:spPr>
          <a:xfrm>
            <a:off x="2987640" y="476280"/>
            <a:ext cx="37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АЙБОЛИТ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34:09Z</dcterms:created>
  <dc:creator>Customer</dc:creator>
  <dc:description/>
  <dc:language>en-US</dc:language>
  <cp:lastModifiedBy>Admin</cp:lastModifiedBy>
  <dcterms:modified xsi:type="dcterms:W3CDTF">2012-07-07T16:51:12Z</dcterms:modified>
  <cp:revision>13</cp:revision>
  <dc:subject/>
  <dc:title>Проект 1 «а» класса</dc:title>
</cp:coreProperties>
</file>