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FF5-A143-4F2C-A138-DBE3EE6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512-43FA-490F-8083-BD908C9B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533-0D33-46D7-BF98-36B06A54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327-69C1-48A1-A305-7A0A50F5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0ACE-D675-45B9-A31D-F7D16F41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50BC-B226-4EDA-9D4A-F4CD087C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F9C-4EE7-42E2-90AA-7833ABB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BD4A-7A33-45FA-BD51-B985978E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A8B-0D30-46C5-95E5-8BE5A665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B5B2-22BC-4C34-A6F9-7763B965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B3F-B15A-4B6C-A1F3-47EED13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9FC-14F7-436D-B30D-887915F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D58C-4A12-4015-96E5-7A6163B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F31-2CFB-4048-A769-6681424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9C71-78B2-4905-827B-D22AA26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8012-A435-411C-AE6C-95700B70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448B-F3B2-4657-8AEA-1DB90002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510-CD2B-490A-B857-1DE8EEFD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6EE-2428-4368-80CD-E3BA87FA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665-0267-4C8C-B8C0-80072584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91A-7BC8-4D3C-A611-82BC68BB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F6E-21A4-47E9-9563-8B6C3ED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F62-D6B8-41EA-9386-B5ABCBC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276-E56E-4A3E-8762-7637779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E0A-7EB0-4B03-8E47-D184F034BAE1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0320" y="316368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0320" y="41058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7800" y="504432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0320" y="3384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7800" y="1273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7800" y="2218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30320" y="316368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30320" y="41058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800" y="504432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30320" y="3384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800" y="1273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800" y="2218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822-5164-43A5-95F1-B21E48D0B15D}" type="slidenum">
              <a:rPr b="0" lang="ru-RU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егенды как способ изучения истории и географии родного кр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572000" y="4797360"/>
            <a:ext cx="431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Сини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Алина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«Б»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3789360"/>
            <a:ext cx="242892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42600" y="40464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ГУ «Средняя школа №18 отдела образования г. Костана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Какие географические объекты  РК вы знаете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6" name="Диаграмма 6" descr=""/>
          <p:cNvPicPr/>
          <p:nvPr/>
        </p:nvPicPr>
        <p:blipFill>
          <a:blip r:embed="rId1"/>
          <a:stretch/>
        </p:blipFill>
        <p:spPr>
          <a:xfrm>
            <a:off x="2352600" y="2852640"/>
            <a:ext cx="6797880" cy="4011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Откуда вы знаете об этих объектах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Диаграмма 4" descr=""/>
          <p:cNvPicPr/>
          <p:nvPr/>
        </p:nvPicPr>
        <p:blipFill>
          <a:blip r:embed="rId1"/>
          <a:stretch/>
        </p:blipFill>
        <p:spPr>
          <a:xfrm>
            <a:off x="1852560" y="2567160"/>
            <a:ext cx="729792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Диаграмма 1" descr=""/>
          <p:cNvPicPr/>
          <p:nvPr/>
        </p:nvPicPr>
        <p:blipFill>
          <a:blip r:embed="rId1"/>
          <a:stretch/>
        </p:blipFill>
        <p:spPr>
          <a:xfrm>
            <a:off x="1494000" y="2054160"/>
            <a:ext cx="6656400" cy="45226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722600" y="0"/>
            <a:ext cx="61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аиболее ча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тречающиеся отв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kk-KZ" sz="4000" spc="-1" strike="noStrike">
                <a:solidFill>
                  <a:srgbClr val="ffff00"/>
                </a:solidFill>
                <a:latin typeface="Arial"/>
              </a:rPr>
              <a:t> этап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Проект  «Легенды моего  края»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Сборник  «Легенды моего края»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Настольная  игра «По страницам легенд»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Топонимический  глоссарии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C:\Documents and Settings\5\Мои документы\13.gif"/>
          <p:cNvPicPr/>
          <p:nvPr/>
        </p:nvPicPr>
        <p:blipFill>
          <a:blip r:embed="rId1"/>
          <a:srcRect l="17969" t="6252" r="30469" b="5207"/>
          <a:stretch/>
        </p:blipFill>
        <p:spPr>
          <a:xfrm>
            <a:off x="974880" y="21420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5\Мои документы\глос.gif"/>
          <p:cNvPicPr/>
          <p:nvPr/>
        </p:nvPicPr>
        <p:blipFill>
          <a:blip r:embed="rId2"/>
          <a:srcRect l="17969" t="6252" r="30469" b="5207"/>
          <a:stretch/>
        </p:blipFill>
        <p:spPr>
          <a:xfrm>
            <a:off x="5643720" y="14292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357280" y="321480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I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Какие географические объекты  РК вы знаете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9" name="Диаграмма 4" descr=""/>
          <p:cNvPicPr/>
          <p:nvPr/>
        </p:nvPicPr>
        <p:blipFill>
          <a:blip r:embed="rId1"/>
          <a:stretch/>
        </p:blipFill>
        <p:spPr>
          <a:xfrm>
            <a:off x="2206800" y="27795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I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Откуда вы знаете об этих объектах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2" name="Диаграмма 5" descr=""/>
          <p:cNvPicPr/>
          <p:nvPr/>
        </p:nvPicPr>
        <p:blipFill>
          <a:blip r:embed="rId1"/>
          <a:stretch/>
        </p:blipFill>
        <p:spPr>
          <a:xfrm>
            <a:off x="1133640" y="2206800"/>
            <a:ext cx="80168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Диаграмма 1" descr=""/>
          <p:cNvPicPr/>
          <p:nvPr/>
        </p:nvPicPr>
        <p:blipFill>
          <a:blip r:embed="rId1"/>
          <a:stretch/>
        </p:blipFill>
        <p:spPr>
          <a:xfrm>
            <a:off x="1639800" y="2054160"/>
            <a:ext cx="7010640" cy="45226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1650960" y="0"/>
            <a:ext cx="61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аиболее ча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тречающиеся отв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тап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Вывод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Использование  на уроках познания мира  легенд  о происхождении географических объектов, положительно влияет  изучение  географии и истории родного края школьниками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Гипотеза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14308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ы предполагаем, что если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спользовать на уроках познания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ира  легенды о происхождении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географических объектов, то это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высит  интерес школьника к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зучению географии и истории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родного края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91"/>
          <p:cNvSpPr/>
          <p:nvPr/>
        </p:nvSpPr>
        <p:spPr>
          <a:xfrm>
            <a:off x="684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Предмет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81439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спользование  легенд при изучении географии и исторической памяти Республики Казахстан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91"/>
          <p:cNvSpPr/>
          <p:nvPr/>
        </p:nvSpPr>
        <p:spPr>
          <a:xfrm>
            <a:off x="684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Объект: 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0080" y="2356920"/>
            <a:ext cx="814392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топонимические легенды  –  легенды  о происхождении географических объектов  различных местностей, рек, озёр, гор Казахстана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Цель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сестороннее рассмотрение использования легенд в качестве исторического источника по изучению географии и исторической памяти Республики Казахстан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91"/>
          <p:cNvSpPr/>
          <p:nvPr/>
        </p:nvSpPr>
        <p:spPr>
          <a:xfrm>
            <a:off x="684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Задачи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81439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Изучить легенды о географических объектах РК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Записать топонимические легенды родного края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Систематизировать материал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Рассмотреть легенды как источник для изучения исторической памяти и географических представлений казахстанцев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Методы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675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зучение и анализ литературы по данной проблеме;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нкетирование учащихся;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Структура работы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-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20"/>
          <p:cNvSpPr/>
          <p:nvPr/>
        </p:nvSpPr>
        <p:spPr>
          <a:xfrm>
            <a:off x="0" y="689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Введение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глава  Легенды и историческая действительность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глава Экспериментальное исследование по использованию легенд в целях  повышения  интереса  школьника к изучению географии и истории родного края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Заключение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714240" y="214200"/>
            <a:ext cx="4000680" cy="264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857160" y="2500200"/>
            <a:ext cx="3175200" cy="204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5"/>
          <a:stretch/>
        </p:blipFill>
        <p:spPr>
          <a:xfrm>
            <a:off x="6000840" y="4494240"/>
            <a:ext cx="3143160" cy="236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6"/>
          <a:stretch/>
        </p:blipFill>
        <p:spPr>
          <a:xfrm>
            <a:off x="1928880" y="43927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7" descr=""/>
          <p:cNvPicPr/>
          <p:nvPr/>
        </p:nvPicPr>
        <p:blipFill>
          <a:blip r:embed="rId7"/>
          <a:stretch/>
        </p:blipFill>
        <p:spPr>
          <a:xfrm>
            <a:off x="3084480" y="4565520"/>
            <a:ext cx="2335320" cy="9018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8" descr=""/>
          <p:cNvPicPr/>
          <p:nvPr/>
        </p:nvPicPr>
        <p:blipFill>
          <a:blip r:embed="rId8"/>
          <a:stretch/>
        </p:blipFill>
        <p:spPr>
          <a:xfrm>
            <a:off x="6351480" y="4492800"/>
            <a:ext cx="3097440" cy="9014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9" descr=""/>
          <p:cNvPicPr/>
          <p:nvPr/>
        </p:nvPicPr>
        <p:blipFill>
          <a:blip r:embed="rId9"/>
          <a:stretch/>
        </p:blipFill>
        <p:spPr>
          <a:xfrm>
            <a:off x="1238400" y="2494080"/>
            <a:ext cx="2797200" cy="90144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10" descr=""/>
          <p:cNvPicPr/>
          <p:nvPr/>
        </p:nvPicPr>
        <p:blipFill>
          <a:blip r:embed="rId10"/>
          <a:stretch/>
        </p:blipFill>
        <p:spPr>
          <a:xfrm>
            <a:off x="4243320" y="2279520"/>
            <a:ext cx="41688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18:19Z</dcterms:created>
  <dc:creator>user</dc:creator>
  <dc:description/>
  <dc:language>en-US</dc:language>
  <cp:lastModifiedBy>5</cp:lastModifiedBy>
  <dcterms:modified xsi:type="dcterms:W3CDTF">2011-02-23T17:41:33Z</dcterms:modified>
  <cp:revision>63</cp:revision>
  <dc:subject/>
  <dc:title>Мониторинг и составляющие качества обучения</dc:title>
</cp:coreProperties>
</file>