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884-8A6F-48C1-815D-DD59BF7E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66F-1442-451A-95EB-9C4B7F04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BD9-12D5-41A0-9F6E-A3251541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614-D869-468F-B234-DF1313D0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3764-F1B0-4BEB-BCBA-D6C78245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98DD-2902-4749-A7A2-D313790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C577-84E0-4E43-B55B-F44CE3F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C9C4-A327-4EFB-89A3-709285D4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14DD-B6CB-466B-BF93-B0CE1A8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724D-6285-4393-843F-ECB8353C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4747-A084-49C3-B423-0A9033C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3B8-79FE-4824-BF81-4D5F8626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FF9-A2DD-4C99-B6AD-B1F2E96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F73-8230-47DD-AD9E-7B8D798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8E4F-6629-49F7-A986-1CC6F0F8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2AF4-10D3-4B75-AD57-64FEAB73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2F91-CBE2-4C5B-AAC0-F7162675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E91-BD61-43F4-9380-81FDD86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797-48F6-4EBE-9254-9AF08BD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354-2FDB-4179-AFC1-A63D6309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BC6-4F57-48A4-B85F-1320213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41C-BB31-4061-BBC3-A9CC143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5B7-FEC9-4E46-BA94-F8D5B05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F80-4A0D-4AB7-A60B-6DC58038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36B0-C88E-4485-9361-A4029BC297CF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0320" y="316368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0320" y="41058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7800" y="504432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0320" y="3384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7800" y="1273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7800" y="2218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30320" y="316368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30320" y="41058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800" y="504432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30320" y="338400"/>
              <a:ext cx="893880" cy="844560"/>
            </a:xfrm>
            <a:prstGeom prst="parallelogram">
              <a:avLst>
                <a:gd name="adj" fmla="val 5604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800" y="1273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800" y="2218680"/>
              <a:ext cx="893880" cy="844920"/>
            </a:xfrm>
            <a:prstGeom prst="parallelogram">
              <a:avLst>
                <a:gd name="adj" fmla="val 560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3FB4-4388-4CEC-8AA3-081898113C19}" type="slidenum">
              <a:rPr b="0" lang="ru-RU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егенды как способ изучения истории и географии родного кр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572000" y="4797360"/>
            <a:ext cx="431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Сини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Алина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«Б»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58920" y="3789360"/>
            <a:ext cx="2428920" cy="2879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42600" y="40464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ГУ «Средняя школа №18 отдела образования г. Коста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Какие географические объекты  РК вы знаете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6" name="Диаграмма 6" descr=""/>
          <p:cNvPicPr/>
          <p:nvPr/>
        </p:nvPicPr>
        <p:blipFill>
          <a:blip r:embed="rId1"/>
          <a:stretch/>
        </p:blipFill>
        <p:spPr>
          <a:xfrm>
            <a:off x="2352600" y="2852640"/>
            <a:ext cx="6797880" cy="4011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Откуда вы знаете об этих объектах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9" name="Диаграмма 4" descr=""/>
          <p:cNvPicPr/>
          <p:nvPr/>
        </p:nvPicPr>
        <p:blipFill>
          <a:blip r:embed="rId1"/>
          <a:stretch/>
        </p:blipFill>
        <p:spPr>
          <a:xfrm>
            <a:off x="1852560" y="2567160"/>
            <a:ext cx="7297920" cy="4297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Диаграмма 1" descr=""/>
          <p:cNvPicPr/>
          <p:nvPr/>
        </p:nvPicPr>
        <p:blipFill>
          <a:blip r:embed="rId1"/>
          <a:stretch/>
        </p:blipFill>
        <p:spPr>
          <a:xfrm>
            <a:off x="1494000" y="2054160"/>
            <a:ext cx="6656400" cy="45226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722600" y="0"/>
            <a:ext cx="61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аиболее ча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тречающиеся от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kk-KZ" sz="4000" spc="-1" strike="noStrike">
                <a:solidFill>
                  <a:srgbClr val="ffff00"/>
                </a:solidFill>
                <a:latin typeface="Arial"/>
              </a:rPr>
              <a:t> этап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Проект  «Легенды моего  края»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Сборник  «Легенды моего края»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Настольная  игра «По страницам легенд»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Топонимический  глоссарии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C:\Documents and Settings\5\Мои документы\13.gif"/>
          <p:cNvPicPr/>
          <p:nvPr/>
        </p:nvPicPr>
        <p:blipFill>
          <a:blip r:embed="rId1"/>
          <a:srcRect l="17969" t="6252" r="30469" b="5207"/>
          <a:stretch/>
        </p:blipFill>
        <p:spPr>
          <a:xfrm>
            <a:off x="974880" y="21420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5\Мои документы\глос.gif"/>
          <p:cNvPicPr/>
          <p:nvPr/>
        </p:nvPicPr>
        <p:blipFill>
          <a:blip r:embed="rId2"/>
          <a:srcRect l="17969" t="6252" r="30469" b="5207"/>
          <a:stretch/>
        </p:blipFill>
        <p:spPr>
          <a:xfrm>
            <a:off x="5643720" y="142920"/>
            <a:ext cx="3382920" cy="435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2357280" y="321480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I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Какие географические объекты  РК вы знаете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9" name="Диаграмма 4" descr=""/>
          <p:cNvPicPr/>
          <p:nvPr/>
        </p:nvPicPr>
        <p:blipFill>
          <a:blip r:embed="rId1"/>
          <a:stretch/>
        </p:blipFill>
        <p:spPr>
          <a:xfrm>
            <a:off x="2206800" y="27795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III</a:t>
            </a:r>
            <a:r>
              <a:rPr b="0" lang="ru-RU" sz="4400" spc="-1" strike="noStrike">
                <a:solidFill>
                  <a:srgbClr val="ccffff"/>
                </a:solidFill>
                <a:latin typeface="Impact"/>
              </a:rPr>
              <a:t> этап эксперимента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1428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Анкетирование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Откуда вы знаете об этих объектах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2" name="Диаграмма 5" descr=""/>
          <p:cNvPicPr/>
          <p:nvPr/>
        </p:nvPicPr>
        <p:blipFill>
          <a:blip r:embed="rId1"/>
          <a:stretch/>
        </p:blipFill>
        <p:spPr>
          <a:xfrm>
            <a:off x="1133640" y="2206800"/>
            <a:ext cx="80168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Диаграмма 1" descr=""/>
          <p:cNvPicPr/>
          <p:nvPr/>
        </p:nvPicPr>
        <p:blipFill>
          <a:blip r:embed="rId1"/>
          <a:stretch/>
        </p:blipFill>
        <p:spPr>
          <a:xfrm>
            <a:off x="1639800" y="2054160"/>
            <a:ext cx="7010640" cy="45226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1650960" y="0"/>
            <a:ext cx="61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аиболее ча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стречающиеся отве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II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ап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Вывод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Использование  на уроках познания мира  легенд  о происхождении географических объектов, положительно влияет  изучение  географии и истории родного края школьниками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7646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Гипотеза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143080"/>
            <a:ext cx="77724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ы предполагаем, что если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спользовать на уроках познания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мира  легенды о происхождении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географических объектов, то это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высит  интерес школьника к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учению географии и истории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родного края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Предмет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спользование  легенд при изучении географии и исторической памяти Республики Казахстан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Объект: 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00080" y="2356920"/>
            <a:ext cx="814392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топонимические легенды  –  легенды  о происхождении географических объектов  различных местностей, рек, озёр, гор Казахстана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Цель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всестороннее рассмотрение использования легенд в качестве исторического источника по изучению географии и исторической памяти Республики Казахстан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91"/>
          <p:cNvSpPr/>
          <p:nvPr/>
        </p:nvSpPr>
        <p:spPr>
          <a:xfrm>
            <a:off x="684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Задачи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81439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Изучить легенды о географических объектах РК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Записать топонимические легенды родного края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Систематизировать материал;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Рассмотреть легенды как источник для изучения исторической памяти и географических представлений казахстанцев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Методы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675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изучение и анализ литературы по данной проблеме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анкетирование учащихся;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Структура работы 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-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20"/>
          <p:cNvSpPr/>
          <p:nvPr/>
        </p:nvSpPr>
        <p:spPr>
          <a:xfrm>
            <a:off x="0" y="689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00080" y="207180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Введение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глава  Легенды и историческая действительность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I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 глава Экспериментальное исследование по использованию легенд в целях  повышения  интереса  школьника к изучению географии и истории родного края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Заключение 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риложения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4643280" y="228600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714240" y="214200"/>
            <a:ext cx="4000680" cy="264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857160" y="2500200"/>
            <a:ext cx="3175200" cy="204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5"/>
          <a:stretch/>
        </p:blipFill>
        <p:spPr>
          <a:xfrm>
            <a:off x="6000840" y="4494240"/>
            <a:ext cx="3143160" cy="2363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6"/>
          <a:stretch/>
        </p:blipFill>
        <p:spPr>
          <a:xfrm>
            <a:off x="1928880" y="43927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7" descr=""/>
          <p:cNvPicPr/>
          <p:nvPr/>
        </p:nvPicPr>
        <p:blipFill>
          <a:blip r:embed="rId7"/>
          <a:stretch/>
        </p:blipFill>
        <p:spPr>
          <a:xfrm>
            <a:off x="3084480" y="4565520"/>
            <a:ext cx="2335320" cy="90180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8" descr=""/>
          <p:cNvPicPr/>
          <p:nvPr/>
        </p:nvPicPr>
        <p:blipFill>
          <a:blip r:embed="rId8"/>
          <a:stretch/>
        </p:blipFill>
        <p:spPr>
          <a:xfrm>
            <a:off x="6351480" y="4492800"/>
            <a:ext cx="3097440" cy="90144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9" descr=""/>
          <p:cNvPicPr/>
          <p:nvPr/>
        </p:nvPicPr>
        <p:blipFill>
          <a:blip r:embed="rId9"/>
          <a:stretch/>
        </p:blipFill>
        <p:spPr>
          <a:xfrm>
            <a:off x="1238400" y="2494080"/>
            <a:ext cx="2797200" cy="90144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10" descr=""/>
          <p:cNvPicPr/>
          <p:nvPr/>
        </p:nvPicPr>
        <p:blipFill>
          <a:blip r:embed="rId10"/>
          <a:stretch/>
        </p:blipFill>
        <p:spPr>
          <a:xfrm>
            <a:off x="4243320" y="2279520"/>
            <a:ext cx="416880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2:18:19Z</dcterms:created>
  <dc:creator>user</dc:creator>
  <dc:description/>
  <dc:language>en-US</dc:language>
  <cp:lastModifiedBy>5</cp:lastModifiedBy>
  <dcterms:modified xsi:type="dcterms:W3CDTF">2011-02-23T17:41:33Z</dcterms:modified>
  <cp:revision>63</cp:revision>
  <dc:subject/>
  <dc:title>Мониторинг и составляющие качества обучения</dc:title>
</cp:coreProperties>
</file>