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CE8D-73C1-44CD-A34B-204563A5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AA9A-C6EF-4F68-87BE-1712C535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689D-28B0-42E0-94DF-6018BBE0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84C3-CEBD-46D8-B467-E58C4140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A81A-6D0B-4722-9F66-8C367F9D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A79F-475D-45B4-800B-5403CFD8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DA73-07AB-4D2E-B2B0-57C0D1FE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58FC-E330-43D9-B8B6-CE2ACFF9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7513-02B5-41AC-9CE8-1DEDB2F5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655F-53C4-409C-9A9C-3B1C36E6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52B6-D5CA-4122-A2F7-C3CB3006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E8AE-3749-440E-8839-57DA7336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2CC495-D948-4DFA-9CB5-7F5546FAAC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7240" y="360360"/>
            <a:ext cx="7772400" cy="15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Парные согласн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497800" cy="63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Arial"/>
              </a:rPr>
              <a:t>б или п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Гер_, зу_, сно_, сер_, коро_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Arial"/>
              </a:rPr>
              <a:t>в или ф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Клю_, обры_, зо_, ше_, обу_ь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Arial"/>
              </a:rPr>
              <a:t>г или к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Кру_, бе_, ша_, сне_, виз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Допиши сравнения. Проверочные слова напиши в скобк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лючий, как 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уклюжий, как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лепой, как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линный, как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воротливый, как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427640" y="1844640"/>
            <a:ext cx="1296720" cy="95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580000" y="2997360"/>
            <a:ext cx="2952720" cy="208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8227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К</a:t>
            </a:r>
            <a:r>
              <a:rPr b="1" lang="ru-RU" sz="4000" spc="-1" strike="noStrike">
                <a:solidFill>
                  <a:srgbClr val="ff0000"/>
                </a:solidFill>
                <a:latin typeface="Propisi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лючий, как  ё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Propisi"/>
              </a:rPr>
              <a:t>ж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  (ё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Propisi"/>
              </a:rPr>
              <a:t>ж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Propisi"/>
              </a:rPr>
              <a:t>и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к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Неуклю</a:t>
            </a:r>
            <a:r>
              <a:rPr b="1" lang="ru-RU" sz="4000" spc="-1" strike="noStrike">
                <a:solidFill>
                  <a:srgbClr val="ff0000"/>
                </a:solidFill>
                <a:latin typeface="Propisi"/>
              </a:rPr>
              <a:t>жи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й, как  медве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Propisi"/>
              </a:rPr>
              <a:t>д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ь  (медве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Propisi"/>
              </a:rPr>
              <a:t>д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Propisi"/>
              </a:rPr>
              <a:t>и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Сл</a:t>
            </a:r>
            <a:r>
              <a:rPr b="1" lang="ru-RU" sz="4000" spc="-1" strike="noStrike">
                <a:solidFill>
                  <a:srgbClr val="ff0000"/>
                </a:solidFill>
                <a:latin typeface="Propisi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пой, как  кро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Propisi"/>
              </a:rPr>
              <a:t>т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 (кро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Propisi"/>
              </a:rPr>
              <a:t>т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Propisi"/>
              </a:rPr>
              <a:t>ы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Дли</a:t>
            </a:r>
            <a:r>
              <a:rPr b="1" lang="ru-RU" sz="4000" spc="-1" strike="noStrike">
                <a:solidFill>
                  <a:srgbClr val="ff0000"/>
                </a:solidFill>
                <a:latin typeface="Propisi"/>
              </a:rPr>
              <a:t>нн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ый, как </a:t>
            </a:r>
            <a:r>
              <a:rPr b="1" lang="ru-RU" sz="4000" spc="-1" strike="noStrike">
                <a:solidFill>
                  <a:srgbClr val="ff0000"/>
                </a:solidFill>
                <a:latin typeface="Propisi"/>
              </a:rPr>
              <a:t>жи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ра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Propisi"/>
              </a:rPr>
              <a:t>ф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 (жира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Propisi"/>
              </a:rPr>
              <a:t>ф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Propisi"/>
              </a:rPr>
              <a:t>ы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Изв</a:t>
            </a:r>
            <a:r>
              <a:rPr b="1" lang="ru-RU" sz="4000" spc="-1" strike="noStrike">
                <a:solidFill>
                  <a:srgbClr val="ff0000"/>
                </a:solidFill>
                <a:latin typeface="Propisi"/>
              </a:rPr>
              <a:t>оро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т</a:t>
            </a:r>
            <a:r>
              <a:rPr b="1" lang="ru-RU" sz="4000" spc="-1" strike="noStrike">
                <a:solidFill>
                  <a:srgbClr val="ff0000"/>
                </a:solidFill>
                <a:latin typeface="Propisi"/>
              </a:rPr>
              <a:t>лив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ый, как у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Propisi"/>
              </a:rPr>
              <a:t>ж</a:t>
            </a:r>
            <a:r>
              <a:rPr b="1" lang="ru-RU" sz="4000" spc="-1" strike="noStrike">
                <a:solidFill>
                  <a:srgbClr val="0000ff"/>
                </a:solidFill>
                <a:latin typeface="Propis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(у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Propisi"/>
              </a:rPr>
              <a:t>ж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Propisi"/>
              </a:rPr>
              <a:t>и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27:42Z</dcterms:created>
  <dc:creator/>
  <dc:description/>
  <dc:language>en-US</dc:language>
  <cp:lastModifiedBy>User</cp:lastModifiedBy>
  <dcterms:modified xsi:type="dcterms:W3CDTF">2002-01-01T00:07:36Z</dcterms:modified>
  <cp:revision>4</cp:revision>
  <dc:subject/>
  <dc:title>Слайд 1</dc:title>
</cp:coreProperties>
</file>