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70B1-828A-4CD5-9E72-E778DAB6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4A1-6CF4-4739-A8EE-E5374089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F91-6DE3-4C1B-9E2D-7C21A0FA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FF7-7931-4219-8BA5-6E91BD50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9EB-9211-4538-85A7-2B403E7B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790D-1B69-4A6E-968C-594D1EE5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E39-CD56-459B-AFA8-E28AB1BB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04F-D5A2-4556-83E5-46F58D86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AFD-BA57-48B5-91D8-5B03C17B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09F-507D-46B7-8373-0746875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2DB-FA58-475E-9198-BD52AE1D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977-145C-4AC5-BCA9-1725C8B4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E963CD-0B5C-4B65-B4B0-732A2FA3A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360360"/>
            <a:ext cx="77724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Парные соглас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97800" cy="63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б или п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Гер_, зу_, сно_, сер_, коро_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в или ф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Клю_, обры_, зо_, ше_, обу_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г или к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Кру_, бе_, ша_, сне_, виз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опиши сравнения. Проверочные слова напиши в скоб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ючий, как 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уклюжий, как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епой, как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ный, как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воротливый, как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27640" y="1844640"/>
            <a:ext cx="129672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580000" y="2997360"/>
            <a:ext cx="2952720" cy="20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27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К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лючий, как  ё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ж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  (ё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ж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к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Неуклю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ж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й, как  медве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д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ь  (медве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д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Сл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пой, как  кро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т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 (кро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т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Дли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нн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ый, как 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ж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ра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ф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 (жира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ф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ы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Изв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оро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т</a:t>
            </a:r>
            <a:r>
              <a:rPr b="1" lang="ru-RU" sz="4000" spc="-1" strike="noStrike">
                <a:solidFill>
                  <a:srgbClr val="ff0000"/>
                </a:solidFill>
                <a:latin typeface="Propisi"/>
              </a:rPr>
              <a:t>лив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ый, как у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ж</a:t>
            </a:r>
            <a:r>
              <a:rPr b="1" lang="ru-RU" sz="4000" spc="-1" strike="noStrike">
                <a:solidFill>
                  <a:srgbClr val="0000ff"/>
                </a:solidFill>
                <a:latin typeface="Propis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(у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Propisi"/>
              </a:rPr>
              <a:t>ж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Propisi"/>
              </a:rPr>
              <a:t>и</a:t>
            </a:r>
            <a:r>
              <a:rPr b="1" lang="ru-RU" sz="4000" spc="-1" strike="noStrike">
                <a:solidFill>
                  <a:srgbClr val="000000"/>
                </a:solidFill>
                <a:latin typeface="Propis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27:42Z</dcterms:created>
  <dc:creator/>
  <dc:description/>
  <dc:language>en-US</dc:language>
  <cp:lastModifiedBy>User</cp:lastModifiedBy>
  <dcterms:modified xsi:type="dcterms:W3CDTF">2002-01-01T00:07:36Z</dcterms:modified>
  <cp:revision>4</cp:revision>
  <dc:subject/>
  <dc:title>Слайд 1</dc:title>
</cp:coreProperties>
</file>