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391-798F-49D3-9ADC-6D4BAE65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71F-985B-4CA2-9DFD-B745E9A3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4B7-B79B-417D-B603-CFEC1B59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04C-959D-413A-BFD3-223267C2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071-A714-4FC6-9770-D7F84CBD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D3E-99EA-45FC-B3B5-9AC41AD6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51E-B368-45AD-868F-BADFBDE0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B35-BBEE-4CC7-B026-0EF876F2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509B-7C91-4700-B6B1-134768A9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0AC-0BC8-4465-B208-F2C5B3B4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92F-B8C1-42E5-B74F-0D56933D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A88-FF7F-4F56-B370-9F698782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E19E-AE9B-4EB3-9D33-DA3E75344A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езентация</a:t>
            </a:r>
            <a:br>
              <a:rPr sz="4800"/>
            </a:br>
            <a:r>
              <a:rPr b="0" lang="en-US" sz="4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Back to Vancou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923920"/>
            <a:ext cx="6337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руздева Еле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м городе проходили соревнования по лыжным дисциплина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65628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Уист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Ричмо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Бернаб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проходили предыдущие Зимние Олимпийские игры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280" y="1628280"/>
            <a:ext cx="6707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 Нага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 Солт Лейк Си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 Тур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ой дисциплине относится хаф-пайп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Сноуборд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Фристай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Биат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команды встречались в финале по хоккею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2133720"/>
            <a:ext cx="69231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США – Кан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Россия – Канада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Канада – Финляндия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ревнования по шорт-треку проходили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4941720"/>
            <a:ext cx="91440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chmond Olympic Ova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ific Coliseum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Canada Hockey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ькобежный овал)    (Арена для фигурного  катания)       (хоккейная ар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Richmond_Olympic_Oval_Outside"/>
          <p:cNvPicPr/>
          <p:nvPr/>
        </p:nvPicPr>
        <p:blipFill>
          <a:blip r:embed="rId1"/>
          <a:srcRect l="0" t="0" r="23017" b="0"/>
          <a:stretch/>
        </p:blipFill>
        <p:spPr>
          <a:xfrm>
            <a:off x="0" y="1557360"/>
            <a:ext cx="2987640" cy="2914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42232779FF2C17F16BE5577124D74"/>
          <p:cNvPicPr/>
          <p:nvPr/>
        </p:nvPicPr>
        <p:blipFill>
          <a:blip r:embed="rId2"/>
          <a:srcRect l="7677" t="0" r="13447" b="0"/>
          <a:stretch/>
        </p:blipFill>
        <p:spPr>
          <a:xfrm>
            <a:off x="2987640" y="1557360"/>
            <a:ext cx="3168720" cy="287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timJ"/>
          <p:cNvPicPr/>
          <p:nvPr/>
        </p:nvPicPr>
        <p:blipFill>
          <a:blip r:embed="rId3"/>
          <a:srcRect l="0" t="3788" r="0" b="22627"/>
          <a:stretch/>
        </p:blipFill>
        <p:spPr>
          <a:xfrm>
            <a:off x="6156360" y="1557360"/>
            <a:ext cx="2987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я сборная собрала больше всего медалей (в сумме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Герм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Кан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С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мни для керлинга весят око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1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2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4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располагался Русский дом в Ванкувер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5229360"/>
            <a:ext cx="9144000" cy="125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.                В.                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vankuver"/>
          <p:cNvPicPr/>
          <p:nvPr/>
        </p:nvPicPr>
        <p:blipFill>
          <a:blip r:embed="rId1"/>
          <a:srcRect l="14092" t="0" r="22007" b="0"/>
          <a:stretch/>
        </p:blipFill>
        <p:spPr>
          <a:xfrm>
            <a:off x="0" y="1557360"/>
            <a:ext cx="3129120" cy="36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1266047025_800pxvancouvergmplace3"/>
          <p:cNvPicPr/>
          <p:nvPr/>
        </p:nvPicPr>
        <p:blipFill>
          <a:blip r:embed="rId2"/>
          <a:srcRect l="0" t="0" r="56927" b="0"/>
          <a:stretch/>
        </p:blipFill>
        <p:spPr>
          <a:xfrm>
            <a:off x="3132000" y="1557360"/>
            <a:ext cx="2989440" cy="36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richmond-oval"/>
          <p:cNvPicPr/>
          <p:nvPr/>
        </p:nvPicPr>
        <p:blipFill>
          <a:blip r:embed="rId3"/>
          <a:srcRect l="-620" t="0" r="46216" b="0"/>
          <a:stretch/>
        </p:blipFill>
        <p:spPr>
          <a:xfrm>
            <a:off x="6084720" y="1557360"/>
            <a:ext cx="30592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четверной прыжок выполнил на ОИ Евгений Плющенк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Тулу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Саль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Лут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 сколько лет определяется страна, в которой будут проводиться О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За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З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За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2247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 to Vancou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Strong&amp;Free.mp3" descr=""/>
          <p:cNvPicPr/>
          <p:nvPr/>
        </p:nvPicPr>
        <p:blipFill>
          <a:blip r:embed="rId1"/>
          <a:stretch/>
        </p:blipFill>
        <p:spPr>
          <a:xfrm>
            <a:off x="250920" y="6165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й дистанции не существует в конькобежном спорте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3333ff"/>
                </a:solidFill>
                <a:latin typeface="Arial"/>
              </a:rPr>
              <a:t>3000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7000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10000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мпийским чемпионом в прыжках с трамплина ст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Грегор Шлиренцауэр В. Симон Амман  С. Адам Мал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100213164600"/>
          <p:cNvPicPr/>
          <p:nvPr/>
        </p:nvPicPr>
        <p:blipFill>
          <a:blip r:embed="rId2"/>
          <a:srcRect l="5175" t="0" r="21215" b="0"/>
          <a:stretch/>
        </p:blipFill>
        <p:spPr>
          <a:xfrm>
            <a:off x="3059280" y="1557360"/>
            <a:ext cx="2952720" cy="314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220px-Adam_Małysz_-_Engelberg_2006"/>
          <p:cNvPicPr/>
          <p:nvPr/>
        </p:nvPicPr>
        <p:blipFill>
          <a:blip r:embed="rId3"/>
          <a:srcRect l="7679" t="0" r="5257" b="0"/>
          <a:stretch/>
        </p:blipFill>
        <p:spPr>
          <a:xfrm>
            <a:off x="6012000" y="1557360"/>
            <a:ext cx="2447640" cy="3166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Gregor_Schlierenzauer"/>
          <p:cNvPicPr/>
          <p:nvPr/>
        </p:nvPicPr>
        <p:blipFill>
          <a:blip r:embed="rId4"/>
          <a:srcRect l="0" t="13706" r="0" b="0"/>
          <a:stretch/>
        </p:blipFill>
        <p:spPr>
          <a:xfrm>
            <a:off x="611280" y="1557360"/>
            <a:ext cx="2448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ой из дисциплин наши спортсмены взяли золото и серебр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Лыжи. Спри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Биатлон. Спри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Дуат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импийские игры возрод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Пьер де Куберт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Деметриус Викела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001"/>
              </a:spcBef>
              <a:buClr>
                <a:srgbClr val="ffffff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Анри де Байе-Лату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е Олимпийские Игры современности прошли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95280" y="1844280"/>
            <a:ext cx="67532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Афин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Р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Зальцбур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Игры появились раньш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Зим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Лет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Одновремен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мн Олимпийских Игр назыв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92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«Дети счаст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«Дети удачи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«К побед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проходят Зимние Олимпийские игры относительно Летни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7640" y="2133360"/>
            <a:ext cx="741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 тот же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Через 2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Через 4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фициальный девиз Олимпийских иг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Тысячи часов в спортзале равны одной минуте на пьедеста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Главное - не победа, а участ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Быстрее Выше Сильнее.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ую медаль сборной России прин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4920" y="5373360"/>
            <a:ext cx="8064360" cy="12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И.Скобрев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В)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Е. Плющенко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С) </a:t>
            </a: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Е. Устю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скобрев1"/>
          <p:cNvPicPr/>
          <p:nvPr/>
        </p:nvPicPr>
        <p:blipFill>
          <a:blip r:embed="rId2"/>
          <a:stretch/>
        </p:blipFill>
        <p:spPr>
          <a:xfrm>
            <a:off x="474840" y="1690560"/>
            <a:ext cx="2585880" cy="3394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RIA-578373-Preview_thumb_fed_photo"/>
          <p:cNvPicPr/>
          <p:nvPr/>
        </p:nvPicPr>
        <p:blipFill>
          <a:blip r:embed="rId3"/>
          <a:srcRect l="36709" t="-785" r="6162" b="0"/>
          <a:stretch/>
        </p:blipFill>
        <p:spPr>
          <a:xfrm>
            <a:off x="3059280" y="1700280"/>
            <a:ext cx="2792160" cy="3370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img"/>
          <p:cNvPicPr/>
          <p:nvPr/>
        </p:nvPicPr>
        <p:blipFill>
          <a:blip r:embed="rId4"/>
          <a:srcRect l="28291" t="0" r="9440" b="0"/>
          <a:stretch/>
        </p:blipFill>
        <p:spPr>
          <a:xfrm>
            <a:off x="5867280" y="1700280"/>
            <a:ext cx="278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6:02:40Z</dcterms:created>
  <dc:creator>1</dc:creator>
  <dc:description/>
  <dc:language>en-US</dc:language>
  <cp:lastModifiedBy>User</cp:lastModifiedBy>
  <dcterms:modified xsi:type="dcterms:W3CDTF">2012-07-08T16:55:26Z</dcterms:modified>
  <cp:revision>11</cp:revision>
  <dc:subject/>
  <dc:title>Back to Vancouver</dc:title>
</cp:coreProperties>
</file>