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4.jpeg" ContentType="image/jpeg"/>
  <Override PartName="/ppt/media/image41.jpeg" ContentType="image/jpeg"/>
  <Override PartName="/ppt/media/image39.jpeg" ContentType="image/jpeg"/>
  <Override PartName="/ppt/media/image8.jpeg" ContentType="image/jpeg"/>
  <Override PartName="/ppt/media/image35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43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B45-7ADA-4AC4-A74B-05F4977C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D00-7002-4CFF-99A1-384BD766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6FF-1C85-4500-941B-5709627B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23B-6D13-4429-8EE7-63EA85EC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ED98-AC64-449B-950F-75218FF3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C5A3-6839-4F03-905E-32411856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29E5-509E-4448-A4F7-D7EF9DA2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14D9-F32D-4DD5-94CB-3A1978F8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2192-B3EA-45A5-8539-93AA5D3B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4920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9CDE-9E0A-4AA7-87BE-47BA1196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9231-E22E-464C-A8EA-5E53335A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29D-4844-4A14-B239-7191EF2F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8482-4C70-481A-BBF5-47587118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7353-CE6E-4DEB-85FF-664F1102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57D5-311C-4126-9EDA-DD8666BA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144E-8D6E-4D0B-B34A-DFCBE778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EDC0-E2B9-441C-AA44-54AA2AE0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678-AB20-448D-91F7-AC4EE7F6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DA0-2D50-4500-AFF7-786E9FAD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B4B-19B4-4C1A-8AF0-9826A860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4920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F2D-B729-4894-A6B3-02736F75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49D-FCC8-4206-9B20-E94EBD6A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3B2-BE89-4E82-B9BD-5A75348D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726-4028-4F5B-8811-05012440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04450C-6257-452C-ACB5-76F3924DFEF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876FE4-A636-4B75-A66D-74E09C7096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503640"/>
            <a:ext cx="82296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пределение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кислотности почвы с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омощью природных индикаторов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4073400" y="3276720"/>
            <a:ext cx="333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Любицкая Анастасия 8-2 к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Пухова Яна   8-2 к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оровина Кристина 8 – 2 к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БОУ «СОШ № 142» г.Ом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Руководитель Кавлакан Л.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96360" y="4681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12 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черн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1905120"/>
            <a:ext cx="4952880" cy="4267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41972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3406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302800" y="620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Черная смород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1828800"/>
            <a:ext cx="4724280" cy="4191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572000" cy="41911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3406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302800" y="620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Шкала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h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индикаторной бумаги природных индикатор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19280" y="2398680"/>
            <a:ext cx="1565280" cy="1600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2090520" cy="2090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3811680" y="2970360"/>
            <a:ext cx="1646280" cy="1814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4"/>
          <a:stretch/>
        </p:blipFill>
        <p:spPr>
          <a:xfrm>
            <a:off x="5851440" y="2197080"/>
            <a:ext cx="2210040" cy="1784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5"/>
          <a:stretch/>
        </p:blipFill>
        <p:spPr>
          <a:xfrm>
            <a:off x="5332320" y="4343400"/>
            <a:ext cx="1568520" cy="1639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6"/>
          <a:stretch/>
        </p:blipFill>
        <p:spPr>
          <a:xfrm>
            <a:off x="2592360" y="4648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вишн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1981080"/>
            <a:ext cx="4419720" cy="4114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419360" cy="4114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11120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65984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Краснокочанная капус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70040" y="245376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2057400"/>
            <a:ext cx="4648320" cy="403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599000" y="1989000"/>
            <a:ext cx="4545000" cy="40388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1492920" y="612936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217200" y="620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векл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0" y="1981080"/>
            <a:ext cx="4648320" cy="4113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406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233040" y="62485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Черная смород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0" y="1981080"/>
            <a:ext cx="4800600" cy="4038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40388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3406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233040" y="62485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черн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1981080"/>
            <a:ext cx="4724280" cy="4114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419720" cy="4114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26432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531400" y="620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4884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Определение кислотности почв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305920" cy="5105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Цель работы: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определить кислотность  почвы с помощью природных индикатор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Задачи: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1.получить природные индикато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несколькими способ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2. составить шкалу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h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для каждого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ндикато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3.определить кислотность почвы с помощь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одного из индикаторов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Приготовили растворы с разным значением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4884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Приготовили индикаторы первым способ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5920" cy="487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305920" cy="487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8305920" cy="4876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4"/>
          <a:stretch/>
        </p:blipFill>
        <p:spPr>
          <a:xfrm>
            <a:off x="380880" y="1981080"/>
            <a:ext cx="8382240" cy="4876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6863400" y="365760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раснокоч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апу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663520" y="37670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виш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850920" y="365760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Чер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смород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603520" y="3691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чер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809640" y="37670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свёк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2" descr=""/>
          <p:cNvPicPr/>
          <p:nvPr/>
        </p:nvPicPr>
        <p:blipFill>
          <a:blip r:embed="rId5"/>
          <a:stretch/>
        </p:blipFill>
        <p:spPr>
          <a:xfrm>
            <a:off x="380880" y="1981080"/>
            <a:ext cx="8382240" cy="487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"/>
          <p:cNvPicPr/>
          <p:nvPr/>
        </p:nvPicPr>
        <p:blipFill>
          <a:blip r:embed="rId6"/>
          <a:stretch/>
        </p:blipFill>
        <p:spPr>
          <a:xfrm>
            <a:off x="380880" y="1981080"/>
            <a:ext cx="8458200" cy="4876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7"/>
          <a:stretch/>
        </p:blipFill>
        <p:spPr>
          <a:xfrm>
            <a:off x="304920" y="1905120"/>
            <a:ext cx="8534160" cy="49528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6177600" y="495288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раснокоч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апу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5181480" y="3581280"/>
            <a:ext cx="10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чер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2577960" y="34290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свек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3850560" y="49528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виш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1177920" y="4876920"/>
            <a:ext cx="14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Чер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смород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4884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Приготовили индикаторы вторым способ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87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457200" y="1906560"/>
            <a:ext cx="8229600" cy="4951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8229600" cy="4952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4"/>
          <a:stretch/>
        </p:blipFill>
        <p:spPr>
          <a:xfrm>
            <a:off x="457200" y="1906560"/>
            <a:ext cx="8229600" cy="4951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5"/>
          <a:stretch/>
        </p:blipFill>
        <p:spPr>
          <a:xfrm>
            <a:off x="457200" y="190512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5191200" y="472428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раснокочан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апу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850920" y="28195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Чер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смород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718320" y="29289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чер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434960" y="312408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свек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2844000" y="50626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виш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зменение цвета растворов природных индикаторов при разных значениях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h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вишн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419720" cy="411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0" y="1905120"/>
            <a:ext cx="46972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3406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02800" y="620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Краснокочанная капус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0" y="1905120"/>
            <a:ext cx="4419720" cy="4190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67080" y="1905120"/>
            <a:ext cx="4621320" cy="41907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3406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02800" y="620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векл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1905120"/>
            <a:ext cx="4800600" cy="426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419720" cy="4267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3406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302800" y="620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8:18:17Z</dcterms:created>
  <dc:creator>артём</dc:creator>
  <dc:description/>
  <dc:language>en-US</dc:language>
  <cp:lastModifiedBy>ритм</cp:lastModifiedBy>
  <dcterms:modified xsi:type="dcterms:W3CDTF">2012-07-08T09:02:5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