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4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35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829-ED1B-4A41-9D0E-8DD96D8B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7E9-84EF-42A6-A0E6-91A40AD2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2BF-00CD-4408-9F8D-4FFF3427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A35-A440-4C28-B4CE-FFE230F2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DBC5-6F37-4529-AB6C-6C40C8A9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E918-9089-4724-A96E-0D812C52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CC59-7513-4E82-BCDA-184CBC9E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F60D-2C15-42EB-A044-DF866436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ACB2-8388-4E0C-80D3-97AFF81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F38F-B006-4FB5-9FA0-E1D0295A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B177-9479-4F57-BBA0-4A3E666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15A-3DEF-47AA-9845-1678100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D1C5-7554-4674-889C-169AD7A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642-5148-485C-9CA1-4BD2A32D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ADF3-E121-4A8C-8FE9-A96F1716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6E8-109F-4826-A1DF-44EBBF10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53ED-8217-42FF-8ACA-3BA5BDA4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355-B776-43E7-9624-753C8C9E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5FD-2AE5-4A16-8EC3-9294A2FB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A04-6FB4-4FC9-B263-2D3E0E2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4920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DB3A-E800-4387-BF9B-0963C61A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AA8-B8BC-463F-A427-01A3D445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E85-3793-4844-B32F-A3438AB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014-323C-406E-A9E4-3FFC653D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492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4334D6-5679-4F11-B91E-87B18F3DC07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F21D48-5B7F-4CE7-B7B5-36FC1D90B5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503640"/>
            <a:ext cx="82296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пределение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кислотности почвы с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омощью природных индикаторов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4073400" y="3276720"/>
            <a:ext cx="333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Любицкая Анастасия 8-2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Пухова Яна   8-2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оровина Кристина 8 – 2 к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БОУ «СОШ № 142» г.Ом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Руководитель Кавлакан Л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96360" y="4681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12 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1972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ая смород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4280" cy="4191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572000" cy="41911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Шкала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h</a:t>
            </a: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 индикаторной бумаги природных индикатор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19280" y="2398680"/>
            <a:ext cx="1565280" cy="1600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2133720" y="2209680"/>
            <a:ext cx="2090520" cy="209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>
            <a:off x="3811680" y="2970360"/>
            <a:ext cx="1646280" cy="1814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>
            <a:off x="5851440" y="2197080"/>
            <a:ext cx="2210040" cy="1784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5"/>
          <a:stretch/>
        </p:blipFill>
        <p:spPr>
          <a:xfrm>
            <a:off x="5332320" y="4343400"/>
            <a:ext cx="1568520" cy="1639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6"/>
          <a:stretch/>
        </p:blipFill>
        <p:spPr>
          <a:xfrm>
            <a:off x="2592360" y="4648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419360" cy="4114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11120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5984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раснокочанная капус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0040" y="245376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4648320" cy="403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599000" y="1989000"/>
            <a:ext cx="4545000" cy="40388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492920" y="61293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2172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4113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233040" y="62485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ая смород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800600" cy="4038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0388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33040" y="62485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1981080"/>
            <a:ext cx="4724280" cy="411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6432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5314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пределение кислотности почв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05920" cy="5105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Цель работы: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пределить кислотность  почвы с помощью природных индикатор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Задачи: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1.получить природные индикат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есколькими способ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2. составить шкалу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h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для каждого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ндика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3.определить кислотность почвы с помощью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одного из индикаторов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иготовили растворы с разным значением 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иготовили индикаторы первым способ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05920" cy="487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305920" cy="487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305920" cy="4876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4"/>
          <a:stretch/>
        </p:blipFill>
        <p:spPr>
          <a:xfrm>
            <a:off x="380880" y="1981080"/>
            <a:ext cx="8382240" cy="4876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6863400" y="365760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раснокоч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663520" y="37670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50920" y="365760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мо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603520" y="3691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809640" y="376704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вё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5"/>
          <a:stretch/>
        </p:blipFill>
        <p:spPr>
          <a:xfrm>
            <a:off x="380880" y="1981080"/>
            <a:ext cx="8382240" cy="4876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6"/>
          <a:stretch/>
        </p:blipFill>
        <p:spPr>
          <a:xfrm>
            <a:off x="380880" y="1981080"/>
            <a:ext cx="8458200" cy="4876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7"/>
          <a:stretch/>
        </p:blipFill>
        <p:spPr>
          <a:xfrm>
            <a:off x="304920" y="1905120"/>
            <a:ext cx="853416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6177600" y="495288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раснокоч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5181480" y="3581280"/>
            <a:ext cx="10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2577960" y="342900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3850560" y="49528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1177920" y="4876920"/>
            <a:ext cx="143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мо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Приготовили индикаторы вторым способ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57200" y="1906560"/>
            <a:ext cx="8229600" cy="495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4952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4"/>
          <a:stretch/>
        </p:blipFill>
        <p:spPr>
          <a:xfrm>
            <a:off x="457200" y="1906560"/>
            <a:ext cx="8229600" cy="495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5191200" y="4724280"/>
            <a:ext cx="21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раснокочан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850920" y="28195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мород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718320" y="29289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чер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434960" y="312408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2844000" y="50626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зменение цвета растворов природных индикаторов при разных значениях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h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вишн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419720" cy="411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0" y="1905120"/>
            <a:ext cx="46972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Краснокочанная капус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4419720" cy="4190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621320" cy="4190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векл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1905120"/>
            <a:ext cx="4800600" cy="4267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1972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340640" y="628164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1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302800" y="6205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2 спос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8:18:17Z</dcterms:created>
  <dc:creator>артём</dc:creator>
  <dc:description/>
  <dc:language>en-US</dc:language>
  <cp:lastModifiedBy>ритм</cp:lastModifiedBy>
  <dcterms:modified xsi:type="dcterms:W3CDTF">2012-07-08T09:02:5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