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CAA3-848E-4EE4-8658-BB8517E3F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6840" y="3947040"/>
            <a:ext cx="8226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595F-6275-4222-B1E3-F8991B636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6840" y="394704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2440" y="394704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D8F8-3311-49B8-83F0-2A94DBC0A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6840" y="3947040"/>
            <a:ext cx="2648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8200" y="3947040"/>
            <a:ext cx="2648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19560" y="3947040"/>
            <a:ext cx="2648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DF26-E58D-4614-B867-F270A2634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710B1-3586-40AE-8F79-DA3AE6A03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BC37B-8745-4F21-B5B1-0F4F9376C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00D68-3BF1-4616-828C-EDA02FFE4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933FB-2963-42F7-9897-2F8DF5133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57DEA-C02A-4C90-88AC-CFF23DC7D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FC733-A8D0-425C-879B-F0957E750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6840" y="394704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2F4AB-2047-4D02-9384-F99EC6D4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681C-6280-4488-ABA7-BF99C090F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2440" y="394704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E08DA-7815-4031-AF50-6FC3DF00A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6840" y="3947040"/>
            <a:ext cx="8226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BF33B-B444-478F-80D9-E6298C0D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6840" y="3947040"/>
            <a:ext cx="8226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F7C44-39DF-4B46-BDBD-A84E7A907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6840" y="394704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2440" y="394704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E7CFF-001F-47B5-A4CC-F42D18A94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6840" y="3947040"/>
            <a:ext cx="2648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8200" y="3947040"/>
            <a:ext cx="2648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19560" y="3947040"/>
            <a:ext cx="2648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0AB2D-A1F0-439A-9B86-2D4B87FD5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595E-BDD4-4F76-8012-2496DAF78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5E19-B848-4EFC-82D9-BB1E2E3A6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32AB-7829-4B2E-9575-8ECCB67B5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16DD-B63E-4C10-A4B4-43361497D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94704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011C-69F4-413B-95BA-D95013B6A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2440" y="394704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AAC1-9257-49E8-9C0B-426D75290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6840" y="3947040"/>
            <a:ext cx="8226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CD37-F2BF-4FB1-A6AD-0B0EEF90F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60000">
              <a:off x="3369960" y="4115880"/>
              <a:ext cx="4876920" cy="609840"/>
            </a:xfrm>
            <a:prstGeom prst="rect">
              <a:avLst/>
            </a:prstGeom>
            <a:gradFill rotWithShape="0">
              <a:gsLst>
                <a:gs pos="0">
                  <a:srgbClr val="006666"/>
                </a:gs>
                <a:gs pos="50000">
                  <a:srgbClr val="005f5f"/>
                </a:gs>
                <a:gs pos="100000">
                  <a:srgbClr val="0066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d8785"/>
                </a:gs>
                <a:gs pos="100000">
                  <a:srgbClr val="006e6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e7673"/>
                </a:gs>
                <a:gs pos="100000">
                  <a:srgbClr val="006e6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e7673"/>
                </a:gs>
                <a:gs pos="100000">
                  <a:srgbClr val="006e6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e7673"/>
                </a:gs>
                <a:gs pos="100000">
                  <a:srgbClr val="006e6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d8785"/>
                </a:gs>
                <a:gs pos="100000">
                  <a:srgbClr val="006e6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720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3BA594-150B-4334-90EA-B6215EA59FBB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6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60000">
              <a:off x="3369960" y="4115880"/>
              <a:ext cx="4876920" cy="609840"/>
            </a:xfrm>
            <a:prstGeom prst="rect">
              <a:avLst/>
            </a:prstGeom>
            <a:gradFill rotWithShape="0">
              <a:gsLst>
                <a:gs pos="0">
                  <a:srgbClr val="006666"/>
                </a:gs>
                <a:gs pos="50000">
                  <a:srgbClr val="005f5f"/>
                </a:gs>
                <a:gs pos="100000">
                  <a:srgbClr val="0066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d8785"/>
                </a:gs>
                <a:gs pos="100000">
                  <a:srgbClr val="006e6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e7673"/>
                </a:gs>
                <a:gs pos="100000">
                  <a:srgbClr val="006e6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e7673"/>
                </a:gs>
                <a:gs pos="100000">
                  <a:srgbClr val="006e6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e7673"/>
                </a:gs>
                <a:gs pos="100000">
                  <a:srgbClr val="006e6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d8785"/>
                </a:gs>
                <a:gs pos="100000">
                  <a:srgbClr val="006e6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1766520"/>
            <a:ext cx="7769160" cy="17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ffffff"/>
                </a:solidFill>
                <a:latin typeface="Garamond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ffffff"/>
                </a:solidFill>
                <a:latin typeface="Garamond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ffffff"/>
                </a:solidFill>
                <a:latin typeface="Garamond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AC9CA20-88E1-4D00-B7CD-D8CCC0E810FC}" type="slidenum">
              <a:rPr b="0" lang="ru-RU" sz="1200" spc="-1" strike="noStrike">
                <a:solidFill>
                  <a:srgbClr val="ffffff"/>
                </a:solidFill>
                <a:latin typeface="Garamond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Роль проектной деятельности: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-360" y="1456920"/>
            <a:ext cx="893772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«Развитие и образование ни одному человеку не могут быть даны или сообщены. Всякий, кто желает к нему приобщиться, должен достигнуть этого собственной деятельностью, собственными силами, собственным напряжением»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А. Дистервег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"/>
          <p:cNvSpPr/>
          <p:nvPr/>
        </p:nvSpPr>
        <p:spPr>
          <a:xfrm>
            <a:off x="468360" y="5084640"/>
            <a:ext cx="81360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«Ученик – не сосуд, который надо наполнить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а факел, который необходимо зажечь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                          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К. Д. Ушинс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68040"/>
            <a:ext cx="822960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Преимущества проектной деятельности: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654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5720" indent="-315720" algn="just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Межпредметная направленность работы позволяет учащимся на практике увидеть и понять единство картины мир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720" indent="-3157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Объединение в подгруппы ребят с разным  уровнем обученности профильным предметам, но с одинаково высоким уровнем мотивации к овладению новыми навыками и умениями приводит к росту их предметных результат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720" indent="-315720" algn="just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Совместная работа учащихся над проектом обеспечивает их интеллектуальное развитие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72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720" indent="0">
              <a:spcBef>
                <a:spcPts val="20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315720" indent="0" algn="just">
              <a:spcBef>
                <a:spcPts val="20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dur="indefinite" fill="hold">
                      <p:stCondLst>
                        <p:cond delay="indefinite"/>
                      </p:stCondLst>
                      <p:childTnLst>
                        <p:par>
                          <p:cTn id="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dur="indefinite" fill="hold">
                      <p:stCondLst>
                        <p:cond delay="indefinite"/>
                      </p:stCondLst>
                      <p:childTnLst>
                        <p:par>
                          <p:cTn id="1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dur="indefinite" fill="hold">
                      <p:stCondLst>
                        <p:cond delay="indefinite"/>
                      </p:stCondLst>
                      <p:childTnLst>
                        <p:par>
                          <p:cTn id="1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I</a:t>
            </a: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 этап реализации проекта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ИНФОРМАЦИОННО-ОЗНАКОМИТЕЛЬНЫЙ</a:t>
            </a:r>
            <a:br>
              <a:rPr sz="2800"/>
            </a:b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0" y="1468440"/>
          <a:ext cx="9144000" cy="4651200"/>
        </p:xfrm>
        <a:graphic>
          <a:graphicData uri="http://schemas.openxmlformats.org/drawingml/2006/table">
            <a:tbl>
              <a:tblPr/>
              <a:tblGrid>
                <a:gridCol w="1979640"/>
                <a:gridCol w="3529080"/>
                <a:gridCol w="3635280"/>
              </a:tblGrid>
              <a:tr h="1387080">
                <a:tc>
                  <a:txBody>
                    <a:bodyPr lIns="90000" rIns="90000" tIns="997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азвани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этап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97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Деятельно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учащихс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97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Деятельность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учител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6412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бо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нформац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Работают с различными источниками информац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библиотеки, Интернет, музеи)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бмениваются собран-ной информацией,  классифицируют ее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ланирует и помогает осуществить поиск необходимой инфор-мации;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бъясняет требования к полученной информации; налаживает пути обмена информацие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34920" y="6141960"/>
            <a:ext cx="910908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ffff00"/>
                </a:solidFill>
                <a:uFillTx/>
                <a:latin typeface="Garamond"/>
              </a:rPr>
              <a:t>Значение этапа</a:t>
            </a: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:  </a:t>
            </a:r>
            <a:r>
              <a:rPr b="1" lang="ru-RU" sz="20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учащиеся знакомятся с проектной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                                     </a:t>
            </a: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деятельность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dur="indefinite" fill="hold">
                      <p:stCondLst>
                        <p:cond delay="indefinite"/>
                      </p:stCondLst>
                      <p:childTnLst>
                        <p:par>
                          <p:cTn id="1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 fill="hold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dur="indefinite" fill="hold">
                      <p:stCondLst>
                        <p:cond delay="indefinite"/>
                      </p:stCondLst>
                      <p:childTnLst>
                        <p:par>
                          <p:cTn id="1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 fill="hold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68040"/>
            <a:ext cx="822960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Проект</a:t>
            </a:r>
            <a:br>
              <a:rPr sz="4800"/>
            </a:b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«Русский  дом»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548240" cy="48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ccff66"/>
                </a:solidFill>
                <a:latin typeface="Garamond"/>
              </a:rPr>
              <a:t>русская сказ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cff66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ccff66"/>
                </a:solidFill>
                <a:latin typeface="Garamond"/>
              </a:rPr>
              <a:t>былин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cff66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ccff66"/>
                </a:solidFill>
                <a:latin typeface="Garamond"/>
              </a:rPr>
              <a:t>поговорк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cff66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ccff66"/>
                </a:solidFill>
                <a:latin typeface="Garamond"/>
              </a:rPr>
              <a:t>одежд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cff66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ccff66"/>
                </a:solidFill>
                <a:latin typeface="Garamond"/>
              </a:rPr>
              <a:t>русская изб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cff66"/>
                </a:solidFill>
                <a:latin typeface="Garamond"/>
              </a:rPr>
              <a:t>русская игрушк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cff66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ccff66"/>
                </a:solidFill>
                <a:latin typeface="Garamond"/>
              </a:rPr>
              <a:t>народные промысл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cff66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ccff66"/>
                </a:solidFill>
                <a:latin typeface="Garamond"/>
              </a:rPr>
              <a:t>игр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859280" y="1916280"/>
            <a:ext cx="4092480" cy="43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68040"/>
            <a:ext cx="822960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Проект</a:t>
            </a:r>
            <a:br>
              <a:rPr sz="4800"/>
            </a:b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«Награды России»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39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Первые награды на Рус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39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Медали Российской импери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39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Награды Первой Мировой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войн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39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Награды Великой Отечественной войн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39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Награды  современной Росси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6333480" y="4205160"/>
            <a:ext cx="2950560" cy="2981160"/>
            <a:chOff x="6333480" y="4205160"/>
            <a:chExt cx="2950560" cy="2981160"/>
          </a:xfrm>
        </p:grpSpPr>
        <p:pic>
          <p:nvPicPr>
            <p:cNvPr id="158" name="" descr=""/>
            <p:cNvPicPr/>
            <p:nvPr/>
          </p:nvPicPr>
          <p:blipFill>
            <a:blip r:embed="rId2"/>
            <a:stretch/>
          </p:blipFill>
          <p:spPr>
            <a:xfrm>
              <a:off x="6699240" y="4559400"/>
              <a:ext cx="2216160" cy="22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 rot="1440000">
              <a:off x="6700320" y="4557240"/>
              <a:ext cx="2216160" cy="227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-162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II</a:t>
            </a:r>
            <a:r>
              <a:rPr b="1" lang="ru-RU" sz="3600" spc="-1" strike="noStrike">
                <a:solidFill>
                  <a:srgbClr val="b9efee"/>
                </a:solidFill>
                <a:latin typeface="Garamond"/>
              </a:rPr>
              <a:t> этап реализации проекта</a:t>
            </a:r>
            <a:br>
              <a:rPr sz="3600"/>
            </a:b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САМООПРЕДЕЛЕНИЕ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5734080"/>
            <a:ext cx="88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4000" y="5958000"/>
            <a:ext cx="856908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ffff00"/>
                </a:solidFill>
                <a:uFillTx/>
                <a:latin typeface="Garamond"/>
              </a:rPr>
              <a:t>Значение этапа</a:t>
            </a: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: </a:t>
            </a: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учащиеся выбирают свое направление в проекте, учатся работать в групп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0" y="1052640"/>
          <a:ext cx="9144000" cy="4854600"/>
        </p:xfrm>
        <a:graphic>
          <a:graphicData uri="http://schemas.openxmlformats.org/drawingml/2006/table">
            <a:tbl>
              <a:tblPr/>
              <a:tblGrid>
                <a:gridCol w="1763640"/>
                <a:gridCol w="3456000"/>
                <a:gridCol w="3924360"/>
              </a:tblGrid>
              <a:tr h="1298160">
                <a:tc>
                  <a:txBody>
                    <a:bodyPr lIns="90000" rIns="90000" tIns="997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азвание этап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97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Деятельность учащихс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97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Деятельность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учител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9800"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оздание плана  проекта;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участие в «Ярмарке творчес-ких идей»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Готовят к практической конференции свой собранный и систематизированный материал, раскрывают направления реализации проекта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рганизует во внеурочное время  общение учащихся;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5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инимает участие в обсуждении направлений деятельности и формиро-вании минигрупп учащихся для реализации этой деятельности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dur="indefinite" fill="hold">
                      <p:stCondLst>
                        <p:cond delay="indefinite"/>
                      </p:stCondLst>
                      <p:childTnLst>
                        <p:par>
                          <p:cTn id="1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50000029802322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-162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III</a:t>
            </a:r>
            <a:r>
              <a:rPr b="1" lang="ru-RU" sz="3200" spc="-1" strike="noStrike">
                <a:solidFill>
                  <a:srgbClr val="b9efee"/>
                </a:solidFill>
                <a:latin typeface="Garamond"/>
              </a:rPr>
              <a:t> этап реализации проекта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ГРУППОВОЕ   ПОГРУЖЕНИЕ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1035000"/>
          <a:ext cx="9144000" cy="4416480"/>
        </p:xfrm>
        <a:graphic>
          <a:graphicData uri="http://schemas.openxmlformats.org/drawingml/2006/table">
            <a:tbl>
              <a:tblPr/>
              <a:tblGrid>
                <a:gridCol w="1835280"/>
                <a:gridCol w="4032000"/>
                <a:gridCol w="3276720"/>
              </a:tblGrid>
              <a:tr h="873720"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азвание этап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Деятельность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учащихс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Деятельнос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учител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1140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Работа над своим направле –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ием  в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реализац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оек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сознанно повторяют учебный материал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опоставляют собранный материал   с изученным ранее; расширяют свои знания; применяют ОИУ  и навыки в новой ситуации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едставляют материал в групп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оводит групповые и индивидуальные консультации;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овлекает в работу менее активных, наиболее слабы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учащихс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0" y="551664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Garamond"/>
              </a:rPr>
              <a:t>Значение этапа</a:t>
            </a: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: </a:t>
            </a: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каждый находит свою  нишу ,то есть именно тот участок работы, который ему наиболее интересен. Работая в индивидуальном темпе, учится попадать в темп работы групп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dur="indefinite" fill="hold">
                      <p:stCondLst>
                        <p:cond delay="indefinite"/>
                      </p:stCondLst>
                      <p:childTnLst>
                        <p:par>
                          <p:cTn id="1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 fill="hold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dur="indefinite" fill="hold">
                      <p:stCondLst>
                        <p:cond delay="indefinite"/>
                      </p:stCondLst>
                      <p:childTnLst>
                        <p:par>
                          <p:cTn id="1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50000029802322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3480"/>
            <a:ext cx="91440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IV</a:t>
            </a:r>
            <a:r>
              <a:rPr b="1" lang="ru-RU" sz="3600" spc="-1" strike="noStrike">
                <a:solidFill>
                  <a:srgbClr val="b9efee"/>
                </a:solidFill>
                <a:latin typeface="Garamond"/>
              </a:rPr>
              <a:t> этап реализации проекта</a:t>
            </a:r>
            <a:br>
              <a:rPr sz="3600"/>
            </a:b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АКТИВНОЕ УЧАСТИЕ В ПРОЦЕССЕ УЧЕНИЯ 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0" y="981000"/>
          <a:ext cx="9144000" cy="4422960"/>
        </p:xfrm>
        <a:graphic>
          <a:graphicData uri="http://schemas.openxmlformats.org/drawingml/2006/table">
            <a:tbl>
              <a:tblPr/>
              <a:tblGrid>
                <a:gridCol w="2055960"/>
                <a:gridCol w="3595680"/>
                <a:gridCol w="3492360"/>
              </a:tblGrid>
              <a:tr h="797400">
                <a:tc>
                  <a:txBody>
                    <a:bodyPr lIns="90000" rIns="90000" tIns="84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азвание этап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Деятельность учащихс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Деятельность учител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6412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одведение промежуточ-ных итогов работы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орректи-ровка перво-начальных план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Учащиеся мини - групп  докладывают всем участникам проекта о проделанной  работе; намечают план мероприятий для сле-дующего этапа своей деятельност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оводит консуль-тационную работу  с учащимися при под-готовке их сообщений 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и необходимости помогает участникам других групп быстро разобраться в новом для них материал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"/>
          <p:cNvSpPr/>
          <p:nvPr/>
        </p:nvSpPr>
        <p:spPr>
          <a:xfrm>
            <a:off x="0" y="55548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Garamond"/>
              </a:rPr>
              <a:t>Значение этапа: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Способствует формированию исследовательского мышления. Реализуются принципы педагогики сотрудниче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dur="indefinite" fill="hold">
                      <p:stCondLst>
                        <p:cond delay="indefinite"/>
                      </p:stCondLst>
                      <p:childTnLst>
                        <p:par>
                          <p:cTn id="1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 fill="hold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dur="indefinite" fill="hold">
                      <p:stCondLst>
                        <p:cond delay="indefinite"/>
                      </p:stCondLst>
                      <p:childTnLst>
                        <p:par>
                          <p:cTn id="1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50000029802322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360" y="-384120"/>
            <a:ext cx="86979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800"/>
            </a:b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Проект</a:t>
            </a:r>
            <a:br>
              <a:rPr sz="4800"/>
            </a:b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«Малые Вавиловские чтения»</a:t>
            </a:r>
            <a:r>
              <a:rPr b="1" lang="ru-RU" sz="36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78920" y="2133720"/>
            <a:ext cx="54723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29400" indent="-3294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развитие интереса к поисковой работ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400" indent="-3294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формирование навы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40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публичного выступле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400" indent="-3294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накопление   опыт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40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анализа  источника информаци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5388120" y="2060640"/>
            <a:ext cx="3431880" cy="44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0" y="1413000"/>
          <a:ext cx="9083520" cy="4248000"/>
        </p:xfrm>
        <a:graphic>
          <a:graphicData uri="http://schemas.openxmlformats.org/drawingml/2006/table">
            <a:tbl>
              <a:tblPr/>
              <a:tblGrid>
                <a:gridCol w="2016000"/>
                <a:gridCol w="3837240"/>
                <a:gridCol w="3230280"/>
              </a:tblGrid>
              <a:tr h="797400">
                <a:tc>
                  <a:txBody>
                    <a:bodyPr lIns="90000" rIns="90000" tIns="84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азвание этап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Деятельность учащихс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Деятельность учител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0604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одведение итогов, презентация результат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Учащиеся проводят обработку полученных результатов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Готовят презентацию проекта на итоговой научно-практической конференции «Твои первые исследования, лицеист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существляет помощь в подготовке докладов учащихся и создании мультиме-дийных презентаций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"/>
          <p:cNvSpPr/>
          <p:nvPr/>
        </p:nvSpPr>
        <p:spPr>
          <a:xfrm>
            <a:off x="0" y="54000"/>
            <a:ext cx="932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V </a:t>
            </a: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этап реализации проекта</a:t>
            </a:r>
            <a:br>
              <a:rPr sz="4000"/>
            </a:b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РЕФЛЕКСИЯ ОПЫТА ОБУЧЕНИЯ И РАБО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4920" y="5640480"/>
            <a:ext cx="91090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ffff00"/>
                </a:solidFill>
                <a:uFillTx/>
                <a:latin typeface="Garamond"/>
              </a:rPr>
              <a:t>Значение этапа</a:t>
            </a: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: </a:t>
            </a: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раскрывается уровень интеллектуального развития учащихся, формируется  их самооцен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dur="indefinite" fill="hold">
                      <p:stCondLst>
                        <p:cond delay="indefinite"/>
                      </p:stCondLst>
                      <p:childTnLst>
                        <p:par>
                          <p:cTn id="1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 fill="hold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dur="indefinite" fill="hold">
                      <p:stCondLst>
                        <p:cond delay="indefinite"/>
                      </p:stCondLst>
                      <p:childTnLst>
                        <p:par>
                          <p:cTn id="1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50000029802322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-8604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Результативность проектной деятельности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0" y="1270080"/>
          <a:ext cx="9144000" cy="5730840"/>
        </p:xfrm>
        <a:graphic>
          <a:graphicData uri="http://schemas.openxmlformats.org/drawingml/2006/table">
            <a:tbl>
              <a:tblPr/>
              <a:tblGrid>
                <a:gridCol w="539640"/>
                <a:gridCol w="2519640"/>
                <a:gridCol w="1800000"/>
                <a:gridCol w="1873440"/>
                <a:gridCol w="2411280"/>
              </a:tblGrid>
              <a:tr h="1126440">
                <a:tc>
                  <a:txBody>
                    <a:bodyPr lIns="90000" rIns="90000" tIns="7344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№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Фамилия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учащегос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атегория до проек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атегория на выпуск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тметка за четвер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04400"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Ананьева О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рифонова Т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Александрова С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атаева К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Ершова О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апитонова В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Дмитриев Р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ахов А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ихонова Е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Зайцев А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А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А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А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А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А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Типы учебных проектов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Информационный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26160" indent="0">
              <a:spcBef>
                <a:spcPts val="100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26160" indent="-32616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Исследовательский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26160" indent="0">
              <a:spcBef>
                <a:spcPts val="100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26160" indent="-32616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Практико-ориентированный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85760" y="182520"/>
            <a:ext cx="885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ПРАКТИЧЕСКАЯ ЗНАЧИМОСТЬ РЕЗУЛЬТАТ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ПРОЕКТНОЙ ДЕЯТЕЛЬ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68360" y="1557360"/>
            <a:ext cx="8280360" cy="57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398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1 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Достижение интеллектуального  развития лич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Garamond"/>
              <a:buAutoNum type="arabicPlain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Формирование будущих профессиональных компетенц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3  Применение результатов проектной деятельности на уроках, семинарах, для дистанционного обучения и самообучения в ЛИЕ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-57240"/>
            <a:ext cx="896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Темы проектов по истории,</a:t>
            </a:r>
            <a:br>
              <a:rPr sz="4000"/>
            </a:b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вызывающие наибольший </a:t>
            </a:r>
            <a:br>
              <a:rPr sz="4000"/>
            </a:b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интерес учащихс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8360" y="1849320"/>
            <a:ext cx="8675640" cy="59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Война глазами дет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Дети на войн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Слезы вой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Блока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Война в музыкальной летопис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Саратов сквозь врем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У войны не женское лиц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Автографы вой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Из истории малой роди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115920"/>
            <a:ext cx="82296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Темы проектов по истории,</a:t>
            </a:r>
            <a:br>
              <a:rPr sz="4000"/>
            </a:b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вызывающие наибольший </a:t>
            </a:r>
            <a:br>
              <a:rPr sz="4000"/>
            </a:b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интерес учащихся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251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2560" indent="-3225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История моей семьи в истории моей стран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560" indent="-3225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История моей страны в истории моей семь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560" indent="-3225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Из истории развития хозяйства  райо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560" indent="-3225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История Российского гим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560" indent="-3225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Прошлое и настоящее Романовского райо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560" indent="-3225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Маршалы великой Побед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560" indent="-3225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Народы России: рядом и вмест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Информационный проект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аправлен на сбор информации об объекте или явлении с последующим анализом информации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Учебная задача проекта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2940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формирование умений находить, обрабатывать и представлять информацию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При планировании необходимо определить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1. объект сбора информаци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2. возможные источники информаци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3. форма представления результат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Исследовательский проект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Предполагает четкое определение предмета и методов исследования, которое включает: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576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боснование тем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576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пределение проблемы и задач исследова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576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ыдвижение гипотез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576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60948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пределение источников информации и способов решения проблемы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Практико-ориентированный проект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едполагает реальный результат работы (прикладной характер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spcBef>
                <a:spcPts val="11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!!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spcBef>
                <a:spcPts val="10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Тип учебного проекта определяется по доминирующей деятельности и планируемому результату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189000"/>
            <a:ext cx="9144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39840"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КООРДИНАЦИОННЫЙ СОВЕТ ПО ОРГАНИЗАЦИИ ПРОЕКТНОЙ ДЕЯТЕЛЬНОЛЬ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4920" y="907920"/>
          <a:ext cx="9109080" cy="5892840"/>
        </p:xfrm>
        <a:graphic>
          <a:graphicData uri="http://schemas.openxmlformats.org/drawingml/2006/table">
            <a:tbl>
              <a:tblPr/>
              <a:tblGrid>
                <a:gridCol w="2592360"/>
                <a:gridCol w="6516720"/>
              </a:tblGrid>
              <a:tr h="1126440">
                <a:tc>
                  <a:txBody>
                    <a:bodyPr lIns="90000" rIns="90000" tIns="255240" bIns="46800" anchor="t">
                      <a:noAutofit/>
                    </a:bodyPr>
                    <a:p>
                      <a:pPr algn="just">
                        <a:lnSpc>
                          <a:spcPct val="64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Администрация    лице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cc00"/>
                      </a:solidFill>
                    </a:lnL>
                    <a:lnR w="1440">
                      <a:solidFill>
                        <a:srgbClr val="ffcc00"/>
                      </a:solidFill>
                    </a:lnR>
                    <a:lnT w="1440">
                      <a:solidFill>
                        <a:srgbClr val="ffcc00"/>
                      </a:solidFill>
                    </a:lnT>
                    <a:lnB w="144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едагогические советы, научно-практические конференции, семинары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cc00"/>
                      </a:solidFill>
                    </a:lnL>
                    <a:lnR w="1440">
                      <a:solidFill>
                        <a:srgbClr val="ffcc00"/>
                      </a:solidFill>
                    </a:lnR>
                    <a:lnT w="1440">
                      <a:solidFill>
                        <a:srgbClr val="ffcc00"/>
                      </a:solidFill>
                    </a:lnT>
                    <a:lnB w="144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1126440">
                <a:tc>
                  <a:txBody>
                    <a:bodyPr lIns="90000" rIns="90000" tIns="255240" bIns="46800" anchor="t">
                      <a:noAutofit/>
                    </a:bodyPr>
                    <a:p>
                      <a:pPr algn="just">
                        <a:lnSpc>
                          <a:spcPct val="64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етодический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64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абине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cc00"/>
                      </a:solidFill>
                    </a:lnL>
                    <a:lnR w="1440">
                      <a:solidFill>
                        <a:srgbClr val="ffcc00"/>
                      </a:solidFill>
                    </a:lnR>
                    <a:lnT w="1440">
                      <a:solidFill>
                        <a:srgbClr val="ffcc00"/>
                      </a:solidFill>
                    </a:lnT>
                    <a:lnB w="144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рганизация эффективного взаимодействия «ученик-учитель» на всех этапах проектной деятельности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cc00"/>
                      </a:solidFill>
                    </a:lnL>
                    <a:lnR w="1440">
                      <a:solidFill>
                        <a:srgbClr val="ffcc00"/>
                      </a:solidFill>
                    </a:lnR>
                    <a:lnT w="1440">
                      <a:solidFill>
                        <a:srgbClr val="ffcc00"/>
                      </a:solidFill>
                    </a:lnT>
                    <a:lnB w="144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1391040">
                <a:tc>
                  <a:txBody>
                    <a:bodyPr lIns="90000" rIns="90000" tIns="255240" bIns="46800" anchor="t">
                      <a:noAutofit/>
                    </a:bodyPr>
                    <a:p>
                      <a:pPr>
                        <a:lnSpc>
                          <a:spcPct val="64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Учителя-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4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едметник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4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cc00"/>
                      </a:solidFill>
                    </a:lnL>
                    <a:lnR w="1440">
                      <a:solidFill>
                        <a:srgbClr val="ffcc00"/>
                      </a:solidFill>
                    </a:lnR>
                    <a:lnT w="1440">
                      <a:solidFill>
                        <a:srgbClr val="ffcc00"/>
                      </a:solidFill>
                    </a:lnT>
                    <a:lnB w="144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опровождение ученика  в его интеллек-туальном развитии и самореализации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cc00"/>
                      </a:solidFill>
                    </a:lnL>
                    <a:lnR w="1440">
                      <a:solidFill>
                        <a:srgbClr val="ffcc00"/>
                      </a:solidFill>
                    </a:lnR>
                    <a:lnT w="1440">
                      <a:solidFill>
                        <a:srgbClr val="ffcc00"/>
                      </a:solidFill>
                    </a:lnT>
                    <a:lnB w="144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2266200">
                <a:tc>
                  <a:txBody>
                    <a:bodyPr lIns="90000" rIns="90000" tIns="255240" bIns="46800" anchor="t">
                      <a:noAutofit/>
                    </a:bodyPr>
                    <a:p>
                      <a:pPr>
                        <a:lnSpc>
                          <a:spcPct val="64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сихологическая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4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лужб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cc00"/>
                      </a:solidFill>
                    </a:lnL>
                    <a:lnR w="1440">
                      <a:solidFill>
                        <a:srgbClr val="ffcc00"/>
                      </a:solidFill>
                    </a:lnR>
                    <a:lnT w="1440">
                      <a:solidFill>
                        <a:srgbClr val="ffcc00"/>
                      </a:solidFill>
                    </a:lnT>
                    <a:lnB w="144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marL="530280" indent="-530280">
                        <a:lnSpc>
                          <a:spcPct val="9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Times New Roman"/>
                        <a:buChar char="•"/>
                        <a:tabLst>
                          <a:tab algn="l" pos="530280"/>
                          <a:tab algn="l" pos="977760"/>
                          <a:tab algn="l" pos="1427040"/>
                          <a:tab algn="l" pos="1876320"/>
                          <a:tab algn="l" pos="2325600"/>
                          <a:tab algn="l" pos="2774880"/>
                          <a:tab algn="l" pos="3224160"/>
                          <a:tab algn="l" pos="3673440"/>
                          <a:tab algn="l" pos="4122720"/>
                          <a:tab algn="l" pos="4572000"/>
                          <a:tab algn="l" pos="5021280"/>
                          <a:tab algn="l" pos="5470560"/>
                          <a:tab algn="l" pos="5919840"/>
                          <a:tab algn="l" pos="6369120"/>
                          <a:tab algn="l" pos="6818400"/>
                          <a:tab algn="l" pos="7267680"/>
                          <a:tab algn="l" pos="7716960"/>
                          <a:tab algn="l" pos="8166240"/>
                          <a:tab algn="l" pos="8615520"/>
                          <a:tab algn="l" pos="9064800"/>
                          <a:tab algn="l" pos="95137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Участие в разработке социально направ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0280" indent="-530280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530280"/>
                          <a:tab algn="l" pos="977760"/>
                          <a:tab algn="l" pos="1427040"/>
                          <a:tab algn="l" pos="1876320"/>
                          <a:tab algn="l" pos="2325600"/>
                          <a:tab algn="l" pos="2774880"/>
                          <a:tab algn="l" pos="3224160"/>
                          <a:tab algn="l" pos="3673440"/>
                          <a:tab algn="l" pos="4122720"/>
                          <a:tab algn="l" pos="4572000"/>
                          <a:tab algn="l" pos="5021280"/>
                          <a:tab algn="l" pos="5470560"/>
                          <a:tab algn="l" pos="5919840"/>
                          <a:tab algn="l" pos="6369120"/>
                          <a:tab algn="l" pos="6818400"/>
                          <a:tab algn="l" pos="7267680"/>
                          <a:tab algn="l" pos="7716960"/>
                          <a:tab algn="l" pos="8166240"/>
                          <a:tab algn="l" pos="8615520"/>
                          <a:tab algn="l" pos="9064800"/>
                          <a:tab algn="l" pos="95137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ленных   проектов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0280" indent="-530280">
                        <a:lnSpc>
                          <a:spcPct val="9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Times New Roman"/>
                        <a:buChar char="•"/>
                        <a:tabLst>
                          <a:tab algn="l" pos="530280"/>
                          <a:tab algn="l" pos="977760"/>
                          <a:tab algn="l" pos="1427040"/>
                          <a:tab algn="l" pos="1876320"/>
                          <a:tab algn="l" pos="2325600"/>
                          <a:tab algn="l" pos="2774880"/>
                          <a:tab algn="l" pos="3224160"/>
                          <a:tab algn="l" pos="3673440"/>
                          <a:tab algn="l" pos="4122720"/>
                          <a:tab algn="l" pos="4572000"/>
                          <a:tab algn="l" pos="5021280"/>
                          <a:tab algn="l" pos="5470560"/>
                          <a:tab algn="l" pos="5919840"/>
                          <a:tab algn="l" pos="6369120"/>
                          <a:tab algn="l" pos="6818400"/>
                          <a:tab algn="l" pos="7267680"/>
                          <a:tab algn="l" pos="7716960"/>
                          <a:tab algn="l" pos="8166240"/>
                          <a:tab algn="l" pos="8615520"/>
                          <a:tab algn="l" pos="9064800"/>
                          <a:tab algn="l" pos="95137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сихологическая помощь при взаимодействии «учитель- ученик»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cc00"/>
                      </a:solidFill>
                    </a:lnL>
                    <a:lnR w="1440">
                      <a:solidFill>
                        <a:srgbClr val="ffcc00"/>
                      </a:solidFill>
                    </a:lnR>
                    <a:lnT w="1440">
                      <a:solidFill>
                        <a:srgbClr val="ffcc00"/>
                      </a:solidFill>
                    </a:lnT>
                    <a:lnB w="144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1163520">
                <a:tc>
                  <a:txBody>
                    <a:bodyPr lIns="90000" rIns="90000" tIns="367560" bIns="46800" anchor="t">
                      <a:noAutofit/>
                    </a:bodyPr>
                    <a:p>
                      <a:pPr>
                        <a:lnSpc>
                          <a:spcPct val="4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4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истемные администратор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cc00"/>
                      </a:solidFill>
                    </a:lnL>
                    <a:lnR w="1440">
                      <a:solidFill>
                        <a:srgbClr val="ffcc00"/>
                      </a:solidFill>
                    </a:lnR>
                    <a:lnT w="1440">
                      <a:solidFill>
                        <a:srgbClr val="ffcc00"/>
                      </a:solidFill>
                    </a:lnT>
                    <a:lnB w="144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ехническая поддержка (Интернет, компьютерные технологии, аудио- и видео-обработка материала)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cc00"/>
                      </a:solidFill>
                    </a:lnL>
                    <a:lnR w="1440">
                      <a:solidFill>
                        <a:srgbClr val="ffcc00"/>
                      </a:solidFill>
                    </a:lnR>
                    <a:lnT w="1440">
                      <a:solidFill>
                        <a:srgbClr val="ffcc00"/>
                      </a:solidFill>
                    </a:lnT>
                    <a:lnB w="144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3274920" y="7566120"/>
            <a:ext cx="62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0" y="2924280"/>
          <a:ext cx="9144000" cy="1009440"/>
        </p:xfrm>
        <a:graphic>
          <a:graphicData uri="http://schemas.openxmlformats.org/drawingml/2006/table">
            <a:tbl>
              <a:tblPr/>
              <a:tblGrid>
                <a:gridCol w="2627280"/>
                <a:gridCol w="6516720"/>
              </a:tblGrid>
              <a:tr h="112644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Учителя-   предметник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0099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опровождение ученика  в его интеллек-туальном развитии и самореализации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0099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dur="indefinite" fill="hold">
                      <p:stCondLst>
                        <p:cond delay="indefinite"/>
                      </p:stCondLst>
                      <p:childTnLst>
                        <p:par>
                          <p:cTn id="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68040"/>
            <a:ext cx="822960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Проект</a:t>
            </a:r>
            <a:br>
              <a:rPr sz="4800"/>
            </a:b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«Монастыри  России»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1280" y="2276640"/>
            <a:ext cx="853272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ru-RU" sz="3200" spc="-1" strike="noStrike">
                <a:solidFill>
                  <a:srgbClr val="00ffff"/>
                </a:solidFill>
                <a:latin typeface="Garamond"/>
              </a:rPr>
              <a:t>Строительство монастыр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ffff"/>
                </a:solidFill>
                <a:latin typeface="Garamond"/>
              </a:rPr>
              <a:t>   </a:t>
            </a:r>
            <a:r>
              <a:rPr b="1" lang="ru-RU" sz="3200" spc="-1" strike="noStrike">
                <a:solidFill>
                  <a:srgbClr val="00ffff"/>
                </a:solidFill>
                <a:latin typeface="Garamond"/>
              </a:rPr>
              <a:t>Функции монастыр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Garamond"/>
              </a:rPr>
              <a:t>   </a:t>
            </a:r>
            <a:r>
              <a:rPr b="1" lang="ru-RU" sz="3200" spc="-1" strike="noStrike">
                <a:solidFill>
                  <a:srgbClr val="00ffff"/>
                </a:solidFill>
                <a:latin typeface="Garamond"/>
              </a:rPr>
              <a:t>Архитектура монастыр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Garamond"/>
              </a:rPr>
              <a:t>   </a:t>
            </a:r>
            <a:r>
              <a:rPr b="1" lang="ru-RU" sz="3200" spc="-1" strike="noStrike">
                <a:solidFill>
                  <a:srgbClr val="00ffff"/>
                </a:solidFill>
                <a:latin typeface="Garamond"/>
              </a:rPr>
              <a:t>Обряды  в монастыря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Garamond"/>
              </a:rPr>
              <a:t>   </a:t>
            </a:r>
            <a:r>
              <a:rPr b="1" lang="ru-RU" sz="3200" spc="-1" strike="noStrike">
                <a:solidFill>
                  <a:srgbClr val="00ffff"/>
                </a:solidFill>
                <a:latin typeface="Garamond"/>
              </a:rPr>
              <a:t>Иконы монастыр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Garamond"/>
              </a:rPr>
              <a:t>   </a:t>
            </a:r>
            <a:r>
              <a:rPr b="1" lang="ru-RU" sz="3200" spc="-1" strike="noStrike">
                <a:solidFill>
                  <a:srgbClr val="00ffff"/>
                </a:solidFill>
                <a:latin typeface="Garamond"/>
              </a:rPr>
              <a:t>Жизнь в монастыр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Garamond"/>
              </a:rPr>
              <a:t>   </a:t>
            </a:r>
            <a:r>
              <a:rPr b="1" lang="ru-RU" sz="3200" spc="-1" strike="noStrike">
                <a:solidFill>
                  <a:srgbClr val="00ffff"/>
                </a:solidFill>
                <a:latin typeface="Garamond"/>
              </a:rPr>
              <a:t>Знатные настоятели монастыр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89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-298440"/>
            <a:ext cx="82296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Образовательные маршруты</a:t>
            </a:r>
            <a:br>
              <a:rPr sz="4800"/>
            </a:b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краеведческого образовани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0" y="-1867320"/>
            <a:ext cx="8962920" cy="8314200"/>
            <a:chOff x="0" y="-1867320"/>
            <a:chExt cx="8962920" cy="8314200"/>
          </a:xfrm>
        </p:grpSpPr>
        <p:cxnSp>
          <p:nvCxnSpPr>
            <p:cNvPr id="133" name=""/>
            <p:cNvCxnSpPr>
              <a:stCxn id="134" idx="1"/>
              <a:endCxn id="135" idx="0"/>
            </p:cNvCxnSpPr>
            <p:nvPr/>
          </p:nvCxnSpPr>
          <p:spPr>
            <a:xfrm rot="10800000">
              <a:off x="1791720" y="-1867680"/>
              <a:ext cx="896040" cy="40154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6" name=""/>
            <p:cNvCxnSpPr>
              <a:stCxn id="137" idx="1"/>
              <a:endCxn id="135" idx="2"/>
            </p:cNvCxnSpPr>
            <p:nvPr/>
          </p:nvCxnSpPr>
          <p:spPr>
            <a:xfrm rot="10800000">
              <a:off x="2688480" y="2144160"/>
              <a:ext cx="896040" cy="31550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38" name=""/>
            <p:cNvCxnSpPr>
              <a:stCxn id="139" idx="1"/>
              <a:endCxn id="135" idx="2"/>
            </p:cNvCxnSpPr>
            <p:nvPr/>
          </p:nvCxnSpPr>
          <p:spPr>
            <a:xfrm rot="10800000">
              <a:off x="2688480" y="2144160"/>
              <a:ext cx="896040" cy="2294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0" name=""/>
            <p:cNvCxnSpPr>
              <a:stCxn id="141" idx="1"/>
              <a:endCxn id="135" idx="2"/>
            </p:cNvCxnSpPr>
            <p:nvPr/>
          </p:nvCxnSpPr>
          <p:spPr>
            <a:xfrm rot="10800000">
              <a:off x="2688480" y="2144160"/>
              <a:ext cx="896040" cy="14342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2" name=""/>
            <p:cNvCxnSpPr>
              <a:stCxn id="143" idx="1"/>
              <a:endCxn id="135" idx="2"/>
            </p:cNvCxnSpPr>
            <p:nvPr/>
          </p:nvCxnSpPr>
          <p:spPr>
            <a:xfrm rot="10800000">
              <a:off x="2688480" y="2144160"/>
              <a:ext cx="896040" cy="5734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35" name=""/>
            <p:cNvSpPr/>
            <p:nvPr/>
          </p:nvSpPr>
          <p:spPr>
            <a:xfrm>
              <a:off x="0" y="1571760"/>
              <a:ext cx="5378400" cy="5731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3700" spc="-1" strike="noStrike">
                  <a:solidFill>
                    <a:srgbClr val="663300"/>
                  </a:solidFill>
                  <a:latin typeface="Garamond"/>
                </a:rPr>
                <a:t>5 маршрутов</a:t>
              </a:r>
              <a:endParaRPr b="0" lang="en-US" sz="3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84520" y="2432160"/>
              <a:ext cx="5378400" cy="5731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800" spc="-1" strike="noStrike">
                  <a:solidFill>
                    <a:srgbClr val="663300"/>
                  </a:solidFill>
                  <a:latin typeface="Garamond"/>
                </a:rPr>
                <a:t>От просвещения</a:t>
              </a:r>
              <a:r>
                <a:rPr b="1" lang="ru-RU" sz="2800" spc="-1" strike="noStrike">
                  <a:solidFill>
                    <a:srgbClr val="ffffff"/>
                  </a:solidFill>
                  <a:latin typeface="Garamond"/>
                </a:rPr>
                <a:t>  </a:t>
              </a:r>
              <a:r>
                <a:rPr b="1" lang="ru-RU" sz="2800" spc="-1" strike="noStrike">
                  <a:solidFill>
                    <a:srgbClr val="663300"/>
                  </a:solidFill>
                  <a:latin typeface="Garamond"/>
                </a:rPr>
                <a:t>к возрождению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584520" y="3292560"/>
              <a:ext cx="5378400" cy="5731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663300"/>
                  </a:solidFill>
                  <a:latin typeface="Garamond"/>
                </a:rPr>
                <a:t>Через</a:t>
              </a:r>
              <a:r>
                <a:rPr b="0" lang="ru-RU" sz="3200" spc="-1" strike="noStrike">
                  <a:solidFill>
                    <a:srgbClr val="ffffff"/>
                  </a:solidFill>
                  <a:latin typeface="Garamond"/>
                </a:rPr>
                <a:t> </a:t>
              </a:r>
              <a:r>
                <a:rPr b="1" lang="ru-RU" sz="3200" spc="-1" strike="noStrike">
                  <a:solidFill>
                    <a:srgbClr val="663300"/>
                  </a:solidFill>
                  <a:latin typeface="Garamond"/>
                </a:rPr>
                <a:t>игру</a:t>
              </a:r>
              <a:r>
                <a:rPr b="0" lang="ru-RU" sz="3200" spc="-1" strike="noStrike">
                  <a:solidFill>
                    <a:srgbClr val="ffffff"/>
                  </a:solidFill>
                  <a:latin typeface="Garamond"/>
                </a:rPr>
                <a:t> </a:t>
              </a:r>
              <a:r>
                <a:rPr b="0" lang="ru-RU" sz="3200" spc="-1" strike="noStrike">
                  <a:solidFill>
                    <a:srgbClr val="663300"/>
                  </a:solidFill>
                  <a:latin typeface="Garamond"/>
                </a:rPr>
                <a:t>к</a:t>
              </a:r>
              <a:r>
                <a:rPr b="0" lang="ru-RU" sz="3200" spc="-1" strike="noStrike">
                  <a:solidFill>
                    <a:srgbClr val="ffffff"/>
                  </a:solidFill>
                  <a:latin typeface="Garamond"/>
                </a:rPr>
                <a:t> </a:t>
              </a:r>
              <a:r>
                <a:rPr b="1" lang="ru-RU" sz="3200" spc="-1" strike="noStrike">
                  <a:solidFill>
                    <a:srgbClr val="663300"/>
                  </a:solidFill>
                  <a:latin typeface="Garamond"/>
                </a:rPr>
                <a:t>познанию 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584520" y="4152960"/>
              <a:ext cx="5378400" cy="5731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663300"/>
                  </a:solidFill>
                  <a:latin typeface="Garamond"/>
                </a:rPr>
                <a:t>Моя</a:t>
              </a:r>
              <a:r>
                <a:rPr b="0" lang="ru-RU" sz="3200" spc="-1" strike="noStrike">
                  <a:solidFill>
                    <a:srgbClr val="ffffff"/>
                  </a:solidFill>
                  <a:latin typeface="Garamond"/>
                </a:rPr>
                <a:t> </a:t>
              </a:r>
              <a:r>
                <a:rPr b="1" lang="ru-RU" sz="3200" spc="-1" strike="noStrike">
                  <a:solidFill>
                    <a:srgbClr val="663300"/>
                  </a:solidFill>
                  <a:latin typeface="Garamond"/>
                </a:rPr>
                <a:t>родословная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84520" y="5013360"/>
              <a:ext cx="5378400" cy="5731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663300"/>
                  </a:solidFill>
                  <a:latin typeface="Garamond"/>
                </a:rPr>
                <a:t>Юный</a:t>
              </a:r>
              <a:r>
                <a:rPr b="1" lang="ru-RU" sz="3200" spc="-1" strike="noStrike">
                  <a:solidFill>
                    <a:srgbClr val="ffffff"/>
                  </a:solidFill>
                  <a:latin typeface="Garamond"/>
                </a:rPr>
                <a:t> </a:t>
              </a:r>
              <a:r>
                <a:rPr b="1" lang="ru-RU" sz="3200" spc="-1" strike="noStrike">
                  <a:solidFill>
                    <a:srgbClr val="663300"/>
                  </a:solidFill>
                  <a:latin typeface="Garamond"/>
                </a:rPr>
                <a:t>экскурсовод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584520" y="5873760"/>
              <a:ext cx="5378400" cy="5731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Garamond"/>
                </a:rPr>
                <a:t> </a:t>
              </a:r>
              <a:r>
                <a:rPr b="1" lang="ru-RU" sz="3200" spc="-1" strike="noStrike">
                  <a:solidFill>
                    <a:srgbClr val="663300"/>
                  </a:solidFill>
                  <a:latin typeface="Garamond"/>
                </a:rPr>
                <a:t>Изучаем</a:t>
              </a:r>
              <a:r>
                <a:rPr b="0" lang="ru-RU" sz="3200" spc="-1" strike="noStrike">
                  <a:solidFill>
                    <a:srgbClr val="ffffff"/>
                  </a:solidFill>
                  <a:latin typeface="Garamond"/>
                </a:rPr>
                <a:t> </a:t>
              </a:r>
              <a:r>
                <a:rPr b="1" lang="ru-RU" sz="3200" spc="-1" strike="noStrike">
                  <a:solidFill>
                    <a:srgbClr val="663300"/>
                  </a:solidFill>
                  <a:latin typeface="Garamond"/>
                </a:rPr>
                <a:t>памятники</a:t>
              </a:r>
              <a:r>
                <a:rPr b="0" lang="ru-RU" sz="3200" spc="-1" strike="noStrike">
                  <a:solidFill>
                    <a:srgbClr val="ffffff"/>
                  </a:solidFill>
                  <a:latin typeface="Garamond"/>
                </a:rPr>
                <a:t>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796000" y="2924280"/>
            <a:ext cx="2909880" cy="367344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Garamond"/>
              </a:rPr>
              <a:t>      </a:t>
            </a: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Проект</a:t>
            </a:r>
            <a:br>
              <a:rPr sz="4800"/>
            </a:b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«Мир русской  усадьбы»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5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7680" indent="-33624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ремя появления усадьбы в Росси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7680" indent="-33624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стройки усадьб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7680" indent="-33624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андшафт усадьб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7680" indent="-33624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ыт  усадьб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7680" indent="-33624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иблиотека усадьб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7680" indent="-33624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здники в усадьб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7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dur="indefinite" fill="hold">
                      <p:stCondLst>
                        <p:cond delay="0"/>
                      </p:stCondLst>
                      <p:childTnLst>
                        <p:par>
                          <p:cTn id="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 fill="hold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dur="indefinite" fill="hold">
                            <p:stCondLst>
                              <p:cond delay="1580"/>
                            </p:stCondLst>
                            <p:childTnLst>
                              <p:par>
                                <p:cTn id="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dur="indefinite" fill="hold">
                      <p:stCondLst>
                        <p:cond delay="indefinite"/>
                      </p:stCondLst>
                      <p:childTnLst>
                        <p:par>
                          <p:cTn id="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dur="indefinite" fill="hold">
                      <p:stCondLst>
                        <p:cond delay="indefinite"/>
                      </p:stCondLst>
                      <p:childTnLst>
                        <p:par>
                          <p:cTn id="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dur="indefinite" fill="hold">
                      <p:stCondLst>
                        <p:cond delay="indefinite"/>
                      </p:stCondLst>
                      <p:childTnLst>
                        <p:par>
                          <p:cTn id="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3T05:51:58Z</dcterms:created>
  <dc:creator>1</dc:creator>
  <dc:description/>
  <dc:language>en-US</dc:language>
  <cp:lastModifiedBy>- </cp:lastModifiedBy>
  <dcterms:modified xsi:type="dcterms:W3CDTF">2007-12-10T09:13:52Z</dcterms:modified>
  <cp:revision>39</cp:revision>
  <dc:subject/>
  <dc:title>Организация групповых проектов</dc:title>
</cp:coreProperties>
</file>