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00BD-FEBB-4DDF-993A-715E958E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1BCE-D4F5-4AAF-89D3-FCEB14DA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27D9-1C7B-4E28-BE86-402B92B6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820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1956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8877-BDC5-4217-B3F8-71F37FF1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75EB-4F78-43EE-9347-3ECD7091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C124-9627-4DAA-9C28-3B7B529B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770A-DE11-4607-B079-FA4013D9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BA08-2A5A-4FE6-9788-B4E2C5ED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D787-1D88-42C0-9FAE-073465B6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5D85-D4AF-4A83-A7E4-B45D940A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DD0B-E7D5-4ABF-9FDB-9265145D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0ACA-E246-4A8F-AFB4-CB48064E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B9F8-7502-417A-AF1A-F3B4A05B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310F-EC26-4B90-BCA1-6C4D20CA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669D-FE1E-487D-BD38-B5F3D102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BF23-CA41-4A10-867D-A6D8B740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820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1956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97B6-408D-4EE2-B4CE-08B3B7D6E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B0E6-7A70-47CE-9923-545409A1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95FD-BC69-417E-86A0-DE55D2DB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40AC-E8CB-4435-8D9A-C0655F5E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D91A-0608-49F8-99AD-981BBABB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DFCD-B875-41BC-BE48-D68D9965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571E-30F1-4AB9-9957-F2FD530F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525B-3AFF-40F5-B4D4-A5138673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60000">
              <a:off x="3369960" y="4115880"/>
              <a:ext cx="4876920" cy="609840"/>
            </a:xfrm>
            <a:prstGeom prst="rect">
              <a:avLst/>
            </a:prstGeom>
            <a:gradFill rotWithShape="0">
              <a:gsLst>
                <a:gs pos="0">
                  <a:srgbClr val="006666"/>
                </a:gs>
                <a:gs pos="50000">
                  <a:srgbClr val="005f5f"/>
                </a:gs>
                <a:gs pos="100000">
                  <a:srgbClr val="0066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d8785"/>
                </a:gs>
                <a:gs pos="100000">
                  <a:srgbClr val="006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e7673"/>
                </a:gs>
                <a:gs pos="100000">
                  <a:srgbClr val="006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e7673"/>
                </a:gs>
                <a:gs pos="100000">
                  <a:srgbClr val="006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e7673"/>
                </a:gs>
                <a:gs pos="100000">
                  <a:srgbClr val="006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d8785"/>
                </a:gs>
                <a:gs pos="100000">
                  <a:srgbClr val="006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B64CC-7394-4F8A-AF41-038A50214AF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60000">
              <a:off x="3369960" y="4115880"/>
              <a:ext cx="4876920" cy="609840"/>
            </a:xfrm>
            <a:prstGeom prst="rect">
              <a:avLst/>
            </a:prstGeom>
            <a:gradFill rotWithShape="0">
              <a:gsLst>
                <a:gs pos="0">
                  <a:srgbClr val="006666"/>
                </a:gs>
                <a:gs pos="50000">
                  <a:srgbClr val="005f5f"/>
                </a:gs>
                <a:gs pos="100000">
                  <a:srgbClr val="0066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d8785"/>
                </a:gs>
                <a:gs pos="100000">
                  <a:srgbClr val="006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e7673"/>
                </a:gs>
                <a:gs pos="100000">
                  <a:srgbClr val="006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e7673"/>
                </a:gs>
                <a:gs pos="100000">
                  <a:srgbClr val="006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e7673"/>
                </a:gs>
                <a:gs pos="100000">
                  <a:srgbClr val="006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d8785"/>
                </a:gs>
                <a:gs pos="100000">
                  <a:srgbClr val="006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76652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Garamond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Garamond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Garamond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FEA0F2E-C208-4B55-AF8E-7490F7417F50}" type="slidenum">
              <a:rPr b="0" lang="ru-RU" sz="1200" spc="-1" strike="noStrike">
                <a:solidFill>
                  <a:srgbClr val="ffffff"/>
                </a:solidFill>
                <a:latin typeface="Garamond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Роль проектной деятельности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456920"/>
            <a:ext cx="893772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«Развитие и образование ни одному человеку не могут быть даны или сообщены. Всякий, кто желает к нему приобщиться, должен достигнуть этого собственной деятельностью, собственными силами, собственным напряжением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А. Дистерве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5084640"/>
            <a:ext cx="813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«Ученик – не сосуд, который надо наполни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а факел, который необходимо зажечь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. Д. Уши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8040"/>
            <a:ext cx="82296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Преимущества проектной деятельности: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654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5720" indent="-31572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ежпредметная направленность работы позволяет учащимся на практике увидеть и понять единство картины ми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720" indent="-315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бъединение в подгруппы ребят с разным  уровнем обученности профильным предметам, но с одинаково высоким уровнем мотивации к овладению новыми навыками и умениями приводит к росту их предметных результат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720" indent="-31572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овместная работа учащихся над проектом обеспечивает их интеллектуальное развити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72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720" indent="0">
              <a:spcBef>
                <a:spcPts val="2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15720" indent="0" algn="just">
              <a:spcBef>
                <a:spcPts val="2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I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этап реализации проекта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НФОРМАЦИОННО-ОЗНАКОМИТЕЛЬНЫЙ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0" y="1468440"/>
          <a:ext cx="9144000" cy="4651200"/>
        </p:xfrm>
        <a:graphic>
          <a:graphicData uri="http://schemas.openxmlformats.org/drawingml/2006/table">
            <a:tbl>
              <a:tblPr/>
              <a:tblGrid>
                <a:gridCol w="1979640"/>
                <a:gridCol w="3529080"/>
                <a:gridCol w="3635280"/>
              </a:tblGrid>
              <a:tr h="1387080"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зван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п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ащих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ител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6412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бо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нформа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аботают с различными источниками информа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библиотеки, Интернет, музеи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мениваются собран-ной информацией,  классифицируют е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ланирует и помогает осуществить поиск необходимой инфор-мации;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ъясняет требования к полученной информации; налаживает пути обмена информаци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34920" y="6141960"/>
            <a:ext cx="9109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Garamond"/>
              </a:rPr>
              <a:t>Значение этапа</a:t>
            </a: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:  </a:t>
            </a: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учащиеся знакомятся с проектной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                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деятельн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68040"/>
            <a:ext cx="82296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Проект</a:t>
            </a: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«Русский  дом»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54824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русская сказ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были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поговор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одеж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русская изб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русская игруш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народные промысл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иг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409248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68040"/>
            <a:ext cx="82296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Проект</a:t>
            </a: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«Награды России»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39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ервые награды на Рус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39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едали Российской импер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39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грады Первой Мировой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вой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39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грады Великой Отечественной вой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39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грады  современной Росс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333480" y="4205160"/>
            <a:ext cx="2950560" cy="2981160"/>
            <a:chOff x="6333480" y="4205160"/>
            <a:chExt cx="2950560" cy="298116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6699240" y="4559400"/>
              <a:ext cx="2216160" cy="22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1440000">
              <a:off x="6700320" y="4557240"/>
              <a:ext cx="2216160" cy="22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1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II</a:t>
            </a: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 этап реализации проекта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САМООПРЕДЕЛЕНИЕ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5734080"/>
            <a:ext cx="88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5958000"/>
            <a:ext cx="85690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Garamond"/>
              </a:rPr>
              <a:t>Значение этапа</a:t>
            </a: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: 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учащиеся выбирают свое направление в проекте, учатся работать в групп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0" y="1052640"/>
          <a:ext cx="9144000" cy="4854600"/>
        </p:xfrm>
        <a:graphic>
          <a:graphicData uri="http://schemas.openxmlformats.org/drawingml/2006/table">
            <a:tbl>
              <a:tblPr/>
              <a:tblGrid>
                <a:gridCol w="1763640"/>
                <a:gridCol w="3456000"/>
                <a:gridCol w="3924360"/>
              </a:tblGrid>
              <a:tr h="1298160"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звание этап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учащих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ител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980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здание плана  проекта;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астие в «Ярмарке творчес-ких идей»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отовят к практической конференции свой собранный и систематизированный материал, раскрывают направления реализации проект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рганизует во внеурочное время  общение учащихся;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нимает участие в обсуждении направлений деятельности и формиро-вании минигрупп учащихся для реализации этой деятельност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50000029802322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-1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III</a:t>
            </a: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 этап реализации проекта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ГРУППОВОЕ   ПОГРУЖЕНИЕ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1035000"/>
          <a:ext cx="9144000" cy="4416480"/>
        </p:xfrm>
        <a:graphic>
          <a:graphicData uri="http://schemas.openxmlformats.org/drawingml/2006/table">
            <a:tbl>
              <a:tblPr/>
              <a:tblGrid>
                <a:gridCol w="1835280"/>
                <a:gridCol w="4032000"/>
                <a:gridCol w="3276720"/>
              </a:tblGrid>
              <a:tr h="87372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звание этап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ащих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ите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14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абота над своим направле –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ием  в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ализа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ознанно повторяют учебный материал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поставляют собранный материал   с изученным ранее; расширяют свои знания; применяют ОИУ  и навыки в новой ситуации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едставляют материал в групп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водит групповые и индивидуальные консультации;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влекает в работу менее активных, наиболее слабы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ащих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0" y="55166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Garamond"/>
              </a:rPr>
              <a:t>Значение этапа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: 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каждый находит свою  нишу ,то есть именно тот участок работы, который ему наиболее интересен. Работая в индивидуальном темпе, учится попадать в темп работы групп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5000002980232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3480"/>
            <a:ext cx="91440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IV</a:t>
            </a: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 этап реализации проекта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АКТИВНОЕ УЧАСТИЕ В ПРОЦЕССЕ УЧЕНИЯ 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981000"/>
          <a:ext cx="9144000" cy="4422960"/>
        </p:xfrm>
        <a:graphic>
          <a:graphicData uri="http://schemas.openxmlformats.org/drawingml/2006/table">
            <a:tbl>
              <a:tblPr/>
              <a:tblGrid>
                <a:gridCol w="2055960"/>
                <a:gridCol w="3595680"/>
                <a:gridCol w="3492360"/>
              </a:tblGrid>
              <a:tr h="79740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звание эта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учащих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учите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6412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дведение промежуточ-ных итогов работы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рректи-ровка перво-начальных план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ащиеся мини - групп  докладывают всем участникам проекта о проделанной  работе; намечают план мероприятий для сле-дующего этапа своей деятель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водит консуль-тационную работу  с учащимися при под-готовке их сообщений 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 необходимости помогает участникам других групп быстро разобраться в новом для них материал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0" y="5554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Garamond"/>
              </a:rPr>
              <a:t>Значение этапа: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Способствует формированию исследовательского мышления. Реализуются принципы педагогики сотрудни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50000029802322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-384120"/>
            <a:ext cx="8697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Проект</a:t>
            </a: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«Малые Вавиловские чтения»</a:t>
            </a: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5472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9400" indent="-329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развитие интереса к поисковой рабо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400" indent="-329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формирование навы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40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убличного выступл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400" indent="-329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копление   опыт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40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анализа  источника информац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388120" y="2060640"/>
            <a:ext cx="343188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0" y="1413000"/>
          <a:ext cx="9083520" cy="4248000"/>
        </p:xfrm>
        <a:graphic>
          <a:graphicData uri="http://schemas.openxmlformats.org/drawingml/2006/table">
            <a:tbl>
              <a:tblPr/>
              <a:tblGrid>
                <a:gridCol w="2016000"/>
                <a:gridCol w="3837240"/>
                <a:gridCol w="3230280"/>
              </a:tblGrid>
              <a:tr h="79740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звание эта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учащих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учите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060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дведение итогов, презентация результа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ащиеся проводят обработку полученных результат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отовят презентацию проекта на итоговой научно-практической конференции «Твои первые исследования, лицеист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уществляет помощь в подготовке докладов учащихся и создании мультиме-дийных презентаций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0" y="54000"/>
            <a:ext cx="932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V 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этап реализации проекта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РЕФЛЕКСИЯ ОПЫТА ОБУЧЕНИЯ И РАБ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920" y="5640480"/>
            <a:ext cx="9109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Garamond"/>
              </a:rPr>
              <a:t>Значение этапа</a:t>
            </a: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: 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раскрывается уровень интеллектуального развития учащихся, формируется  их самооц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50000029802322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-860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Результативность проектной деятельно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270080"/>
          <a:ext cx="9144000" cy="5730840"/>
        </p:xfrm>
        <a:graphic>
          <a:graphicData uri="http://schemas.openxmlformats.org/drawingml/2006/table">
            <a:tbl>
              <a:tblPr/>
              <a:tblGrid>
                <a:gridCol w="539640"/>
                <a:gridCol w="2519640"/>
                <a:gridCol w="1800000"/>
                <a:gridCol w="1873440"/>
                <a:gridCol w="2411280"/>
              </a:tblGrid>
              <a:tr h="1126440">
                <a:tc>
                  <a:txBody>
                    <a:bodyPr lIns="90000" rIns="90000" tIns="7344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амили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ащего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атегория до 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атегория на выпуск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метка за четвер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440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наньева О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рифонова Т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лександрова С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атаева К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Ершова О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апитонова 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митриев Р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хов 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ихонова 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йцев 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Типы учебных проектов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Информационны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6160" indent="0">
              <a:spcBef>
                <a:spcPts val="10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6160" indent="-32616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Исследовательски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6160" indent="0">
              <a:spcBef>
                <a:spcPts val="10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6160" indent="-32616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Практико-ориентированны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85760" y="182520"/>
            <a:ext cx="885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АКТИЧЕСКАЯ ЗНАЧИМОСТЬ РЕЗУЛЬТАТ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ОЕКТНОЙ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1557360"/>
            <a:ext cx="828036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остижение интеллектуального  развития лич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Garamond"/>
              <a:buAutoNum type="arabicPlain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Формирование будущих профессиональных компетен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3  Применение результатов проектной деятельности на уроках, семинарах, для дистанционного обучения и самообучения в ЛИЕ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-5724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Темы проектов по истории,</a:t>
            </a:r>
            <a:br>
              <a:rPr sz="4000"/>
            </a:b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вызывающие наибольший </a:t>
            </a:r>
            <a:br>
              <a:rPr sz="4000"/>
            </a:b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интерес учащихс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1849320"/>
            <a:ext cx="8675640" cy="59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ойна глазами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ети на вой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лезы вой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Блока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ойна в музыкальной летопи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аратов сквозь вре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У войны не женское лиц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Автографы вой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з истории малой род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Темы проектов по истории,</a:t>
            </a:r>
            <a:br>
              <a:rPr sz="4000"/>
            </a:b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вызывающие наибольший </a:t>
            </a:r>
            <a:br>
              <a:rPr sz="4000"/>
            </a:b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интерес учащихся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25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2560" indent="-3225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стория моей семьи в истории моей стра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560" indent="-3225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стория моей страны в истории моей семь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560" indent="-3225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з истории развития хозяйства  райо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560" indent="-3225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стория Российского гим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560" indent="-3225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рошлое и настоящее Романовского райо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560" indent="-3225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аршалы великой Побед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560" indent="-3225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роды России: рядом и вмес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формационный проект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правлен на сбор информации об объекте или явлении с последующим анализом информаци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Учебная задача проект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294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ормирование умений находить, обрабатывать и представлять информаци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и планировании необходимо определить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. объект сбора информац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. возможные источники информац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. форма представления результат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сследовательский проект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редполагает четкое определение предмета и методов исследования, которое включает: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576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основание тем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576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ределение проблемы и задач исследов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576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движение гипотез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576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ределение источников информации и способов решения проблем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актико-ориентированный проект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дполагает реальный результат работы (прикладной характер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!!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Тип учебного проекта определяется по доминирующей деятельности и планируемому результату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9000"/>
            <a:ext cx="914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ООРДИНАЦИОННЫЙ СОВЕТ ПО ОРГАНИЗАЦИИ ПРОЕКТНОЙ ДЕЯТЕЛЬНО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4920" y="907920"/>
          <a:ext cx="9109080" cy="5892840"/>
        </p:xfrm>
        <a:graphic>
          <a:graphicData uri="http://schemas.openxmlformats.org/drawingml/2006/table">
            <a:tbl>
              <a:tblPr/>
              <a:tblGrid>
                <a:gridCol w="2592360"/>
                <a:gridCol w="6516720"/>
              </a:tblGrid>
              <a:tr h="1126440">
                <a:tc>
                  <a:txBody>
                    <a:bodyPr lIns="90000" rIns="90000" tIns="255240" bIns="46800" anchor="t">
                      <a:noAutofit/>
                    </a:bodyPr>
                    <a:p>
                      <a:pPr algn="just">
                        <a:lnSpc>
                          <a:spcPct val="64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дминистрация    лице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cc00"/>
                      </a:solidFill>
                    </a:lnL>
                    <a:lnR w="1440">
                      <a:solidFill>
                        <a:srgbClr val="ffcc00"/>
                      </a:solidFill>
                    </a:lnR>
                    <a:lnT w="1440">
                      <a:solidFill>
                        <a:srgbClr val="ffcc00"/>
                      </a:solidFill>
                    </a:lnT>
                    <a:lnB w="144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дагогические советы, научно-практические конференции, семинары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cc00"/>
                      </a:solidFill>
                    </a:lnL>
                    <a:lnR w="1440">
                      <a:solidFill>
                        <a:srgbClr val="ffcc00"/>
                      </a:solidFill>
                    </a:lnR>
                    <a:lnT w="1440">
                      <a:solidFill>
                        <a:srgbClr val="ffcc00"/>
                      </a:solidFill>
                    </a:lnT>
                    <a:lnB w="144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126440">
                <a:tc>
                  <a:txBody>
                    <a:bodyPr lIns="90000" rIns="90000" tIns="255240" bIns="46800" anchor="t">
                      <a:noAutofit/>
                    </a:bodyPr>
                    <a:p>
                      <a:pPr algn="just">
                        <a:lnSpc>
                          <a:spcPct val="64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тодическ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4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абин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cc00"/>
                      </a:solidFill>
                    </a:lnL>
                    <a:lnR w="1440">
                      <a:solidFill>
                        <a:srgbClr val="ffcc00"/>
                      </a:solidFill>
                    </a:lnR>
                    <a:lnT w="1440">
                      <a:solidFill>
                        <a:srgbClr val="ffcc00"/>
                      </a:solidFill>
                    </a:lnT>
                    <a:lnB w="144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рганизация эффективного взаимодействия «ученик-учитель» на всех этапах проектной деятельност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cc00"/>
                      </a:solidFill>
                    </a:lnL>
                    <a:lnR w="1440">
                      <a:solidFill>
                        <a:srgbClr val="ffcc00"/>
                      </a:solidFill>
                    </a:lnR>
                    <a:lnT w="1440">
                      <a:solidFill>
                        <a:srgbClr val="ffcc00"/>
                      </a:solidFill>
                    </a:lnT>
                    <a:lnB w="144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391040">
                <a:tc>
                  <a:txBody>
                    <a:bodyPr lIns="90000" rIns="90000" tIns="25524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ителя-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едметни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cc00"/>
                      </a:solidFill>
                    </a:lnL>
                    <a:lnR w="1440">
                      <a:solidFill>
                        <a:srgbClr val="ffcc00"/>
                      </a:solidFill>
                    </a:lnR>
                    <a:lnT w="1440">
                      <a:solidFill>
                        <a:srgbClr val="ffcc00"/>
                      </a:solidFill>
                    </a:lnT>
                    <a:lnB w="144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провождение ученика  в его интеллек-туальном развитии и самореализаци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cc00"/>
                      </a:solidFill>
                    </a:lnL>
                    <a:lnR w="1440">
                      <a:solidFill>
                        <a:srgbClr val="ffcc00"/>
                      </a:solidFill>
                    </a:lnR>
                    <a:lnT w="1440">
                      <a:solidFill>
                        <a:srgbClr val="ffcc00"/>
                      </a:solidFill>
                    </a:lnT>
                    <a:lnB w="144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266200">
                <a:tc>
                  <a:txBody>
                    <a:bodyPr lIns="90000" rIns="90000" tIns="25524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сихологическ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лужб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cc00"/>
                      </a:solidFill>
                    </a:lnL>
                    <a:lnR w="1440">
                      <a:solidFill>
                        <a:srgbClr val="ffcc00"/>
                      </a:solidFill>
                    </a:lnR>
                    <a:lnT w="1440">
                      <a:solidFill>
                        <a:srgbClr val="ffcc00"/>
                      </a:solidFill>
                    </a:lnT>
                    <a:lnB w="144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marL="530280" indent="-530280"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imes New Roman"/>
                        <a:buChar char="•"/>
                        <a:tabLst>
                          <a:tab algn="l" pos="5302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астие в разработке социально направ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0280" indent="-53028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302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енных   проект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0280" indent="-530280"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imes New Roman"/>
                        <a:buChar char="•"/>
                        <a:tabLst>
                          <a:tab algn="l" pos="5302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сихологическая помощь при взаимодействии «учитель- ученик»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cc00"/>
                      </a:solidFill>
                    </a:lnL>
                    <a:lnR w="1440">
                      <a:solidFill>
                        <a:srgbClr val="ffcc00"/>
                      </a:solidFill>
                    </a:lnR>
                    <a:lnT w="1440">
                      <a:solidFill>
                        <a:srgbClr val="ffcc00"/>
                      </a:solidFill>
                    </a:lnT>
                    <a:lnB w="144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367560" bIns="46800" anchor="t">
                      <a:noAutofit/>
                    </a:bodyPr>
                    <a:p>
                      <a:pPr>
                        <a:lnSpc>
                          <a:spcPct val="4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истемные администрато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cc00"/>
                      </a:solidFill>
                    </a:lnL>
                    <a:lnR w="1440">
                      <a:solidFill>
                        <a:srgbClr val="ffcc00"/>
                      </a:solidFill>
                    </a:lnR>
                    <a:lnT w="1440">
                      <a:solidFill>
                        <a:srgbClr val="ffcc00"/>
                      </a:solidFill>
                    </a:lnT>
                    <a:lnB w="144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хническая поддержка (Интернет, компьютерные технологии, аудио- и видео-обработка материала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cc00"/>
                      </a:solidFill>
                    </a:lnL>
                    <a:lnR w="1440">
                      <a:solidFill>
                        <a:srgbClr val="ffcc00"/>
                      </a:solidFill>
                    </a:lnR>
                    <a:lnT w="1440">
                      <a:solidFill>
                        <a:srgbClr val="ffcc00"/>
                      </a:solidFill>
                    </a:lnT>
                    <a:lnB w="144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3274920" y="7566120"/>
            <a:ext cx="6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2924280"/>
          <a:ext cx="9144000" cy="1009440"/>
        </p:xfrm>
        <a:graphic>
          <a:graphicData uri="http://schemas.openxmlformats.org/drawingml/2006/table">
            <a:tbl>
              <a:tblPr/>
              <a:tblGrid>
                <a:gridCol w="2627280"/>
                <a:gridCol w="6516720"/>
              </a:tblGrid>
              <a:tr h="11264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ителя-   предметни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0099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провождение ученика  в его интеллек-туальном развитии и самореализаци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0099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8040"/>
            <a:ext cx="82296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Проект</a:t>
            </a: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«Монастыри  России»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85327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Строительство монастыр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Функции монастыр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Архитектура монастыр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Обряды  в монастыр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Иконы монастыр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Жизнь в монасты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Знатные настоятели монастыр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-29844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Образовательные маршруты</a:t>
            </a: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краеведческого образова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-1867320"/>
            <a:ext cx="8962920" cy="8314200"/>
            <a:chOff x="0" y="-1867320"/>
            <a:chExt cx="8962920" cy="8314200"/>
          </a:xfrm>
        </p:grpSpPr>
        <p:cxnSp>
          <p:nvCxnSpPr>
            <p:cNvPr id="133" name=""/>
            <p:cNvCxnSpPr>
              <a:stCxn id="134" idx="1"/>
              <a:endCxn id="135" idx="0"/>
            </p:cNvCxnSpPr>
            <p:nvPr/>
          </p:nvCxnSpPr>
          <p:spPr>
            <a:xfrm rot="10800000">
              <a:off x="1791720" y="-1867680"/>
              <a:ext cx="896040" cy="4015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6" name=""/>
            <p:cNvCxnSpPr>
              <a:stCxn id="137" idx="1"/>
              <a:endCxn id="135" idx="2"/>
            </p:cNvCxnSpPr>
            <p:nvPr/>
          </p:nvCxnSpPr>
          <p:spPr>
            <a:xfrm rot="10800000">
              <a:off x="2688480" y="2144160"/>
              <a:ext cx="896040" cy="3155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8" name=""/>
            <p:cNvCxnSpPr>
              <a:stCxn id="139" idx="1"/>
              <a:endCxn id="135" idx="2"/>
            </p:cNvCxnSpPr>
            <p:nvPr/>
          </p:nvCxnSpPr>
          <p:spPr>
            <a:xfrm rot="10800000">
              <a:off x="2688480" y="2144160"/>
              <a:ext cx="896040" cy="2294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0" name=""/>
            <p:cNvCxnSpPr>
              <a:stCxn id="141" idx="1"/>
              <a:endCxn id="135" idx="2"/>
            </p:cNvCxnSpPr>
            <p:nvPr/>
          </p:nvCxnSpPr>
          <p:spPr>
            <a:xfrm rot="10800000">
              <a:off x="2688480" y="2144160"/>
              <a:ext cx="896040" cy="1434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2" name=""/>
            <p:cNvCxnSpPr>
              <a:stCxn id="143" idx="1"/>
              <a:endCxn id="135" idx="2"/>
            </p:cNvCxnSpPr>
            <p:nvPr/>
          </p:nvCxnSpPr>
          <p:spPr>
            <a:xfrm rot="10800000">
              <a:off x="2688480" y="2144160"/>
              <a:ext cx="896040" cy="573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5" name=""/>
            <p:cNvSpPr/>
            <p:nvPr/>
          </p:nvSpPr>
          <p:spPr>
            <a:xfrm>
              <a:off x="0" y="1571760"/>
              <a:ext cx="5378400" cy="5731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3700" spc="-1" strike="noStrike">
                  <a:solidFill>
                    <a:srgbClr val="663300"/>
                  </a:solidFill>
                  <a:latin typeface="Garamond"/>
                </a:rPr>
                <a:t>5 маршрутов</a:t>
              </a:r>
              <a:endParaRPr b="0" lang="en-US" sz="3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84520" y="2432160"/>
              <a:ext cx="5378400" cy="5731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663300"/>
                  </a:solidFill>
                  <a:latin typeface="Garamond"/>
                </a:rPr>
                <a:t>От просвещения</a:t>
              </a:r>
              <a:r>
                <a:rPr b="1" lang="ru-RU" sz="2800" spc="-1" strike="noStrike">
                  <a:solidFill>
                    <a:srgbClr val="ffffff"/>
                  </a:solidFill>
                  <a:latin typeface="Garamond"/>
                </a:rPr>
                <a:t>  </a:t>
              </a:r>
              <a:r>
                <a:rPr b="1" lang="ru-RU" sz="2800" spc="-1" strike="noStrike">
                  <a:solidFill>
                    <a:srgbClr val="663300"/>
                  </a:solidFill>
                  <a:latin typeface="Garamond"/>
                </a:rPr>
                <a:t>к возрождению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84520" y="3292560"/>
              <a:ext cx="5378400" cy="5731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663300"/>
                  </a:solidFill>
                  <a:latin typeface="Garamond"/>
                </a:rPr>
                <a:t>Через</a:t>
              </a:r>
              <a:r>
                <a:rPr b="0" lang="ru-RU" sz="32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ru-RU" sz="3200" spc="-1" strike="noStrike">
                  <a:solidFill>
                    <a:srgbClr val="663300"/>
                  </a:solidFill>
                  <a:latin typeface="Garamond"/>
                </a:rPr>
                <a:t>игру</a:t>
              </a:r>
              <a:r>
                <a:rPr b="0" lang="ru-RU" sz="32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ru-RU" sz="3200" spc="-1" strike="noStrike">
                  <a:solidFill>
                    <a:srgbClr val="663300"/>
                  </a:solidFill>
                  <a:latin typeface="Garamond"/>
                </a:rPr>
                <a:t>к</a:t>
              </a:r>
              <a:r>
                <a:rPr b="0" lang="ru-RU" sz="32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ru-RU" sz="3200" spc="-1" strike="noStrike">
                  <a:solidFill>
                    <a:srgbClr val="663300"/>
                  </a:solidFill>
                  <a:latin typeface="Garamond"/>
                </a:rPr>
                <a:t>познанию 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84520" y="4152960"/>
              <a:ext cx="5378400" cy="5731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663300"/>
                  </a:solidFill>
                  <a:latin typeface="Garamond"/>
                </a:rPr>
                <a:t>Моя</a:t>
              </a:r>
              <a:r>
                <a:rPr b="0" lang="ru-RU" sz="32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ru-RU" sz="3200" spc="-1" strike="noStrike">
                  <a:solidFill>
                    <a:srgbClr val="663300"/>
                  </a:solidFill>
                  <a:latin typeface="Garamond"/>
                </a:rPr>
                <a:t>родословна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84520" y="5013360"/>
              <a:ext cx="5378400" cy="5731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663300"/>
                  </a:solidFill>
                  <a:latin typeface="Garamond"/>
                </a:rPr>
                <a:t>Юный</a:t>
              </a:r>
              <a:r>
                <a:rPr b="1" lang="ru-RU" sz="32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ru-RU" sz="3200" spc="-1" strike="noStrike">
                  <a:solidFill>
                    <a:srgbClr val="663300"/>
                  </a:solidFill>
                  <a:latin typeface="Garamond"/>
                </a:rPr>
                <a:t>экскурсово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84520" y="5873760"/>
              <a:ext cx="5378400" cy="5731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ru-RU" sz="3200" spc="-1" strike="noStrike">
                  <a:solidFill>
                    <a:srgbClr val="663300"/>
                  </a:solidFill>
                  <a:latin typeface="Garamond"/>
                </a:rPr>
                <a:t>Изучаем</a:t>
              </a:r>
              <a:r>
                <a:rPr b="0" lang="ru-RU" sz="32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ru-RU" sz="3200" spc="-1" strike="noStrike">
                  <a:solidFill>
                    <a:srgbClr val="663300"/>
                  </a:solidFill>
                  <a:latin typeface="Garamond"/>
                </a:rPr>
                <a:t>памятники</a:t>
              </a:r>
              <a:r>
                <a:rPr b="0" lang="ru-RU" sz="32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796000" y="2924280"/>
            <a:ext cx="290988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Garamond"/>
              </a:rPr>
              <a:t>     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Проект</a:t>
            </a: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«Мир русской  усадьбы»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7680" indent="-33624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я появления усадьбы в Росс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7680" indent="-33624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ройки усадьб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7680" indent="-33624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ндшафт усадьб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7680" indent="-33624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т  усадьб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7680" indent="-33624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иблиотека усадьб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7680" indent="-33624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здники в усадьб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7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0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dur="indefinite" fill="hold">
                            <p:stCondLst>
                              <p:cond delay="158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05:51:58Z</dcterms:created>
  <dc:creator>1</dc:creator>
  <dc:description/>
  <dc:language>en-US</dc:language>
  <cp:lastModifiedBy>- </cp:lastModifiedBy>
  <dcterms:modified xsi:type="dcterms:W3CDTF">2007-12-10T09:13:52Z</dcterms:modified>
  <cp:revision>39</cp:revision>
  <dc:subject/>
  <dc:title>Организация групповых проектов</dc:title>
</cp:coreProperties>
</file>