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1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31.png" ContentType="image/png"/>
  <Override PartName="/ppt/media/image20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4FA8-64E7-4B70-9799-248296F2A2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6415-8F04-41F1-AAA6-1BB2ACE0A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E6D-DFD9-451D-A321-1933EB489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E93-8601-4B85-B9AB-8367B3FB0D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CEB-2749-4CA8-BDD4-E6737EC9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E42-2161-4553-AF7F-B28A1B1F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F0C19-EFB7-4768-A606-4B3CDDD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D84C-6788-4D5F-861F-9DFFF9B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79696-1427-460F-9AE5-FA2F8672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DCED7-F804-4DFA-B535-C3472AFD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FDDE7-B6DF-4372-AED3-6098C23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5EBDF-F4D4-43BA-9A9A-A16B9E5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9780D-C096-4877-8EFE-14EB3C15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EBD61-8C87-4D53-B0DA-8F56F936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575A2-311F-4600-A641-64245CA9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75CAD-0B9B-4DCF-9938-90000109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F31-3C88-46E3-844C-219F0725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6C381-BBD1-4880-BC0E-7FEF735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D272C-DD56-4D0E-9D99-11A40438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7812D-ED15-4306-88C9-EE9F11B0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B4949-89BD-4A3B-B0A4-780CAE1F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55F26-BC0E-425A-8B37-006F3255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FA8EA-F645-42D8-9D1C-7659096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1225B-F164-48C8-9DF1-A9E1D6D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E0BDC-C2F6-45AF-A621-D70F102E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43C07-459F-4715-8DF5-E95A0FFD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88BFD-A11E-4CCB-A250-7386212B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325-5A1B-41B3-9380-9CBB3CB4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42FDC-4BED-4FD9-A732-EE170C85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8C9EF-E072-48A0-9034-2BEC2C84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D68DB-BEBD-4603-8F56-B35183C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16069-F67F-419A-B5CA-EAAD0C8B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21487-F3A6-4E36-89FD-0317C12C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ED7A2-EE78-400E-B6AD-91E53D5A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F9805-49D2-4B64-88A9-6EB1B662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DDC2F-7054-4316-A1E2-9FB1EB9C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3E32C-256B-4F68-866A-C7591941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0CF47-0B7A-4C9A-B0D6-A72363A4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A14-404A-42AF-BF4E-35190FB5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35F46-31E9-4A2F-BBCE-09C96D91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90A66-35FA-4636-AC5B-0C5EC72F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3C0F7-E87E-417D-AC52-CE2A02D8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8F4A6-8EB6-4359-BDA2-19F1C92E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125F2-4472-479E-A31D-C2277C6E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E14F8-3410-495D-8875-6C5A686A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BA42C-E428-490B-9312-2722F95A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C60CA-E998-43AE-9F20-56CC82C5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FABB0-277F-46C7-A507-904B124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D7014-9B01-46D9-BE0B-72CD5D7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2108-34FF-45FB-9330-B7EED11B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0CF80-FF7A-4862-B1B7-9E2EC4AF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A7C8B-E56B-42DA-8DFB-4CCCE12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7D732-8D0D-42B8-A1CD-F201A9F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BA414-45D0-4B50-A5AA-A67C1187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48D32-8D30-4DC8-9050-EA9B6A9A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71019-472C-48BD-909A-653B345D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79284-DF7B-4367-BB29-716BE52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92D01-A3DC-45AC-9A28-1624968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27569-229C-4A17-A54D-C70CA0CE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79E18-0AFA-4313-9FAF-96F9E895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76B5-5331-4C1A-AA39-05494EB0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D0ED1-F32C-48CF-BF40-F3D5BCD3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AA163-1098-406F-A701-ACE6A34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C5F53-4D77-45D5-A2FC-8B26275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21B77-D5E2-48B8-B7D0-55F5220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27151-58CA-4916-93B7-064F6FD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F7CC8-5111-45F7-BD17-59F321C5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97F73-D7E1-412B-B06F-06E6214E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30CFA-FFEB-4C31-9005-B0E6A4DE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09609-DCB9-4588-B3EB-80E66AB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8D419-1ADF-4B23-9BA2-211047E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F904-6A5A-4829-B383-C0BCF5F2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63D62-202D-4628-8F73-C4909A4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7EB3E-2845-4171-9A5F-22570C8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28147-E059-40D9-88B4-7715C83B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2B7B1-7F2F-4A21-B20E-2816EC6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B3369-B1FE-490F-A838-F80ADB8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F33B01-2E5F-44DE-BFB4-A253AF4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CA584-E25C-4056-9F58-310CB3D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6D523-C15C-4A73-A669-66B2FBDE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4FE5D-815F-4D08-B03B-BDDDA761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77CCF-BF62-4550-B3E3-DDF95262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812B-11C2-437B-BDB9-F9F5D7BB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CF0E6-0B5E-4682-9256-3EC93728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5A778-5505-4C45-A656-973F495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4494A-FF26-4E91-BE65-88DBB17B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BE833-4EDE-4F7D-9AAA-36C99F4A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E048F-E080-41FF-91D0-D7C7A99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605E7-BE8C-4F86-AFA5-91E0A45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04CD2-ABF5-421D-9E7B-1B619210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B5002-08B9-46F4-8A69-DA27829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B8E14-73B3-4346-B96D-8288235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221FA-C10E-4F48-8F12-A61C2E2E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36DB-095F-40DC-AEA3-1BA8B56D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EC75D-3E74-495C-9B50-82285DAD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746EB-CD88-42AB-A8F6-4A2438ED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3CC59-4276-453C-9DF0-3E3F28B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A2422-9323-4EEA-97B7-73840A69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0F1C8-E118-4E55-BC33-70046AC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7866D-DE29-473C-A076-7FD98918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A03DA-0732-4F32-BA6D-F88FAF2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93429-CEA8-463F-B9E6-882EB66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421F9-8AD3-4335-9024-5F23249F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21993-EF2B-42AF-9C60-234AC258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7A78-DFF7-4E7D-9427-2CCA11B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B2C60-9E50-4B52-BDD2-BC9E5EFA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D955C-3142-469B-A44A-20255B7E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E65ED-D9F0-41B8-9BAE-90A40C28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037A9-6008-4038-B4CC-15D5E3AA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D475A-D978-4680-B01D-46B2D1C5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A8544-F70D-4E54-B5D1-A3816125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ADABF-CD48-47F3-8D66-F5E33E81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74B99-23F3-499A-890F-0FF9DE73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51A8E-52BC-489A-A767-54932B5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9C2CC-3938-40BD-8896-10AEE58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2B4-4F78-4A2C-B287-8501723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FC7C-470C-409F-AA68-E84646B2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2E82A-A8BE-45C7-B418-AB5CA94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22F95-DAB7-4E01-99B6-53E3BE4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8B26E-6C9E-40F4-A10E-A4DE6367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3BCD2-139B-4488-AC91-20077C75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1E850-D263-4A41-8379-81A3CD48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7BE66-53F9-4890-AC3D-2D47FF68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04837-2EB6-4BF9-BB30-2E6841E2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6637C-6EB8-4A44-997C-41D14D3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BE3AD-FE3A-4211-998C-3AFAF9F8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81FC4-B089-4C0C-8A92-DD2A477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2253-692B-43C4-B74B-6A622E0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8496D-D6D4-40A8-B031-1B44284D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BF57C-6D7D-4BEA-A42C-3963302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B5DBB-9705-43C9-8E79-A5D294C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94BE2-F8E4-4893-A136-3C5A1C71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F31B8-D90F-4B12-99F7-9E3EA716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0C173-D6A1-4162-B149-90914654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E442C-D80F-4475-A8D0-1717D46D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58713E-80D3-411B-963E-56EC22F7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481B8-AFAE-4619-AC9C-D0D053A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10507-3580-41C6-A669-B2614D82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D2B0-A559-487F-9294-3562906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5BFE6-021C-48CF-B91B-BAF7862C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65070-52D9-442A-A7E0-FA8E350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42627-7FDB-4345-9EE5-88366DA3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10BF1-8A7B-4E1C-8570-572D6F7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34F43-9FD5-48A7-B5E0-7B4DF6D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1D181-D209-4F8D-8609-56B65D0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E7303-A1EC-4CC1-81DB-D22673E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314F8-584A-4CA9-B8EE-4CD2146B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C597C-44C2-430C-A35F-09D747EA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1DB62-71FB-4EB7-AE7E-6FA18B9C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58A0-A0BE-455D-9E4C-A973DFB6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C4BB7-D780-4CF9-A5FF-A1D7DCA5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4F55E-6484-4489-860D-B4853E5B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FB87F2-2370-4B68-9E1E-F730A28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C09B7-4D4B-4946-8DB5-3EE09B80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17851-B156-46B6-80AF-C2A4DC5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14EA2-E638-4003-A3E3-8C3636A9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FC006-11DA-4119-A6A5-039F74F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3387E9-45C5-420F-B999-365AE34B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7442A-5E84-4EA5-88B5-1F582FAE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44BDD-9C48-4316-9D50-164CF74C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4EFA-F36B-43DE-B8C3-8B3D8DAD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20823-2983-4BA8-927C-1AF31F2C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CD7F54-68A5-42C8-88A0-32D6FDEE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8CFF6-2C48-4E25-9F5D-B8B144E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D1A92-645E-4BDC-A226-AAE9D091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E97FC-7985-41A5-95B2-4413A18E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0119E-03CB-4007-AE8B-5C7F8636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C16B0-BF83-4FE3-88E2-BA542A32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BC80A-43C8-41B9-92D3-E01F55B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31E35-4AEC-4067-8C3B-2572F5C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873FB-BB0F-43C6-9276-FAEFD84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B4E5-69D4-4DCF-932E-7298316F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FDF6EA-11C4-4A43-A425-813D96F3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EB821-7BA9-4E3F-B2BE-19C836A9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920AAA-6C46-4CB0-8212-290E79EC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62AB5-7E1E-440A-B1B5-561C00A0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34AFE5-C1D5-43DC-963A-344BC0DB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485AB-DF31-427E-9E99-E8CF3C9F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C9C1D8-347C-46A9-96E1-748142BF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9992FF-C196-4247-B353-73EBD637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F62C6A-8A67-4883-ADB4-48591F2F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A1578E-C565-4E90-92EF-CB5CAF5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14FF-DE9A-48AE-BB67-64A65F44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6DBE5-7F90-4285-A2F3-94ED948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3D681-2173-4CA2-B8B7-B75260E0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06334-033B-4D49-B7EA-BA1CE590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A82348-B3BB-4C18-B8A6-AC5FB1A0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F1A86B-C88F-4DAE-AAFA-D82C0863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C7055F-4E6B-40CD-9F3B-8BDAA56A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7FDEB7-E7E2-44D4-96F3-C5D0A4A0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465D3-DF34-4E75-BC62-8D5D32C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5F4C2-85F5-4139-9994-9DE68C99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CE88B7-EB8A-4529-882A-8CFA6EB5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132A-4BF3-4DA4-8A20-54BBF96B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192AAF-8C67-40AF-88FD-214E3C6D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9A555-EC1F-4D9A-992D-A3EF5A3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B7EEDC-B6D0-4035-B797-DD54D5E6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26045-EC58-4502-BD2F-762B11A2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77BEAE-06CF-46A4-A610-FF277A67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C14615-83CE-4279-8F9A-4BF417E4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F06C72-D1CD-4626-BBF4-E2ED3FE9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2ABBE-1DF1-44A4-B476-6E72E4E6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191D3B-AB5B-4175-B7F5-30A09E19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E491F9-2CAB-4B05-AAD8-B22D1AD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6330-9F6E-42AE-BD84-DF863631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B00D57-540E-4F8C-B373-4096CC34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4D9EA-6948-492C-BA5F-28505285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037A2C-2268-4BF4-9FDD-CD8462E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2CA192-087C-4096-B92C-5D69B08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3A2154-60AB-419F-B671-20747E76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7456A7-DAE4-4298-A5FE-E9CC3B2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7C416C-A32F-451F-A594-1C851041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9A7D24-748A-4E5A-B1D7-8152AE29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3318B6-AEC8-42B1-B2AF-92C002C0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B7D35B-CCD6-4E3B-A049-D046097B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8D13-8699-455F-A6A7-55FBC59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38CA44-78F8-40E7-A4FA-BC460882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0FAAE8-F8B3-4EA3-BF7F-DC6583C3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B99DA2-82FE-46AE-9DDF-E463F321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6288AC-E1A3-480C-9F16-A10303AF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8AE866-9CFA-465F-9514-C560FD7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AB6A5F-D106-433E-9C1F-5E59B3B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16F269-CCAE-4DDF-9402-71A0583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7582D2-CFFB-4AE9-9519-7183CC4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AE29CE-F8E2-4024-917A-6B6D2026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15FC89-AE0A-4102-AFC0-AF885C53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C7C-6EAA-4393-91FA-F55CC86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234E-9129-45F3-B5D2-8DC758A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108DFD-7B99-4862-85C0-49AB4A43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501A4-2AD6-4C5C-B207-B23AEE32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3FE39D-AD5D-41AD-A993-941DE440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0799CB-6614-462F-BD7E-1F4EBE6D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05F349-5817-440C-9DB2-F4B2CFF9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4AA3F7-185B-481B-837F-F233481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5F051B-94B3-4083-82EB-0D30D973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310818-0645-495D-82C0-20CE4AF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6A71AE-4B9B-47C5-9D0B-6E42673D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228C79-3BA3-4120-B2B4-AED28A19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5451-EA7A-4847-9EA7-1284098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D7B5FE-96BA-4AD6-A48A-1654436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E2197B-2EE2-41CE-9583-8C44AF0B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3AD9AE-904F-443F-B7EA-1A33A3DA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3EF7-EEE1-4CE9-885E-8BA29CA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2A89-019C-4CC3-A8A5-D79C51C9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CCDA-0A6B-458E-9010-B97ACEC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2797-EA66-44F0-9812-475D3896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F982-50BF-4AA9-9874-9358E2B3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6B3E-007A-48DE-B3EB-361D0743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413B-F99E-431F-A738-5C6AD990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4C3C-AF5D-48BC-A68A-E1C0F04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2E4-C01E-4DF8-ACB8-7082B4BF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1C0C-FE52-46C4-A984-C8C02C52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C2DE-6B7F-4DDB-A48B-A8D0394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83C3-A4C9-4DA8-BF75-B4CFE55E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A8B1-54CD-43C5-8D06-6569B343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2F7E-315E-4B9B-BBE3-76F2897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2C24-7FBC-41DB-B87E-4FEC2D4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5FC5-49C8-4FCD-A64F-F991A9A3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7106-2DC5-4730-91EC-7A054D48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769B-22B6-4D3B-B2A5-A02E6D58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DD0E4-DFA0-4E2F-A2FB-1510B4CA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7FA-0DC1-4B0F-B713-2E764D0A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2C297-2D7F-4AA7-BB9B-456D2EA9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5C5B-50F3-48F5-919D-5127CDA3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4BDB-0CA0-46AD-BB25-86DDEBC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FE4D-5718-4499-BBDD-AE5F45B0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6DFA-C4B4-4106-9C6C-6F84D9B4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B0D6-100F-43C4-9C1D-65D38836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C936-8270-48BF-9F52-F450813F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0AED-F409-477F-BA2B-949F5FE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9872-AB1C-4DC6-83DB-B6B3658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1445-9188-4E43-A441-7C700B20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72F-006B-4273-B063-FAC3713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25EA-555F-4B24-B81E-2633A87E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9461-6977-4FF1-A15A-EA57154B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6E8CC-B246-4DA3-8610-FBCF8B8C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F9EC-BDD4-488A-82A0-D6552E47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C3C5-071D-44A9-9FEA-874F690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AF7AF-E373-4B3A-9598-C020AF3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3FF2-6E44-40C3-BBAB-DDCC8E63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9CCEA-C1BF-478D-90DA-A051C2D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289AA-D457-4332-B58C-B0C1EC1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E053-BC70-4AAB-BEAF-F8F2D6F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0DD-97AF-4AD3-A880-6700B0AC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B91C-DA01-41E7-A7E7-82BED976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73F27-6705-4E59-94D2-86D4CA4E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F3E1-10D7-4FF4-A295-D9CCA01F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010E-3253-4780-9AB4-30F4150B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D72D-9F1C-461E-860F-35B1AB51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B5BD7-7617-469F-B47F-0C25D28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BE130-F84A-461F-8BB7-B48C587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A4BA1-8610-4727-AB09-C0A2F9F3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13778-A6DA-466F-BF46-4A238D33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D4F4-D90D-4CA0-819A-2B7BC27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5DF-5F78-43E6-BC3E-4A11FBB3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D58CD-10E0-4FE1-A02C-2F406640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EC4AC-A95A-4658-90A9-BE2C5FB2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2B5D-F0F1-4546-A10D-A0984D63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9707-4FCD-490F-A8BE-124051F5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50869-42AB-4502-A5D6-9EEF117C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F2536-E169-4F1F-91BF-471A5923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7CAC1-9678-4FEE-BDBB-87443BCD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FAC07-F7B3-4B13-A54F-5C88230E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4F4ED-53BA-46F6-95A4-938BD392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5E3E-DE1F-4E18-BD05-B594E2F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299-161E-4FA3-8637-F8BDC39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72338-3580-412E-815E-5DE34C72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DF0D1-9BB0-4D76-A126-887C945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62B62-EEA7-4489-A850-2CA0BFEE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606BF-704C-4C93-AFF5-B76892CA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E229-7F2B-48B9-B78F-3F944734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C2EA7-9CC4-4DD5-ADB4-99481383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A01E-50C5-4251-BDCF-81222C20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AE28F-D8A9-4A22-A10F-3DB2681D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3FF00-2C4D-4E8C-A176-6005DEE6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C9C6-7289-4BAE-90C2-4C0D122B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F1CF-80D8-4CBD-9BB9-AABED8C15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D65C-65DF-464F-A7AC-D2BED459C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7705-F196-43FA-8981-E6A46A93E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9FD6-B3B6-4A33-A444-0A3963532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833-D275-4214-8870-5396E5ED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E4A6-1B10-4239-9B17-8DD9ED118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A89C-35D4-451A-B712-C01330D5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1144-E64F-4A83-A4F7-0ECFE3911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2485-44F5-42EF-92BA-B5BCE7FFF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F825-E970-4485-BE68-B94C41E75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7650-E6BC-4528-9CF9-5284162E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56A2-2709-4C60-A7A7-F098DD928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D150-A46D-4B1F-A542-23BA0052C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000-94DE-4D00-9A28-3D026232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BEB7-9778-47AC-A124-DC9C3FB81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7B23-A61C-4405-8E3A-710810B7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617A-8937-499A-A937-A89F99100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002B-2F0E-4507-8E3D-9A0E66CC2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375-4DA1-4C43-928C-2DABDE93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4E99-C826-4D35-8B5A-4E27EF6F9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BA7-6B21-4B71-B6B7-87B293281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AEAB-B0F6-4217-8EB7-8CA19AA9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211-7E71-491D-8560-6CD3F0FF8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1AFB-E69C-44CC-AF84-71B4542E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18A-B5BD-4142-8EAD-53CFB8B2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316-B274-406F-B888-CF2686FF6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643960" cy="23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Проектная деятельность </a:t>
            </a:r>
            <a:br>
              <a:rPr sz="4000"/>
            </a:b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и проектные задачи </a:t>
            </a:r>
            <a:br>
              <a:rPr sz="4000"/>
            </a:b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в начальной школе.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539280" y="4730400"/>
            <a:ext cx="645804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полнила: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У «СОШ № 28» п. Богород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озикова Ольг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5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949400" cy="20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3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6715080" y="300024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28584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с применением проектных задач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ёт реальную возможность организации взаимодействия (сотрудничества) детей между собой при решении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 способу проектирования через специально разработанные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ёт возможность посмотреть, как осуществляет группа детей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вестных им предметных способов действий в модельную ситу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026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ходе решения проектных задач у младших формируются универсальные учебные действия :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6300720" y="1197000"/>
            <a:ext cx="2157480" cy="232740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4"/>
          <p:cNvSpPr/>
          <p:nvPr/>
        </p:nvSpPr>
        <p:spPr>
          <a:xfrm>
            <a:off x="826920" y="1413000"/>
            <a:ext cx="2737080" cy="576000"/>
          </a:xfrm>
          <a:prstGeom prst="rect">
            <a:avLst/>
          </a:prstGeom>
          <a:solidFill>
            <a:srgbClr val="99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ff274"/>
                </a:solidFill>
                <a:latin typeface="Arial"/>
              </a:rPr>
              <a:t>Рефлекс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6"/>
          <p:cNvSpPr/>
          <p:nvPr/>
        </p:nvSpPr>
        <p:spPr>
          <a:xfrm>
            <a:off x="826920" y="2349360"/>
            <a:ext cx="273708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ff274"/>
                </a:solidFill>
                <a:latin typeface="Arial"/>
              </a:rPr>
              <a:t>Целепола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826920" y="4508640"/>
            <a:ext cx="2664000" cy="576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ff274"/>
                </a:solidFill>
                <a:latin typeface="Arial"/>
              </a:rPr>
              <a:t>Модел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1403280" y="5445000"/>
            <a:ext cx="3384720" cy="836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ff274"/>
                </a:solidFill>
                <a:latin typeface="Arial"/>
              </a:rPr>
              <a:t>Проявлять инициати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ff274"/>
                </a:solidFill>
                <a:latin typeface="Arial"/>
              </a:rPr>
              <a:t>при поиске способа (способо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ff274"/>
                </a:solidFill>
                <a:latin typeface="Arial"/>
              </a:rPr>
              <a:t>решения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"/>
          <p:cNvSpPr/>
          <p:nvPr/>
        </p:nvSpPr>
        <p:spPr>
          <a:xfrm flipH="1">
            <a:off x="3634920" y="3284640"/>
            <a:ext cx="2592360" cy="13683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"/>
          <p:cNvSpPr/>
          <p:nvPr/>
        </p:nvSpPr>
        <p:spPr>
          <a:xfrm flipH="1">
            <a:off x="3634920" y="3284640"/>
            <a:ext cx="2592360" cy="431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 flipH="1" flipV="1">
            <a:off x="3634920" y="2636640"/>
            <a:ext cx="2521080" cy="647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5"/>
          <p:cNvSpPr/>
          <p:nvPr/>
        </p:nvSpPr>
        <p:spPr>
          <a:xfrm flipH="1" flipV="1">
            <a:off x="3779640" y="1773360"/>
            <a:ext cx="2376360" cy="1511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6"/>
          <p:cNvSpPr/>
          <p:nvPr/>
        </p:nvSpPr>
        <p:spPr>
          <a:xfrm flipH="1">
            <a:off x="4427640" y="3284640"/>
            <a:ext cx="1800000" cy="17287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8"/>
          <p:cNvSpPr/>
          <p:nvPr/>
        </p:nvSpPr>
        <p:spPr>
          <a:xfrm>
            <a:off x="6227640" y="3284640"/>
            <a:ext cx="505080" cy="18730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Группа 19"/>
          <p:cNvGrpSpPr/>
          <p:nvPr/>
        </p:nvGrpSpPr>
        <p:grpSpPr>
          <a:xfrm>
            <a:off x="826920" y="3429000"/>
            <a:ext cx="2664000" cy="647640"/>
            <a:chOff x="826920" y="3429000"/>
            <a:chExt cx="2664000" cy="647640"/>
          </a:xfrm>
        </p:grpSpPr>
        <p:sp>
          <p:nvSpPr>
            <p:cNvPr id="1092" name="Rectangle 9"/>
            <p:cNvSpPr/>
            <p:nvPr/>
          </p:nvSpPr>
          <p:spPr>
            <a:xfrm>
              <a:off x="826920" y="3429000"/>
              <a:ext cx="2664000" cy="6476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5"/>
            <p:cNvSpPr/>
            <p:nvPr/>
          </p:nvSpPr>
          <p:spPr>
            <a:xfrm>
              <a:off x="1051560" y="34858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План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Группа 20"/>
          <p:cNvGrpSpPr/>
          <p:nvPr/>
        </p:nvGrpSpPr>
        <p:grpSpPr>
          <a:xfrm>
            <a:off x="5435640" y="5445000"/>
            <a:ext cx="2906640" cy="720720"/>
            <a:chOff x="5435640" y="5445000"/>
            <a:chExt cx="2906640" cy="720720"/>
          </a:xfrm>
        </p:grpSpPr>
        <p:sp>
          <p:nvSpPr>
            <p:cNvPr id="1095" name="Rectangle 8"/>
            <p:cNvSpPr/>
            <p:nvPr/>
          </p:nvSpPr>
          <p:spPr>
            <a:xfrm>
              <a:off x="5435640" y="5445000"/>
              <a:ext cx="2665440" cy="7207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27"/>
            <p:cNvSpPr/>
            <p:nvPr/>
          </p:nvSpPr>
          <p:spPr>
            <a:xfrm>
              <a:off x="5435640" y="5445000"/>
              <a:ext cx="290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      </a:t>
              </a: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Вступать 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     </a:t>
              </a: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коммуникаци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70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проектных задач не только работает на перспективу, но и способствует более высокому уровню усвоения программ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2" descr="C:\Program Files\Microsoft Office\MEDIA\CAGCAT10\j0233018.wmf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348000" y="3357720"/>
            <a:ext cx="3071880" cy="27352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1c1c1c"/>
                </a:solidFill>
                <a:latin typeface="Arial"/>
              </a:rPr>
              <a:t>Урок -  исследование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замысел, план, творчество по пла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процесс выработки новых знаний, истинное творч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1c1c1c"/>
                </a:solidFill>
                <a:latin typeface="Arial"/>
              </a:rPr>
              <a:t>Этапы исследования</a:t>
            </a:r>
            <a:br>
              <a:rPr sz="4400"/>
            </a:b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684360" y="1413000"/>
            <a:ext cx="7642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а цели и конкретных задач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объекта и предмета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метода (методики)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процесса исследования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результатов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ние выводов и оценка получен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c1c1c"/>
                </a:solidFill>
                <a:latin typeface="Arial"/>
              </a:rPr>
              <a:t>Основные этапы проектной деятельност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ематического поля и темы проекта, поиск и анализ проблемы, постановка цели проекта, выбор названия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запланированных технологических операций, внесение необходимых измер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и защита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выполнения проекта, оценка качества выполнен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6168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1c1c1c"/>
                </a:solidFill>
                <a:latin typeface="Arial"/>
              </a:rPr>
              <a:t>Урок – исследование </a:t>
            </a:r>
            <a:r>
              <a:rPr b="0" i="1" lang="ru-RU" sz="4000" spc="-1" strike="noStrike">
                <a:solidFill>
                  <a:srgbClr val="1c1c1c"/>
                </a:solidFill>
                <a:latin typeface="Arial"/>
              </a:rPr>
              <a:t>–</a:t>
            </a:r>
            <a:br>
              <a:rPr sz="4000"/>
            </a:br>
            <a:r>
              <a:rPr b="0" i="1" lang="ru-RU" sz="4000" spc="-1" strike="noStrike">
                <a:solidFill>
                  <a:srgbClr val="1c1c1c"/>
                </a:solidFill>
                <a:latin typeface="Arial"/>
              </a:rPr>
              <a:t> это совместный (учитель и ученик) процесс движения к истине!! 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339640" y="3141720"/>
            <a:ext cx="5915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24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333300"/>
                </a:solidFill>
                <a:uFillTx/>
                <a:latin typeface="Arial"/>
                <a:ea typeface="Arial"/>
              </a:rPr>
              <a:t>Ведущей ценностью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333300"/>
                </a:solidFill>
                <a:latin typeface="Arial"/>
                <a:ea typeface="Arial"/>
              </a:rPr>
              <a:t>  </a:t>
            </a:r>
            <a:r>
              <a:rPr b="1" i="1" lang="ru-RU" sz="3700" spc="-1" strike="noStrike">
                <a:solidFill>
                  <a:srgbClr val="333300"/>
                </a:solidFill>
                <a:latin typeface="Arial"/>
                <a:ea typeface="Arial"/>
              </a:rPr>
              <a:t>урока - исследования является ценность процесса движения к истине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47:16Z</dcterms:created>
  <dc:creator>Татьяна</dc:creator>
  <dc:description/>
  <dc:language>en-US</dc:language>
  <cp:lastModifiedBy>1</cp:lastModifiedBy>
  <dcterms:modified xsi:type="dcterms:W3CDTF">2012-01-19T13:10:19Z</dcterms:modified>
  <cp:revision>19</cp:revision>
  <dc:subject/>
  <dc:title>Проектная деятельность учащихся на уроке и во внеклассной работе </dc:title>
</cp:coreProperties>
</file>