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1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30.wmf" ContentType="image/x-wmf"/>
  <Override PartName="/ppt/media/image11.jpeg" ContentType="image/jpeg"/>
  <Override PartName="/ppt/media/image9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9.wmf" ContentType="image/x-wmf"/>
  <Override PartName="/ppt/media/image31.png" ContentType="image/png"/>
  <Override PartName="/ppt/media/image20.jpeg" ContentType="image/jpe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2803-3DBC-4F82-A2AE-2591AD55CC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85A4-7229-459D-8F91-6CF356390E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2F87-1CE5-4865-9152-2E41D483CC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7259-2533-4C76-B03D-3F633AFD01D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A0EB-0816-4D36-B9D1-67DADFEB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1A14-4ECD-4271-9F62-D1DFDCAB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FF125-6955-4233-9A2D-249C0AD2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401B5-9772-4619-901B-6E34377E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B16E8-24FB-4279-B558-2233024A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78C3B-F7FA-4B5C-AFA8-6CA3DCA2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A8485-5DA0-499C-AD30-6D3DCF71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4106F-338E-4998-9570-A1603B78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75124-ADE6-4AA4-B442-A367461F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394AA-A76C-4632-9BF0-6E4DB1AD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D26EF-5D96-426F-AAF9-FAC81E3D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D6A04-4AAA-4132-9BE8-5C13E998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59BB-9FAD-4E90-B764-805E0014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E9FEA-ACD9-4322-AD2E-511D0173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47460-FAB4-4AEC-BEAA-B2418AFF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D905E-7E06-43BD-8125-CCDA84A9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6ED54-C13A-46B6-BF2D-3BBA7A71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D64D2-ED7D-45A4-A0EC-3A8FBBA9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6A298-632A-4812-AEC1-6FCBAEF3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C1343-9526-4DD0-9CC8-14E0C0C8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F79E3-90DF-45E5-86AE-212638A8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F94AD-F33F-4A92-8FAF-7D51012A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7883E-952F-49F4-A9A2-06C47816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2BF-8FF0-4792-9598-E40E489E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CC00C-E6A6-4BBE-AF43-2E3287E4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0C6B8-4C83-403C-954C-1787349A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CD882-5A4C-455F-A102-E03BE3E3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F0BDA-7F86-4EA5-9CFD-FB1FF799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83DF7-31D5-4720-9CC8-5BE3E12F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9A120-0C64-405E-87D0-020EA649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83D1F-E9E2-4D44-B9FD-10342A6F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0A8D2-4A49-4DFC-9863-EDA6E24A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7C239-D72E-49FB-80C3-62DA80C5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FF698-9533-421B-9FCF-9D0A99E5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6A6E-BCF9-4907-A345-1F456222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A2F6E-B187-470D-94F5-F10FCEDF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EAE57-7FD9-444C-89CB-87DF2912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1B54A-43EF-4D38-B8D6-D2277AFA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A557A-B7CA-4C58-8654-85201502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8DBE8-074A-4389-A35D-500B9C8D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CDE8E-1D71-441A-B0A7-B27AAB34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55215-5A03-42A4-8464-2BE71066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EBEB6-5E99-4348-BE80-26943E70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18EBC-DBE4-481D-9006-92EE1433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52250-A521-4B75-97DA-28AEC9F4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C4DA-D6AB-4AF5-9B0B-1304BF2D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9544E-A7F3-41B3-AAB0-75FA8C95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BD039-F7A0-43CE-A538-7CEDA92B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C48FF-0B1A-4EFA-9F42-8B149889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981C4-8B73-4AE8-BCB7-08FA76F5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50A35-E16C-4865-889D-6DB90DCF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26C83A-FF05-4E69-9C44-BD92B58F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61B6C-A304-47D6-B2C2-C75D04A9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F6B48-368C-4462-9CEB-E718C576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6DA0ED-D5BF-427D-9910-C94F8059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56541-0CBE-4165-85BF-D894AE9E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9A31-22CC-4B57-BBEE-F9DFAC64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16EAFC-8B4D-49EA-B0B7-6558CD62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AD90E-F0C8-431A-A41C-D777388E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74C5B2-98D4-48E4-A22B-FA7DA05E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85B1D-978E-4E9B-9B46-DED0A607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312F1-DB22-49F8-B35C-29B0F7D3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4F858-F3CD-48B4-8A0B-4209671E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F875B-2D19-4147-BA59-C92E4475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A9AEB1-A912-4334-A7B1-71519835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AE733B-4E95-43C3-8FD0-FE22B2D5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76BE6A-62C2-42D1-83D0-BFEEDB98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3EA7-A645-4D73-8EA1-842ED867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454841-EF30-4C34-83C2-AED8CE91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7E4B2D-C84C-4B6C-BC05-2B6A0EBA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45ACFC-9F0C-4CCD-8CBF-D2AA8A6C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822786-F3D6-42D8-B701-38E22DB2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838094-97FD-4BF3-B728-B1AC4B8C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CA2D58-C3F2-4EAF-B269-8D7B920D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0BDCE2-62DD-49F0-8DA8-AA35082E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6A41F-2F71-47B1-A2C6-27A09F9B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939672-2CCF-4814-8356-4903265C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07EE2B-6978-402C-A178-E1266C44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2180-B1A0-492E-A38A-90F76134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4F7B6C-E589-43A5-88F2-8AD44E41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EDC2CC-92F5-4D9E-8A1E-E354FEF8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335C93-BC9E-43B6-8B3D-5CD7E0C7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47F13D-F4EF-48CE-BA50-A9A65F2A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33AE49-C693-4128-A342-3FDC0851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8E99AD-85BD-4C21-9C94-6B7582D2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C434B6-C3C5-4459-9C29-547B6186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B38269-694E-4FE6-B913-2345A918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0981B1-F020-47EB-B20E-D4C27358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86ED1B-9353-4B75-9DB5-26B0D3F5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2C48-7D24-478C-880C-CCB18286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5C3846-0F1F-491E-BB33-605CD1EB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75CAFE-1B99-4A2A-9D47-A23FBB88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527001-C193-4FAE-9B34-E3E3050C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E771AE-F7C6-4287-93EF-4C0826D1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188390-495D-4AC9-BDA6-8D79F00B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FBEC9B-1191-4880-AA7E-1981C6BA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FCB5BC-1E7D-4D0F-86F8-C0D3FE74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6B8696-DC6E-448E-B3A2-0B6B2A82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440F5B-F092-49C8-BA1C-2A4355B7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AA4EA2-5F74-4F0A-8CD1-3459C858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0CD9-310D-4F39-A465-6E3D6CCB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4C496E-97ED-4963-8A20-4448947F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890009-5EAD-4822-8996-9AAF753E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549E2D-5F26-4EE0-AE9D-F7986380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FF1BD3-F70D-42CA-B083-F566B8FC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A4219B-EF80-43A6-8342-67FC96CF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91F68A-9821-442A-850B-3284C8D0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CED769-A60F-415E-9549-C52FAE9D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7F3914-98AD-4F03-A168-2960C06A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012564-1DEE-434B-A021-7821B0D0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144DDA-F98B-420E-8EEF-6343970E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08DC-71F7-44A3-881C-2D47E926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95B7-668E-4272-8239-5A1170C5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2197F6-5388-485A-BE06-AA8404D6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02D28E-F408-405A-9970-BD91273E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8549C9-F95A-4CA2-9B3D-EA24A66C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C4ACC2-D3EC-41C6-A90C-1B63D97E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D77087-6824-42BA-A7D1-381DD541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4E34E5-1B60-4F81-81DB-3B9FC6F0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DD915F-6965-41F1-90C1-8D1DE747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D94812-F6CB-4CEF-BB5E-ECB774DD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49CA5E-DBE0-4382-9B59-F7971C99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8210E1-6493-48AC-A4DF-82D9A4A5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89E6-55BC-4458-BF41-0F06C708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E4F0E6-FFB3-45F0-B179-8C3E9AB3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FDCCA8-B461-4DB2-9481-B68A0FEE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B68596-3952-4091-B906-A14D8715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F67AF6-27A7-415E-9E8B-B41B8B68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07EB00-D658-48C4-BAF2-9E90CACC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644F24-1907-494B-B5AB-2A859D54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015224-7983-41A8-9510-D8E389FE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8B2A7C-6875-4442-B55C-F409B4A7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AD7EB6-94B9-497F-B4DC-A877185D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3C7003-B62C-427C-B1F7-38333F42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4AF4-56DC-44C0-9B12-28B06AA3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1A1728-745F-404F-80C0-F6F82DEE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EB3885-B8A0-4943-9E90-A809C261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7E04CE-823E-4BE7-8B9C-C9CEF1F2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CC4A0F-CE03-486E-BF69-1222CA09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34EFF6-299B-4559-9C3F-E5691A90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98E8B4-8EFD-47E1-A14E-EF977767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A37718-1EDA-42A6-AF04-89646D83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BFC9CD-EC3C-49FB-B680-5B2366BA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92D718-8730-43BE-BE9A-64E91B37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EB7208-5102-491E-B243-F5D8123D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A74D-2E50-4393-B98E-6CAC1777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8CD16C-7155-401E-920F-2A522B85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D7B553-51AB-4B6B-B0E8-FE7A953D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91B414-6006-4ECF-BE03-1186A71D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01CD0F-2012-4E83-9C3F-6E53A3A1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29E2C1-6445-4D48-BEB2-7CFDB241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13CC58-1C8D-40AF-BB49-48556418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A970FD-967C-4E20-8A4D-12EE5DC0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B8C4F7-2496-4000-B482-63F0F1EE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B4E61D-45BF-4A5F-AF20-91030030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CA96EF-3893-4029-9E33-EEF298E2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DEA0-F477-4D1F-8AB6-D47FFB7E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18B06E-256A-4D44-82A0-F81A5232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E73974-FD66-43F4-A0D6-5A88DCFA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E8121C-176A-45E6-AD2F-E1C037E1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CD4922-96CF-4B60-8218-FD649F71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9CB3CE-A0FB-43E4-B036-FE32463F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309427-18E5-460C-9C9A-16A3BCFE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B266E0-3278-45C9-A480-7B3B4A16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5CDA75-0B79-4413-8820-8FD0DE1C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8B46C5-93B4-4EFB-AA02-DAA18B1C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5BAB92-495D-4B01-89C5-68AB6F9D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6CF11-D091-4B21-9B5B-50B1F90E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42C729-AD18-484E-8FCD-E3ACFD9E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CAEA27-8A2F-4FB8-8FA2-FF92E55C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E959CB-31C8-4470-A2FA-C974DB28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534580-82DD-4C92-A25E-E7C63C7E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498FDC-4780-45D3-B9F9-1F63474D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979980-24B8-4F3E-8857-991A4209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0DB22E-F123-4A54-B1AE-7C0608BF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1B67E7-EB1E-4561-AB12-4DB8DFF1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980A12-A923-413A-A751-86E5D1D8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3F3EC2-EE1B-4330-B4F8-AD77AACC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259BC-8B6B-462B-9279-91EE18C1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0D51F9-853F-4177-9B43-5B41649B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682303-BE66-4021-B30F-01D7CF7A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2FC1A1-302D-49AC-8A0A-0573FDE0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BB4B6F-F10E-427E-9191-05AF9DF6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B34528-432C-4F94-946F-A1A7D1FA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E416A9-834F-476C-A26C-481C774E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B3D18C-CDF9-4281-A618-6E802ABF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DAAE72-E6AC-4905-9A0E-80056083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9079DA-760B-4CA7-AB5B-D6917B65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D8B92D-0F8F-48B8-85E9-7D3FE187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8FC09-11DA-4AB0-997F-F28B358C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15F8E5-17C4-4C5C-B441-38DC2D1D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2918AF-3535-4122-9ACE-A84F14C6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0BB8FA-5A1A-4D42-8DFF-33EAB279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BA2922-A5C3-4B02-B4FF-AE165439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4BE571-2073-4CB7-81EA-46078740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8FD6C1-9BDD-4E94-A7AC-EE8B3820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1CA13D-4E25-45CD-AB2E-9F9CF528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815EFA-3428-4DEB-9C61-6730A7C2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CF291C-AEAC-43FC-B29E-879D32A3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829AC3-A658-4E4C-94AD-6E2AF596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6EB0A-2726-4962-BA1D-164BA503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39E3A7-C359-4AB2-89D0-D1882CB8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2D214F-BD44-4B2E-8A55-0B0C4A0E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10C815-3026-4462-B415-6FD2009C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9B407A-53C4-4211-8FB1-01D32B5D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9CAD1A-FD6B-40B0-A7FE-CB42945A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28137B-3BFF-405B-A54E-7B7F8ACD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086A4F-C27A-43AA-925D-DAAF42A1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9432E6-C2C4-4003-8287-5397641B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6C769C-C5D5-4B6F-8F90-16C8CDCB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4EF63C-B0ED-4061-A631-2F493875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30C7-FB59-4AFE-BD26-32CD99C2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BE1AC1-D3E4-4703-9D41-06F80845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4B8C5F-87B7-40F8-BDD3-90186E09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A11C5C-674B-4C60-B0E8-C6BBD982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927236-CF00-4AD6-B4F7-F6600553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0085BD-C5D6-4EB4-9BEE-24459AF9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AC06CC-B4DC-4FC6-BE2A-B02EE8FA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1A348D-8231-4EE1-97EE-4E791CC0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3DA151-35B5-46F5-A42C-F8E28BFE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E7D28F-E9D9-413A-8372-804961A2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F456AA-FAC5-4C76-8FF8-76481C6A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557-ABD9-416E-8905-F95779FB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A9D66-0D28-476E-AAD0-5F175100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7316D8-C79B-46FF-B767-6F1CC4D8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A61BA9-1452-4E37-9F2D-E2927C0B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40E8C4-95D7-45BD-AC70-4FFD978C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D915EC-AA74-4C93-83A2-F348BC11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317A9C-58A3-41CD-8D85-99843EEA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89EBEB-41BB-4EF4-B3DC-4A4E0720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8F7398-8171-4D94-9E30-59646BF3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2350A3-8F2C-4D01-84AD-4C56D408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F83421-6434-453E-BCEA-440D36BC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394757-CA44-46D5-95E6-2DB3A198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FF3BF-FE73-47A6-9E45-D37E71E8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8DF3B8-63AF-422D-936A-E3B6B086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3C28E6-BBB7-4773-993D-D5C5E3AD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B0BA75-CAA4-491E-9010-C9D4B6D0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6F595-9C33-45A1-8CEA-001A799E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02755-A2A2-478E-B111-3E898D9E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CBE6B-82CB-401E-AEE1-73F0ACC6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39A01-1ED3-4D52-8C24-90C375B3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26E69-301B-45CB-933B-56420787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4384D-DF8A-4DCA-A102-BD0E0F44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77EF8-7212-43A3-8CBD-16596064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B81D5-C749-45FA-A1C4-CC5F324F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F67-084E-4840-9164-FEB970AD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4921C-3EDF-4B4D-B03A-05725095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B1743-1597-472F-8679-8D31BFA4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D80DB-0191-4F31-AD2F-EFDF0AC5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03B95-09EC-4B14-896A-51B1C8B2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ED522-B90A-49B9-94A7-CA72B3C1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B4EC7-5564-4390-8B03-6A9DA247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918E3-F108-4120-B790-DAC97863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A1624-CA63-4CA4-A930-3C6EF7D2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5D44F-41AC-4756-B548-65CA294B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5D4AE-CE26-4D1A-A10E-9FAB0F8D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41A-6B28-4BB7-960A-24955214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9AB22-2033-4AE8-85D0-AC7DA5CB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F32F7-33E5-4FB2-9011-690C6077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864A2-7323-456B-9B1F-25C38FA1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5B61E-CA92-4C39-BB2D-EC0FC615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60FF4-FBC0-4B75-AEEC-3BFC0EA7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FD661-1122-4188-BE48-E6E78A51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D206A-8FB7-4E90-A231-0A66EBC8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8313D-9F8F-4F02-9472-120F7368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5A08F-DDB6-46DB-A8CA-43FBB30B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BF07D-027F-42A4-8403-11647186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E54-F69B-4FA6-8DBC-EB2BA13B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D771D-DF09-4DB1-A4B1-1FA0D94C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1EDB6-23DA-4F65-B432-7C4D5DAF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D974C-414E-4EAE-B462-9DA3B0AB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E6243-A1F2-4DB9-99BF-937851EC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94A47-BD7C-41DB-9273-43249120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73BCD-7B6E-4D7E-B392-07426A25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3F68E-8EF6-4F0C-B3F5-91AAC433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C5496-8340-4525-9EE7-16C6A9F6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D104C-DD4C-4242-8D32-5715F104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7FE94-BE6F-41C6-8AFA-733B809F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CBF9-4F37-41E5-AE4B-AABB1811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94575-87F1-461A-9439-E8217F1E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F1C6F-A303-47C3-92B5-035FEDEC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C432E-721A-4D2F-BCA7-047F1847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C9903-2913-43E5-9124-5701834C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8D147-4C33-4124-9A0F-33B7C6B4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F9709-5498-4C71-B101-53D838EA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A672D-D5DA-4975-A0E8-B21E40C4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E7E02-61E2-43DD-9193-D83FCC42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39259-8059-44AF-8A92-7C210208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48AC4-DCDE-4BFC-A66C-81C02F2D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337-B414-4A68-8744-CCFF7DC5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EB275-925B-4AFD-A2FE-F8FE0C99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3B1A1-342B-4F26-A089-A7E23822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4143A-4335-41AA-89B9-2F989526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5CD26-318A-4C28-9D78-22C2C63F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788DA-9307-4DCB-AA2F-06FC54A8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F0D04-D620-4787-A707-746FCF2E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164BD-F4F6-43B2-A4EA-D4E33102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CF833-0D94-4C6D-A30F-9D3BFF61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E5245-8926-447B-8D17-AE6CF437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A30B4-B044-4EB9-91FA-C4241639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2E08-9E5D-4436-943B-F18F225C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B3E7E-6D4C-40CB-A6EB-350CE8F5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19184-2385-4BA1-9A1F-53F808A7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C2575-26D4-414A-B010-769CB6A9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5E0B9-64BE-4876-B975-D9EA5057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D2D05-E737-4EA4-A462-DED84102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84FA7-3349-48CA-8725-40DF43B7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57ABA-13F3-46F8-A642-0883C33A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2C67E-05EC-48E3-8B98-35E95A86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F926A-768E-4565-9E80-90553269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6DCD0-D0AF-48FA-8A8B-AD9BB29C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DBE8-E60C-41EF-8AED-377E973B5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099D-FF16-4374-B906-6C5094047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1C2D-B88E-4471-976D-83AEEDF8C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6746-BC9A-4026-9F98-0D83F7E87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9BD5-B912-43BD-8805-DA84015B8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8840-3547-47EE-8DBF-218CBB223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5E2F-FE66-4BEC-877A-2411D550D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80A2-5D32-41FF-81C5-B87352E97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D6B4-B2EB-4979-A366-8C01A9005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0A37-4CF8-44D7-907B-FB4E2CEA9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16C6-2312-4F9E-8677-633806E17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464F-6BF9-4CEF-A827-513BC7B82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F050-B674-4920-BCE1-098AD1022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9F1A-5F82-455D-BDED-A4D1D96E8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B3B8-8AC9-48E0-A429-C7F961EF4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D3DC-177A-44BC-B3D7-2A69D344B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D5C9-C0BE-4813-B893-2F56C842A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30EA-BA22-49F7-85FD-40901A807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D7F2-57A5-4D42-83E7-885FF5F44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87FB-2F01-400E-A870-5C32D24E8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94E6-3D32-43A2-A7C7-A8A5A9DD8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DCCB-36B3-4FEE-BA23-23EA8C4BA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D88B-2BA3-4342-99A1-9AD1EF1E2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8C2E-6FD2-40C4-9C61-DA951DB6A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8920-C032-4E92-9D36-4C73882DC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C1DD-CAAD-4920-B2B9-67E62B27E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0560" y="1557000"/>
            <a:ext cx="8643960" cy="23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Arial"/>
              </a:rPr>
              <a:t>Проектная деятельность </a:t>
            </a:r>
            <a:br>
              <a:rPr sz="4000"/>
            </a:br>
            <a:r>
              <a:rPr b="1" lang="ru-RU" sz="4000" spc="-1" strike="noStrike">
                <a:solidFill>
                  <a:srgbClr val="996633"/>
                </a:solidFill>
                <a:latin typeface="Arial"/>
              </a:rPr>
              <a:t>и проектные задачи </a:t>
            </a:r>
            <a:br>
              <a:rPr sz="4000"/>
            </a:br>
            <a:r>
              <a:rPr b="1" lang="ru-RU" sz="4000" spc="-1" strike="noStrike">
                <a:solidFill>
                  <a:srgbClr val="996633"/>
                </a:solidFill>
                <a:latin typeface="Arial"/>
              </a:rPr>
              <a:t>в начальной школе.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539280" y="4730400"/>
            <a:ext cx="6458040" cy="21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Выполнила: 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00"/>
                </a:solidFill>
                <a:latin typeface="Arial"/>
              </a:rPr>
              <a:t>МОУ «СОШ № 28» п. Богород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Мозикова Ольг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5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1949400" cy="20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Picture 3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6715080" y="300024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285840" y="2854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рок с применением проектных задач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ёт реальную возможность организации взаимодействия (сотрудничества) детей между собой при решении зада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 способу проектирования через специально разработанные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ёт возможность посмотреть, как осуществляет группа детей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енос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вестных им предметных способов действий в модельную ситуа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10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0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30268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В ходе решения проектных задач у младших формируются универсальные учебные действия :</a:t>
            </a: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80" name="Picture 3" descr=""/>
          <p:cNvPicPr/>
          <p:nvPr/>
        </p:nvPicPr>
        <p:blipFill>
          <a:blip r:embed="rId1"/>
          <a:stretch/>
        </p:blipFill>
        <p:spPr>
          <a:xfrm>
            <a:off x="6300720" y="1197000"/>
            <a:ext cx="2157480" cy="2327400"/>
          </a:xfrm>
          <a:prstGeom prst="rect">
            <a:avLst/>
          </a:prstGeom>
          <a:ln w="0">
            <a:noFill/>
          </a:ln>
        </p:spPr>
      </p:pic>
      <p:sp>
        <p:nvSpPr>
          <p:cNvPr id="1081" name="Rectangle 4"/>
          <p:cNvSpPr/>
          <p:nvPr/>
        </p:nvSpPr>
        <p:spPr>
          <a:xfrm>
            <a:off x="826920" y="1413000"/>
            <a:ext cx="2737080" cy="576000"/>
          </a:xfrm>
          <a:prstGeom prst="rect">
            <a:avLst/>
          </a:prstGeom>
          <a:solidFill>
            <a:srgbClr val="996633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ff274"/>
                </a:solidFill>
                <a:latin typeface="Arial"/>
              </a:rPr>
              <a:t>Рефлексир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6"/>
          <p:cNvSpPr/>
          <p:nvPr/>
        </p:nvSpPr>
        <p:spPr>
          <a:xfrm>
            <a:off x="826920" y="2349360"/>
            <a:ext cx="2737080" cy="5763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ff274"/>
                </a:solidFill>
                <a:latin typeface="Arial"/>
              </a:rPr>
              <a:t>Целеполаг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7"/>
          <p:cNvSpPr/>
          <p:nvPr/>
        </p:nvSpPr>
        <p:spPr>
          <a:xfrm>
            <a:off x="826920" y="4508640"/>
            <a:ext cx="2664000" cy="5760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ff274"/>
                </a:solidFill>
                <a:latin typeface="Arial"/>
              </a:rPr>
              <a:t>Модел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10"/>
          <p:cNvSpPr/>
          <p:nvPr/>
        </p:nvSpPr>
        <p:spPr>
          <a:xfrm>
            <a:off x="1403280" y="5445000"/>
            <a:ext cx="3384720" cy="83664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ff274"/>
                </a:solidFill>
                <a:latin typeface="Arial"/>
              </a:rPr>
              <a:t>Проявлять инициатив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ff274"/>
                </a:solidFill>
                <a:latin typeface="Arial"/>
              </a:rPr>
              <a:t>при поиске способа (способов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ff274"/>
                </a:solidFill>
                <a:latin typeface="Arial"/>
              </a:rPr>
              <a:t>решения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"/>
          <p:cNvSpPr/>
          <p:nvPr/>
        </p:nvSpPr>
        <p:spPr>
          <a:xfrm flipH="1">
            <a:off x="3634920" y="3284640"/>
            <a:ext cx="2592360" cy="136836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"/>
          <p:cNvSpPr/>
          <p:nvPr/>
        </p:nvSpPr>
        <p:spPr>
          <a:xfrm flipH="1">
            <a:off x="3634920" y="3284640"/>
            <a:ext cx="2592360" cy="43164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4"/>
          <p:cNvSpPr/>
          <p:nvPr/>
        </p:nvSpPr>
        <p:spPr>
          <a:xfrm flipH="1" flipV="1">
            <a:off x="3634920" y="2636640"/>
            <a:ext cx="2521080" cy="64764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5"/>
          <p:cNvSpPr/>
          <p:nvPr/>
        </p:nvSpPr>
        <p:spPr>
          <a:xfrm flipH="1" flipV="1">
            <a:off x="3779640" y="1773360"/>
            <a:ext cx="2376360" cy="151128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6"/>
          <p:cNvSpPr/>
          <p:nvPr/>
        </p:nvSpPr>
        <p:spPr>
          <a:xfrm flipH="1">
            <a:off x="4427640" y="3284640"/>
            <a:ext cx="1800000" cy="17287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8"/>
          <p:cNvSpPr/>
          <p:nvPr/>
        </p:nvSpPr>
        <p:spPr>
          <a:xfrm>
            <a:off x="6227640" y="3284640"/>
            <a:ext cx="505080" cy="187308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Группа 19"/>
          <p:cNvGrpSpPr/>
          <p:nvPr/>
        </p:nvGrpSpPr>
        <p:grpSpPr>
          <a:xfrm>
            <a:off x="826920" y="3429000"/>
            <a:ext cx="2664000" cy="647640"/>
            <a:chOff x="826920" y="3429000"/>
            <a:chExt cx="2664000" cy="647640"/>
          </a:xfrm>
        </p:grpSpPr>
        <p:sp>
          <p:nvSpPr>
            <p:cNvPr id="1092" name="Rectangle 9"/>
            <p:cNvSpPr/>
            <p:nvPr/>
          </p:nvSpPr>
          <p:spPr>
            <a:xfrm>
              <a:off x="826920" y="3429000"/>
              <a:ext cx="2664000" cy="64764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ff274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25"/>
            <p:cNvSpPr/>
            <p:nvPr/>
          </p:nvSpPr>
          <p:spPr>
            <a:xfrm>
              <a:off x="1051560" y="348588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ff274"/>
                  </a:solidFill>
                  <a:latin typeface="Arial"/>
                </a:rPr>
                <a:t>Планир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Группа 20"/>
          <p:cNvGrpSpPr/>
          <p:nvPr/>
        </p:nvGrpSpPr>
        <p:grpSpPr>
          <a:xfrm>
            <a:off x="5435640" y="5445000"/>
            <a:ext cx="2906640" cy="720720"/>
            <a:chOff x="5435640" y="5445000"/>
            <a:chExt cx="2906640" cy="720720"/>
          </a:xfrm>
        </p:grpSpPr>
        <p:sp>
          <p:nvSpPr>
            <p:cNvPr id="1095" name="Rectangle 8"/>
            <p:cNvSpPr/>
            <p:nvPr/>
          </p:nvSpPr>
          <p:spPr>
            <a:xfrm>
              <a:off x="5435640" y="5445000"/>
              <a:ext cx="2665440" cy="72072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ff274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27"/>
            <p:cNvSpPr/>
            <p:nvPr/>
          </p:nvSpPr>
          <p:spPr>
            <a:xfrm>
              <a:off x="5435640" y="5445000"/>
              <a:ext cx="290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ff274"/>
                  </a:solidFill>
                  <a:latin typeface="Arial"/>
                </a:rPr>
                <a:t>       </a:t>
              </a:r>
              <a:r>
                <a:rPr b="1" lang="ru-RU" sz="1800" spc="-1" strike="noStrike">
                  <a:solidFill>
                    <a:srgbClr val="eff274"/>
                  </a:solidFill>
                  <a:latin typeface="Arial"/>
                </a:rPr>
                <a:t>Вступать 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eff274"/>
                  </a:solidFill>
                  <a:latin typeface="Arial"/>
                </a:rPr>
                <a:t>      </a:t>
              </a:r>
              <a:r>
                <a:rPr b="1" lang="ru-RU" sz="1800" spc="-1" strike="noStrike">
                  <a:solidFill>
                    <a:srgbClr val="eff274"/>
                  </a:solidFill>
                  <a:latin typeface="Arial"/>
                </a:rPr>
                <a:t>коммуникацию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/>
          </p:nvPr>
        </p:nvSpPr>
        <p:spPr>
          <a:xfrm>
            <a:off x="755640" y="620640"/>
            <a:ext cx="77040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проектных задач не только работает на перспективу, но и способствует более высокому уровню усвоения программ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Picture 2" descr="C:\Program Files\Microsoft Office\MEDIA\CAGCAT10\j0233018.wmf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348000" y="3357720"/>
            <a:ext cx="3071880" cy="27352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1c1c1c"/>
                </a:solidFill>
                <a:latin typeface="Arial"/>
              </a:rPr>
              <a:t>Урок -  исследование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оек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замысел, план, творчество по план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сследова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процесс выработки новых знаний, истинное творчест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1c1c1c"/>
                </a:solidFill>
                <a:latin typeface="Arial"/>
              </a:rPr>
              <a:t>Этапы исследования</a:t>
            </a:r>
            <a:br>
              <a:rPr sz="4400"/>
            </a:b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684360" y="1413000"/>
            <a:ext cx="7642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новка цели и конкретных задач ис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объекта и предмета ис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 метода (методики) ис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ание процесса исследования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суждение результатов исслед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ование выводов и оценка полученны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c1c1c"/>
                </a:solidFill>
                <a:latin typeface="Arial"/>
              </a:rPr>
              <a:t>Основные этапы проектной деятельности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тематического поля и темы проекта, поиск и анализ проблемы, постановка цели проекта, выбор названия про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ение запланированных технологических операций, внесение необходимых измер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ка и защита про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результатов выполнения проекта, оценка качества выполнения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61688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1c1c1c"/>
                </a:solidFill>
                <a:latin typeface="Arial"/>
              </a:rPr>
              <a:t>Урок – исследование </a:t>
            </a:r>
            <a:r>
              <a:rPr b="0" i="1" lang="ru-RU" sz="4000" spc="-1" strike="noStrike">
                <a:solidFill>
                  <a:srgbClr val="1c1c1c"/>
                </a:solidFill>
                <a:latin typeface="Arial"/>
              </a:rPr>
              <a:t>–</a:t>
            </a:r>
            <a:br>
              <a:rPr sz="4000"/>
            </a:br>
            <a:r>
              <a:rPr b="0" i="1" lang="ru-RU" sz="4000" spc="-1" strike="noStrike">
                <a:solidFill>
                  <a:srgbClr val="1c1c1c"/>
                </a:solidFill>
                <a:latin typeface="Arial"/>
              </a:rPr>
              <a:t> это совместный (учитель и ученик) процесс движения к истине!! 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2339640" y="3141720"/>
            <a:ext cx="59151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24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 u="sng">
                <a:solidFill>
                  <a:srgbClr val="333300"/>
                </a:solidFill>
                <a:uFillTx/>
                <a:latin typeface="Arial"/>
                <a:ea typeface="Arial"/>
              </a:rPr>
              <a:t>Ведущей ценностью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333300"/>
                </a:solidFill>
                <a:latin typeface="Arial"/>
                <a:ea typeface="Arial"/>
              </a:rPr>
              <a:t>  </a:t>
            </a:r>
            <a:r>
              <a:rPr b="1" i="1" lang="ru-RU" sz="3700" spc="-1" strike="noStrike">
                <a:solidFill>
                  <a:srgbClr val="333300"/>
                </a:solidFill>
                <a:latin typeface="Arial"/>
                <a:ea typeface="Arial"/>
              </a:rPr>
              <a:t>урока - исследования является ценность процесса движения к истине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5:47:16Z</dcterms:created>
  <dc:creator>Татьяна</dc:creator>
  <dc:description/>
  <dc:language>en-US</dc:language>
  <cp:lastModifiedBy>1</cp:lastModifiedBy>
  <dcterms:modified xsi:type="dcterms:W3CDTF">2012-01-19T13:10:19Z</dcterms:modified>
  <cp:revision>19</cp:revision>
  <dc:subject/>
  <dc:title>Проектная деятельность учащихся на уроке и во внеклассной работе </dc:title>
</cp:coreProperties>
</file>