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0.jpeg" ContentType="image/jpeg"/>
  <Override PartName="/ppt/media/image3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40.jpeg" ContentType="image/jpeg"/>
  <Override PartName="/ppt/media/image8.jpeg" ContentType="image/jpeg"/>
  <Override PartName="/ppt/media/image3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1.wmf" ContentType="image/x-wmf"/>
  <Override PartName="/ppt/media/image4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F4170-A0CF-4438-9D80-2FB7B5AC42E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727E01-F897-4AC2-A4C9-57508EF905B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D0FA-1458-4A4C-A901-9262E207F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FC01-43F9-4DAF-AA97-ADD6B08AF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34AD-C1E9-43F5-93F9-7F6AC14E6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C57E-1F38-44D3-A081-9C132C477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A864-E325-47F9-9A18-E5296EE6EB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ED28-AB2E-411E-952D-B1B63B3A5B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3023-370D-4FE4-8FAC-99FA4D9A5B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BA3A-A762-4BD5-BA1E-0F90558E09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DBD9-9009-414F-A0A6-01E9A1BAA1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E2E97-48FF-4F9C-B4E5-E6B1CCB52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E970-6AD2-4558-88FE-A298F6CC15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8012-C85A-48D0-A6E0-F639272E8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DBD3-7D0C-417D-8DA7-6380FB7886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5E44-5AB1-4B76-B7B4-2B567D8309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B95C-D06E-42D0-A169-0226C56DA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BD76-78E8-429E-9F9F-84FB589D37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28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1360" y="3947760"/>
            <a:ext cx="264924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972DB-B7EA-4E7E-BE51-6FE6F59DB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1121-57F9-423F-B6A0-15D6BA753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C756-E648-4574-9C51-5E6725579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7053-23BE-44AA-89C7-E91ECA416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44D6-28C5-4646-82A7-D455D68B7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B3F3-C6D0-4CCA-B839-C183C530E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3520" y="394776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A4BF-3924-4DBD-BD7E-65FD0171AD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7760"/>
            <a:ext cx="82281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F445-DBE6-49BE-8E34-9379FFB08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062760"/>
            <a:ext cx="2133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062760"/>
            <a:ext cx="2895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2720" y="6062400"/>
            <a:ext cx="21322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9477E4-2545-420D-BACF-8B667DD5D67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60000">
              <a:off x="3368160" y="4115880"/>
              <a:ext cx="4876920" cy="6098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EBA31F-98CF-4B5E-9536-4EE8D199125B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syznaiyka.net/view-fizio.html?id=vtoraja-signalnaja-sistema" TargetMode="External"/><Relationship Id="rId3" Type="http://schemas.openxmlformats.org/officeDocument/2006/relationships/hyperlink" Target="http://www.rusmysl.com/archiv/index.php-itemid=538&amp;catid=41.htm" TargetMode="External"/><Relationship Id="rId4" Type="http://schemas.openxmlformats.org/officeDocument/2006/relationships/hyperlink" Target="http://www.medbookaide.ru/books/fold1002/book1217/p2.php" TargetMode="External"/><Relationship Id="rId5" Type="http://schemas.openxmlformats.org/officeDocument/2006/relationships/hyperlink" Target="http://www.soulandbody.ru/correct.ht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-4672080"/>
            <a:ext cx="5715000" cy="66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b9efee"/>
                </a:solidFill>
                <a:latin typeface="Tahoma"/>
                <a:ea typeface="Tahoma"/>
              </a:rPr>
              <a:t> </a:t>
            </a:r>
            <a:r>
              <a:rPr b="0" lang="ru-RU" sz="4800" spc="-1" strike="noStrike">
                <a:solidFill>
                  <a:srgbClr val="b9efee"/>
                </a:solidFill>
                <a:latin typeface="Tahoma"/>
                <a:ea typeface="Tahoma"/>
              </a:rPr>
              <a:t>Родительский всеобуч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828800"/>
            <a:ext cx="73152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квернословие и его последствия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ahoma"/>
              </a:rPr>
              <a:t>Айтмухамбетова Р.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МКОУ «СОШ п.Восточный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-579600"/>
            <a:ext cx="8229600" cy="45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Arial"/>
                <a:ea typeface="Tahoma"/>
              </a:rPr>
              <a:t>Вопросы:</a:t>
            </a:r>
            <a:br>
              <a:rPr sz="4400"/>
            </a:br>
            <a:r>
              <a:rPr b="0" lang="ru-RU" sz="4400" spc="-1" strike="noStrike">
                <a:solidFill>
                  <a:srgbClr val="b9efee"/>
                </a:solidFill>
                <a:latin typeface="Arial"/>
                <a:ea typeface="Tahoma"/>
              </a:rPr>
              <a:t>3.</a:t>
            </a:r>
            <a:r>
              <a:rPr b="1" lang="ru-RU" sz="4400" spc="-1" strike="noStrike">
                <a:solidFill>
                  <a:srgbClr val="b9efee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Что ты испытываешь, когда используешь нецензурные слова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048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иду, злость раздражение – 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легчение  -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чего – … чел.(….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167616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46080"/>
            <a:ext cx="8229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4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Как часто твои друзья используют матерные слова при общении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32004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сто – … 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дко – 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когда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3352680"/>
            <a:ext cx="457200" cy="83844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838440"/>
              <a:gd name="textAreaBottom" fmla="*/ 8265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79880" y="3170160"/>
            <a:ext cx="3170520" cy="822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226120" y="4038480"/>
            <a:ext cx="307980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68400"/>
            <a:ext cx="82296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5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Используешь ли ты матерные слова дома, в общении с родными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 – … чел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Про себя»  - … 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2895480"/>
            <a:ext cx="609480" cy="99072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990720"/>
              <a:gd name="textAreaBottom" fmla="*/ 9748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54"/>
                  <a:pt x="10800" y="1108"/>
                </a:cubicBezTo>
                <a:lnTo>
                  <a:pt x="10800" y="9692"/>
                </a:lnTo>
                <a:cubicBezTo>
                  <a:pt x="10800" y="10246"/>
                  <a:pt x="16200" y="10800"/>
                  <a:pt x="21600" y="10800"/>
                </a:cubicBezTo>
                <a:cubicBezTo>
                  <a:pt x="16200" y="10800"/>
                  <a:pt x="10800" y="11354"/>
                  <a:pt x="10800" y="11908"/>
                </a:cubicBezTo>
                <a:lnTo>
                  <a:pt x="10800" y="20492"/>
                </a:lnTo>
                <a:cubicBezTo>
                  <a:pt x="10800" y="2104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68920" y="2944800"/>
            <a:ext cx="3170160" cy="816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943600" y="40384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-792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6. Используют ли твои родители матерные слова при общении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3623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 – …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огда  -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 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2362320"/>
            <a:ext cx="533160" cy="106668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1066680"/>
              <a:gd name="textAreaBottom" fmla="*/ 105300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237280" y="2505240"/>
            <a:ext cx="2863800" cy="73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486400" y="3733920"/>
            <a:ext cx="24382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144360"/>
            <a:ext cx="84582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7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Запрещают ли тебе родители использовать в речи нецензурные слов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124080"/>
            <a:ext cx="86104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ни не знают, что я ругаюсь – 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мной на эту тему не говорили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019920" y="2362320"/>
            <a:ext cx="2286000" cy="17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0880" y="6840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8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Трудно ли тебе обходиться без матерных слов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66688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-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чень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 – …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23176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0"/>
            <a:ext cx="335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цензурная брань является административным правонарушением, за которое предусмотрена ответственность по ст. 30.1 Кодекса об административных правонарушениях Российской Федерации, и квалифицируется как мелкое хулиганств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4848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2590920" y="1143000"/>
            <a:ext cx="2438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457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Язык человека не является чем-то случайным, это его выбор (сознательный или бессознательный), отражающий состояние души. И каков человек, таковы и его слова. Нельзя забывать, что слово – это уже совершенно конкретный поступок. Если человек циничен, то циничны его слова, поступки и вся жизн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10212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457200"/>
            <a:ext cx="4114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рождая отрицательн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моции, скверносло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жет стать причиной физических заболеван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457200"/>
            <a:ext cx="40384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вернословие – есть проявление нарушения здоровья, в частности, его нравственной, душевной составляюще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733920" cy="3165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105520" y="3740040"/>
            <a:ext cx="355896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упреждение заболеваний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523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 в себе высоких нравственных духовных качест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брот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Любв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ертвенности          Сострадан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зывчивости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рпимости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1706400" cy="1287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286000" y="5334120"/>
            <a:ext cx="167652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5029200" y="5257800"/>
            <a:ext cx="1828800" cy="1362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334120" y="3429000"/>
            <a:ext cx="998280" cy="1371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743200" y="3429000"/>
            <a:ext cx="914400" cy="1330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7238880" y="3124080"/>
            <a:ext cx="1704960" cy="1271880"/>
          </a:xfrm>
          <a:prstGeom prst="rect">
            <a:avLst/>
          </a:prstGeom>
          <a:ln w="0">
            <a:noFill/>
          </a:ln>
        </p:spPr>
      </p:pic>
      <p:cxnSp>
        <p:nvCxnSpPr>
          <p:cNvPr id="223" name=""/>
          <p:cNvCxnSpPr/>
          <p:nvPr/>
        </p:nvCxnSpPr>
        <p:spPr>
          <a:xfrm flipH="1">
            <a:off x="-838440" y="2287080"/>
            <a:ext cx="2743920" cy="3056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>
            <a:off x="3123360" y="1981080"/>
            <a:ext cx="762840" cy="6105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>
            <a:off x="4647960" y="2590560"/>
            <a:ext cx="686520" cy="6102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6" name=""/>
          <p:cNvCxnSpPr/>
          <p:nvPr/>
        </p:nvCxnSpPr>
        <p:spPr>
          <a:xfrm>
            <a:off x="4648320" y="2590920"/>
            <a:ext cx="2667240" cy="3052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 flipH="1">
            <a:off x="1524960" y="2592000"/>
            <a:ext cx="2362680" cy="7628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228" name=""/>
          <p:cNvCxnSpPr/>
          <p:nvPr/>
        </p:nvCxnSpPr>
        <p:spPr>
          <a:xfrm>
            <a:off x="2362320" y="2592000"/>
            <a:ext cx="2286720" cy="6102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Что такое здоровье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876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b9efee"/>
                </a:solidFill>
                <a:latin typeface="Garamond"/>
              </a:rPr>
              <a:t>В Уставе Всемирной организации здравоохранения записано: </a:t>
            </a:r>
            <a:r>
              <a:rPr b="1" lang="ru-RU" sz="3500" spc="-1" strike="noStrike">
                <a:solidFill>
                  <a:srgbClr val="b9efee"/>
                </a:solidFill>
                <a:latin typeface="Garamond"/>
              </a:rPr>
              <a:t>«здоровье – это состояние полного физического, душевного и социального благополучия, а не только отсутствие болезней и физических дефектов»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776600" cy="18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274680"/>
            <a:ext cx="83059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пользуемые источники информации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8229600" cy="56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Александер Ф. Психосоматическая медицина. Принципы и применение. – Институт Общегуманитарных исследований, 200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Е.П. Бомбардирова. Все о здоровье ребенк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Руководство для  родителей - Издательство Института психотерапии, М.,200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.П.Гаряев, А.А.Васильев, Березин А.А., 1991, Геном как голографический компьютер, ГИПОТЕЗА (независ.науч.ж.) N1, N1, 1991-1992 г . г .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Калабугин В., Волшебный лексикон homo sovieticus’a, отдельный оттиск,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., 200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аков С.А. Основы психосоматики. – СПб.: Речь,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psyznaiyka.net/view-fizio.html?id=vtoraja-signalnaja-siste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rusmysl.com/archiv/index.php-itemid=538&amp;catid=41.ht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40c887"/>
                </a:solidFill>
                <a:uFillTx/>
                <a:latin typeface="Garamond"/>
              </a:rPr>
              <a:t>http://ru.wikipedia.org/wiki/%D0%91%D0%9B%D0%A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medbookaide.ru/books/fold1002/book1217/p2.ph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ww.soulandbody.ru/correct.ht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акторы воздействия на организм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057400"/>
            <a:ext cx="822960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Внешние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 Внутренни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ехноген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гресс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евро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нтропоген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сихосоматиче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заболев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1447920"/>
            <a:ext cx="121896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131920" y="2514600"/>
            <a:ext cx="1146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436480" y="2514600"/>
            <a:ext cx="841320" cy="236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251460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265640" y="2514600"/>
            <a:ext cx="190800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941800" y="2514600"/>
            <a:ext cx="2314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190476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920" y="5410080"/>
            <a:ext cx="1714320" cy="1113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315200" y="1981080"/>
            <a:ext cx="995400" cy="148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86600" y="5486400"/>
            <a:ext cx="1643040" cy="115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1714680" cy="896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894040" y="1447920"/>
            <a:ext cx="9936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fill="hold">
                      <p:stCondLst>
                        <p:cond delay="0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48320" y="685800"/>
            <a:ext cx="449568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Слово имеет силу так действовать на состояние души, как состав лекарств действует на тело. Подобно тому, как разные лекарства изгоняют разные соки из тела, причем одни пресекают болезнь, а другие – жизнь, так и речи  - одни повергают слушателей в печаль, другие услаждают, третьи пугают, четвертые вселяют в них смелость, пятые же неким злым убеждением отравляют и обвораживают душу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Гор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85800" y="609480"/>
            <a:ext cx="3809880" cy="5486400"/>
            <a:chOff x="685800" y="609480"/>
            <a:chExt cx="3809880" cy="54864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685800" y="609480"/>
              <a:ext cx="38098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85800" y="609480"/>
              <a:ext cx="380988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48320" y="83808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 С языком, с человеческим словом, с речью безнаказанно шутить нельзя; словесная речь человека – это видимая, осязаемая связь, союзное звено между телом и духом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.И. Дал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200" y="609480"/>
            <a:ext cx="4267080" cy="5639040"/>
            <a:chOff x="457200" y="609480"/>
            <a:chExt cx="4267080" cy="56390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457200" y="609480"/>
              <a:ext cx="426708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57200" y="609480"/>
              <a:ext cx="426708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5029200" cy="74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во, являясь «универсальны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словным рефлексом», обладае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громадной материальной силой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дь оно вызывает те 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флекторные реакции, что 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ругие раздражители приро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57200"/>
            <a:ext cx="44956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0" y="304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Влияя на организм,  слово способно изменять его работ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95880" y="2265480"/>
            <a:ext cx="2057400" cy="42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ид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ресс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енетические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зменения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нижение иммунитета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Нервные расстрой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аркт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Язва желудк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кзема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33200" y="317520"/>
            <a:ext cx="2485800" cy="1146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429000" y="304920"/>
            <a:ext cx="1447920" cy="150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29400" y="2743200"/>
            <a:ext cx="1752480" cy="134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324480" y="457200"/>
            <a:ext cx="1828800" cy="13795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3505320" y="5181480"/>
            <a:ext cx="1600200" cy="1452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705720" y="4800600"/>
            <a:ext cx="1218960" cy="1779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685800" y="4876920"/>
            <a:ext cx="1236600" cy="1757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3581280" y="2819520"/>
            <a:ext cx="114300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533520" y="2819520"/>
            <a:ext cx="1371600" cy="1071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57400" y="762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6" name=""/>
          <p:cNvCxnSpPr/>
          <p:nvPr/>
        </p:nvCxnSpPr>
        <p:spPr>
          <a:xfrm>
            <a:off x="5028840" y="990720"/>
            <a:ext cx="1143720" cy="216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>
            <a:off x="6634080" y="1837800"/>
            <a:ext cx="603720" cy="25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H="1">
            <a:off x="3588480" y="1836360"/>
            <a:ext cx="1213560" cy="24390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69" name=""/>
          <p:cNvCxnSpPr/>
          <p:nvPr/>
        </p:nvCxnSpPr>
        <p:spPr>
          <a:xfrm flipH="1">
            <a:off x="1453680" y="1836360"/>
            <a:ext cx="527760" cy="52585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70" name=""/>
          <p:cNvCxnSpPr/>
          <p:nvPr/>
        </p:nvCxnSpPr>
        <p:spPr>
          <a:xfrm>
            <a:off x="7097760" y="4087800"/>
            <a:ext cx="410400" cy="3888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71" name=""/>
          <p:cNvCxnSpPr/>
          <p:nvPr/>
        </p:nvCxnSpPr>
        <p:spPr>
          <a:xfrm flipH="1">
            <a:off x="4010760" y="4086000"/>
            <a:ext cx="1096200" cy="240084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 flipH="1">
            <a:off x="1267920" y="4086360"/>
            <a:ext cx="791280" cy="54486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b9efee"/>
                </a:solidFill>
                <a:latin typeface="Tahoma"/>
                <a:ea typeface="Tahoma"/>
              </a:rPr>
              <a:t>Результаты анкетирования учащихся 5-х классо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600200"/>
            <a:ext cx="82296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Всего в анкетировании приняло участие  …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  <a:ea typeface="Tahoma"/>
              </a:rPr>
              <a:t>Вопросы анке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1.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опустимо ли в речи употребление нецензурной лексики(мата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а- …чел.(…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т-…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13372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-250920"/>
            <a:ext cx="82296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Вопросы:</a:t>
            </a:r>
            <a:br>
              <a:rPr sz="4000"/>
            </a:br>
            <a:r>
              <a:rPr b="0" lang="ru-RU" sz="4000" spc="-1" strike="noStrike">
                <a:solidFill>
                  <a:srgbClr val="b9efee"/>
                </a:solidFill>
                <a:latin typeface="Arial"/>
                <a:ea typeface="Tahoma"/>
              </a:rPr>
              <a:t>2. </a:t>
            </a:r>
            <a:r>
              <a:rPr b="0" lang="ru-RU" sz="4000" spc="-1" strike="noStrike">
                <a:solidFill>
                  <a:srgbClr val="b9efee"/>
                </a:solidFill>
                <a:latin typeface="Arial"/>
              </a:rPr>
              <a:t>Как часто ты используешь нецензурные слова  в своей речи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2767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асто- …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дко – …чел.(…%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икогда – … чел.(…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505320"/>
            <a:ext cx="457200" cy="8380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838080"/>
              <a:gd name="textAreaBottom" fmla="*/ 82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1"/>
                  <a:pt x="10800" y="982"/>
                </a:cubicBezTo>
                <a:lnTo>
                  <a:pt x="10800" y="9818"/>
                </a:lnTo>
                <a:cubicBezTo>
                  <a:pt x="10800" y="10309"/>
                  <a:pt x="16200" y="10800"/>
                  <a:pt x="21600" y="10800"/>
                </a:cubicBezTo>
                <a:cubicBezTo>
                  <a:pt x="16200" y="10800"/>
                  <a:pt x="10800" y="11291"/>
                  <a:pt x="10800" y="11782"/>
                </a:cubicBezTo>
                <a:lnTo>
                  <a:pt x="10800" y="20618"/>
                </a:lnTo>
                <a:cubicBezTo>
                  <a:pt x="10800" y="2110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40080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75320" y="3402000"/>
            <a:ext cx="3170160" cy="81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Ася</cp:lastModifiedBy>
  <dcterms:modified xsi:type="dcterms:W3CDTF">2006-04-17T10:22:03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