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0.jpeg" ContentType="image/jpeg"/>
  <Override PartName="/ppt/media/image3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40.jpeg" ContentType="image/jpeg"/>
  <Override PartName="/ppt/media/image8.jpeg" ContentType="image/jpeg"/>
  <Override PartName="/ppt/media/image3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1.wmf" ContentType="image/x-wmf"/>
  <Override PartName="/ppt/media/image4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9F436-956F-4737-A549-F46277D0789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BD0AA2-E073-499F-890B-9AC7C71F085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8775-4CF9-447B-AF2B-1FA07C71D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BAF4-DC1B-4E81-A934-78C60D966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5B02-B244-4122-B977-58F751C10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A117-D443-44B2-936A-B48DE2D75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F1DC-172C-4C9B-980F-A186E0B1EA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1213-049E-4CCF-A88D-92642C54B5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B395-4DE9-4FE9-89AA-502F043D6A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231A-E001-4196-83DC-B633CDA40F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A722C-CCEE-455A-9BEF-8CA37B6D21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29444-3847-4CF5-AA0E-EB43DAA0E9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18E5-D16D-464E-9CCD-CC9D576163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B75E-ABB4-44B5-A87B-2786D1C0E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6B87B-9C64-4EBC-A562-B8DAA86234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FD877-2B84-47BD-8C39-CB562F8F4A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97DA-6869-4FB0-9CAB-0B931DC95C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E022-6FE6-4323-9870-2C9590503B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AB9F-F204-4D95-90B7-0BBDA362A7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C1FA-44D4-4354-A264-20FFA031C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425E-7F92-4914-A7B4-1F59F131E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93FC-FF7E-4F50-B6F0-1D564E68E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ABB6-EEC9-4AA2-8479-60603380E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46D3-60D5-4D12-986D-BB7E24960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7F48-9EA7-4223-8B12-9E0F6308B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96CC-538F-494C-B63A-D6F8E4749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60000">
              <a:off x="33681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6062760"/>
            <a:ext cx="2133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"/>
          <p:cNvSpPr/>
          <p:nvPr/>
        </p:nvSpPr>
        <p:spPr>
          <a:xfrm>
            <a:off x="3124080" y="6062760"/>
            <a:ext cx="2895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ldNum" idx="1"/>
          </p:nvPr>
        </p:nvSpPr>
        <p:spPr>
          <a:xfrm>
            <a:off x="6552720" y="6062400"/>
            <a:ext cx="21322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0E18E5-7EB4-4841-951A-891A76FD345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60000">
              <a:off x="33681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F6A65B-68FA-4B94-ABBA-B233AE89F982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syznaiyka.net/view-fizio.html?id=vtoraja-signalnaja-sistema" TargetMode="External"/><Relationship Id="rId3" Type="http://schemas.openxmlformats.org/officeDocument/2006/relationships/hyperlink" Target="http://www.rusmysl.com/archiv/index.php-itemid=538&amp;catid=41.htm" TargetMode="External"/><Relationship Id="rId4" Type="http://schemas.openxmlformats.org/officeDocument/2006/relationships/hyperlink" Target="http://www.medbookaide.ru/books/fold1002/book1217/p2.php" TargetMode="External"/><Relationship Id="rId5" Type="http://schemas.openxmlformats.org/officeDocument/2006/relationships/hyperlink" Target="http://www.soulandbody.ru/correct.ht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43200" y="-4672080"/>
            <a:ext cx="5715000" cy="66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b9efee"/>
                </a:solidFill>
                <a:latin typeface="Tahoma"/>
                <a:ea typeface="Tahoma"/>
              </a:rPr>
              <a:t> </a:t>
            </a:r>
            <a:r>
              <a:rPr b="0" lang="ru-RU" sz="4800" spc="-1" strike="noStrike">
                <a:solidFill>
                  <a:srgbClr val="b9efee"/>
                </a:solidFill>
                <a:latin typeface="Tahoma"/>
                <a:ea typeface="Tahoma"/>
              </a:rPr>
              <a:t>Родительский всеобуч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828800"/>
            <a:ext cx="73152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квернословие и его последствия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Айтмухамбетова Р.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МКОУ «СОШ п.Восточный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200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-579600"/>
            <a:ext cx="822960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Arial"/>
                <a:ea typeface="Tahoma"/>
              </a:rPr>
              <a:t>Вопросы:</a:t>
            </a:r>
            <a:br>
              <a:rPr sz="4400"/>
            </a:br>
            <a:r>
              <a:rPr b="0" lang="ru-RU" sz="4400" spc="-1" strike="noStrike">
                <a:solidFill>
                  <a:srgbClr val="b9efee"/>
                </a:solidFill>
                <a:latin typeface="Arial"/>
                <a:ea typeface="Tahoma"/>
              </a:rPr>
              <a:t>3.</a:t>
            </a:r>
            <a:r>
              <a:rPr b="1" lang="ru-RU" sz="4400" spc="-1" strike="noStrike">
                <a:solidFill>
                  <a:srgbClr val="b9efee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b9efee"/>
                </a:solidFill>
                <a:latin typeface="Arial"/>
                <a:ea typeface="Tahoma"/>
              </a:rPr>
              <a:t>Что ты испытываешь, когда используешь нецензурные слова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3048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иду, злость раздражение – …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легчение  -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ичего – … чел.(….%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167616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46080"/>
            <a:ext cx="82296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Arial"/>
                <a:ea typeface="Tahoma"/>
              </a:rPr>
              <a:t>Вопросы:</a:t>
            </a: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Arial"/>
                <a:ea typeface="Tahoma"/>
              </a:rPr>
              <a:t>4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b9efee"/>
                </a:solidFill>
                <a:latin typeface="Arial"/>
              </a:rPr>
              <a:t>Как часто твои друзья используют матерные слова при общении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320040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асто – … чел.(…%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дко – …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икогда –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3352680"/>
            <a:ext cx="457200" cy="83844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838440"/>
              <a:gd name="textAreaBottom" fmla="*/ 82656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1"/>
                  <a:pt x="10800" y="982"/>
                </a:cubicBezTo>
                <a:lnTo>
                  <a:pt x="10800" y="9818"/>
                </a:lnTo>
                <a:cubicBezTo>
                  <a:pt x="10800" y="10309"/>
                  <a:pt x="16200" y="10800"/>
                  <a:pt x="21600" y="10800"/>
                </a:cubicBezTo>
                <a:cubicBezTo>
                  <a:pt x="16200" y="10800"/>
                  <a:pt x="10800" y="11291"/>
                  <a:pt x="10800" y="11782"/>
                </a:cubicBezTo>
                <a:lnTo>
                  <a:pt x="10800" y="20618"/>
                </a:lnTo>
                <a:cubicBezTo>
                  <a:pt x="10800" y="2110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979880" y="3170160"/>
            <a:ext cx="3170520" cy="822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226120" y="4038480"/>
            <a:ext cx="30798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8400"/>
            <a:ext cx="82296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Вопросы:</a:t>
            </a: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Arial"/>
              </a:rPr>
              <a:t>5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b9efee"/>
                </a:solidFill>
                <a:latin typeface="Arial"/>
              </a:rPr>
              <a:t>Используешь ли ты матерные слова дома, в общении с родными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а – … чел(…%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Про себя»  - … чел.(…%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т –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2895480"/>
            <a:ext cx="609480" cy="990720"/>
          </a:xfrm>
          <a:custGeom>
            <a:avLst/>
            <a:gdLst>
              <a:gd name="textAreaLeft" fmla="*/ 0 w 609480"/>
              <a:gd name="textAreaRight" fmla="*/ 219960 w 609480"/>
              <a:gd name="textAreaTop" fmla="*/ 15840 h 990720"/>
              <a:gd name="textAreaBottom" fmla="*/ 9748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54"/>
                  <a:pt x="10800" y="1108"/>
                </a:cubicBezTo>
                <a:lnTo>
                  <a:pt x="10800" y="9692"/>
                </a:lnTo>
                <a:cubicBezTo>
                  <a:pt x="10800" y="10246"/>
                  <a:pt x="16200" y="10800"/>
                  <a:pt x="21600" y="10800"/>
                </a:cubicBezTo>
                <a:cubicBezTo>
                  <a:pt x="16200" y="10800"/>
                  <a:pt x="10800" y="11354"/>
                  <a:pt x="10800" y="11908"/>
                </a:cubicBezTo>
                <a:lnTo>
                  <a:pt x="10800" y="20492"/>
                </a:lnTo>
                <a:cubicBezTo>
                  <a:pt x="10800" y="2104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668920" y="2944800"/>
            <a:ext cx="3170160" cy="816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943600" y="403848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0880" y="-792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Вопросы:</a:t>
            </a: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Arial"/>
              </a:rPr>
              <a:t>6. Используют ли твои родители матерные слова при общении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23623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а – …чел.(…%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огда  -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т – … чел.(…%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2362320"/>
            <a:ext cx="533160" cy="106668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1066680"/>
              <a:gd name="textAreaBottom" fmla="*/ 10530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237280" y="2505240"/>
            <a:ext cx="2863800" cy="73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486400" y="3733920"/>
            <a:ext cx="24382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144360"/>
            <a:ext cx="84582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Вопросы:</a:t>
            </a: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Arial"/>
              </a:rPr>
              <a:t>7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b9efee"/>
                </a:solidFill>
                <a:latin typeface="Arial"/>
              </a:rPr>
              <a:t>Запрещают ли тебе родители использовать в речи нецензурные слова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3124080"/>
            <a:ext cx="86104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а –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т –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ни не знают, что я ругаюсь – …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 мной на эту тему не говорили –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019920" y="2362320"/>
            <a:ext cx="2286000" cy="17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0880" y="6840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Вопросы:</a:t>
            </a: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Arial"/>
              </a:rPr>
              <a:t>8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b9efee"/>
                </a:solidFill>
                <a:latin typeface="Arial"/>
                <a:ea typeface="Tahoma"/>
              </a:rPr>
              <a:t>Трудно ли тебе обходиться без матерных слов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66688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а-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очень –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т – …чел.(…%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2317680" cy="18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0"/>
            <a:ext cx="33526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цензурная брань является административным правонарушением, за которое предусмотрена ответственность по ст. 30.1 Кодекса об административных правонарушениях Российской Федерации, и квалифицируется как мелкое хулиганств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4848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590920" y="1143000"/>
            <a:ext cx="24382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0880" y="457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зык человека не является чем-то случайным, это его выбор (сознательный или бессознательный), отражающий состояние души. И каков человек, таковы и его слова. Нельзя забывать, что слово – это уже совершенно конкретный поступок. Если человек циничен, то циничны его слова, поступки и вся жизн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81480" y="4191120"/>
            <a:ext cx="310212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457200"/>
            <a:ext cx="4114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рождая отрицательны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моции, сквернослов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жет стать причиной физических заболеван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457200"/>
            <a:ext cx="40384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квернословие – есть проявление нарушения здоровья, в частности, его нравственной, душевной составляюще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733920" cy="3165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105520" y="3740040"/>
            <a:ext cx="355896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едупреждение заболеваний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523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ие в себе высоких нравственных духовных качест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брот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Любв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Жертвенности          Сострадан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зывчивости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ерпимости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28600" y="3124080"/>
            <a:ext cx="1706400" cy="1287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286000" y="5334120"/>
            <a:ext cx="1676520" cy="1231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029200" y="5257800"/>
            <a:ext cx="1828800" cy="13622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5334120" y="3429000"/>
            <a:ext cx="998280" cy="1371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2743200" y="3429000"/>
            <a:ext cx="914400" cy="1330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7238880" y="3124080"/>
            <a:ext cx="1704960" cy="1271880"/>
          </a:xfrm>
          <a:prstGeom prst="rect">
            <a:avLst/>
          </a:prstGeom>
          <a:ln w="0">
            <a:noFill/>
          </a:ln>
        </p:spPr>
      </p:pic>
      <p:cxnSp>
        <p:nvCxnSpPr>
          <p:cNvPr id="223" name=""/>
          <p:cNvCxnSpPr/>
          <p:nvPr/>
        </p:nvCxnSpPr>
        <p:spPr>
          <a:xfrm flipH="1">
            <a:off x="-838440" y="2287080"/>
            <a:ext cx="2743920" cy="30564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224" name=""/>
          <p:cNvCxnSpPr/>
          <p:nvPr/>
        </p:nvCxnSpPr>
        <p:spPr>
          <a:xfrm flipH="1">
            <a:off x="3123360" y="1981080"/>
            <a:ext cx="762840" cy="61056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225" name=""/>
          <p:cNvCxnSpPr/>
          <p:nvPr/>
        </p:nvCxnSpPr>
        <p:spPr>
          <a:xfrm>
            <a:off x="4647960" y="2590560"/>
            <a:ext cx="686520" cy="6102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>
            <a:off x="4648320" y="2590920"/>
            <a:ext cx="2667240" cy="30528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227" name=""/>
          <p:cNvCxnSpPr/>
          <p:nvPr/>
        </p:nvCxnSpPr>
        <p:spPr>
          <a:xfrm flipH="1">
            <a:off x="1524960" y="2592000"/>
            <a:ext cx="2362680" cy="76284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228" name=""/>
          <p:cNvCxnSpPr/>
          <p:nvPr/>
        </p:nvCxnSpPr>
        <p:spPr>
          <a:xfrm>
            <a:off x="2362320" y="2592000"/>
            <a:ext cx="2286720" cy="6102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Что такое здоровье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b9efee"/>
                </a:solidFill>
                <a:latin typeface="Garamond"/>
              </a:rPr>
              <a:t>В Уставе Всемирной организации здравоохранения записано: </a:t>
            </a:r>
            <a:r>
              <a:rPr b="1" lang="ru-RU" sz="3500" spc="-1" strike="noStrike">
                <a:solidFill>
                  <a:srgbClr val="b9efee"/>
                </a:solidFill>
                <a:latin typeface="Garamond"/>
              </a:rPr>
              <a:t>«здоровье – это состояние полного физического, душевного и социального благополучия, а не только отсутствие болезней и физических дефектов»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8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53080" y="4800600"/>
            <a:ext cx="177660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0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0880" y="274680"/>
            <a:ext cx="83059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спользуемые источники информации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600200"/>
            <a:ext cx="8229600" cy="56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Александер Ф. Психосоматическая медицина. Принципы и применение. – Институт Общегуманитарных исследований, 200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Е.П. Бомбардирова. Все о здоровье ребенк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Руководство для  родителей - Издательство Института психотерапии, М.,200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.П.Гаряев, А.А.Васильев, Березин А.А., 1991, Геном как голографический компьютер, ГИПОТЕЗА (независ.науч.ж.) N1, N1, 1991-1992 г . г .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Калабугин В., Волшебный лексикон homo sovieticus’a, отдельный оттиск,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., 200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улаков С.А. Основы психосоматики. – СПб.: Речь, 200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www.psyznaiyka.net/view-fizio.html?id=vtoraja-signalnaja-sistem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www.rusmysl.com/archiv/index.php-itemid=538&amp;catid=41.ht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 u="sng">
                <a:solidFill>
                  <a:srgbClr val="40c887"/>
                </a:solidFill>
                <a:uFillTx/>
                <a:latin typeface="Garamond"/>
              </a:rPr>
              <a:t>http://ru.wikipedia.org/wiki/%D0%91%D0%9B%D0%A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medbookaide.ru/books/fold1002/book1217/p2.ph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www.soulandbody.ru/correct.ht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Факторы воздействия на организм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057400"/>
            <a:ext cx="822960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1" lang="ru-RU" sz="2800" spc="-1" strike="noStrike">
                <a:solidFill>
                  <a:srgbClr val="33cccc"/>
                </a:solidFill>
                <a:latin typeface="Garamond"/>
              </a:rPr>
              <a:t>Внешние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ru-RU" sz="2800" spc="-1" strike="noStrike">
                <a:solidFill>
                  <a:srgbClr val="33cccc"/>
                </a:solidFill>
                <a:latin typeface="Garamond"/>
              </a:rPr>
              <a:t> Внутренни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ехноген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гресс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вро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нтропоген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сихосоматиче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боле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1447920"/>
            <a:ext cx="121896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131920" y="2514600"/>
            <a:ext cx="11462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436480" y="2514600"/>
            <a:ext cx="8413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2514600"/>
            <a:ext cx="8380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265640" y="2514600"/>
            <a:ext cx="190800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941800" y="2514600"/>
            <a:ext cx="2314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1904760" cy="1066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4920" y="5410080"/>
            <a:ext cx="1714320" cy="1113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315200" y="1981080"/>
            <a:ext cx="995400" cy="1482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86600" y="5486400"/>
            <a:ext cx="1643040" cy="1154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6553080" y="4114800"/>
            <a:ext cx="1714680" cy="896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2894040" y="1447920"/>
            <a:ext cx="9936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0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48320" y="685800"/>
            <a:ext cx="449568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Слово имеет силу так действовать на состояние души, как состав лекарств действует на тело. Подобно тому, как разные лекарства изгоняют разные соки из тела, причем одни пресекают болезнь, а другие – жизнь, так и речи  - одни повергают слушателей в печаль, другие услаждают, третьи пугают, четвертые вселяют в них смелость, пятые же неким злым убеждением отравляют и обвораживают душу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Горг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5800" y="609480"/>
            <a:ext cx="3809880" cy="5486400"/>
            <a:chOff x="685800" y="609480"/>
            <a:chExt cx="3809880" cy="548640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685800" y="609480"/>
              <a:ext cx="38098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85800" y="609480"/>
              <a:ext cx="38098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48320" y="838080"/>
            <a:ext cx="403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 С языком, с человеческим словом, с речью безнаказанно шутить нельзя; словесная речь человека – это видимая, осязаемая связь, союзное звено между телом и духом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.И. Дал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7200" y="609480"/>
            <a:ext cx="4267080" cy="5639040"/>
            <a:chOff x="457200" y="609480"/>
            <a:chExt cx="4267080" cy="563904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457200" y="609480"/>
              <a:ext cx="426708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57200" y="609480"/>
              <a:ext cx="426708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5029200" cy="74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ово, являясь «универсальны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словным рефлексом», облада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громадной материальной силой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дь оно вызывает те ж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флекторные реакции, что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ругие раздражители природ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457200"/>
            <a:ext cx="44956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4038480" cy="2971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0" y="3049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Влияя на организм,  слово способно изменять его работ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095880" y="2265480"/>
            <a:ext cx="2057400" cy="42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ида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ресс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Генетические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зменения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нижение иммунитета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Нервные расстрой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фаркт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Язва желудка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кзема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133200" y="317520"/>
            <a:ext cx="2485800" cy="1146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429000" y="304920"/>
            <a:ext cx="1447920" cy="1504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629400" y="2743200"/>
            <a:ext cx="1752480" cy="134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324480" y="457200"/>
            <a:ext cx="1828800" cy="1379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3505320" y="5181480"/>
            <a:ext cx="1600200" cy="1452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705720" y="4800600"/>
            <a:ext cx="1218960" cy="1779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685800" y="4876920"/>
            <a:ext cx="1236600" cy="1757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3581280" y="2819520"/>
            <a:ext cx="1143000" cy="1600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533520" y="2819520"/>
            <a:ext cx="1371600" cy="1071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57400" y="7621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66" name=""/>
          <p:cNvCxnSpPr/>
          <p:nvPr/>
        </p:nvCxnSpPr>
        <p:spPr>
          <a:xfrm>
            <a:off x="5028840" y="990720"/>
            <a:ext cx="1143720" cy="216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H="1">
            <a:off x="6634080" y="1837800"/>
            <a:ext cx="603720" cy="25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H="1">
            <a:off x="3588480" y="1836360"/>
            <a:ext cx="1213560" cy="24390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169" name=""/>
          <p:cNvCxnSpPr/>
          <p:nvPr/>
        </p:nvCxnSpPr>
        <p:spPr>
          <a:xfrm flipH="1">
            <a:off x="1453680" y="1836360"/>
            <a:ext cx="527760" cy="52585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170" name=""/>
          <p:cNvCxnSpPr/>
          <p:nvPr/>
        </p:nvCxnSpPr>
        <p:spPr>
          <a:xfrm>
            <a:off x="7097760" y="4087800"/>
            <a:ext cx="410400" cy="3888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171" name=""/>
          <p:cNvCxnSpPr/>
          <p:nvPr/>
        </p:nvCxnSpPr>
        <p:spPr>
          <a:xfrm flipH="1">
            <a:off x="4010760" y="4086000"/>
            <a:ext cx="1096200" cy="240084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172" name=""/>
          <p:cNvCxnSpPr/>
          <p:nvPr/>
        </p:nvCxnSpPr>
        <p:spPr>
          <a:xfrm flipH="1">
            <a:off x="1267920" y="4086360"/>
            <a:ext cx="791280" cy="54486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b9efee"/>
                </a:solidFill>
                <a:latin typeface="Tahoma"/>
                <a:ea typeface="Tahoma"/>
              </a:rPr>
              <a:t>Результаты анкетирования учащихся 5-х классо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600200"/>
            <a:ext cx="82296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Всего в анкетировании приняло участие  …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Вопросы анкет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опустимо ли в речи употребление нецензурной лексики(мата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а- …чел.(…%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т-…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324480" y="4572000"/>
            <a:ext cx="213372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-250920"/>
            <a:ext cx="822960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Arial"/>
                <a:ea typeface="Tahoma"/>
              </a:rPr>
              <a:t>Вопросы:</a:t>
            </a: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Arial"/>
                <a:ea typeface="Tahoma"/>
              </a:rPr>
              <a:t>2. </a:t>
            </a:r>
            <a:r>
              <a:rPr b="0" lang="ru-RU" sz="4000" spc="-1" strike="noStrike">
                <a:solidFill>
                  <a:srgbClr val="b9efee"/>
                </a:solidFill>
                <a:latin typeface="Arial"/>
              </a:rPr>
              <a:t>Как часто ты используешь нецензурные слова  в своей речи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2767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асто- …чел.(…%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дко – …чел.(…%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икогда –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3505320"/>
            <a:ext cx="457200" cy="83808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838080"/>
              <a:gd name="textAreaBottom" fmla="*/ 8262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1"/>
                  <a:pt x="10800" y="982"/>
                </a:cubicBezTo>
                <a:lnTo>
                  <a:pt x="10800" y="9818"/>
                </a:lnTo>
                <a:cubicBezTo>
                  <a:pt x="10800" y="10309"/>
                  <a:pt x="16200" y="10800"/>
                  <a:pt x="21600" y="10800"/>
                </a:cubicBezTo>
                <a:cubicBezTo>
                  <a:pt x="16200" y="10800"/>
                  <a:pt x="10800" y="11291"/>
                  <a:pt x="10800" y="11782"/>
                </a:cubicBezTo>
                <a:lnTo>
                  <a:pt x="10800" y="20618"/>
                </a:lnTo>
                <a:cubicBezTo>
                  <a:pt x="10800" y="2110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400800" y="441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675320" y="3402000"/>
            <a:ext cx="3170160" cy="816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Ася</cp:lastModifiedBy>
  <dcterms:modified xsi:type="dcterms:W3CDTF">2006-04-17T10:22:03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