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87B-89F5-4CAB-A76D-9F47E26F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77D-332C-48E5-ADD5-34495A51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656-6FF7-4FE8-BFA7-4708D33D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C85D-080B-433A-B25B-98A971B1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9AF5-8AA3-4BBE-BB71-EEAAEC3F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34EA-427A-4591-BCE6-684A2DA6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D753-7AF9-42D0-A076-1B90B6D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C815-B279-4290-874F-6A71D3DF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6BC8-BDDF-4CCE-BEC9-342289E8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F639-03D0-443E-81C4-89910F0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98A8-41F5-41E3-BD06-0EF50B4E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D1A-C802-4E83-88F5-D8FA351E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83A9-94EB-4680-8F1A-49714D2B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E91-7F16-41D0-8580-D42DB05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D267-2874-4205-8BD5-460CF44D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5803-BBC1-479B-AFE7-A9C8B826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8BE8-3631-4FF7-937B-D47A070F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A6F-0379-494C-B526-25F7C681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E38-9DC1-4468-B7E3-D0E3F7F1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9B2-1A5B-4D96-9801-C8594947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8D9-A151-4F95-A9D1-BC1A0718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632-E8CB-4C9A-98A1-1091EF3E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B5C-AB5A-47EF-A057-BA6B32D8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DE9-C7A7-44FD-AF45-334A241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FEAD-376A-4208-9119-5BFA842619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7A6C-22E4-42A8-810D-C07B44108DE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1511280"/>
            <a:ext cx="6440400" cy="30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ff"/>
                </a:solidFill>
                <a:latin typeface="Comic Sans MS"/>
              </a:rPr>
              <a:t>Ярмарка идей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10920" y="4051080"/>
            <a:ext cx="7705800" cy="23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сширенное заседание научно- методического совета Павлово- Посадской школы- интернат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Ловецкая Наталья Олег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19280" y="1341360"/>
            <a:ext cx="3267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огопед школы-интерна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талья Олеговна создала необходимую для логопедической работы игротеку. В неё входят различного вида лото (звуки-буквы, безударные гласные, звонкая и глухая)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оме этого на выставке она представила следующие игры: «Отгадай загадку», «Горка», «Заполни по цвету», «Домино» и други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897440" cy="36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-17136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лухова Татьяна Юрь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3804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–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дагог-психолог школы-интерна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оей работе Татьяна Юрьевна давно практикует игры. Все игры направлены на формирование определённых качеств: памяти, внимания, речи, мышления, силы, гибкости, быстроты восприятия, личностных качеств. Игры систематизированы, часть их изготовлена своими рука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Были представлены игры «Чудесный мешочек», «Линия службы», «Логический поезд», «Пексессо-мифы» и друг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496764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-17136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фимцева Наталья Никола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324036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-психолог, учитель географ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тальей  Николаевной была представлена система оздоровительных игр.           На выставке были и комбинаторные игры. Это «Стержень», «Таблицы Шульте» (для развития внимания), «Типы памяти» (для развития памяти), «Парочки», «Назови профессию», «Кто где живёт?» и другие игры. Как учитель географии, Наталья Николаевна использует следующие игры: «Найди координаты», «Компас», «Кто где живёт?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алинина Валентина Дмитриев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380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 в 5 класс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выставке игровых пособий «Ярмарка идей» она представила игру «Поле чудес» и рассказала о том, что её можно использовать при прохождении разных тем на уроках русского языка и литературы, меняя только задания в конверти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лентина Дмитриевна показала игры «Азбука», «Собери стихотворение», «Правописани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112000" cy="381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гольцова Римма Никола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03640" y="1125360"/>
            <a:ext cx="345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истории школы – интернат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а рассказала участникам «Ярмарки идей»  об играх, используемых на уроках истории. Это такие как «Эпоха героев», «Оживи карту», «Петровская мозаика», «Логические цепочки», «Отгадай страну» и другие игр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воей работе Римма Николаевна  широко использует кроссворды, тесты, головоломки, связанные с различными эпохами истор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тетрадях ученики делают зарисовки оружия, орудий труда, изделия ремёсел и друг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556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узнецова Татьяна Гаврилов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34656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учитель физики. На своих уроках применяет три категории игр: компьютерные игры по физике, ролевые игры и дидактические игры. Ролевые игры Татьяна Гавриловна применяет при объяснении нового учебного материала и его закреплении. Например, при объяснении строения молекулы воды в газообразном, жидком и твёрдом состоя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5256360" cy="431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упцова Наталья Никола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769608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школы-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своих уроках учитель развивает внимание и память учащихся, вызывает интерес к предмету такими играми как «Домашние животные» (игра с мячом), «Биологический конструктор», «Узнай меня». Наталья Николаевна использует на уроках кроссворды для повторения и закрепления пройденного матери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4753080" cy="36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телева Светлана Григорье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03280" y="1341360"/>
            <a:ext cx="324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английского языка школы-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воей работе она постоянно использует игровой материал. При изучении английского алфавита ей помогают такие игры как «Весёлый алфавит», «Весёлые слова», «От слова к слову», «Найди букву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«Ярмарке идей» также были представлены следующие игры: «Путанка», «Многцветник», «Расшифруй фразу»                       .Светлана Григорьевна использует кроссворды .на разных этапах урок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68144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ишина Марина Борис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745080" cy="4969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09800" y="1557360"/>
            <a:ext cx="3771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воей работе Марина Борисовна большое внимание уделяет развитию речи детей и орфографической зоркости учащихс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«Ярмарку идей» она представила следующие игры: «Собери слово», «Лото», «Правописание», «Прочти выражение», «Составь сказку», «Продолжи пословицу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870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летнёва Юлия Александровна </a:t>
            </a:r>
            <a:br>
              <a:rPr sz="28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5148360" cy="38894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89040" y="1052280"/>
            <a:ext cx="3343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–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обслуживающего труда школы – 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я специфику работы с детьми ЗПР нашей школы, Юлия Александровна разработала модифицированную программу обучения девочек  труду. Эта программа содержит ряд игр, игровых техник, игровых приёмов, которые помогают в дальнейшем социальной адаптации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познакомила всех участников «Ярмарки идей» со следующими играми: «Модельер», «Кулинарное лото», «Словодел», «Миллионер»,«Поле чудес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1916280"/>
            <a:ext cx="7056720" cy="244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Тема: Выставка наглядных игровых пособий , дидактического игрового материала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32000" y="4868640"/>
            <a:ext cx="6480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ль: Комплектование опытными образцами игровой среды воспитанников школы- интерна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рёмина Светлана Александ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14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а выступила на «Ярмарке идей» и рассказала о работе с «Тестами», «Кроссвордами», «Занимательными заданиями». Они развивают память, речь, вызывают интерес к предмет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ветлана Александровна практикует просмотр дисков с фильмам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своих уроках русского языка использует дидактические альбом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лучшего усвоения нового учебного материала и закрепления уже изученного учитель использует такие игры, как «Волшебная доска», «Лото синонимов и антонимов», «Усиление орфограммы», «Игра с мячом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337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моторова Инна Викто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8065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математики. На выставку Инна Викторовна представила игры, которые помогают учащимся развивать память и внимание. Это игры «Молчанка», «Не собьюсь». А в игре «Кодекс житейской мудрости», если решение оказывается правильным, можно собрать мудрое высказывание и объяснить её смыс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«Ярмарке идей» Инна Викторовна показала игры и рассказала о них. Это «Ход конём», «Лото», «Домино», «Парочк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68000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Шальнова Ольга Михайл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529080" cy="4608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16360" y="1125000"/>
            <a:ext cx="3665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атемат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жно отметить, что много игр она применяет при повторении и закреплении учебного материал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т как называются эти игры. «Круговые примеры», «Прочитай пословицу» (расшифровка примера по Коду), «Круговые тренажёры», «Координатная плоскость», «Домино», «Продолжи построение фигуры», «Лото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воей работе Ольга Михайловна всегда использует «Сигнальные карточки» (обратную связь). При помощи карточек-сорбонок учитель работает над автоматизацией вычислительных навыков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ришин Виктор Николаевич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4626000"/>
            <a:ext cx="7983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технического труда школы-интернат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ключение игр, игровых моментов в урок пробуждают интерес учащихся не только к уроку, но и друг к другу. В процессе игры выстраиваются деловые отношения учитель – ученик. На «Ярмарке идей» Виктор Николаевич рассказал о таком виде игр как тематический кроссворд. Это кроссворды «Слесарное дело», «Профессии, которые мы выбираем», «Столярное дело» и друг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24360" cy="345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ладких Алексей Андрееви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3384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Рассказал о том, что подвижные игры применяет на каждом урок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гры систематизированы по классам и по темам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ждая из них выполняет свою функцию и имеет свои цели и задач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4248000" cy="5543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6912000" cy="172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Игры, игровые приёмы, игровые техники, которые применяют педагоги школы-интерната, активно воздействуют на  эмоциональную сферу учащихся, на их познавательную деятельность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920" y="3068280"/>
            <a:ext cx="7058160" cy="2521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В своём выступлении каждый из участников «Ярмарки идей» доказал, что все эти игры, и приобретённые, и сделанные своими руками,  занимают достойное место на уроках и на внеклассных занятиях и помогают учащимся усваивать учебный материа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870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хачёва Галина Анатольевна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седатель научно-методического совета школы-интерна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им из эффективных методов и приёмов, активно воздействующих на познавательную деятельность учащихся, на их эмоциональную сферу, является иг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пользование игры на уроках в классах с учащимися с ОВЗ помогает снять ряд трудностей, вести изучение и закрепление материала на уровне эмоционального осознания, что способствует в дальнейшем формированию познавательного интереса к предме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313080" cy="432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манева Вера Василь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3635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учитель начальных класс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а рассказала о таких играх как «Солнышко с  лучами»,  « Домино», « Волшебный телефон», «Круговые примеры», «Засели домики», «Угадай сказку» и другие игры, которые Вера Васильевна использует на уроках русского языка, математики, литературного чтени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читель на своих уроках применяет различные кроссворды, ребусы, пословицы и поговор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ьзование  разнообразных игр помогает ей добиваться хороших результатов в обучении и воспитании учащих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5040360" cy="387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6870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хачёва Галина Анатольевна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00360" y="1197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учитель начальных классов, рассказала об игровой технологии обучения грамоте в первом классе по системе Зайцева, где используется книжка «Складушки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игровой форме, путешествуя в каждый складовой домик (он посвящён каждой букве алфавита), дети быстро, без напряжения усваивают чтение по слога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алина Анатольевна представила следующие игры: «ЭВМ», «Расшифруй», «Восстанови электрическую цепочку», «Математическое лото», «Математическое домино», «Шифровальщик», «Приглашении», «Волшебный мешочек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8706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идорова Татьяна Николаевн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3530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учитель начальных классов школы-интерната. На заседании «Ярмарки идей» она поделилась с коллегами тем, как применяет игры, игровые пособия на своих уро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ыставку Татьяна Николаевна представила следующие игры: «Учимся читать», «В мире звуков», «Молчанка», «Победи динозавра», «Математическое лото», «Весёлый счёт», «Собери урожай», «Цветик – семицветик», «Занимательные задачи», «Учимся читать», «Составь пословицы», «Маленькие слова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95640" y="1989000"/>
            <a:ext cx="4753080" cy="36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харовская Альбина Монан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429264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опед школы интерната. Ею создана специальная игротека, в которую входят игры по разным направлениям. Каждая из этих игр выполняет свою логопедическую функ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занимаются у Альбины Монановны, знают очень много скороговорок, пословиц, поговорок. Они быстро вводят в речь буквы, которые до занятий плохо выговаривал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32108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ианова Альбина Владими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4465800" cy="3384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5640" y="4508640"/>
            <a:ext cx="7264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читель начальных клас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ставку «Ярмарки идей» учитель предоставила следующие игры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Шнуровка» (для развития мелкой моторики рук), «Домино», «Математическое лото», «Геометрическое лото», «Занимательные квадраты», «Обучающие пазлы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ванова Елена Юрье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59280" y="184464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учитель начальных класс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на рассказала о применении игр на всех урок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выставке Елена Юрьевна  представила такие игры, как «Вертушка», «Составь слово», «Заполни квадрат» (на различные орфограммы). «Арифметический лабиринт», «Лото», «Домино», «Магический квадрат» - игры по математик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752720" cy="351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2:15Z</dcterms:created>
  <dc:creator>user</dc:creator>
  <dc:description/>
  <dc:language>en-US</dc:language>
  <cp:lastModifiedBy>Танюша</cp:lastModifiedBy>
  <dcterms:modified xsi:type="dcterms:W3CDTF">2012-06-08T10:51:24Z</dcterms:modified>
  <cp:revision>20</cp:revision>
  <dc:subject/>
  <dc:title> Расширенное заседание научно- методического совета Павлово- Посадской школы- интерната от 16 декабря 2008 года </dc:title>
</cp:coreProperties>
</file>