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E7DAA-1535-4A62-ADDF-9FDC68C10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41E46-F21A-4F01-953D-BDDAA48D5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BB49C-5E2E-4A8C-A721-08ACB867E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33E25-3207-4F71-9223-3E93857AD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2AF62-ED91-4780-99DB-96D21EE5A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68EA6-7AA1-43D8-B4B2-70E187EA3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7EACD-14B9-45E7-B0BC-A97524270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ED257-0AFF-4620-BD65-CB066D21D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DD200-0459-44E8-9783-75E92EBD2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AB0AA-C43E-468F-A014-497465DF3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E0CEC-D158-4852-9618-A785140CA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3440A-BFA7-4600-9D7A-6E4D40EF2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B9B74-65B6-48E4-904D-B70D451F0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ED8D4-1805-4412-B5AC-E9D05B7B0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58B67-7C61-4E2C-879C-0AC2925AF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8D0B5-80EF-4F26-872D-B44F7B24C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7FE8D-8A7F-4421-95F3-8F11FCCCF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97C9CF-DFD6-451F-BF40-41585DE3E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FFDC8E-06D3-4BE6-A02C-E844BF149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BA0697-BE8E-4D3E-A532-04295CB6D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F91DD0-FD1E-4EE7-B919-D07EEEDC2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AB1CDA-0769-425E-BF58-E2B2CE188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8F305-37FA-4EEB-A6A6-E9031F63E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63FB1F-5AE3-498F-8FF9-2B5DB1F48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C5A3B2-6F20-40FE-AA66-DF552C428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7EE38C-F4C6-428C-92E2-88FE6D3E6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3E8F62-9C96-45DE-90AC-87150FBE0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7171E9-5E58-4DEE-8AE4-94AB04768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0F825D-855E-4C8E-AD3F-A146B24D6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C298BF-68DF-465B-BA61-E365E1092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3D2E47-1A46-472F-B7C4-3A319ECFC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7B7297-BAF8-4010-9FC1-43D8E993A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1648EC-4E68-4A1E-8F9E-3E0B89326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1DC76-FBC0-46EC-86FE-470E4EF6B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595278-3DE9-43A6-B642-561CEE36F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46E905-8CCB-4EFA-917B-F8E23804A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73D180-5B51-4ED5-ABDD-797319B94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564BB3-B1B6-4459-9D60-71A5FD8D3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4FCAE4-6C68-4790-AA63-91B6A030F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CE1489-AE53-4044-AA7E-ECEC07E7E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280CF8-27E8-42E4-85BA-A41E5ED6A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3F966B-B493-44F6-97DF-6D8DB65FF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6B75BF-9849-4811-AA3A-284B36236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C144F-DF4F-42B6-8397-F750BFF64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8E852-8B0A-4EAA-B119-6B1EFB9AF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B195A-7849-4BDF-A857-8A894F635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F3158-F1D9-4CF6-AB0C-3A7E97828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B1C99-4B84-48F1-9C67-DD432DBB2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4F15F-9A10-44D3-8798-205056FDEB4F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CCC4A-818E-449A-B408-CC7B72AD9E53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75697-DB34-4D43-A118-80FC8E4D79E4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8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9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0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16A15-4F3D-41AC-930F-8DAB330C5B8B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500200" y="357120"/>
            <a:ext cx="3857760" cy="3214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600" spc="-1" strike="noStrike">
              <a:solidFill>
                <a:srgbClr val="4de1ea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533160" y="3714480"/>
            <a:ext cx="7854840" cy="285732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3495c"/>
                </a:solidFill>
                <a:latin typeface="Arial"/>
              </a:rPr>
              <a:t>ГЕОГРАФИЧЕСКО ПОЛОЖЕНИЕ, ОТКРЫТИЕ И ИССЛЕДОВАНИЕ АНТАРКТИДЫ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indent="0" algn="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alibri"/>
              </a:rPr>
              <a:t>Работу подготовила учитель географии МОУ СОШ №9 города Карабаново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indent="0" algn="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Федорова Надежда Алексеевна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7" name="Picture 5" descr=""/>
          <p:cNvPicPr/>
          <p:nvPr/>
        </p:nvPicPr>
        <p:blipFill>
          <a:blip r:embed="rId1"/>
          <a:stretch/>
        </p:blipFill>
        <p:spPr>
          <a:xfrm>
            <a:off x="2571840" y="357120"/>
            <a:ext cx="3786120" cy="32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4617b"/>
                </a:solidFill>
                <a:latin typeface="Calibri"/>
              </a:rPr>
              <a:t>Самый высокий и холодный материк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5" name="Picture 2" descr=""/>
          <p:cNvPicPr/>
          <p:nvPr/>
        </p:nvPicPr>
        <p:blipFill>
          <a:blip r:embed="rId1"/>
          <a:stretch/>
        </p:blipFill>
        <p:spPr>
          <a:xfrm>
            <a:off x="142920" y="1935000"/>
            <a:ext cx="8572320" cy="470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4617b"/>
                </a:solidFill>
                <a:latin typeface="Calibri"/>
              </a:rPr>
              <a:t>Материк покрыт сплошным ледяным панцирем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7" name="Picture 2" descr="C:\Documents and Settings\Admin\Мои документы\0491eb2b6275.jpg"/>
          <p:cNvPicPr/>
          <p:nvPr/>
        </p:nvPicPr>
        <p:blipFill>
          <a:blip r:embed="rId1"/>
          <a:stretch/>
        </p:blipFill>
        <p:spPr>
          <a:xfrm>
            <a:off x="1901880" y="1935000"/>
            <a:ext cx="534024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9" name="Picture 3" descr=""/>
          <p:cNvPicPr/>
          <p:nvPr/>
        </p:nvPicPr>
        <p:blipFill>
          <a:blip r:embed="rId1">
            <a:lum contrast="12000"/>
          </a:blip>
          <a:srcRect l="0" t="0" r="-24" b="0"/>
          <a:stretch/>
        </p:blipFill>
        <p:spPr>
          <a:xfrm>
            <a:off x="179280" y="189000"/>
            <a:ext cx="878544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4617b"/>
                </a:solidFill>
                <a:latin typeface="Calibri"/>
              </a:rPr>
              <a:t>Самый активный вулкан Антарктиды - Эребус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1" name="Picture 2" descr=""/>
          <p:cNvPicPr/>
          <p:nvPr/>
        </p:nvPicPr>
        <p:blipFill>
          <a:blip r:embed="rId1"/>
          <a:stretch/>
        </p:blipFill>
        <p:spPr>
          <a:xfrm>
            <a:off x="714240" y="1935000"/>
            <a:ext cx="785844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28760" y="714240"/>
            <a:ext cx="8229600" cy="53676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Тектоническое строение</a:t>
            </a:r>
            <a:br>
              <a:rPr sz="5000"/>
            </a:br>
            <a:r>
              <a:rPr b="0" lang="ru-RU" sz="2700" spc="-1" strike="noStrike">
                <a:solidFill>
                  <a:srgbClr val="04617b"/>
                </a:solidFill>
                <a:latin typeface="Calibri"/>
              </a:rPr>
              <a:t>1. Древняя Антарктическая платформа</a:t>
            </a:r>
            <a:br>
              <a:rPr sz="2700"/>
            </a:br>
            <a:r>
              <a:rPr b="0" lang="ru-RU" sz="2700" spc="-1" strike="noStrike">
                <a:solidFill>
                  <a:srgbClr val="04617b"/>
                </a:solidFill>
                <a:latin typeface="Calibri"/>
              </a:rPr>
              <a:t>2. Область Древней складчатости</a:t>
            </a:r>
            <a:br>
              <a:rPr sz="2700"/>
            </a:br>
            <a:r>
              <a:rPr b="0" lang="ru-RU" sz="2700" spc="-1" strike="noStrike">
                <a:solidFill>
                  <a:srgbClr val="04617b"/>
                </a:solidFill>
                <a:latin typeface="Calibri"/>
              </a:rPr>
              <a:t>3. Область Кайнозойской складчатости</a:t>
            </a:r>
            <a:br>
              <a:rPr sz="2700"/>
            </a:br>
            <a:br>
              <a:rPr sz="2700"/>
            </a:b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Подлёдный рельеф</a:t>
            </a:r>
            <a:br>
              <a:rPr sz="5000"/>
            </a:br>
            <a:r>
              <a:rPr b="0" lang="ru-RU" sz="2800" spc="-1" strike="noStrike">
                <a:solidFill>
                  <a:srgbClr val="04617b"/>
                </a:solidFill>
                <a:latin typeface="Calibri"/>
              </a:rPr>
              <a:t>1.Равнины: Западная, Восточная, Шмидта, Восточное плато</a:t>
            </a:r>
            <a:br>
              <a:rPr sz="2800"/>
            </a:br>
            <a:r>
              <a:rPr b="0" lang="ru-RU" sz="2800" spc="-1" strike="noStrike">
                <a:solidFill>
                  <a:srgbClr val="04617b"/>
                </a:solidFill>
                <a:latin typeface="Calibri"/>
              </a:rPr>
              <a:t>2.Трансантарктические горы</a:t>
            </a:r>
            <a:br>
              <a:rPr sz="2800"/>
            </a:br>
            <a:r>
              <a:rPr b="0" lang="ru-RU" sz="2800" spc="-1" strike="noStrike">
                <a:solidFill>
                  <a:srgbClr val="04617b"/>
                </a:solidFill>
                <a:latin typeface="Calibri"/>
              </a:rPr>
              <a:t>3. Равнина Бэрда, горы Антарктического полуострова</a:t>
            </a:r>
            <a:br>
              <a:rPr sz="2700"/>
            </a:b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Полезные ископаемые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4" name="Picture 2" descr=""/>
          <p:cNvPicPr/>
          <p:nvPr/>
        </p:nvPicPr>
        <p:blipFill>
          <a:blip r:embed="rId1"/>
          <a:stretch/>
        </p:blipFill>
        <p:spPr>
          <a:xfrm>
            <a:off x="1646280" y="1935000"/>
            <a:ext cx="585144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99" name="Picture 2" descr=""/>
          <p:cNvPicPr/>
          <p:nvPr/>
        </p:nvPicPr>
        <p:blipFill>
          <a:blip r:embed="rId1"/>
          <a:stretch/>
        </p:blipFill>
        <p:spPr>
          <a:xfrm>
            <a:off x="0" y="571680"/>
            <a:ext cx="9144000" cy="62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20005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4617b"/>
                </a:solidFill>
                <a:latin typeface="Calibri"/>
              </a:rPr>
              <a:t>Антарктида была официально открыта 16 (28) января 1820 года русской экспедицией под руководством Фаддея Беллинсгаузена и Михаила Лазарева, которые на шлюпах «Восток» и «Мирный» подошли к ней        в точке 69°21′ ю. ш. 2°14′ з. д.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1" name="Picture 2" descr="C:\Documents and Settings\Admin\Мои документы\Открытие.jpg"/>
          <p:cNvPicPr/>
          <p:nvPr/>
        </p:nvPicPr>
        <p:blipFill>
          <a:blip r:embed="rId1"/>
          <a:stretch/>
        </p:blipFill>
        <p:spPr>
          <a:xfrm>
            <a:off x="1576440" y="2428920"/>
            <a:ext cx="5991120" cy="38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3" name="Picture 3" descr=""/>
          <p:cNvPicPr/>
          <p:nvPr/>
        </p:nvPicPr>
        <p:blipFill>
          <a:blip r:embed="rId1">
            <a:lum contrast="24000"/>
          </a:blip>
          <a:srcRect l="0" t="0" r="0" b="-16"/>
          <a:stretch/>
        </p:blipFill>
        <p:spPr>
          <a:xfrm>
            <a:off x="179280" y="189000"/>
            <a:ext cx="871380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5" name="Picture 3" descr="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250920" y="333360"/>
            <a:ext cx="864216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7" name="Picture 3" descr=""/>
          <p:cNvPicPr/>
          <p:nvPr/>
        </p:nvPicPr>
        <p:blipFill>
          <a:blip r:embed="rId1">
            <a:lum contrast="36000"/>
          </a:blip>
          <a:stretch/>
        </p:blipFill>
        <p:spPr>
          <a:xfrm>
            <a:off x="250920" y="260280"/>
            <a:ext cx="8642160" cy="63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9" name="Picture 3" descr=""/>
          <p:cNvPicPr/>
          <p:nvPr/>
        </p:nvPicPr>
        <p:blipFill>
          <a:blip r:embed="rId1">
            <a:lum contrast="36000"/>
          </a:blip>
          <a:srcRect l="0" t="0" r="0" b="-67"/>
          <a:stretch/>
        </p:blipFill>
        <p:spPr>
          <a:xfrm>
            <a:off x="324000" y="476280"/>
            <a:ext cx="849600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7146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4617b"/>
                </a:solidFill>
                <a:latin typeface="Calibri"/>
              </a:rPr>
              <a:t>Площадь 13,9 млн кв. км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1" name="Picture 2" descr=""/>
          <p:cNvPicPr/>
          <p:nvPr/>
        </p:nvPicPr>
        <p:blipFill>
          <a:blip r:embed="rId1"/>
          <a:stretch/>
        </p:blipFill>
        <p:spPr>
          <a:xfrm>
            <a:off x="0" y="1428840"/>
            <a:ext cx="9144000" cy="54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3T12:56:53Z</dcterms:created>
  <dc:creator>Admin</dc:creator>
  <dc:description/>
  <dc:language>en-US</dc:language>
  <cp:lastModifiedBy>Admin</cp:lastModifiedBy>
  <dcterms:modified xsi:type="dcterms:W3CDTF">2012-07-09T11:49:04Z</dcterms:modified>
  <cp:revision>43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10190000000000010250600207f7000400038000</vt:lpwstr>
  </property>
</Properties>
</file>