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0A7-11B2-48B8-B1D9-C50D54F7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9C66-8EE5-4205-BC1F-360E9443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F7C-C08B-4E53-8056-276A6520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97F7-F6BC-4E9A-91DE-3121797C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80EA-4368-4510-86E1-9806C02F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07E8-5D35-411E-858A-B6CA0364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2F5C-01A4-4911-B668-93742770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E804-E915-4851-8309-54378CA7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B29D-D7EA-4FA0-9F61-83198299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390C-6E74-48FB-BBDF-F7EE2698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E91C-770B-45DB-9DA5-780B42FA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950-E735-46CF-AE66-BA2F0A5B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B384-0620-47F0-80F9-5785F289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0B95-4374-4D19-85B3-C8B91799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5B20-DFF8-4BC2-AEFF-7FC155A9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B9E9-7A30-41D1-B327-B03F831C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BD43-A315-48BB-9657-7461C067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40698-62C6-4516-8701-D1937251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D205E-F3FF-4B53-9B0E-F21DD4F2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01AE2-5E02-44DD-9524-63139267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66946-D5BA-496B-9148-F3582894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CC7BF-F238-42D8-A7FE-0FC68541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A90-AB1C-4C9E-8DF3-18C5267F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C956B-9BFE-475F-84D8-0DFECF23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6F994-116E-4A81-AE23-31B29069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58A5C-3D98-420E-9F6D-3C89A17D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F2EE3-477D-4D69-8BF9-BEB8683C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18455-8143-4313-99D5-F8E3571F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F7DD3-950A-48A7-A263-E9C8A5F2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18FC0-CE06-409A-A3B1-D2DE0CF9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B539B-D107-4143-ACB8-5DA5B7A6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6FE2A-0AC6-44F2-A178-2B330C47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D2366-C9A7-43B7-B171-BB4F326F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51E3-7326-45F6-80D5-12CB3FAC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170D6-A312-45C6-A0D9-1F480CDF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34146-C096-4F4A-8DB8-1AE5B7E2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90259-53BB-4650-9EC7-C554B0CC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A2CA4-5748-49FB-83D3-FCDE2732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9A16F-C62D-476C-BC99-01A150E1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E9265-9B95-4AF8-816D-94C4C399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82BF5-1E8B-412F-8143-0BF8969E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42E84-8D4A-40C2-AABD-FA155DBA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DDFA0-FB4A-4018-9747-3E56DE7D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5FA-9B05-48A6-BF79-F021FB45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413E-7894-4677-80B8-6364B169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298A-2BA2-48D5-87DC-CF490410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2E3C-2D3A-44EE-96F5-CE6C4E9A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D02-6358-4245-9BD3-BA9EE70C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7252-39F7-4539-81D7-72B720FB954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0D80-D84D-490B-AEE5-C9E7137507A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0C0E-8845-49E5-8DEB-E51610298A7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64F1-43CC-4D66-986F-F9AFF223400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0200" y="357120"/>
            <a:ext cx="3857760" cy="32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3160" y="3714480"/>
            <a:ext cx="7854840" cy="2857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495c"/>
                </a:solidFill>
                <a:latin typeface="Arial"/>
              </a:rPr>
              <a:t>ГЕОГРАФИЧЕСКО ПОЛОЖЕНИЕ, ОТКРЫТИЕ И ИССЛЕДОВАНИЕ АНТАРКТИД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Работу подготовила учитель географии МОУ СОШ №9 города Карабаново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Федорова Надежда Алексеев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2571840" y="357120"/>
            <a:ext cx="37861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амый высокий и холодный материк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42920" y="1935000"/>
            <a:ext cx="857232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Материк покрыт сплошным ледяным панцир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C:\Documents and Settings\Admin\Мои документы\0491eb2b6275.jpg"/>
          <p:cNvPicPr/>
          <p:nvPr/>
        </p:nvPicPr>
        <p:blipFill>
          <a:blip r:embed="rId1"/>
          <a:stretch/>
        </p:blipFill>
        <p:spPr>
          <a:xfrm>
            <a:off x="1901880" y="1935000"/>
            <a:ext cx="53402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>
            <a:lum contrast="12000"/>
          </a:blip>
          <a:srcRect l="0" t="0" r="-24" b="0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амый активный вулкан Антарктиды - Эребус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714240" y="1935000"/>
            <a:ext cx="7858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5367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Тектоническое строение</a:t>
            </a:r>
            <a:br>
              <a:rPr sz="5000"/>
            </a:br>
            <a:r>
              <a:rPr b="0" lang="ru-RU" sz="2700" spc="-1" strike="noStrike">
                <a:solidFill>
                  <a:srgbClr val="04617b"/>
                </a:solidFill>
                <a:latin typeface="Calibri"/>
              </a:rPr>
              <a:t>1. Древняя Антарктическая платформа</a:t>
            </a:r>
            <a:br>
              <a:rPr sz="2700"/>
            </a:br>
            <a:r>
              <a:rPr b="0" lang="ru-RU" sz="2700" spc="-1" strike="noStrike">
                <a:solidFill>
                  <a:srgbClr val="04617b"/>
                </a:solidFill>
                <a:latin typeface="Calibri"/>
              </a:rPr>
              <a:t>2. Область Древней складчатости</a:t>
            </a:r>
            <a:br>
              <a:rPr sz="2700"/>
            </a:br>
            <a:r>
              <a:rPr b="0" lang="ru-RU" sz="2700" spc="-1" strike="noStrike">
                <a:solidFill>
                  <a:srgbClr val="04617b"/>
                </a:solidFill>
                <a:latin typeface="Calibri"/>
              </a:rPr>
              <a:t>3. Область Кайнозойской складчатости</a:t>
            </a:r>
            <a:br>
              <a:rPr sz="2700"/>
            </a:br>
            <a:br>
              <a:rPr sz="2700"/>
            </a:b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лёдный рельеф</a:t>
            </a:r>
            <a:br>
              <a:rPr sz="50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1.Равнины: Западная, Восточная, Шмидта, Восточное плато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2.Трансантарктические горы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3. Равнина Бэрда, горы Антарктического полуострова</a:t>
            </a:r>
            <a:br>
              <a:rPr sz="27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лезные ископаемы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Антарктида была официально открыта 16 (28) января 1820 года русской экспедицией под руководством Фаддея Беллинсгаузена и Михаила Лазарева, которые на шлюпах «Восток» и «Мирный» подошли к ней        в точке 69°21′ ю. ш. 2°14′ з. д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2" descr="C:\Documents and Settings\Admin\Мои документы\Открытие.jpg"/>
          <p:cNvPicPr/>
          <p:nvPr/>
        </p:nvPicPr>
        <p:blipFill>
          <a:blip r:embed="rId1"/>
          <a:stretch/>
        </p:blipFill>
        <p:spPr>
          <a:xfrm>
            <a:off x="1576440" y="2428920"/>
            <a:ext cx="59911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>
            <a:lum contrast="24000"/>
          </a:blip>
          <a:srcRect l="0" t="0" r="0" b="-16"/>
          <a:stretch/>
        </p:blipFill>
        <p:spPr>
          <a:xfrm>
            <a:off x="179280" y="18900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50920" y="333360"/>
            <a:ext cx="86421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>
            <a:lum contrast="36000"/>
          </a:blip>
          <a:srcRect l="0" t="0" r="0" b="-67"/>
          <a:stretch/>
        </p:blipFill>
        <p:spPr>
          <a:xfrm>
            <a:off x="324000" y="476280"/>
            <a:ext cx="8496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лощадь 13,9 млн кв. к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2:56:53Z</dcterms:created>
  <dc:creator>Admin</dc:creator>
  <dc:description/>
  <dc:language>en-US</dc:language>
  <cp:lastModifiedBy>Admin</cp:lastModifiedBy>
  <dcterms:modified xsi:type="dcterms:W3CDTF">2012-07-09T11:49:04Z</dcterms:modified>
  <cp:revision>4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0190000000000010250600207f7000400038000</vt:lpwstr>
  </property>
</Properties>
</file>