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1EA-7CCF-47E9-AD63-0F56BECA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92F-AD58-4DB6-86C3-8AA08A7A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EDF-82C5-4E0D-A300-9425C4D2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0DC-8F27-43EA-992B-D0EE69278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DA15-EC9B-4A9F-9902-90F0DD10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5DBF-2DAC-438C-9D1C-F63D2E2B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5AB4-985F-4DD3-A132-914FE964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EA16-5C7D-4B17-B74E-78D5E2EE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6FC8-74DD-40B1-9B52-E20FE445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F641-CF33-4325-B8CF-AE1DA9F2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BA6B-3E2D-41F6-96F3-92CD78A0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869-B44A-44A3-A621-7CB13456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7BE2-1052-4214-A286-0919767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C1AB-1397-4998-B058-54AA297B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C1C3-8DEF-4C46-92AD-918876BF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6573-1C07-468C-BAD9-7644B084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76F-45C8-4869-9DC6-3AD1AEEC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A4FD-489F-4B67-97B1-6F221E52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FA5-4DC7-4019-8FD0-5780E920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D6DC-0D74-40DF-A017-14F80E6B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EE5-F717-4E17-B6BC-8FFD517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3F1-F328-4192-B135-67669C9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84E-C1C2-462D-A5D1-EB890C6F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0BE-EA54-4FAE-948D-29BFF6C2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7F48-085F-4D88-ACA4-6CF94E67FA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018E-1C31-4EFD-AE7C-CDEAF7BBD5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тегрированный урок по русскому языку и геометр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18920" y="4220640"/>
            <a:ext cx="6032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Учителей ГБОУ СОШ №26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Вагуниной Сабины Бахрамовны 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Антоновой Ларисы Анваров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675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Группы математик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rcRect l="0" t="0" r="3352" b="0"/>
          <a:stretch/>
        </p:blipFill>
        <p:spPr>
          <a:xfrm>
            <a:off x="250920" y="1844640"/>
            <a:ext cx="4033800" cy="365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4284720" y="1125360"/>
            <a:ext cx="468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 словам героя 3 от 1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 30%, провер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сть  а - сторона квадрата, тогда  его площадь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аметр круга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учившего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нутри тоже а, тогда радиус а/2, а площадь соответственно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/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гда потери составляют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/4=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1-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/4)≈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1- 3,14:4)≈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1- 0,785)≈0,215 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это не 30%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 21,5%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6870600" cy="10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6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пражнение № 748, страница 121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а уроках геометрии.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ведите пример теоремы из учебника геометрии, которая сформулирована в виде сложного предложения с подчинительным союзом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 Спишите предложение,  выполните его синтаксический разбор. Найдите слова, которые являютс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мин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omic Sans MS"/>
              </a:rPr>
              <a:t>Спасибо за урок!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696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345320" y="16509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ов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38480" y="46753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е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066680" y="3235320"/>
            <a:ext cx="29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раммати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577560" y="349884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248080" y="4603680"/>
            <a:ext cx="286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тематик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6156360" y="1724040"/>
            <a:ext cx="4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898440" y="234936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ча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4217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558080" y="1484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6166800" y="162864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113920" y="3094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6584760" y="3429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136760" y="220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79120" y="4437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Без слов и грамматики не учат математике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87720"/>
            <a:ext cx="7556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Терминологический дикта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. Общее начало двух лучей, образующих угол называется...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вершина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. Прибор, используемый для измерения угл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транспортир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. Сумма длин всех сторон некоторой фигу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ериметр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. Отрезок, проведённый из данной точки к данной прямой под прямым углом.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ерпендикуляр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. Луч, исходящий из вершины  угла  и делящий его на два равных угл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биссектрис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6. Прибор, используемый для построения углов на местност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астроляб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7. Отрезок, соединяющий вершину треугольника с серединой противоположной сторон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медиан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8. Как называется треугольник, у которого две стороны равны 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равнобедренный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9. Хорда, проходящая через центр окружност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диаметр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0. Как называются две прямые на плоскости, если они не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ересекаю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араллельны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4"/>
          <p:cNvSpPr/>
          <p:nvPr/>
        </p:nvSpPr>
        <p:spPr>
          <a:xfrm>
            <a:off x="2843280" y="2637000"/>
            <a:ext cx="3456000" cy="19443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3348000" y="2637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3348000" y="4076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2843280" y="4076640"/>
            <a:ext cx="50472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9"/>
          <p:cNvSpPr/>
          <p:nvPr/>
        </p:nvSpPr>
        <p:spPr>
          <a:xfrm>
            <a:off x="4211640" y="2852640"/>
            <a:ext cx="647640" cy="144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0"/>
          <p:cNvSpPr/>
          <p:nvPr/>
        </p:nvSpPr>
        <p:spPr>
          <a:xfrm flipV="1">
            <a:off x="4572000" y="234900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5003640" y="2349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571640" y="234936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043960" y="2013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4500720" y="3645000"/>
            <a:ext cx="358560" cy="360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3995640" y="4221000"/>
            <a:ext cx="576360" cy="216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3419640" y="50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9"/>
          <p:cNvSpPr/>
          <p:nvPr/>
        </p:nvSpPr>
        <p:spPr>
          <a:xfrm flipV="1">
            <a:off x="4211640" y="458136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493440" y="47973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21"/>
          <p:cNvSpPr/>
          <p:nvPr/>
        </p:nvSpPr>
        <p:spPr>
          <a:xfrm>
            <a:off x="4211640" y="544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22"/>
          <p:cNvSpPr/>
          <p:nvPr/>
        </p:nvSpPr>
        <p:spPr>
          <a:xfrm flipV="1">
            <a:off x="4859280" y="494172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4211640" y="515772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2124000" y="4076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6"/>
          <p:cNvSpPr/>
          <p:nvPr/>
        </p:nvSpPr>
        <p:spPr>
          <a:xfrm flipV="1">
            <a:off x="3059280" y="3860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7"/>
          <p:cNvSpPr/>
          <p:nvPr/>
        </p:nvSpPr>
        <p:spPr>
          <a:xfrm flipV="1">
            <a:off x="3203640" y="2491920"/>
            <a:ext cx="79200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151000" y="37418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квоз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9"/>
          <p:cNvSpPr/>
          <p:nvPr/>
        </p:nvSpPr>
        <p:spPr>
          <a:xfrm flipH="1">
            <a:off x="234000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397600" y="25891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31"/>
          <p:cNvSpPr/>
          <p:nvPr/>
        </p:nvSpPr>
        <p:spPr>
          <a:xfrm>
            <a:off x="5651640" y="4292640"/>
            <a:ext cx="288720" cy="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34"/>
          <p:cNvSpPr/>
          <p:nvPr/>
        </p:nvSpPr>
        <p:spPr>
          <a:xfrm>
            <a:off x="6443640" y="44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35"/>
          <p:cNvSpPr/>
          <p:nvPr/>
        </p:nvSpPr>
        <p:spPr>
          <a:xfrm>
            <a:off x="6012000" y="4365720"/>
            <a:ext cx="4316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6"/>
          <p:cNvSpPr/>
          <p:nvPr/>
        </p:nvSpPr>
        <p:spPr>
          <a:xfrm>
            <a:off x="6451200" y="414972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-п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37"/>
          <p:cNvSpPr/>
          <p:nvPr/>
        </p:nvSpPr>
        <p:spPr>
          <a:xfrm>
            <a:off x="2411280" y="2492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Line 38"/>
          <p:cNvSpPr/>
          <p:nvPr/>
        </p:nvSpPr>
        <p:spPr>
          <a:xfrm>
            <a:off x="2987640" y="249228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39"/>
          <p:cNvSpPr/>
          <p:nvPr/>
        </p:nvSpPr>
        <p:spPr>
          <a:xfrm>
            <a:off x="3492360" y="2852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0"/>
          <p:cNvSpPr/>
          <p:nvPr/>
        </p:nvSpPr>
        <p:spPr>
          <a:xfrm>
            <a:off x="2394360" y="21574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1"/>
          <p:cNvSpPr/>
          <p:nvPr/>
        </p:nvSpPr>
        <p:spPr>
          <a:xfrm>
            <a:off x="1476360" y="2924280"/>
            <a:ext cx="8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кол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л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42"/>
          <p:cNvSpPr/>
          <p:nvPr/>
        </p:nvSpPr>
        <p:spPr>
          <a:xfrm>
            <a:off x="5292720" y="3284640"/>
            <a:ext cx="50328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43"/>
          <p:cNvSpPr/>
          <p:nvPr/>
        </p:nvSpPr>
        <p:spPr>
          <a:xfrm flipH="1">
            <a:off x="6300720" y="342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44"/>
          <p:cNvSpPr/>
          <p:nvPr/>
        </p:nvSpPr>
        <p:spPr>
          <a:xfrm flipH="1">
            <a:off x="5580000" y="342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46"/>
          <p:cNvSpPr/>
          <p:nvPr/>
        </p:nvSpPr>
        <p:spPr>
          <a:xfrm flipV="1">
            <a:off x="5580000" y="3068280"/>
            <a:ext cx="72072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47"/>
          <p:cNvSpPr/>
          <p:nvPr/>
        </p:nvSpPr>
        <p:spPr>
          <a:xfrm>
            <a:off x="6300720" y="306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8"/>
          <p:cNvSpPr/>
          <p:nvPr/>
        </p:nvSpPr>
        <p:spPr>
          <a:xfrm>
            <a:off x="6222240" y="27082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-з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0"/>
          <p:cNvSpPr/>
          <p:nvPr/>
        </p:nvSpPr>
        <p:spPr>
          <a:xfrm>
            <a:off x="4859280" y="3789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1"/>
          <p:cNvSpPr/>
          <p:nvPr/>
        </p:nvSpPr>
        <p:spPr>
          <a:xfrm>
            <a:off x="6084720" y="378936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2"/>
          <p:cNvSpPr/>
          <p:nvPr/>
        </p:nvSpPr>
        <p:spPr>
          <a:xfrm>
            <a:off x="6367680" y="35002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6433920" y="31417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54"/>
          <p:cNvSpPr/>
          <p:nvPr/>
        </p:nvSpPr>
        <p:spPr>
          <a:xfrm flipV="1">
            <a:off x="5651640" y="234936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5"/>
          <p:cNvSpPr/>
          <p:nvPr/>
        </p:nvSpPr>
        <p:spPr>
          <a:xfrm>
            <a:off x="5908680" y="20131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56"/>
          <p:cNvSpPr/>
          <p:nvPr/>
        </p:nvSpPr>
        <p:spPr>
          <a:xfrm flipV="1">
            <a:off x="3708360" y="2491920"/>
            <a:ext cx="287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пражнение № 7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71640" y="98064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ниги без собеседника мертвы. Они могут молчать годы и оживают, когда появляется читатель. В отличие от вещей они умеют ощущать печаль и радость, потому что в них вложены страсти. Ещё нас не было на свете, а в книгах уже жили чувства, те самые, которые переживаем мы. Мы только размышляем о жизни, а в книгах уже давно были проложены тропы наших размышлений. В течение всей жизни книги ждут от нас усилия душ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По Л.Лиходеев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ариант 1: В прямоугольнике 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FE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 диагональ 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равна 24 см, а угол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EB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равен 60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º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 Найти 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340000" y="2492280"/>
            <a:ext cx="3456000" cy="1944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2843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2843280" y="3933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2340000" y="2997360"/>
            <a:ext cx="295272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06280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5199840" y="4389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5774040" y="3670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2556360" y="3645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1340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07672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5724360" y="22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2699280" y="22050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21"/>
          <p:cNvSpPr/>
          <p:nvPr/>
        </p:nvSpPr>
        <p:spPr>
          <a:xfrm flipH="1">
            <a:off x="5292720" y="2492280"/>
            <a:ext cx="503280" cy="19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22"/>
          <p:cNvSpPr/>
          <p:nvPr/>
        </p:nvSpPr>
        <p:spPr>
          <a:xfrm>
            <a:off x="2124000" y="494172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ариант 2: В прямоугольнике 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KF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 диагональ 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равна 18см, сторона ВС равна 9см. Найти угол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795672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Работа с текстом в групп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0920" y="765000"/>
            <a:ext cx="828180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рывок из повести Д.Лондона «Маленькая хозяйка большого дом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187280" y="1547640"/>
            <a:ext cx="7778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«Посреди поля возвышался стальной шест, зарытый глубоко в землю. От барабана на верхушке шеста тянулся тонкий трос, прикреплё(н,нн)ый к  рулевому механизму маленького тракто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 течени…  всего дня возле трактора суетились два механика, по знаку Форреста они включили мото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Что(бы) такое рассказать, что(бы) удивить их? –подумал Дик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 Вот  здесь крылечко, - сказал Дик. – Представ…те себе, что мы – тот будущий фермер, сидящий в тени и читающий газет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шина сама двинулась вперёд, описывая окружность вокруг шеста, служившего его центро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ехем, вам остаётся превратить окружность, которую она описывает, в квадрат,что(бы) окончательно усовершенств…вать машину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а, - согласился Грехем, - при такой системе часть земли на квадратном поле пропада…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эхем, видимо, произвёл  в уме какие-то вычисления, потом сказал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еряется примерно три акра из каждых деся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меньше».                 Так ли эт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920" y="-1717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Группы филолог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2:35:32Z</dcterms:created>
  <dc:creator>User</dc:creator>
  <dc:description/>
  <dc:language>en-US</dc:language>
  <cp:lastModifiedBy>Иваненкова</cp:lastModifiedBy>
  <dcterms:modified xsi:type="dcterms:W3CDTF">2012-05-03T05:13:14Z</dcterms:modified>
  <cp:revision>9</cp:revision>
  <dc:subject/>
  <dc:title>Интегрированный урок по русскому языку и математике.</dc:title>
</cp:coreProperties>
</file>