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A1C-8D3D-4248-9149-F66357E8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3B7-725B-4D9E-9BE4-1921ABAF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86E-617D-4C94-BC33-392AE60E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5D7-3A81-468C-A054-595ABA0A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0C32-0E8D-41CB-942D-1C772884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25FB-86AF-4FE1-AED4-6BA8D6D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246-6A5A-4D1D-B244-5A58310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6E2A-8E04-413C-AC3C-29C78CE4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8FC2-878E-4D71-89FA-93FE6D5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317C-B476-4639-A443-A6D7F217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8F00-3EDF-44C5-B61D-B393392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51D-8DB6-42C8-8AD7-5697C54D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E08A-F474-488F-B5C3-D560CB4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1CC-EF7D-4E3C-B3ED-500BEBB3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BE6-2F3F-41D6-86E5-37922EFC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D541-818B-489B-AFB8-E87237BD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291B-FF9A-47C8-9D91-DB81C9D3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A3C-3089-4696-BA0D-79E5C957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03F-574E-4B2E-854B-B2C7C68E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BF0-9DD7-487A-83C3-6BD8DA6E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569-47FE-476D-B944-E21C6617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200-9CCA-4053-8E4A-31CC769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297-1DCE-4447-8650-C783252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3A2-5338-4E3A-BADB-D9B7735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C69-B584-4684-A2F7-23C7EFB261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52E-870A-4EDE-AA47-886DDEF344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тегрированный урок по русскому языку и геометр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220640"/>
            <a:ext cx="6032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Учителей ГБОУ СОШ №26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Вагуниной Сабины Бахрамовны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Антоновой Ларисы Анваров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Группы математи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0" r="3352" b="0"/>
          <a:stretch/>
        </p:blipFill>
        <p:spPr>
          <a:xfrm>
            <a:off x="250920" y="1844640"/>
            <a:ext cx="4033800" cy="365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4284720" y="1125360"/>
            <a:ext cx="468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словам героя 3 от 1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30%, провер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 а - сторона квадрата, тогда  его площад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аметр круга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учившего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нутри тоже а, тогда радиус а/2, а площадь соответственно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гда потери составляю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4=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-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4)≈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- 3,14:4)≈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- 0,785)≈0,215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это не 30%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 21,5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ажнение № 748, страница 12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уроках геометрии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дите пример теоремы из учебника геометрии, которая сформулирована в виде сложного предложения с подчинительным союзом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Спишите предложение,  выполните его синтаксический разбор. Найдите слова, которые являю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мин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345320" y="16509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ов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38480" y="46753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е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66680" y="3235320"/>
            <a:ext cx="29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м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577560" y="34988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248080" y="460368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темати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156360" y="1724040"/>
            <a:ext cx="4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898440" y="234936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а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4217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558080" y="148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166800" y="1628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113920" y="3094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584760" y="342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136760" y="220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79120" y="44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Без слов и грамматики не учат математике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7556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Терминологический дикта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 Общее начало двух лучей, образующих угол называется...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ершин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Прибор, используемый для измерения угл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ранспорти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. Сумма длин всех сторон некоторой фигу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еримет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. Отрезок, проведённый из данной точки к данной прямой под прямым углом.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ерпендикуля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. Луч, исходящий из вершины  угла  и делящий его на два равных уг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биссектрис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. Прибор, используемый для построения углов на местност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астроляб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7. Отрезок, соединяющий вершину треугольника с серединой противоположной сторо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8. Как называется треугольник, у которого две стороны равны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равнобедренны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. Хорда, проходящая через центр окружност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диамет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. Как называются две прямые на плоскости, если они н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ресекаю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араллельны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2843280" y="2637000"/>
            <a:ext cx="3456000" cy="1944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348000" y="2637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3348000" y="407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2843280" y="4076640"/>
            <a:ext cx="50472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4211640" y="2852640"/>
            <a:ext cx="647640" cy="144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0"/>
          <p:cNvSpPr/>
          <p:nvPr/>
        </p:nvSpPr>
        <p:spPr>
          <a:xfrm flipV="1">
            <a:off x="4572000" y="234900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5003640" y="2349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571640" y="234936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043960" y="201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4500720" y="3645000"/>
            <a:ext cx="358560" cy="360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3995640" y="4221000"/>
            <a:ext cx="57636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341964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9"/>
          <p:cNvSpPr/>
          <p:nvPr/>
        </p:nvSpPr>
        <p:spPr>
          <a:xfrm flipV="1">
            <a:off x="4211640" y="458136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493440" y="47973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21"/>
          <p:cNvSpPr/>
          <p:nvPr/>
        </p:nvSpPr>
        <p:spPr>
          <a:xfrm>
            <a:off x="4211640" y="54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22"/>
          <p:cNvSpPr/>
          <p:nvPr/>
        </p:nvSpPr>
        <p:spPr>
          <a:xfrm flipV="1">
            <a:off x="4859280" y="494172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4211640" y="51577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2124000" y="407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3059280" y="386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3203640" y="249192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151000" y="37418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квоз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9"/>
          <p:cNvSpPr/>
          <p:nvPr/>
        </p:nvSpPr>
        <p:spPr>
          <a:xfrm flipH="1">
            <a:off x="234000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397600" y="25891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5651640" y="4292640"/>
            <a:ext cx="28872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34"/>
          <p:cNvSpPr/>
          <p:nvPr/>
        </p:nvSpPr>
        <p:spPr>
          <a:xfrm>
            <a:off x="6443640" y="44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6012000" y="436572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6451200" y="41497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-п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2411280" y="249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2987640" y="2492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3492360" y="285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2394360" y="21574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1476360" y="292428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кол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л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42"/>
          <p:cNvSpPr/>
          <p:nvPr/>
        </p:nvSpPr>
        <p:spPr>
          <a:xfrm>
            <a:off x="5292720" y="3284640"/>
            <a:ext cx="503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43"/>
          <p:cNvSpPr/>
          <p:nvPr/>
        </p:nvSpPr>
        <p:spPr>
          <a:xfrm flipH="1">
            <a:off x="630072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44"/>
          <p:cNvSpPr/>
          <p:nvPr/>
        </p:nvSpPr>
        <p:spPr>
          <a:xfrm flipH="1">
            <a:off x="558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46"/>
          <p:cNvSpPr/>
          <p:nvPr/>
        </p:nvSpPr>
        <p:spPr>
          <a:xfrm flipV="1">
            <a:off x="5580000" y="3068280"/>
            <a:ext cx="72072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6300720" y="306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6222240" y="2708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-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0"/>
          <p:cNvSpPr/>
          <p:nvPr/>
        </p:nvSpPr>
        <p:spPr>
          <a:xfrm>
            <a:off x="4859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1"/>
          <p:cNvSpPr/>
          <p:nvPr/>
        </p:nvSpPr>
        <p:spPr>
          <a:xfrm>
            <a:off x="6084720" y="378936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6367680" y="3500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6433920" y="3141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54"/>
          <p:cNvSpPr/>
          <p:nvPr/>
        </p:nvSpPr>
        <p:spPr>
          <a:xfrm flipV="1">
            <a:off x="5651640" y="2349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5"/>
          <p:cNvSpPr/>
          <p:nvPr/>
        </p:nvSpPr>
        <p:spPr>
          <a:xfrm>
            <a:off x="5908680" y="2013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56"/>
          <p:cNvSpPr/>
          <p:nvPr/>
        </p:nvSpPr>
        <p:spPr>
          <a:xfrm flipV="1">
            <a:off x="3708360" y="249192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пражнение № 7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ниги без собеседника мертвы. Они могут молчать годы и оживают, когда появляется читатель. В отличие от вещей они умеют ощущать печаль и радость, потому что в них вложены страсти. Ещё нас не было на свете, а в книгах уже жили чувства, те самые, которые переживаем мы. Мы только размышляем о жизни, а в книгах уже давно были проложены тропы наших размышлений. В течение всей жизни книги ждут от нас усилия душ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По Л.Лиходеев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ариант 1: В прямоугольнике 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F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диагональ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равна 24 см, а угол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EB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равен 6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 Найти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340000" y="2492280"/>
            <a:ext cx="3456000" cy="1944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2843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2843280" y="3933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2340000" y="2997360"/>
            <a:ext cx="295272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06280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199840" y="4389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5774040" y="3670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2556360" y="3645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1340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07672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5724360" y="22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2699280" y="2205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5292720" y="2492280"/>
            <a:ext cx="50328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2124000" y="494172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ариант 2: В прямоугольнике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KF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диагональ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равна 18см, сторона ВС равна 9см. Найти угол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абота с текстом в 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2818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рывок из повести Д.Лондона «Маленькая хозяйка большого дом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187280" y="1547640"/>
            <a:ext cx="777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Посреди поля возвышался стальной шест, зарытый глубоко в землю. От барабана на верхушке шеста тянулся тонкий трос, прикреплё(н,нн)ый к  рулевому механизму маленького тракто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течени…  всего дня возле трактора суетились два механика, по знаку Форреста они включили мото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Что(бы) такое рассказать, что(бы) удивить их? –подумал Д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Вот  здесь крылечко, - сказал Дик. – Представ…те себе, что мы – тот будущий фермер, сидящий в тени и читающий газет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шина сама двинулась вперёд, описывая окружность вокруг шеста, служившего его центр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ехем, вам остаётся превратить окружность, которую она описывает, в квадрат,что(бы) окончательно усовершенств…вать маши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, - согласился Грехем, - при такой системе часть земли на квадратном поле пропада…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эхем, видимо, произвёл  в уме какие-то вычисления, потом сказал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ряется примерно три акра из каждых деся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меньше».                 Так ли эт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Группы филол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2:35:32Z</dcterms:created>
  <dc:creator>User</dc:creator>
  <dc:description/>
  <dc:language>en-US</dc:language>
  <cp:lastModifiedBy>Иваненкова</cp:lastModifiedBy>
  <dcterms:modified xsi:type="dcterms:W3CDTF">2012-05-03T05:13:14Z</dcterms:modified>
  <cp:revision>9</cp:revision>
  <dc:subject/>
  <dc:title>Интегрированный урок по русскому языку и математике.</dc:title>
</cp:coreProperties>
</file>