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12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784D0-0004-48B5-8A66-90DFD56D4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68A5B-C8D3-4F9B-94C7-F890EFAB5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665CE-0E98-4A03-9C21-48337D1D8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3E1EB-CA77-45F1-9A64-2476F9DBC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BC804-0EE6-4402-831C-204B3B63D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DBA7E-40B6-47B8-BE22-9D0043503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A851F-7A02-4B35-A891-90E34B296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47FE1-B363-4551-ADF3-3588D5C0B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FFABE-0E54-44FD-BD04-BD7781491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015BE-4767-4C7F-AED5-8CC638E0F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8CDC1-2E76-4B00-9E18-9F7F5F084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2C257-7850-4D37-9C02-7C148B782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B1AB0-C00C-4307-9DC7-D0E698590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8452F-ED03-4C34-BFAB-E8A27F1EA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1E04B-5F11-402B-9322-D4DEFB926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71FAD-6B5B-4E75-A131-962F5C5D6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D6F1B-6799-46C6-A25F-141A09288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1435C-DDCB-469A-AF62-B472F3873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D4378-23AB-4F4E-84E0-5033794F3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46715-E2DC-4EA3-8BA9-1EEDE60D9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45728-5248-4C90-8FD6-DFD4A690C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B6526-03BD-4F6E-9D5C-2749776D7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8D6DB-4AC6-41B5-8DFA-E4EBF6892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1A0AF-FE1F-4FBD-8161-D1F709A81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prstGeom prst="pie">
            <a:avLst/>
          </a:pr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83B9C-7ECD-4655-AF02-B7869C331C4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B04C7-0F7D-4C19-9B44-53CFAB05BF74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Рисунок 3" descr="PICT035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4" descr="a06718397024"/>
          <p:cNvPicPr/>
          <p:nvPr/>
        </p:nvPicPr>
        <p:blipFill>
          <a:blip r:embed="rId1"/>
          <a:stretch/>
        </p:blipFill>
        <p:spPr>
          <a:xfrm>
            <a:off x="2268360" y="0"/>
            <a:ext cx="4851720" cy="6858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4" descr="bfb938e626"/>
          <p:cNvPicPr/>
          <p:nvPr/>
        </p:nvPicPr>
        <p:blipFill>
          <a:blip r:embed="rId1"/>
          <a:stretch/>
        </p:blipFill>
        <p:spPr>
          <a:xfrm>
            <a:off x="2627280" y="0"/>
            <a:ext cx="4291200" cy="684036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7" descr="0_6b380_7f645fe8_XL"/>
          <p:cNvPicPr/>
          <p:nvPr/>
        </p:nvPicPr>
        <p:blipFill>
          <a:blip r:embed="rId1"/>
          <a:stretch/>
        </p:blipFill>
        <p:spPr>
          <a:xfrm>
            <a:off x="1547640" y="549360"/>
            <a:ext cx="2143440" cy="252864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8" descr="13134"/>
          <p:cNvPicPr/>
          <p:nvPr/>
        </p:nvPicPr>
        <p:blipFill>
          <a:blip r:embed="rId2"/>
          <a:stretch/>
        </p:blipFill>
        <p:spPr>
          <a:xfrm>
            <a:off x="1619280" y="3573360"/>
            <a:ext cx="2232000" cy="223200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9" descr="22550_3512151"/>
          <p:cNvPicPr/>
          <p:nvPr/>
        </p:nvPicPr>
        <p:blipFill>
          <a:blip r:embed="rId3"/>
          <a:stretch/>
        </p:blipFill>
        <p:spPr>
          <a:xfrm>
            <a:off x="5076720" y="476280"/>
            <a:ext cx="2503440" cy="261000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0" descr="medical-7"/>
          <p:cNvPicPr/>
          <p:nvPr/>
        </p:nvPicPr>
        <p:blipFill>
          <a:blip r:embed="rId4"/>
          <a:stretch/>
        </p:blipFill>
        <p:spPr>
          <a:xfrm>
            <a:off x="4932360" y="3370320"/>
            <a:ext cx="2448000" cy="23256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4" descr="55435_original"/>
          <p:cNvPicPr/>
          <p:nvPr/>
        </p:nvPicPr>
        <p:blipFill>
          <a:blip r:embed="rId1"/>
          <a:stretch/>
        </p:blipFill>
        <p:spPr>
          <a:xfrm>
            <a:off x="684360" y="549360"/>
            <a:ext cx="3794040" cy="252864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5" descr="pix4b21133d7e376"/>
          <p:cNvPicPr/>
          <p:nvPr/>
        </p:nvPicPr>
        <p:blipFill>
          <a:blip r:embed="rId2"/>
          <a:stretch/>
        </p:blipFill>
        <p:spPr>
          <a:xfrm>
            <a:off x="5076720" y="260280"/>
            <a:ext cx="3095640" cy="309564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6" descr="sowet7"/>
          <p:cNvPicPr/>
          <p:nvPr/>
        </p:nvPicPr>
        <p:blipFill>
          <a:blip r:embed="rId3"/>
          <a:stretch/>
        </p:blipFill>
        <p:spPr>
          <a:xfrm>
            <a:off x="900000" y="3789360"/>
            <a:ext cx="3311640" cy="248436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7" descr="store_apendix_big157_4920"/>
          <p:cNvPicPr/>
          <p:nvPr/>
        </p:nvPicPr>
        <p:blipFill>
          <a:blip r:embed="rId4"/>
          <a:stretch/>
        </p:blipFill>
        <p:spPr>
          <a:xfrm>
            <a:off x="5148360" y="3645000"/>
            <a:ext cx="2668320" cy="266832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1T17:51:00Z</dcterms:created>
  <dc:creator>Люда</dc:creator>
  <dc:description/>
  <dc:language>en-US</dc:language>
  <cp:lastModifiedBy>Люда</cp:lastModifiedBy>
  <dcterms:modified xsi:type="dcterms:W3CDTF">2012-07-09T17:54:42Z</dcterms:modified>
  <cp:revision>14</cp:revision>
  <dc:subject/>
  <dc:title>Слайд 1</dc:title>
</cp:coreProperties>
</file>