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902A-C30D-4301-84BC-EA38BB3A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A94E-D96A-4224-B599-07514D7F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5EF-2D41-4F39-8091-7D8C934B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F70-E758-43D8-92B9-A738F9DF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D704-0988-4C33-9FCE-42DD2A24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10D5-0A91-42F0-B60A-AF88D468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1887-DD32-4B29-973A-4AFE21CA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6A1D-C8A0-41A3-A044-922A14FC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D26F-C45E-45FF-A52F-A0066D42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F8B0-33FA-4EE9-8980-705CE824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533-5D8A-46BB-9301-E396034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939-8C9D-4807-B516-8B82036C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C5BF-BA3A-4BEE-8B83-78473AB0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BE6B-C500-4E95-BD5E-F230B3C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5D72-306D-41F2-AD3C-EF8F802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948F-150B-4F12-88D5-97EDF14F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D4D5-2D5E-4082-8B41-4483EDB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F05-6E95-4036-98DD-8DF38C14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8E6-7063-43AE-8C22-80C25268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7A13-B8D0-4DE0-B84D-ACEC119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FB4-45B1-4538-BBF4-73B4123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3BD-BEE1-4FD1-996B-C68277BD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10F-2599-4D5B-9690-6BAF9C53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C93-1F47-41E2-94C0-223341E1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A9BB-7FFF-43C3-8D93-FC9E4BFD9C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D2F-D61E-43A2-900B-B3B67C5A1A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3" descr="PICT03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a06718397024"/>
          <p:cNvPicPr/>
          <p:nvPr/>
        </p:nvPicPr>
        <p:blipFill>
          <a:blip r:embed="rId1"/>
          <a:stretch/>
        </p:blipFill>
        <p:spPr>
          <a:xfrm>
            <a:off x="2268360" y="0"/>
            <a:ext cx="48517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bfb938e626"/>
          <p:cNvPicPr/>
          <p:nvPr/>
        </p:nvPicPr>
        <p:blipFill>
          <a:blip r:embed="rId1"/>
          <a:stretch/>
        </p:blipFill>
        <p:spPr>
          <a:xfrm>
            <a:off x="2627280" y="0"/>
            <a:ext cx="4291200" cy="684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7" descr="0_6b380_7f645fe8_XL"/>
          <p:cNvPicPr/>
          <p:nvPr/>
        </p:nvPicPr>
        <p:blipFill>
          <a:blip r:embed="rId1"/>
          <a:stretch/>
        </p:blipFill>
        <p:spPr>
          <a:xfrm>
            <a:off x="1547640" y="549360"/>
            <a:ext cx="2143440" cy="252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13134"/>
          <p:cNvPicPr/>
          <p:nvPr/>
        </p:nvPicPr>
        <p:blipFill>
          <a:blip r:embed="rId2"/>
          <a:stretch/>
        </p:blipFill>
        <p:spPr>
          <a:xfrm>
            <a:off x="1619280" y="3573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22550_3512151"/>
          <p:cNvPicPr/>
          <p:nvPr/>
        </p:nvPicPr>
        <p:blipFill>
          <a:blip r:embed="rId3"/>
          <a:stretch/>
        </p:blipFill>
        <p:spPr>
          <a:xfrm>
            <a:off x="5076720" y="476280"/>
            <a:ext cx="2503440" cy="2610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medical-7"/>
          <p:cNvPicPr/>
          <p:nvPr/>
        </p:nvPicPr>
        <p:blipFill>
          <a:blip r:embed="rId4"/>
          <a:stretch/>
        </p:blipFill>
        <p:spPr>
          <a:xfrm>
            <a:off x="4932360" y="3370320"/>
            <a:ext cx="2448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55435_original"/>
          <p:cNvPicPr/>
          <p:nvPr/>
        </p:nvPicPr>
        <p:blipFill>
          <a:blip r:embed="rId1"/>
          <a:stretch/>
        </p:blipFill>
        <p:spPr>
          <a:xfrm>
            <a:off x="684360" y="549360"/>
            <a:ext cx="3794040" cy="252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ix4b21133d7e376"/>
          <p:cNvPicPr/>
          <p:nvPr/>
        </p:nvPicPr>
        <p:blipFill>
          <a:blip r:embed="rId2"/>
          <a:stretch/>
        </p:blipFill>
        <p:spPr>
          <a:xfrm>
            <a:off x="5076720" y="260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sowet7"/>
          <p:cNvPicPr/>
          <p:nvPr/>
        </p:nvPicPr>
        <p:blipFill>
          <a:blip r:embed="rId3"/>
          <a:stretch/>
        </p:blipFill>
        <p:spPr>
          <a:xfrm>
            <a:off x="900000" y="378936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store_apendix_big157_4920"/>
          <p:cNvPicPr/>
          <p:nvPr/>
        </p:nvPicPr>
        <p:blipFill>
          <a:blip r:embed="rId4"/>
          <a:stretch/>
        </p:blipFill>
        <p:spPr>
          <a:xfrm>
            <a:off x="5148360" y="3645000"/>
            <a:ext cx="2668320" cy="26683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7:51:00Z</dcterms:created>
  <dc:creator>Люда</dc:creator>
  <dc:description/>
  <dc:language>en-US</dc:language>
  <cp:lastModifiedBy>Люда</cp:lastModifiedBy>
  <dcterms:modified xsi:type="dcterms:W3CDTF">2012-07-09T17:54:42Z</dcterms:modified>
  <cp:revision>14</cp:revision>
  <dc:subject/>
  <dc:title>Слайд 1</dc:title>
</cp:coreProperties>
</file>