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gif" ContentType="image/gif"/>
  <Override PartName="/ppt/media/image12.png" ContentType="image/png"/>
  <Override PartName="/ppt/media/image4.png" ContentType="image/png"/>
  <Override PartName="/ppt/media/image5.png" ContentType="image/png"/>
  <Override PartName="/ppt/media/image10.jpeg" ContentType="image/jpeg"/>
  <Override PartName="/ppt/media/image9.png" ContentType="image/png"/>
  <Override PartName="/ppt/media/image6.gif" ContentType="image/gif"/>
  <Override PartName="/ppt/media/image11.gif" ContentType="image/gif"/>
  <Override PartName="/ppt/media/image14.png" ContentType="image/png"/>
  <Override PartName="/ppt/media/image7.gif" ContentType="image/gif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02F2-A934-464D-B5D5-0E400CA26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F413-1146-4AD0-BA37-0665108DF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98BB-B8F0-4A81-A70A-EACD2B142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768B-A115-41E2-9088-9B827F8B2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316E-03C0-4543-85DF-4BE81299E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246F-7EC5-4B32-B63F-AAC3168A7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D7A3-9A8B-4D1A-9B88-0A6401419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6BDE-A611-4AAA-A565-F4784531C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11E1-7DEB-4E90-984C-F96C553F6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2943-7C4F-4B8A-8EBE-8C0931509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CDC3-6893-4BFB-B395-0B84CE170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BC5E-3D0C-453E-9AEA-D9D681214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012A4-9645-4587-B362-D1F5DABAA4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WordArt 5"/>
          <p:cNvSpPr txBox="1"/>
          <p:nvPr/>
        </p:nvSpPr>
        <p:spPr>
          <a:xfrm>
            <a:off x="0" y="1773360"/>
            <a:ext cx="100800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Franklin Gothic Heavy"/>
              </a:rPr>
              <a:t>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Franklin Gothic Heavy"/>
              <a:ea typeface="Franklin Gothic Heavy"/>
            </a:endParaRPr>
          </a:p>
        </p:txBody>
      </p:sp>
      <p:sp>
        <p:nvSpPr>
          <p:cNvPr id="43" name="WordArt 6"/>
          <p:cNvSpPr txBox="1"/>
          <p:nvPr/>
        </p:nvSpPr>
        <p:spPr>
          <a:xfrm rot="1003200">
            <a:off x="900000" y="2133360"/>
            <a:ext cx="100800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Franklin Gothic Heavy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Franklin Gothic Heavy"/>
              <a:ea typeface="Franklin Gothic Heavy"/>
            </a:endParaRPr>
          </a:p>
        </p:txBody>
      </p:sp>
      <p:sp>
        <p:nvSpPr>
          <p:cNvPr id="44" name="WordArt 7"/>
          <p:cNvSpPr txBox="1"/>
          <p:nvPr/>
        </p:nvSpPr>
        <p:spPr>
          <a:xfrm>
            <a:off x="1692360" y="3141720"/>
            <a:ext cx="100800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Franklin Gothic Heavy"/>
              </a:rPr>
              <a:t>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Franklin Gothic Heavy"/>
              <a:ea typeface="Franklin Gothic Heavy"/>
            </a:endParaRPr>
          </a:p>
        </p:txBody>
      </p:sp>
      <p:sp>
        <p:nvSpPr>
          <p:cNvPr id="45" name="WordArt 8"/>
          <p:cNvSpPr txBox="1"/>
          <p:nvPr/>
        </p:nvSpPr>
        <p:spPr>
          <a:xfrm rot="20376600">
            <a:off x="2626920" y="2349000"/>
            <a:ext cx="100800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Franklin Gothic Heavy"/>
              </a:rPr>
              <a:t>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Franklin Gothic Heavy"/>
              <a:ea typeface="Franklin Gothic Heavy"/>
            </a:endParaRPr>
          </a:p>
        </p:txBody>
      </p:sp>
      <p:sp>
        <p:nvSpPr>
          <p:cNvPr id="46" name="WordArt 9"/>
          <p:cNvSpPr txBox="1"/>
          <p:nvPr/>
        </p:nvSpPr>
        <p:spPr>
          <a:xfrm>
            <a:off x="3635280" y="1628640"/>
            <a:ext cx="100800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Franklin Gothic Heavy"/>
              </a:rPr>
              <a:t>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Franklin Gothic Heavy"/>
              <a:ea typeface="Franklin Gothic Heavy"/>
            </a:endParaRPr>
          </a:p>
        </p:txBody>
      </p:sp>
      <p:sp>
        <p:nvSpPr>
          <p:cNvPr id="47" name="WordArt 10"/>
          <p:cNvSpPr txBox="1"/>
          <p:nvPr/>
        </p:nvSpPr>
        <p:spPr>
          <a:xfrm rot="1235400">
            <a:off x="4284360" y="2276640"/>
            <a:ext cx="100800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Franklin Gothic Heavy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Franklin Gothic Heavy"/>
              <a:ea typeface="Franklin Gothic Heavy"/>
            </a:endParaRPr>
          </a:p>
        </p:txBody>
      </p:sp>
      <p:sp>
        <p:nvSpPr>
          <p:cNvPr id="48" name="WordArt 11"/>
          <p:cNvSpPr txBox="1"/>
          <p:nvPr/>
        </p:nvSpPr>
        <p:spPr>
          <a:xfrm>
            <a:off x="5292720" y="2924280"/>
            <a:ext cx="100800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6600cc"/>
                    </a:gs>
                  </a:gsLst>
                  <a:lin ang="5400000"/>
                </a:gradFill>
                <a:latin typeface="Franklin Gothic Heavy"/>
              </a:rPr>
              <a:t>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6600cc"/>
                  </a:gs>
                </a:gsLst>
                <a:lin ang="5400000"/>
              </a:gradFill>
              <a:latin typeface="Franklin Gothic Heavy"/>
              <a:ea typeface="Franklin Gothic Heavy"/>
            </a:endParaRPr>
          </a:p>
        </p:txBody>
      </p:sp>
      <p:sp>
        <p:nvSpPr>
          <p:cNvPr id="49" name="WordArt 12"/>
          <p:cNvSpPr txBox="1"/>
          <p:nvPr/>
        </p:nvSpPr>
        <p:spPr>
          <a:xfrm rot="20199600">
            <a:off x="6372000" y="2205000"/>
            <a:ext cx="100800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Franklin Gothic Heavy"/>
              </a:rPr>
              <a:t>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Franklin Gothic Heavy"/>
              <a:ea typeface="Franklin Gothic Heavy"/>
            </a:endParaRPr>
          </a:p>
        </p:txBody>
      </p:sp>
      <p:sp>
        <p:nvSpPr>
          <p:cNvPr id="50" name="WordArt 13"/>
          <p:cNvSpPr txBox="1"/>
          <p:nvPr/>
        </p:nvSpPr>
        <p:spPr>
          <a:xfrm>
            <a:off x="7596360" y="1844640"/>
            <a:ext cx="100800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Franklin Gothic Heavy"/>
              </a:rPr>
              <a:t>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Franklin Gothic Heavy"/>
              <a:ea typeface="Franklin Gothic Heavy"/>
            </a:endParaRPr>
          </a:p>
        </p:txBody>
      </p:sp>
      <p:sp>
        <p:nvSpPr>
          <p:cNvPr id="51" name="WordArt 14"/>
          <p:cNvSpPr txBox="1"/>
          <p:nvPr/>
        </p:nvSpPr>
        <p:spPr>
          <a:xfrm rot="1323600">
            <a:off x="8135640" y="2781000"/>
            <a:ext cx="100800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Franklin Gothic Heavy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Franklin Gothic Heavy"/>
              <a:ea typeface="Franklin Gothic Heavy"/>
            </a:endParaRPr>
          </a:p>
        </p:txBody>
      </p:sp>
      <p:sp>
        <p:nvSpPr>
          <p:cNvPr id="52" name="AutoShape 15"/>
          <p:cNvSpPr/>
          <p:nvPr/>
        </p:nvSpPr>
        <p:spPr>
          <a:xfrm>
            <a:off x="3071880" y="3357720"/>
            <a:ext cx="2232000" cy="2160360"/>
          </a:xfrm>
          <a:custGeom>
            <a:avLst/>
            <a:gdLst>
              <a:gd name="textAreaLeft" fmla="*/ 509400 w 2232000"/>
              <a:gd name="textAreaRight" fmla="*/ 1722600 w 2232000"/>
              <a:gd name="textAreaTop" fmla="*/ 493200 h 2160360"/>
              <a:gd name="textAreaBottom" fmla="*/ 1667160 h 21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00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"/>
              </a:rPr>
              <a:t>клас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2" descr="J0232988"/>
          <p:cNvPicPr/>
          <p:nvPr/>
        </p:nvPicPr>
        <p:blipFill>
          <a:blip r:embed="rId2"/>
          <a:stretch/>
        </p:blipFill>
        <p:spPr>
          <a:xfrm>
            <a:off x="1042920" y="0"/>
            <a:ext cx="2016360" cy="1989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3" descr="55"/>
          <p:cNvPicPr/>
          <p:nvPr/>
        </p:nvPicPr>
        <p:blipFill>
          <a:blip r:embed="rId3"/>
          <a:stretch/>
        </p:blipFill>
        <p:spPr>
          <a:xfrm>
            <a:off x="6156360" y="-243000"/>
            <a:ext cx="2303280" cy="1898640"/>
          </a:xfrm>
          <a:prstGeom prst="rect">
            <a:avLst/>
          </a:prstGeom>
          <a:ln w="0">
            <a:noFill/>
          </a:ln>
        </p:spPr>
      </p:pic>
      <p:sp>
        <p:nvSpPr>
          <p:cNvPr id="55" name="Text Box 24"/>
          <p:cNvSpPr/>
          <p:nvPr/>
        </p:nvSpPr>
        <p:spPr>
          <a:xfrm>
            <a:off x="1398600" y="5373720"/>
            <a:ext cx="774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Вычитание однозначного числа из двузначного с переходом через разря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2627280" y="189000"/>
            <a:ext cx="468144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Длина тела вороны</a:t>
            </a:r>
            <a:endParaRPr b="1" lang="en-US" sz="1800" spc="1" strike="noStrike">
              <a:ln w="9360">
                <a:solidFill>
                  <a:srgbClr val="ff33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800360" cy="15145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 txBox="1"/>
          <p:nvPr/>
        </p:nvSpPr>
        <p:spPr>
          <a:xfrm>
            <a:off x="5508720" y="1557360"/>
            <a:ext cx="23032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72-6 =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140360" y="3573360"/>
            <a:ext cx="2160360" cy="57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71-9 =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2050920" y="2852640"/>
            <a:ext cx="28764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5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116000" y="2852640"/>
            <a:ext cx="2872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3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300720" y="2565360"/>
            <a:ext cx="2872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2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7164360" y="2565360"/>
            <a:ext cx="2872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4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932360" y="4653000"/>
            <a:ext cx="2872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1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5651640" y="4653000"/>
            <a:ext cx="2872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8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476360" y="2349360"/>
            <a:ext cx="50472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^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6659640" y="2060640"/>
            <a:ext cx="50472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^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5219640" y="4149720"/>
            <a:ext cx="50472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^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250920" y="1844640"/>
            <a:ext cx="22334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73-8=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pic>
        <p:nvPicPr>
          <p:cNvPr id="165" name="Picture 8" descr="IMAGE024"/>
          <p:cNvPicPr/>
          <p:nvPr/>
        </p:nvPicPr>
        <p:blipFill>
          <a:blip r:embed="rId3"/>
          <a:stretch/>
        </p:blipFill>
        <p:spPr>
          <a:xfrm>
            <a:off x="7885080" y="0"/>
            <a:ext cx="1008000" cy="10080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 txBox="1"/>
          <p:nvPr/>
        </p:nvSpPr>
        <p:spPr>
          <a:xfrm>
            <a:off x="2627280" y="1773360"/>
            <a:ext cx="100800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65</a:t>
            </a:r>
            <a:endParaRPr b="1" lang="en-US" sz="1800" spc="1" strike="noStrike">
              <a:ln w="9360">
                <a:solidFill>
                  <a:srgbClr val="ff33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7956720" y="1484280"/>
            <a:ext cx="1008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66</a:t>
            </a:r>
            <a:endParaRPr b="1" lang="en-US" sz="1800" spc="1" strike="noStrike">
              <a:ln w="9360">
                <a:solidFill>
                  <a:srgbClr val="ff33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372360" y="3500280"/>
            <a:ext cx="1008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62</a:t>
            </a:r>
            <a:endParaRPr b="1" lang="en-US" sz="1800" spc="1" strike="noStrike">
              <a:ln w="9360">
                <a:solidFill>
                  <a:srgbClr val="ff33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79280" y="1484280"/>
            <a:ext cx="8964720" cy="468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6600"/>
                </a:solidFill>
                <a:latin typeface="Arial"/>
              </a:rPr>
              <a:t>66 65 6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>
            <a:off x="3132000" y="189000"/>
            <a:ext cx="504036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Скорость полета вороны</a:t>
            </a:r>
            <a:endParaRPr b="1" lang="en-US" sz="1800" spc="1" strike="noStrike">
              <a:ln w="9360">
                <a:solidFill>
                  <a:srgbClr val="ff33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pic>
        <p:nvPicPr>
          <p:cNvPr id="172" name="Picture 8" descr="IMAGE024"/>
          <p:cNvPicPr/>
          <p:nvPr/>
        </p:nvPicPr>
        <p:blipFill>
          <a:blip r:embed="rId2"/>
          <a:stretch/>
        </p:blipFill>
        <p:spPr>
          <a:xfrm>
            <a:off x="8136000" y="0"/>
            <a:ext cx="1008000" cy="100800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987640" cy="215748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4"/>
          <a:stretch/>
        </p:blipFill>
        <p:spPr>
          <a:xfrm>
            <a:off x="6443640" y="4565520"/>
            <a:ext cx="2700360" cy="229248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250920" y="2421000"/>
            <a:ext cx="8531280" cy="18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корость голубя 62 км/ч, а скор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ороны на 9км/ч меньше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Чему равна скорость вороны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 txBox="1"/>
          <p:nvPr/>
        </p:nvSpPr>
        <p:spPr>
          <a:xfrm>
            <a:off x="1763640" y="5157720"/>
            <a:ext cx="662472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Скорость полета вороны - 53 км/ч</a:t>
            </a:r>
            <a:endParaRPr b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395280" y="1197000"/>
            <a:ext cx="5184720" cy="374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 txBox="1"/>
          <p:nvPr/>
        </p:nvSpPr>
        <p:spPr>
          <a:xfrm>
            <a:off x="250920" y="189000"/>
            <a:ext cx="77770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Продолжительность жизни  вороны</a:t>
            </a:r>
            <a:endParaRPr b="1" lang="en-US" sz="1800" spc="1" strike="noStrike">
              <a:ln w="9360">
                <a:solidFill>
                  <a:srgbClr val="ff33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pic>
        <p:nvPicPr>
          <p:cNvPr id="181" name="Picture 8" descr="IMAGE024"/>
          <p:cNvPicPr/>
          <p:nvPr/>
        </p:nvPicPr>
        <p:blipFill>
          <a:blip r:embed="rId2"/>
          <a:stretch/>
        </p:blipFill>
        <p:spPr>
          <a:xfrm>
            <a:off x="8136000" y="0"/>
            <a:ext cx="1008000" cy="100800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crow12"/>
          <p:cNvPicPr/>
          <p:nvPr/>
        </p:nvPicPr>
        <p:blipFill>
          <a:blip r:embed="rId3"/>
          <a:stretch/>
        </p:blipFill>
        <p:spPr>
          <a:xfrm>
            <a:off x="2484360" y="1628640"/>
            <a:ext cx="4394160" cy="373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250920" y="189000"/>
            <a:ext cx="77770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Продолжительность жизни  вороны</a:t>
            </a:r>
            <a:endParaRPr b="1" lang="en-US" sz="1800" spc="1" strike="noStrike">
              <a:ln w="9360">
                <a:solidFill>
                  <a:srgbClr val="ff33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pic>
        <p:nvPicPr>
          <p:cNvPr id="185" name="Picture 8" descr="IMAGE024"/>
          <p:cNvPicPr/>
          <p:nvPr/>
        </p:nvPicPr>
        <p:blipFill>
          <a:blip r:embed="rId2"/>
          <a:stretch/>
        </p:blipFill>
        <p:spPr>
          <a:xfrm>
            <a:off x="8136000" y="0"/>
            <a:ext cx="1008000" cy="10080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0" y="1125360"/>
            <a:ext cx="2916360" cy="2089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84-30=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40-8=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71-2=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6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843280" y="2492280"/>
            <a:ext cx="3240000" cy="21607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-2= 5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26+     =5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87-      =4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276720" y="2637000"/>
            <a:ext cx="64764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580000" y="4508640"/>
            <a:ext cx="3564000" cy="234936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38-20+     =4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14+     -20=2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69+1+     =8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211640" y="3284640"/>
            <a:ext cx="64764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140360" y="3933720"/>
            <a:ext cx="64764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451640" y="4797360"/>
            <a:ext cx="64944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588000" y="5445000"/>
            <a:ext cx="64944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308720" y="6093000"/>
            <a:ext cx="649440" cy="50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843280" y="2421000"/>
            <a:ext cx="3241440" cy="22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580000" y="4508640"/>
            <a:ext cx="3564000" cy="2349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 txBox="1"/>
          <p:nvPr/>
        </p:nvSpPr>
        <p:spPr>
          <a:xfrm>
            <a:off x="250920" y="189000"/>
            <a:ext cx="77770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Продолжительность жизни  вороны</a:t>
            </a:r>
            <a:endParaRPr b="1" lang="en-US" sz="1800" spc="1" strike="noStrike">
              <a:ln w="9360">
                <a:solidFill>
                  <a:srgbClr val="ff33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pic>
        <p:nvPicPr>
          <p:cNvPr id="199" name="Picture 8" descr="IMAGE024"/>
          <p:cNvPicPr/>
          <p:nvPr/>
        </p:nvPicPr>
        <p:blipFill>
          <a:blip r:embed="rId2"/>
          <a:stretch/>
        </p:blipFill>
        <p:spPr>
          <a:xfrm>
            <a:off x="8136000" y="0"/>
            <a:ext cx="1008000" cy="10080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0" y="1628640"/>
            <a:ext cx="896472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15  22  26  31  32  40  54  61  6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2781360"/>
            <a:ext cx="8269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8101080" y="2708280"/>
            <a:ext cx="8269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2268360" y="2852640"/>
            <a:ext cx="4586400" cy="3440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 txBox="1"/>
          <p:nvPr/>
        </p:nvSpPr>
        <p:spPr>
          <a:xfrm>
            <a:off x="250920" y="189000"/>
            <a:ext cx="77770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Вес птенца   вороны</a:t>
            </a:r>
            <a:endParaRPr b="1" lang="en-US" sz="1800" spc="1" strike="noStrike">
              <a:ln w="9360">
                <a:solidFill>
                  <a:srgbClr val="ff33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pic>
        <p:nvPicPr>
          <p:cNvPr id="206" name="Picture 8" descr="IMAGE024"/>
          <p:cNvPicPr/>
          <p:nvPr/>
        </p:nvPicPr>
        <p:blipFill>
          <a:blip r:embed="rId2"/>
          <a:stretch/>
        </p:blipFill>
        <p:spPr>
          <a:xfrm>
            <a:off x="8136000" y="0"/>
            <a:ext cx="1008000" cy="100800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3"/>
          <a:stretch/>
        </p:blipFill>
        <p:spPr>
          <a:xfrm>
            <a:off x="250920" y="981000"/>
            <a:ext cx="3606840" cy="360684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2050920" y="4005360"/>
            <a:ext cx="676764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3399"/>
                </a:solidFill>
                <a:latin typeface="Arial"/>
              </a:rPr>
              <a:t>4, 15, 10, 4, 5, 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 txBox="1"/>
          <p:nvPr/>
        </p:nvSpPr>
        <p:spPr>
          <a:xfrm>
            <a:off x="250920" y="189000"/>
            <a:ext cx="77770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Вес птенца   вороны</a:t>
            </a:r>
            <a:endParaRPr b="1" lang="en-US" sz="1800" spc="1" strike="noStrike">
              <a:ln w="9360">
                <a:solidFill>
                  <a:srgbClr val="ff33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pic>
        <p:nvPicPr>
          <p:cNvPr id="211" name="Picture 8" descr="IMAGE024"/>
          <p:cNvPicPr/>
          <p:nvPr/>
        </p:nvPicPr>
        <p:blipFill>
          <a:blip r:embed="rId2"/>
          <a:stretch/>
        </p:blipFill>
        <p:spPr>
          <a:xfrm>
            <a:off x="8136000" y="0"/>
            <a:ext cx="1008000" cy="100800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395280" y="1125360"/>
            <a:ext cx="3476520" cy="336240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3635280" y="4005360"/>
            <a:ext cx="532764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333399"/>
                </a:solidFill>
                <a:latin typeface="Arial"/>
              </a:rPr>
              <a:t>38 грамм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 txBox="1"/>
          <p:nvPr/>
        </p:nvSpPr>
        <p:spPr>
          <a:xfrm>
            <a:off x="250920" y="1197000"/>
            <a:ext cx="475272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6600"/>
                  </a:solidFill>
                  <a:miter/>
                </a:ln>
                <a:solidFill>
                  <a:srgbClr val="006600"/>
                </a:solidFill>
                <a:latin typeface="Arial"/>
              </a:rPr>
              <a:t>Продолжительность </a:t>
            </a:r>
            <a:endParaRPr b="1" lang="en-US" sz="1800" spc="1" strike="noStrike">
              <a:ln w="9360">
                <a:solidFill>
                  <a:srgbClr val="006600"/>
                </a:solidFill>
                <a:miter/>
              </a:ln>
              <a:solidFill>
                <a:srgbClr val="0066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6600"/>
                  </a:solidFill>
                  <a:miter/>
                </a:ln>
                <a:solidFill>
                  <a:srgbClr val="006600"/>
                </a:solidFill>
                <a:latin typeface="Arial"/>
              </a:rPr>
              <a:t>жизни  вороны</a:t>
            </a:r>
            <a:endParaRPr b="1" lang="en-US" sz="1800" spc="1" strike="noStrike">
              <a:ln w="9360">
                <a:solidFill>
                  <a:srgbClr val="006600"/>
                </a:solidFill>
                <a:miter/>
              </a:ln>
              <a:solidFill>
                <a:srgbClr val="006600"/>
              </a:solidFill>
              <a:latin typeface="Arial"/>
              <a:ea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3780000" y="2852640"/>
            <a:ext cx="3024000" cy="256248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 txBox="1"/>
          <p:nvPr/>
        </p:nvSpPr>
        <p:spPr>
          <a:xfrm>
            <a:off x="2987640" y="5661000"/>
            <a:ext cx="57610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Длина тела   вороны</a:t>
            </a:r>
            <a:endParaRPr b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5867280" y="1628640"/>
            <a:ext cx="309564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Скорость 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полета   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вороны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24000" y="3860640"/>
            <a:ext cx="309564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Вес птенца   </a:t>
            </a:r>
            <a:endParaRPr b="1" lang="en-US" sz="1800" spc="1" strike="noStrike">
              <a:ln w="9360">
                <a:solidFill>
                  <a:srgbClr val="ff33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вороны</a:t>
            </a:r>
            <a:endParaRPr b="1" lang="en-US" sz="1800" spc="1" strike="noStrike">
              <a:ln w="9360">
                <a:solidFill>
                  <a:srgbClr val="ff33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220" name="Text Box 24"/>
          <p:cNvSpPr/>
          <p:nvPr/>
        </p:nvSpPr>
        <p:spPr>
          <a:xfrm>
            <a:off x="611280" y="0"/>
            <a:ext cx="813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Вычитание однозначного числа из двузначного с переходом через разря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rcRect l="0" t="0" r="0" b="14336"/>
          <a:stretch/>
        </p:blipFill>
        <p:spPr>
          <a:xfrm>
            <a:off x="0" y="0"/>
            <a:ext cx="2021040" cy="24256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rcRect l="0" t="0" r="0" b="14336"/>
          <a:stretch/>
        </p:blipFill>
        <p:spPr>
          <a:xfrm>
            <a:off x="7122960" y="4433760"/>
            <a:ext cx="2021040" cy="242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24000" y="2205000"/>
            <a:ext cx="1079280" cy="107964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55640" y="3284640"/>
            <a:ext cx="1152360" cy="1008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908000" y="4005360"/>
            <a:ext cx="1079640" cy="107928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780000" y="2205000"/>
            <a:ext cx="1079280" cy="107964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51640" y="4005360"/>
            <a:ext cx="1079280" cy="107928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236000" y="2205000"/>
            <a:ext cx="1079280" cy="107964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2916360" y="3212640"/>
            <a:ext cx="1008000" cy="1079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88000" y="2997360"/>
            <a:ext cx="1081080" cy="1081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732720" y="3284280"/>
            <a:ext cx="936360" cy="1150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403280" y="3284640"/>
            <a:ext cx="2890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6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716360" y="3429000"/>
            <a:ext cx="432000" cy="730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2916360" y="3500280"/>
            <a:ext cx="1008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+ 7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5219640" y="3141720"/>
            <a:ext cx="6476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20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00000" y="3500280"/>
            <a:ext cx="432000" cy="730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732720" y="3860640"/>
            <a:ext cx="431640" cy="730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7236000" y="3645000"/>
            <a:ext cx="43308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8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179280" y="189000"/>
            <a:ext cx="6048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Times New Roman"/>
              </a:rPr>
              <a:t>Восстанови цепочку</a:t>
            </a:r>
            <a:endParaRPr b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Times New Roman"/>
              <a:ea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804000" y="0"/>
            <a:ext cx="2340000" cy="184464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8" descr="IMAGE024"/>
          <p:cNvPicPr/>
          <p:nvPr/>
        </p:nvPicPr>
        <p:blipFill>
          <a:blip r:embed="rId2"/>
          <a:stretch/>
        </p:blipFill>
        <p:spPr>
          <a:xfrm>
            <a:off x="1835280" y="4005360"/>
            <a:ext cx="1193760" cy="11937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8" descr="IMAGE024"/>
          <p:cNvPicPr/>
          <p:nvPr/>
        </p:nvPicPr>
        <p:blipFill>
          <a:blip r:embed="rId3"/>
          <a:stretch/>
        </p:blipFill>
        <p:spPr>
          <a:xfrm>
            <a:off x="3708360" y="2133720"/>
            <a:ext cx="1193760" cy="11937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8" descr="IMAGE024"/>
          <p:cNvPicPr/>
          <p:nvPr/>
        </p:nvPicPr>
        <p:blipFill>
          <a:blip r:embed="rId4"/>
          <a:stretch/>
        </p:blipFill>
        <p:spPr>
          <a:xfrm>
            <a:off x="5580000" y="4005360"/>
            <a:ext cx="1193760" cy="11937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IMAGE024"/>
          <p:cNvPicPr/>
          <p:nvPr/>
        </p:nvPicPr>
        <p:blipFill>
          <a:blip r:embed="rId5"/>
          <a:stretch/>
        </p:blipFill>
        <p:spPr>
          <a:xfrm>
            <a:off x="7164360" y="2060640"/>
            <a:ext cx="1193760" cy="11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10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10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" dur="10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" dur="1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" dur="1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6804000" y="0"/>
            <a:ext cx="2340000" cy="184464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468000" y="1125360"/>
            <a:ext cx="934920" cy="1224000"/>
          </a:xfrm>
          <a:prstGeom prst="line">
            <a:avLst/>
          </a:prstGeom>
          <a:ln w="1144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68360" y="2349360"/>
            <a:ext cx="1655640" cy="0"/>
          </a:xfrm>
          <a:prstGeom prst="line">
            <a:avLst/>
          </a:prstGeom>
          <a:ln w="1144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32000" y="1413000"/>
            <a:ext cx="2664000" cy="2016000"/>
          </a:xfrm>
          <a:prstGeom prst="hexagon">
            <a:avLst>
              <a:gd name="adj" fmla="val 33036"/>
              <a:gd name="vf" fmla="val 11547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8360" y="3357720"/>
            <a:ext cx="1704960" cy="1439640"/>
          </a:xfrm>
          <a:prstGeom prst="triangle">
            <a:avLst>
              <a:gd name="adj" fmla="val 50000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rot="5400000">
            <a:off x="2977560" y="4303800"/>
            <a:ext cx="1727280" cy="18507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3" name=""/>
          <p:cNvCxnSpPr/>
          <p:nvPr/>
        </p:nvCxnSpPr>
        <p:spPr>
          <a:xfrm flipH="1" flipV="1" rot="5400000">
            <a:off x="6568560" y="2584080"/>
            <a:ext cx="1729440" cy="827640"/>
          </a:xfrm>
          <a:prstGeom prst="curvedConnector5">
            <a:avLst>
              <a:gd name="adj1" fmla="val 41682"/>
              <a:gd name="adj2" fmla="val 87032"/>
              <a:gd name="adj3" fmla="val 41682"/>
            </a:avLst>
          </a:prstGeom>
          <a:ln w="114480">
            <a:solidFill>
              <a:srgbClr val="0000ff"/>
            </a:solidFill>
            <a:miter/>
          </a:ln>
        </p:spPr>
      </p:cxnSp>
      <p:sp>
        <p:nvSpPr>
          <p:cNvPr id="94" name=""/>
          <p:cNvSpPr/>
          <p:nvPr/>
        </p:nvSpPr>
        <p:spPr>
          <a:xfrm flipH="1" flipV="1">
            <a:off x="5446440" y="4116240"/>
            <a:ext cx="2861280" cy="1362240"/>
          </a:xfrm>
          <a:prstGeom prst="line">
            <a:avLst/>
          </a:prstGeom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3348000" y="0"/>
            <a:ext cx="2340000" cy="184464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68360" y="1700280"/>
            <a:ext cx="1512720" cy="151128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780000" y="1700280"/>
            <a:ext cx="1512720" cy="151128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093080" y="1700280"/>
            <a:ext cx="1512720" cy="151128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8" descr="IMAGE024"/>
          <p:cNvPicPr/>
          <p:nvPr/>
        </p:nvPicPr>
        <p:blipFill>
          <a:blip r:embed="rId2"/>
          <a:stretch/>
        </p:blipFill>
        <p:spPr>
          <a:xfrm>
            <a:off x="3851280" y="1844640"/>
            <a:ext cx="1409760" cy="14097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179280" y="4149720"/>
            <a:ext cx="79236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40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492360" y="4149720"/>
            <a:ext cx="79236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70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172360" y="4149720"/>
            <a:ext cx="79236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62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547640" y="4149720"/>
            <a:ext cx="43200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2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076720" y="4149720"/>
            <a:ext cx="43200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5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877080" y="4149720"/>
            <a:ext cx="43164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8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pic>
        <p:nvPicPr>
          <p:cNvPr id="109" name="Picture 8" descr="IMAGE024"/>
          <p:cNvPicPr/>
          <p:nvPr/>
        </p:nvPicPr>
        <p:blipFill>
          <a:blip r:embed="rId3"/>
          <a:stretch/>
        </p:blipFill>
        <p:spPr>
          <a:xfrm>
            <a:off x="1403280" y="4076640"/>
            <a:ext cx="865080" cy="8650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IMAGE024"/>
          <p:cNvPicPr/>
          <p:nvPr/>
        </p:nvPicPr>
        <p:blipFill>
          <a:blip r:embed="rId4"/>
          <a:stretch/>
        </p:blipFill>
        <p:spPr>
          <a:xfrm>
            <a:off x="6588000" y="4076640"/>
            <a:ext cx="865440" cy="8650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8" descr="IMAGE024"/>
          <p:cNvPicPr/>
          <p:nvPr/>
        </p:nvPicPr>
        <p:blipFill>
          <a:blip r:embed="rId5"/>
          <a:stretch/>
        </p:blipFill>
        <p:spPr>
          <a:xfrm>
            <a:off x="3780000" y="189000"/>
            <a:ext cx="1409400" cy="14097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6588000" y="0"/>
            <a:ext cx="2340000" cy="184464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0"/>
            <a:ext cx="2340000" cy="184464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11280" y="3357720"/>
            <a:ext cx="122400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^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924360" y="3284640"/>
            <a:ext cx="122400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^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7308720" y="3284640"/>
            <a:ext cx="122400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^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" dur="1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4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9" dur="1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1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6" dur="1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8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3" dur="1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5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 txBox="1"/>
          <p:nvPr/>
        </p:nvSpPr>
        <p:spPr>
          <a:xfrm>
            <a:off x="250920" y="1844640"/>
            <a:ext cx="5400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64 - 9 = 55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250920" y="4005360"/>
            <a:ext cx="561636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82 - 7 = 75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pic>
        <p:nvPicPr>
          <p:cNvPr id="122" name="Picture 8" descr="IMAGE024"/>
          <p:cNvPicPr/>
          <p:nvPr/>
        </p:nvPicPr>
        <p:blipFill>
          <a:blip r:embed="rId2"/>
          <a:stretch/>
        </p:blipFill>
        <p:spPr>
          <a:xfrm>
            <a:off x="4500720" y="3687840"/>
            <a:ext cx="1511280" cy="15112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8" descr="IMAGE024"/>
          <p:cNvPicPr/>
          <p:nvPr/>
        </p:nvPicPr>
        <p:blipFill>
          <a:blip r:embed="rId3"/>
          <a:stretch/>
        </p:blipFill>
        <p:spPr>
          <a:xfrm>
            <a:off x="4284720" y="1557360"/>
            <a:ext cx="1481040" cy="14810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6372360" y="2060640"/>
            <a:ext cx="2484360" cy="223200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79280" y="189000"/>
            <a:ext cx="87138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Times New Roman"/>
              </a:rPr>
              <a:t>Компоненты действия вычитания</a:t>
            </a:r>
            <a:endParaRPr b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7" dur="10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9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4" dur="10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6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4356000" y="404640"/>
            <a:ext cx="2340000" cy="184500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79280" y="2133720"/>
            <a:ext cx="2016360" cy="122400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80-6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340000" y="3789360"/>
            <a:ext cx="1944720" cy="122400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60-7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643280" y="2205000"/>
            <a:ext cx="1800360" cy="122400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56-8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9640" y="620640"/>
            <a:ext cx="2340000" cy="184464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877080" y="3573360"/>
            <a:ext cx="1800360" cy="122400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40-3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516720" y="4581360"/>
            <a:ext cx="2340000" cy="184500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71640" y="4724280"/>
            <a:ext cx="2340000" cy="184464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1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1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1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11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4859280" y="189000"/>
            <a:ext cx="2340000" cy="184464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300720" y="2205000"/>
            <a:ext cx="2340000" cy="184464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403280" y="4653000"/>
            <a:ext cx="2340000" cy="184464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979640" y="2492280"/>
            <a:ext cx="2340000" cy="184464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651640" y="4724280"/>
            <a:ext cx="2340000" cy="184464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95280" y="836640"/>
            <a:ext cx="2340000" cy="184464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2124000" y="1197000"/>
            <a:ext cx="5183280" cy="43927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 txBox="1"/>
          <p:nvPr/>
        </p:nvSpPr>
        <p:spPr>
          <a:xfrm>
            <a:off x="1403280" y="189000"/>
            <a:ext cx="39592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ОРОН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5184720" y="5877000"/>
            <a:ext cx="39592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ВОРОНИЙ ДЕНЬ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7T12:13:47Z</dcterms:created>
  <dc:creator>Customer</dc:creator>
  <dc:description/>
  <dc:language>en-US</dc:language>
  <cp:lastModifiedBy>Customer</cp:lastModifiedBy>
  <dcterms:modified xsi:type="dcterms:W3CDTF">2010-01-27T18:15:16Z</dcterms:modified>
  <cp:revision>6</cp:revision>
  <dc:subject/>
  <dc:title>Слайд 1</dc:title>
</cp:coreProperties>
</file>