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media/image12.png" ContentType="image/png"/>
  <Override PartName="/ppt/media/image4.png" ContentType="image/png"/>
  <Override PartName="/ppt/media/image5.png" ContentType="image/png"/>
  <Override PartName="/ppt/media/image10.jpeg" ContentType="image/jpeg"/>
  <Override PartName="/ppt/media/image9.png" ContentType="image/png"/>
  <Override PartName="/ppt/media/image6.gif" ContentType="image/gif"/>
  <Override PartName="/ppt/media/image11.gif" ContentType="image/gif"/>
  <Override PartName="/ppt/media/image14.png" ContentType="image/png"/>
  <Override PartName="/ppt/media/image7.gif" ContentType="image/gi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075-5AB4-4750-94A8-3AEB5D82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5BA-7F30-4AC9-978F-55F2B5BD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8AF-B89A-4CB0-A0C1-66EC21C1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BB8-D10B-4E3E-B7DD-D1885D0F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E5E-F7FE-4A5D-86B1-7913D2E2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3C85-118C-4C0A-8745-86FCA604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118-16B7-408B-95D5-251C8F9C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4081-943F-493D-AAA1-BE3BF01A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AEC-BA00-4A74-A7E5-A0DD38D7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25F-56CB-47AD-83AA-62F776BC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D6A-1FC0-4329-8753-7A273EAF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0E8-1D58-410E-A72A-BF6E21C7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4F85-EB0B-4180-96D2-F08E88C5F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0" y="177336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ranklin Gothic Heavy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43" name="WordArt 6"/>
          <p:cNvSpPr txBox="1"/>
          <p:nvPr/>
        </p:nvSpPr>
        <p:spPr>
          <a:xfrm rot="1003200">
            <a:off x="900000" y="213336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Franklin Gothic Heavy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1692360" y="314172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Franklin Gothic Heavy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45" name="WordArt 8"/>
          <p:cNvSpPr txBox="1"/>
          <p:nvPr/>
        </p:nvSpPr>
        <p:spPr>
          <a:xfrm rot="20376600">
            <a:off x="2626920" y="2349000"/>
            <a:ext cx="1008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ranklin Gothic Heavy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3635280" y="1628640"/>
            <a:ext cx="1008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Franklin Gothic Heavy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47" name="WordArt 10"/>
          <p:cNvSpPr txBox="1"/>
          <p:nvPr/>
        </p:nvSpPr>
        <p:spPr>
          <a:xfrm rot="1235400">
            <a:off x="4284360" y="227664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Franklin Gothic Heavy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48" name="WordArt 11"/>
          <p:cNvSpPr txBox="1"/>
          <p:nvPr/>
        </p:nvSpPr>
        <p:spPr>
          <a:xfrm>
            <a:off x="5292720" y="292428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6600cc"/>
                    </a:gs>
                  </a:gsLst>
                  <a:lin ang="5400000"/>
                </a:gradFill>
                <a:latin typeface="Franklin Gothic Heavy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6600cc"/>
                  </a:gs>
                </a:gsLst>
                <a:lin ang="5400000"/>
              </a:gradFill>
              <a:latin typeface="Franklin Gothic Heavy"/>
              <a:ea typeface="Franklin Gothic Heavy"/>
            </a:endParaRPr>
          </a:p>
        </p:txBody>
      </p:sp>
      <p:sp>
        <p:nvSpPr>
          <p:cNvPr id="49" name="WordArt 12"/>
          <p:cNvSpPr txBox="1"/>
          <p:nvPr/>
        </p:nvSpPr>
        <p:spPr>
          <a:xfrm rot="20199600">
            <a:off x="6372000" y="220500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Franklin Gothic Heavy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50" name="WordArt 13"/>
          <p:cNvSpPr txBox="1"/>
          <p:nvPr/>
        </p:nvSpPr>
        <p:spPr>
          <a:xfrm>
            <a:off x="7596360" y="184464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Franklin Gothic Heavy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51" name="WordArt 14"/>
          <p:cNvSpPr txBox="1"/>
          <p:nvPr/>
        </p:nvSpPr>
        <p:spPr>
          <a:xfrm rot="1323600">
            <a:off x="8135640" y="278100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Franklin Gothic Heavy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52" name="AutoShape 15"/>
          <p:cNvSpPr/>
          <p:nvPr/>
        </p:nvSpPr>
        <p:spPr>
          <a:xfrm>
            <a:off x="3071880" y="3357720"/>
            <a:ext cx="2232000" cy="2160360"/>
          </a:xfrm>
          <a:custGeom>
            <a:avLst/>
            <a:gdLst>
              <a:gd name="textAreaLeft" fmla="*/ 509400 w 2232000"/>
              <a:gd name="textAreaRight" fmla="*/ 1722600 w 2232000"/>
              <a:gd name="textAreaTop" fmla="*/ 493200 h 2160360"/>
              <a:gd name="textAreaBottom" fmla="*/ 166716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"/>
              </a:rPr>
              <a:t>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2" descr="J0232988"/>
          <p:cNvPicPr/>
          <p:nvPr/>
        </p:nvPicPr>
        <p:blipFill>
          <a:blip r:embed="rId2"/>
          <a:stretch/>
        </p:blipFill>
        <p:spPr>
          <a:xfrm>
            <a:off x="1042920" y="0"/>
            <a:ext cx="2016360" cy="19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55"/>
          <p:cNvPicPr/>
          <p:nvPr/>
        </p:nvPicPr>
        <p:blipFill>
          <a:blip r:embed="rId3"/>
          <a:stretch/>
        </p:blipFill>
        <p:spPr>
          <a:xfrm>
            <a:off x="6156360" y="-243000"/>
            <a:ext cx="2303280" cy="1898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4"/>
          <p:cNvSpPr/>
          <p:nvPr/>
        </p:nvSpPr>
        <p:spPr>
          <a:xfrm>
            <a:off x="1398600" y="5373720"/>
            <a:ext cx="774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ычитание однозначного числа из двузначного с переходом через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627280" y="189000"/>
            <a:ext cx="4681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лина тела воро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00360" cy="1514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508720" y="1557360"/>
            <a:ext cx="23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72-6 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140360" y="3573360"/>
            <a:ext cx="21603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71-9 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050920" y="2852640"/>
            <a:ext cx="287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16000" y="2852640"/>
            <a:ext cx="287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300720" y="2565360"/>
            <a:ext cx="287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164360" y="2565360"/>
            <a:ext cx="287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932360" y="4653000"/>
            <a:ext cx="287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51640" y="4653000"/>
            <a:ext cx="287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76360" y="2349360"/>
            <a:ext cx="50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659640" y="2060640"/>
            <a:ext cx="50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219640" y="4149720"/>
            <a:ext cx="50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844640"/>
            <a:ext cx="223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73-8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65" name="Picture 8" descr="IMAGE024"/>
          <p:cNvPicPr/>
          <p:nvPr/>
        </p:nvPicPr>
        <p:blipFill>
          <a:blip r:embed="rId3"/>
          <a:stretch/>
        </p:blipFill>
        <p:spPr>
          <a:xfrm>
            <a:off x="7885080" y="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627280" y="1773360"/>
            <a:ext cx="100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65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956720" y="1484280"/>
            <a:ext cx="100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66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372360" y="3500280"/>
            <a:ext cx="100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62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1484280"/>
            <a:ext cx="8964720" cy="46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00"/>
                </a:solidFill>
                <a:latin typeface="Arial"/>
              </a:rPr>
              <a:t>66 65 6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132000" y="189000"/>
            <a:ext cx="5040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корость полета воро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72" name="Picture 8" descr="IMAGE024"/>
          <p:cNvPicPr/>
          <p:nvPr/>
        </p:nvPicPr>
        <p:blipFill>
          <a:blip r:embed="rId2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87640" cy="2157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443640" y="4565520"/>
            <a:ext cx="2700360" cy="2292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50920" y="2421000"/>
            <a:ext cx="853128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корость голубя 62 км/ч, а скор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роны на 9км/ч меньш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ему равна скорость в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1763640" y="5157720"/>
            <a:ext cx="662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корость полета вороны - 53 км/ч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51847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250920" y="189000"/>
            <a:ext cx="7777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одолжительность жизни  воро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81" name="Picture 8" descr="IMAGE024"/>
          <p:cNvPicPr/>
          <p:nvPr/>
        </p:nvPicPr>
        <p:blipFill>
          <a:blip r:embed="rId2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crow12"/>
          <p:cNvPicPr/>
          <p:nvPr/>
        </p:nvPicPr>
        <p:blipFill>
          <a:blip r:embed="rId3"/>
          <a:stretch/>
        </p:blipFill>
        <p:spPr>
          <a:xfrm>
            <a:off x="2484360" y="1628640"/>
            <a:ext cx="439416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250920" y="189000"/>
            <a:ext cx="7777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одолжительность жизни  воро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85" name="Picture 8" descr="IMAGE024"/>
          <p:cNvPicPr/>
          <p:nvPr/>
        </p:nvPicPr>
        <p:blipFill>
          <a:blip r:embed="rId2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125360"/>
            <a:ext cx="2916360" cy="2089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84-30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0-8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1-2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3280" y="2492280"/>
            <a:ext cx="3240000" cy="216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-2= 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6+     =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7-      =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2637000"/>
            <a:ext cx="647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0000" y="4508640"/>
            <a:ext cx="3564000" cy="23493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8-20+     =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4+     -20=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9+1+     =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11640" y="3284640"/>
            <a:ext cx="647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393372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51640" y="4797360"/>
            <a:ext cx="649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88000" y="5445000"/>
            <a:ext cx="649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08720" y="6093000"/>
            <a:ext cx="64944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43280" y="2421000"/>
            <a:ext cx="324144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0000" y="4508640"/>
            <a:ext cx="3564000" cy="23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250920" y="189000"/>
            <a:ext cx="7777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одолжительность жизни  воро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99" name="Picture 8" descr="IMAGE024"/>
          <p:cNvPicPr/>
          <p:nvPr/>
        </p:nvPicPr>
        <p:blipFill>
          <a:blip r:embed="rId2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1628640"/>
            <a:ext cx="8964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5  22  26  31  32  40  54  61  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781360"/>
            <a:ext cx="826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01080" y="2708280"/>
            <a:ext cx="826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268360" y="2852640"/>
            <a:ext cx="4586400" cy="34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250920" y="189000"/>
            <a:ext cx="7777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ес птенца   воро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206" name="Picture 8" descr="IMAGE024"/>
          <p:cNvPicPr/>
          <p:nvPr/>
        </p:nvPicPr>
        <p:blipFill>
          <a:blip r:embed="rId2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3606840" cy="3606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50920" y="4005360"/>
            <a:ext cx="6767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4, 15, 10, 4, 5, 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250920" y="189000"/>
            <a:ext cx="7777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ес птенца   воро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211" name="Picture 8" descr="IMAGE024"/>
          <p:cNvPicPr/>
          <p:nvPr/>
        </p:nvPicPr>
        <p:blipFill>
          <a:blip r:embed="rId2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3476520" cy="33624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635280" y="4005360"/>
            <a:ext cx="5327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38 грам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50920" y="1197000"/>
            <a:ext cx="475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родолжительность 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жизни  вороны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780000" y="2852640"/>
            <a:ext cx="3024000" cy="2562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87640" y="5661000"/>
            <a:ext cx="576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лина тела   воро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867280" y="1628640"/>
            <a:ext cx="3095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корость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лета  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ороны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3860640"/>
            <a:ext cx="3095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ес птенца   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оро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611280" y="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ычитание однозначного числа из двузначного с переходом через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0" b="14336"/>
          <a:stretch/>
        </p:blipFill>
        <p:spPr>
          <a:xfrm>
            <a:off x="0" y="0"/>
            <a:ext cx="2021040" cy="2425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rcRect l="0" t="0" r="0" b="14336"/>
          <a:stretch/>
        </p:blipFill>
        <p:spPr>
          <a:xfrm>
            <a:off x="7122960" y="4433760"/>
            <a:ext cx="202104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2205000"/>
            <a:ext cx="1079280" cy="10796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3284640"/>
            <a:ext cx="115236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4005360"/>
            <a:ext cx="1079640" cy="1079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2205000"/>
            <a:ext cx="1079280" cy="10796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4005360"/>
            <a:ext cx="1079280" cy="1079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2205000"/>
            <a:ext cx="1079280" cy="10796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916360" y="3212640"/>
            <a:ext cx="1008000" cy="107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2997360"/>
            <a:ext cx="1081080" cy="1081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32720" y="3284280"/>
            <a:ext cx="936360" cy="1150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03280" y="3284640"/>
            <a:ext cx="28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3429000"/>
            <a:ext cx="432000" cy="73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916360" y="3500280"/>
            <a:ext cx="100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+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219640" y="3141720"/>
            <a:ext cx="647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3500280"/>
            <a:ext cx="432000" cy="73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32720" y="3860640"/>
            <a:ext cx="431640" cy="73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236000" y="3645000"/>
            <a:ext cx="433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189000"/>
            <a:ext cx="60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Восстанови цепочку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04000" y="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IMAGE024"/>
          <p:cNvPicPr/>
          <p:nvPr/>
        </p:nvPicPr>
        <p:blipFill>
          <a:blip r:embed="rId2"/>
          <a:stretch/>
        </p:blipFill>
        <p:spPr>
          <a:xfrm>
            <a:off x="1835280" y="400536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IMAGE024"/>
          <p:cNvPicPr/>
          <p:nvPr/>
        </p:nvPicPr>
        <p:blipFill>
          <a:blip r:embed="rId3"/>
          <a:stretch/>
        </p:blipFill>
        <p:spPr>
          <a:xfrm>
            <a:off x="3708360" y="213372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IMAGE024"/>
          <p:cNvPicPr/>
          <p:nvPr/>
        </p:nvPicPr>
        <p:blipFill>
          <a:blip r:embed="rId4"/>
          <a:stretch/>
        </p:blipFill>
        <p:spPr>
          <a:xfrm>
            <a:off x="5580000" y="400536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IMAGE024"/>
          <p:cNvPicPr/>
          <p:nvPr/>
        </p:nvPicPr>
        <p:blipFill>
          <a:blip r:embed="rId5"/>
          <a:stretch/>
        </p:blipFill>
        <p:spPr>
          <a:xfrm>
            <a:off x="7164360" y="2060640"/>
            <a:ext cx="11937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04000" y="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68000" y="1125360"/>
            <a:ext cx="934920" cy="1224000"/>
          </a:xfrm>
          <a:prstGeom prst="line">
            <a:avLst/>
          </a:prstGeom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49360"/>
            <a:ext cx="1655640" cy="0"/>
          </a:xfrm>
          <a:prstGeom prst="line">
            <a:avLst/>
          </a:prstGeom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32000" y="1413000"/>
            <a:ext cx="2664000" cy="2016000"/>
          </a:xfrm>
          <a:prstGeom prst="hexagon">
            <a:avLst>
              <a:gd name="adj" fmla="val 33036"/>
              <a:gd name="vf" fmla="val 1154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357720"/>
            <a:ext cx="1704960" cy="1439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2977560" y="4303800"/>
            <a:ext cx="1727280" cy="1850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/>
          <p:nvPr/>
        </p:nvCxnSpPr>
        <p:spPr>
          <a:xfrm flipH="1" flipV="1" rot="5400000">
            <a:off x="6568560" y="2584080"/>
            <a:ext cx="1729440" cy="827640"/>
          </a:xfrm>
          <a:prstGeom prst="curvedConnector5">
            <a:avLst>
              <a:gd name="adj1" fmla="val 41682"/>
              <a:gd name="adj2" fmla="val 87032"/>
              <a:gd name="adj3" fmla="val 41682"/>
            </a:avLst>
          </a:prstGeom>
          <a:ln w="114480">
            <a:solidFill>
              <a:srgbClr val="0000ff"/>
            </a:solidFill>
            <a:miter/>
          </a:ln>
        </p:spPr>
      </p:cxnSp>
      <p:sp>
        <p:nvSpPr>
          <p:cNvPr id="94" name=""/>
          <p:cNvSpPr/>
          <p:nvPr/>
        </p:nvSpPr>
        <p:spPr>
          <a:xfrm flipH="1" flipV="1">
            <a:off x="5446440" y="4116240"/>
            <a:ext cx="2861280" cy="1362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48000" y="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700280"/>
            <a:ext cx="1512720" cy="15112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1700280"/>
            <a:ext cx="1512720" cy="15112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93080" y="1700280"/>
            <a:ext cx="1512720" cy="15112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IMAGE024"/>
          <p:cNvPicPr/>
          <p:nvPr/>
        </p:nvPicPr>
        <p:blipFill>
          <a:blip r:embed="rId2"/>
          <a:stretch/>
        </p:blipFill>
        <p:spPr>
          <a:xfrm>
            <a:off x="3851280" y="184464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79280" y="4149720"/>
            <a:ext cx="7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492360" y="4149720"/>
            <a:ext cx="7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172360" y="4149720"/>
            <a:ext cx="7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47640" y="4149720"/>
            <a:ext cx="4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76720" y="4149720"/>
            <a:ext cx="4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77080" y="4149720"/>
            <a:ext cx="43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09" name="Picture 8" descr="IMAGE024"/>
          <p:cNvPicPr/>
          <p:nvPr/>
        </p:nvPicPr>
        <p:blipFill>
          <a:blip r:embed="rId3"/>
          <a:stretch/>
        </p:blipFill>
        <p:spPr>
          <a:xfrm>
            <a:off x="1403280" y="407664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IMAGE024"/>
          <p:cNvPicPr/>
          <p:nvPr/>
        </p:nvPicPr>
        <p:blipFill>
          <a:blip r:embed="rId4"/>
          <a:stretch/>
        </p:blipFill>
        <p:spPr>
          <a:xfrm>
            <a:off x="6588000" y="407664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IMAGE024"/>
          <p:cNvPicPr/>
          <p:nvPr/>
        </p:nvPicPr>
        <p:blipFill>
          <a:blip r:embed="rId5"/>
          <a:stretch/>
        </p:blipFill>
        <p:spPr>
          <a:xfrm>
            <a:off x="3780000" y="189000"/>
            <a:ext cx="1409400" cy="1409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588000" y="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3357720"/>
            <a:ext cx="122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24360" y="3284640"/>
            <a:ext cx="122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308720" y="3284640"/>
            <a:ext cx="122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50920" y="184464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4 - 9 = 5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4005360"/>
            <a:ext cx="561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2 - 7 = 7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22" name="Picture 8" descr="IMAGE024"/>
          <p:cNvPicPr/>
          <p:nvPr/>
        </p:nvPicPr>
        <p:blipFill>
          <a:blip r:embed="rId2"/>
          <a:stretch/>
        </p:blipFill>
        <p:spPr>
          <a:xfrm>
            <a:off x="4500720" y="36878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IMAGE024"/>
          <p:cNvPicPr/>
          <p:nvPr/>
        </p:nvPicPr>
        <p:blipFill>
          <a:blip r:embed="rId3"/>
          <a:stretch/>
        </p:blipFill>
        <p:spPr>
          <a:xfrm>
            <a:off x="4284720" y="1557360"/>
            <a:ext cx="1481040" cy="1481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372360" y="2060640"/>
            <a:ext cx="2484360" cy="2232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189000"/>
            <a:ext cx="871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Компоненты действия вычитания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404640"/>
            <a:ext cx="2340000" cy="184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133720"/>
            <a:ext cx="2016360" cy="12240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80-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3789360"/>
            <a:ext cx="1944720" cy="12240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60-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2205000"/>
            <a:ext cx="1800360" cy="12240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56-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62064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77080" y="3573360"/>
            <a:ext cx="1800360" cy="12240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40-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4581360"/>
            <a:ext cx="2340000" cy="184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72428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59280" y="18900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00720" y="220500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65300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249228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472428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83664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5183280" cy="4392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403280" y="189000"/>
            <a:ext cx="3959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Р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184720" y="5877000"/>
            <a:ext cx="3959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ОРОНИЙ ДЕН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2:13:47Z</dcterms:created>
  <dc:creator>Customer</dc:creator>
  <dc:description/>
  <dc:language>en-US</dc:language>
  <cp:lastModifiedBy>Customer</cp:lastModifiedBy>
  <dcterms:modified xsi:type="dcterms:W3CDTF">2010-01-27T18:15:16Z</dcterms:modified>
  <cp:revision>6</cp:revision>
  <dc:subject/>
  <dc:title>Слайд 1</dc:title>
</cp:coreProperties>
</file>