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193-3EDE-4783-A01A-E3BAEC38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3EE-38A0-4F0B-8AB1-078847C8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8D4-6C6D-4702-BF80-8C924A4E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AFF-62FC-48F0-B406-3CA02E8B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E682-A0FB-489D-885C-49A2E9B0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C54-FFDA-4B15-8D57-DD393D9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5CB5-65DD-4A6D-B899-16E96BBD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9B7-E6CB-4454-8537-0961961F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AA07-04FF-43AC-9250-A4AF0214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140-65BC-49E5-BA2C-F614181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0ECD-F4A4-454E-9063-AC1FDF6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558-FA12-48BE-8F3C-2DAFEDAB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17E1-CC16-4BF7-A658-9DB0BFA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4074-CC04-4FFF-B4B0-0238080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440B-D429-45F0-84CA-AC3BC207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A554-4E03-4F58-9C82-816381E2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15A2-BBF3-4327-BE00-D8EA0B97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335-2011-4082-90B9-0F89BA1A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82D-B83B-4C3B-BAE1-6B12A9C0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9E2-F9E0-40A3-A40C-E54123CC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BEE-47B7-464E-B845-F4788D0E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D68-4FA2-422A-8D3F-53AD0346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6EE-2A9D-4B6F-8FFA-A89FF6C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C98-CBD6-49E0-8163-F4CAB45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B8A3-2972-41BB-BB1E-61F9216629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ac120"/>
                </a:gs>
                <a:gs pos="100000">
                  <a:srgbClr val="7459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3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A3E-015A-484C-8F00-958037D80F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Н.Ф.Виноградова   «Предшкольная пора»</a:t>
            </a:r>
            <a:br>
              <a:rPr sz="2000"/>
            </a:br>
            <a:endParaRPr b="1" lang="en-US" sz="2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Группа кратковременного пребывания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предшкольного образования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Филиал МОУ  «СОШ №1 р.п. Татищево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 д. Македоновк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Иванова Елена Владимир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                                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оспитател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0" name="Picture 5" descr="C:\Documents and Settings\admin\Мои документы\Мои рисунки\Рисунок6.jpg"/>
          <p:cNvPicPr/>
          <p:nvPr/>
        </p:nvPicPr>
        <p:blipFill>
          <a:blip r:embed="rId1"/>
          <a:stretch/>
        </p:blipFill>
        <p:spPr>
          <a:xfrm>
            <a:off x="1428840" y="1503360"/>
            <a:ext cx="62690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2" name="Picture 5" descr="C:\Documents and Settings\admin\Мои документы\Мои рисунки\Рисунок5.jpg"/>
          <p:cNvPicPr/>
          <p:nvPr/>
        </p:nvPicPr>
        <p:blipFill>
          <a:blip r:embed="rId1"/>
          <a:stretch/>
        </p:blipFill>
        <p:spPr>
          <a:xfrm>
            <a:off x="1357200" y="1454040"/>
            <a:ext cx="644220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44" name="Picture 5" descr="C:\Documents and Settings\admin\Мои документы\Мои рисунки\Рисунок4.jpg"/>
          <p:cNvPicPr/>
          <p:nvPr/>
        </p:nvPicPr>
        <p:blipFill>
          <a:blip r:embed="rId1"/>
          <a:stretch/>
        </p:blipFill>
        <p:spPr>
          <a:xfrm>
            <a:off x="1285920" y="1395360"/>
            <a:ext cx="64119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Чтение рассказа  «Разноцветные кораблики» По Кайгородову.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Что за кораблики на вод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 какое время бывают такие корабли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19" descr="C:\Documents and Settings\admin\Мои документы\Мои рисунки\Рисунок8.jpg"/>
          <p:cNvPicPr/>
          <p:nvPr/>
        </p:nvPicPr>
        <p:blipFill>
          <a:blip r:embed="rId1"/>
          <a:stretch/>
        </p:blipFill>
        <p:spPr>
          <a:xfrm>
            <a:off x="928800" y="1692360"/>
            <a:ext cx="28144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00"/>
                </a:solidFill>
                <a:uFillTx/>
                <a:latin typeface="Times New Roman"/>
              </a:rPr>
              <a:t>Игра «Подбери действие».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Ребята, вы сказали, что осенью часто дует ветер. Вот и сегодня он дует с самого утра, встретила я его по дороге, и он мне подарил волшебный мя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Мяч осенний и волшебный, 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Будет в руки к вам скакать 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И вопросы задав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Ребята, давайте мы пойдем на осеннюю полянку и поиграем в игру. Кому я брошу мяч, тот отвечает на вопрос, а за правильный ответ я вам дам осенний л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Листья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(что делают?) — Листья осенью желтеют, опадают и т.д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ождь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Дождь осенью моросит, идет и т.д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Урожай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Урожай осенью убирают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Птицы осенью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— Птицы осенью улетают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Деревья осенью — 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ревья осенью роняют листья.</a:t>
            </a:r>
            <a:br>
              <a:rPr sz="2000"/>
            </a:br>
            <a:r>
              <a:rPr b="0" lang="ru-RU" sz="2000" spc="-1" strike="noStrike">
                <a:solidFill>
                  <a:srgbClr val="009900"/>
                </a:solidFill>
                <a:latin typeface="Times New Roman"/>
              </a:rPr>
              <a:t>Звери осенью —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 Звери осенью готовятся к зиме, меняют шубк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ти с листочками в руках стоят в кругу и вместе с педагогом произносят стихотвор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Мы, листики осенние,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На веточках сид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етер дунул, полет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Мы летели, мы лет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на землю тихо сели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Ветер снова набежа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листочки все подня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Повертел их, покружил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И на землю опусти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Дети имитируют действия «листочков» в соответствии с текстом стихотворения: садятся на корточки, летают по комнате, вновь тихо садятся, поднимаются, кружатся и снова садятся. Листья собирают в бук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imes New Roman"/>
              </a:rPr>
              <a:t>К осеннему празднику дети выучили стихи: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Желтый листик на ладошк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Приложу его к ще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Это солнечное ле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Я держу в своей ру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Желтый лист! Не улетай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Про меня не забывай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Как притих осенний сад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С веток листики летя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Тихо шепчут, шелестя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Убаюкать вас хот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Ёжик лег в свою кроватк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И уснул в ней сладко-сладк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Осень ставенки закрыл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Тихо лампу погасил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Ветер песню напева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Times New Roman"/>
              </a:rPr>
              <a:t>Чтобы ёжик зиму спа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Times New Roman"/>
              </a:rPr>
              <a:t>Игра   «Сороконожка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Дети встают в колонну друг за другом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Шла сороконож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По сухой дорожке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  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дети идут друг за другом, держась за плеч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Вдруг закапал дождик: кап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й, промокнут сорок лап!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останавливаются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Насморк мне не нуже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бойду я лужи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       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(идут, высоко поднимая колен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Грязи в дом не принесу</a:t>
            </a:r>
            <a:r>
              <a:rPr b="0" lang="en-US" sz="1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993300"/>
                </a:solidFill>
                <a:latin typeface="Times New Roman"/>
              </a:rPr>
              <a:t> (останавливаются, трясут ручками,ножкам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Каждой лапкой потряс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И потопаю потом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Times New Roman"/>
              </a:rPr>
              <a:t>Ой, какой от лапок гром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Цели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Систематизировать знания детей об осени и осенних явлениях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Активизировать глагольный словарь по данной теме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составлять предложения по картинкам, а из них короткий рассказ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детей отвечать на вопросы полным предложением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Продолжать учить согласовывать движения с реч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-Развивать мелкую моторику пальцев рук  умение рисовать наклонные пунктирные линии.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Интегрирование по разделам: Познаем мир, учимся родному языку( развитие речи), учимся рисов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Составление рассказа по картинке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1" name="Picture 5" descr="C:\Documents and Settings\admin\Мои документы\Мои рисунки\Рисунок9.jpg"/>
          <p:cNvPicPr/>
          <p:nvPr/>
        </p:nvPicPr>
        <p:blipFill>
          <a:blip r:embed="rId1"/>
          <a:stretch/>
        </p:blipFill>
        <p:spPr>
          <a:xfrm>
            <a:off x="1214280" y="1488960"/>
            <a:ext cx="6475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Итог занятия (рефлексия)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О чем бы вы хотели рассказать родителя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Что бы вы еще хотели узнать об осен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В чем вы испытывали трудност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итература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buslik.net/pr_urojaya/40-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osen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nee-razvlechenie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www.kolocolchik.ru/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razrabotki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zanyatiy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osen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Детский портал «Солнышко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Л.Г.Селихова Интегрированные занят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«Ознакомление с природой и развитие речи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М. «Мозаика-Синтез» 2005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О.С.Ушакова, Е.М. Струнина. Развитие речи детей 6-7 лет М. «Вентана- Граф» 2010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В.Н. Волочкова,Н.В. Степанова «Конспекты занятий в старшей группе детского сада. Экология.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ТЦ «Учитель» Воронеж 2004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http://s15.radikal.ru/i189/1102/b0/3f38b9449f64.jpg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rowanjadejewellery.files.wordpress.com/2010/09/autumn-leaves-backgrounds-new-york-pictures1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img0.liveinternet.ru/images/attach/c/0/42/230/42230785_dlya_ledi_osen_Alenki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ona-znaet.ru/statii/2/138/5.jpg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69" name="Picture 6" descr="C:\Documents and Settings\admin\Мои документы\Мои рисунки\Рисунок7.jpg"/>
          <p:cNvPicPr/>
          <p:nvPr/>
        </p:nvPicPr>
        <p:blipFill>
          <a:blip r:embed="rId1"/>
          <a:stretch/>
        </p:blipFill>
        <p:spPr>
          <a:xfrm>
            <a:off x="1468440" y="1617840"/>
            <a:ext cx="6207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8"/>
          <p:cNvSpPr txBox="1"/>
          <p:nvPr/>
        </p:nvSpPr>
        <p:spPr>
          <a:xfrm>
            <a:off x="324000" y="2060640"/>
            <a:ext cx="6840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лаем удачи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Пособ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Виноградова Н.Ф «Рассказы-загадки о природе» М. Издательский центр «Вентана-Граф» 2008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: Салмина Н.Г., Глебова А.О. «Учимся рисовать». Клетки, точки и штрихи. М. Издательский центр «Вентана-Граф» 2008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Оборудование: листочки из бумаги, ваза, карточки с тучкой, мяч, энциклопедия детская, карточки со стих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Словарная работа: разноцветные кораблики, моросит дождь, небо светло-синее, листья кружатся, укрывают землю золотым ковр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Посмотрите на картинку 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О чем мы сегодня будем говорить?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28" name="Picture 5" descr="C:\Documents and Settings\admin\Мои документы\Мои рисунки\Рисунок1.jpg"/>
          <p:cNvPicPr/>
          <p:nvPr/>
        </p:nvPicPr>
        <p:blipFill>
          <a:blip r:embed="rId1"/>
          <a:stretch/>
        </p:blipFill>
        <p:spPr>
          <a:xfrm>
            <a:off x="1571760" y="1836720"/>
            <a:ext cx="5806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Золотая осень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Как выдумаете, что мы будем сегодня дела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Что узнаем на этом заняти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Что про осень мы уже знаем?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Назовите какие осенние месяцы вы знаете? (сентябрь, ноябрь, октябрь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Ребята, что происходит с наступлением осени в природе?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(Осенью листья желтеют, краснеют, розовеют, опадают. Птицы улетают в теплые края. Животные готовятся к зиме. Солнце светит, но не греет. Часто идет холодный дождь. На улице стало холодно, поэтому люди стали одеваться теплее. В лесу появились грибы и ягоды. Люди собирают урожа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36" name="Picture 7" descr="C:\Documents and Settings\admin\Мои документы\Мои рисунки\Рисунок2.jpg"/>
          <p:cNvPicPr/>
          <p:nvPr/>
        </p:nvPicPr>
        <p:blipFill>
          <a:blip r:embed="rId1"/>
          <a:stretch/>
        </p:blipFill>
        <p:spPr>
          <a:xfrm>
            <a:off x="909720" y="1643040"/>
            <a:ext cx="70628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9900"/>
              </a:solidFill>
              <a:latin typeface="Times New Roman"/>
            </a:endParaRPr>
          </a:p>
        </p:txBody>
      </p:sp>
      <p:pic>
        <p:nvPicPr>
          <p:cNvPr id="138" name="Picture 5" descr="C:\Documents and Settings\admin\Мои документы\Мои рисунки\Рисунок3.jpg"/>
          <p:cNvPicPr/>
          <p:nvPr/>
        </p:nvPicPr>
        <p:blipFill>
          <a:blip r:embed="rId1"/>
          <a:stretch/>
        </p:blipFill>
        <p:spPr>
          <a:xfrm>
            <a:off x="1571760" y="1735200"/>
            <a:ext cx="635796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6:06:16Z</dcterms:created>
  <dc:creator>home</dc:creator>
  <dc:description/>
  <dc:language>en-US</dc:language>
  <cp:lastModifiedBy>школа</cp:lastModifiedBy>
  <dcterms:modified xsi:type="dcterms:W3CDTF">2012-07-09T09:08:53Z</dcterms:modified>
  <cp:revision>15</cp:revision>
  <dc:subject/>
  <dc:title>В гости осень к нам пришла</dc:title>
</cp:coreProperties>
</file>