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F72-80E5-4AEE-A4ED-5A5FF9E8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A87-1374-47CE-8E26-EC882F7F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1D1-FF98-4557-B58D-D6AB1DE3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10C-1168-4F1B-A65E-ADF9299D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CF20-1A34-47D0-ACAF-330B69CF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6A5-071B-484D-BB64-30360414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0A69-AB1B-433A-BD10-4633B408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8B45-98D6-451A-A6F5-D021F5D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37A4-72D1-43CB-8315-24F3E57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AC15-CF87-480E-83C9-41462B0C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A756-6578-4A7F-923A-94EF762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29D-D889-46D4-8EC5-16944AAF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71A1-A129-405E-B4F3-0FB6670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67C0-F1BF-491E-A917-0855672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0DD8-B8FF-4195-8396-A3FA8C5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9065-9C8B-4AE9-AB2C-74554F76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D3BB-B569-43A7-AF38-3B366C0B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959-9139-4E8B-972B-ACF01A72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934-749B-40AF-A4E6-7FD66E0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478-12A9-4EC3-BA16-DF523486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FE1-63D6-47A1-83B4-F24BC23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B31-365E-496D-9518-CB7F54D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4B6-58BA-49B7-8FE6-B1B33C0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08D-2B2E-467A-AACD-32FA488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CDEB-48D1-4E65-B487-B6C9AB261D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39C7-8390-496B-9BEB-EED5AF279E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Н.Ф.Виноградова   «Предшкольная пора»</a:t>
            </a:r>
            <a:br>
              <a:rPr sz="2000"/>
            </a:b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уппа кратковременного пребывания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      предшкольного образования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Филиал МОУ  «СОШ №1 р.п. Татищево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 д. Македонов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Иванова Елена Владими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оспитател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40" name="Picture 5" descr="C:\Documents and Settings\admin\Мои документы\Мои рисунки\Рисунок6.jpg"/>
          <p:cNvPicPr/>
          <p:nvPr/>
        </p:nvPicPr>
        <p:blipFill>
          <a:blip r:embed="rId1"/>
          <a:stretch/>
        </p:blipFill>
        <p:spPr>
          <a:xfrm>
            <a:off x="1428840" y="1503360"/>
            <a:ext cx="62690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42" name="Picture 5" descr="C:\Documents and Settings\admin\Мои документы\Мои рисунки\Рисунок5.jpg"/>
          <p:cNvPicPr/>
          <p:nvPr/>
        </p:nvPicPr>
        <p:blipFill>
          <a:blip r:embed="rId1"/>
          <a:stretch/>
        </p:blipFill>
        <p:spPr>
          <a:xfrm>
            <a:off x="1357200" y="1454040"/>
            <a:ext cx="64422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44" name="Picture 5" descr="C:\Documents and Settings\admin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1285920" y="1395360"/>
            <a:ext cx="64119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Чтение рассказа  «Разноцветные кораблики» По Кайгородову.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Что за кораблики на вод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 какое время бывают такие корабли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19" descr="C:\Documents and Settings\admin\Мои документы\Мои рисунки\Рисунок8.jpg"/>
          <p:cNvPicPr/>
          <p:nvPr/>
        </p:nvPicPr>
        <p:blipFill>
          <a:blip r:embed="rId1"/>
          <a:stretch/>
        </p:blipFill>
        <p:spPr>
          <a:xfrm>
            <a:off x="928800" y="1692360"/>
            <a:ext cx="28144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00"/>
                </a:solidFill>
                <a:uFillTx/>
                <a:latin typeface="Times New Roman"/>
              </a:rPr>
              <a:t>Игра «Подбери действие».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Ребята, вы сказали, что осенью часто дует ветер. Вот и сегодня он дует с самого утра, встретила я его по дороге, и он мне подарил волшебный мя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Мяч осенний и волшебный, 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Будет в руки к вам скакать 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И вопросы задав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Ребята, давайте мы пойдем на осеннюю полянку и поиграем в игру. Кому я брошу мяч, тот отвечает на вопрос, а за правильный ответ я вам дам осенний ли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Листья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(что делают?) — Листья осенью желтеют, опадают и т.д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ождь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— Дождь осенью моросит, идет и т.д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Урожай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— Урожай осенью убирают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Птицы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— Птицы осенью улетают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еревья осенью —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Деревья осенью роняют листья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Звери осенью —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Звери осенью готовятся к зиме, меняют шубк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Дети с листочками в руках стоят в кругу и вместе с педагогом произносят стихотвор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Мы, листики осенние,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На веточках сид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Ветер дунул, полет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Мы летели, мы лет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на землю тихо с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Ветер снова набежал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листочки все поднял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Повертел их, покружил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на землю опусти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Дети имитируют действия «листочков» в соответствии с текстом стихотворения: садятся на корточки, летают по комнате, вновь тихо садятся, поднимаются, кружатся и снова садятся. Листья собирают в бук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imes New Roman"/>
              </a:rPr>
              <a:t>К осеннему празднику дети выучили стихи: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Желтый листик на ладош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Приложу его к ще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Это солнечное ле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Я держу в своей ру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Желтый лист! Не улетай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Про меня не забывай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Как притих осенний сад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С веток листики летя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Тихо шепчут, шелестя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Убаюкать вас хот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Ёжик лег в свою кроват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И уснул в ней сладко-сладк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Осень ставенки закрыл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Тихо лампу погасил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Ветер песню напева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Чтобы ёжик зиму спа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Игра   «Сороконожка»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Дети встают в колонну друг за друг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Шла сороконож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По сухой дорожке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(дети идут друг за другом, держась за плеч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Вдруг закапал дождик: кап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Ой, промокнут сорок лап!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(останавливаются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Насморк мне не нуж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Обойду я луж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(идут, высоко поднимая колен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Грязи в дом не принесу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(останавливаются, трясут ручками,ножкам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Каждой лапкой потряс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И потопаю потом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Ой, какой от лапок гром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Цели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Систематизировать знания детей об осени и осенних явления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Активизировать глагольный словарь по данной теме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Продолжать учить составлять предложения по картинкам, а из них короткий рассказ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Продолжать учить детей отвечать на вопросы полным предложением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Продолжать учить согласовывать движения с реч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Развивать мелкую моторику пальцев рук  умение рисовать наклонные пунктирные линии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Интегрирование по разделам: Познаем мир, учимся родному языку( развитие речи), учимся рис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Составление рассказа по картинке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1" name="Picture 5" descr="C:\Documents and Settings\admin\Мои документы\Мои рисунки\Рисунок9.jpg"/>
          <p:cNvPicPr/>
          <p:nvPr/>
        </p:nvPicPr>
        <p:blipFill>
          <a:blip r:embed="rId1"/>
          <a:stretch/>
        </p:blipFill>
        <p:spPr>
          <a:xfrm>
            <a:off x="1214280" y="1488960"/>
            <a:ext cx="6475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Итог занятия (рефлексия)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О чем бы вы хотели рассказать родителя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Что бы вы еще хотели узнать об осен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В чем вы испытывали трудност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Литература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uslik.net/pr_urojaya/40-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osen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ee-razvlecheni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www.kolocolchik.ru/…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razrabotki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zanyatiy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osen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Детский портал «Солнышк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Л.Г.Селихова Интегрированные занят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«Ознакомление с природой и развитие реч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М. «Мозаика-Синтез» 2005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О.С.Ушакова, Е.М. Струнина. Развитие речи детей 6-7 лет М. «Вентана- Граф» 2010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В.Н. Волочкова,Н.В. Степанова «Конспекты занятий в старшей группе детского сада. Экология.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ТЦ «Учитель» Воронеж 2004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http://s15.radikal.ru/i189/1102/b0/3f38b9449f64.jpg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rowanjadejewellery.files.wordpress.com/2010/09/autumn-leaves-backgrounds-new-york-pictures1.jp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img0.liveinternet.ru/images/attach/c/0/42/230/42230785_dlya_ledi_osen_Alenki.jp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ona-znaet.ru/statii/2/138/5.jp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9" name="Picture 6" descr="C:\Documents and Settings\admin\Мои документы\Мои рисунки\Рисунок7.jpg"/>
          <p:cNvPicPr/>
          <p:nvPr/>
        </p:nvPicPr>
        <p:blipFill>
          <a:blip r:embed="rId1"/>
          <a:stretch/>
        </p:blipFill>
        <p:spPr>
          <a:xfrm>
            <a:off x="1468440" y="1617840"/>
            <a:ext cx="6207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8"/>
          <p:cNvSpPr txBox="1"/>
          <p:nvPr/>
        </p:nvSpPr>
        <p:spPr>
          <a:xfrm>
            <a:off x="324000" y="2060640"/>
            <a:ext cx="68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аем удач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Пособ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иноградова Н.Ф «Рассказы-загадки о природе» М. Издательский центр «Вентана-Граф» 2008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: Салмина Н.Г., Глебова А.О. «Учимся рисовать». Клетки, точки и штрихи. М. Издательский центр «Вентана-Граф» 2008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Оборудование: листочки из бумаги, ваза, карточки с тучкой, мяч, энциклопедия детская, карточки со стих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Словарная работа: разноцветные кораблики, моросит дождь, небо светло-синее, листья кружатся, укрывают землю золотым ков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Посмотрите на картинку 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О чем мы сегодня будем говорить?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8" name="Picture 5" descr="C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1571760" y="1836720"/>
            <a:ext cx="58068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Золотая осень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Как выдумаете, что мы будем сегодня дела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Что узнаем на этом заняти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Что про осень мы уже знаем?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Назовите какие осенние месяцы вы знаете? (сентябрь, ноябрь, октябрь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Ребята, что происходит с наступлением осени в природе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(Осенью листья желтеют, краснеют, розовеют, опадают. Птицы улетают в теплые края. Животные готовятся к зиме. Солнце светит, но не греет. Часто идет холодный дождь. На улице стало холодно, поэтому люди стали одеваться теплее. В лесу появились грибы и ягоды. Люди собирают урожа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36" name="Picture 7" descr="C:\Documents and Settings\admin\Мои документы\Мои рисунки\Рисунок2.jpg"/>
          <p:cNvPicPr/>
          <p:nvPr/>
        </p:nvPicPr>
        <p:blipFill>
          <a:blip r:embed="rId1"/>
          <a:stretch/>
        </p:blipFill>
        <p:spPr>
          <a:xfrm>
            <a:off x="909720" y="1643040"/>
            <a:ext cx="7062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38" name="Picture 5" descr="C:\Documents and Settings\admin\Мои документы\Мои рисунки\Рисунок3.jpg"/>
          <p:cNvPicPr/>
          <p:nvPr/>
        </p:nvPicPr>
        <p:blipFill>
          <a:blip r:embed="rId1"/>
          <a:stretch/>
        </p:blipFill>
        <p:spPr>
          <a:xfrm>
            <a:off x="1571760" y="1735200"/>
            <a:ext cx="63579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6:06:16Z</dcterms:created>
  <dc:creator>home</dc:creator>
  <dc:description/>
  <dc:language>en-US</dc:language>
  <cp:lastModifiedBy>школа</cp:lastModifiedBy>
  <dcterms:modified xsi:type="dcterms:W3CDTF">2012-07-09T09:08:53Z</dcterms:modified>
  <cp:revision>15</cp:revision>
  <dc:subject/>
  <dc:title>В гости осень к нам пришла</dc:title>
</cp:coreProperties>
</file>