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56C-E997-4E66-ADA4-047A88C4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4C0-C9F5-433C-B4DF-F9BEABDE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2BF-61AB-4427-89C1-084DA38B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6B1-304A-4027-AFAF-91560775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89D-1DE3-4F90-ADFB-AEC4DEF6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A8C-3F01-4590-8B58-BF455E42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3A7-2F09-43D5-9158-A72F82EA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B27-CE26-4F0E-82A8-EB662F35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361-0F91-4E75-92F7-397EB30D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A8B-743B-41E9-96B0-2A40A66D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C39-206B-4A16-9AB4-8D9AC736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736-2E32-40DA-ADDB-18F0F00B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BC01-C21C-44A9-8BF0-0DA0D9CA8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«Заниматься бизнесом – то же самое, что ехать на велосипеде: либо вы движетесь, либо падаете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25146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Определ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Бизне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это деятельность, связанная с производством товаров и услуг и осуществляемая собственниками капитала с целью получения прибыл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Предпринимательств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это инициативная, самостоятельная, связанная с риском, ответственностью и новаторством деятельность по производству товаров и услуг, осуществляемую собственниками капитала, получателями кредита и арендаторами с целью создания прибы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Кому это нужн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хочется больш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ищите путь к финансовой независим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не устраивает текущее полож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работа по найму вызывает дискомфорт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0" y="2743200"/>
            <a:ext cx="181764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7 причин не уходить в наем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Труд в найме – самый простой выбор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граниченный жизненный выбор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жизненное приручение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ы зарабатываете больше, чем получаете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лишком большой риск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ыпрашивание денег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теря свободы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784920" y="3981600"/>
            <a:ext cx="23590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7 мифов о предпринимател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ди работающие на себя, должны работать очень мног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бота на себя значительно рискованней, нежели наемная работ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ботать на себя – значит класть все яйца в одну корзин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бота на себя вызывает стресс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бота на себя ведет к одиночеств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бота на себя слишком сложн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м потребуется куча денег, чтобы начать новый бизне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прос №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ью считае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организация производства по выпуску детских игруш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организация производства булочных изделий за счет собственных средств и под свою личную 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организация выставки прикладного твор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прос №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Риск – эт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непредвиденные расходы для ремонта прием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потеря кошел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опасность неу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00600" y="3809880"/>
            <a:ext cx="37148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сновой свободного предпринимательства являе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финан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сохранение коммерческой та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частная соб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№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53080" y="3886200"/>
            <a:ext cx="22021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Что способствует росту предпринимательской деятельно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научно-технический прог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конку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№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4120" y="4343400"/>
            <a:ext cx="28764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знес и предпринима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05320" y="2895480"/>
            <a:ext cx="26431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Какое определение считается лучшим для характеристики предпринима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человек, который хорошо разбирается в делах ком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человек, который управляет компан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человек, который принимает на себя риск ведения дел ком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человек, который знает, как продавать т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№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Предприимчивость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нужда в чем-ли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способность принимать оптимальные решения, мыслить и действовать неордина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способность осуществлять действия без чужой помощи, собственными си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) чувство успешности для деятельности, рождение самим какой-либо идеи, создание чего-то нового, прогрессив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№ 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705720" y="685800"/>
            <a:ext cx="196200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7925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нет ошибок, то оценка «5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1 – 2 ошибки, то оценка «4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3 ошибки, то оценка «3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более 3 ошибок, то оценка «2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1600200"/>
          <a:ext cx="8076960" cy="2057040"/>
        </p:xfrm>
        <a:graphic>
          <a:graphicData uri="http://schemas.openxmlformats.org/drawingml/2006/table">
            <a:tbl>
              <a:tblPr/>
              <a:tblGrid>
                <a:gridCol w="1946160"/>
                <a:gridCol w="1056240"/>
                <a:gridCol w="987120"/>
                <a:gridCol w="973440"/>
                <a:gridCol w="973440"/>
                <a:gridCol w="1070280"/>
                <a:gridCol w="107028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та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м ли мы ответить на вопросы, поставленные в начале нашего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явилось ли у Вас желание стать предпринимател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ам не хватает для занятия предпринимательской деятельност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акими новыми понятиями Вы познаком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их вопросах расширили зна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предпринимательств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пути и средства обогащения предпринимателя являются нелегальны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хотели бы стать предпринимател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м видом деятельности вы хотели бы занять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чем люди занимаются бизнес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берите определения следующим термина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риниматель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ринима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зне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знесм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31813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09680" y="1143000"/>
            <a:ext cx="6477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4b3d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cf4b3d"/>
                </a:solidFill>
                <a:latin typeface="Arial"/>
              </a:rPr>
              <a:t>это одна из форм участия граждан в предпринимательских отношениях. В соответствии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о ст.2. Гражданского кодекса РФ</a:t>
            </a:r>
            <a:r>
              <a:rPr b="0" lang="en-US" sz="2400" spc="-1" strike="noStrike">
                <a:solidFill>
                  <a:srgbClr val="cf4b3d"/>
                </a:solidFill>
                <a:latin typeface="Arial"/>
              </a:rPr>
              <a:t> предпринимательской деятельностью является  самостоятельная, осуществляемая на свой риск деятельность, направленная на систематическое получение прибыли от  пользования имуществом, продажи товаров, выполнении работ или оказания услуг лицами, зарегистрированными в этом качестве или в установленном законом порядк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19605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6781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Monotype Corsiva"/>
              </a:rPr>
              <a:t>Владимир Даль</a:t>
            </a: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 в своём словаре даёт объяснение понятия предприниматель. «Предприниматель – предприимчивый торговец, способный к предприятиям, крупным оборотам, смелый и решительный, отважный на дела этого рода человек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69080" y="990720"/>
            <a:ext cx="23749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5181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Современный экономический словар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«Бизнесмен – это человек, который затрачивает необходимое время и силы, берет на себя весь финансовый, психологический и социальный риск, получая в награду деньги и удовлетворение от достигнутог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7800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Иванов С. И., Скляр М. А. Экономика: основы экономической тео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Бизнес – это деятельность, связанная с производством товаров и услуг и осуществляемая собственниками капитала с целью получения прибыли или других форм доходов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867280" y="1676520"/>
            <a:ext cx="2857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Экономический слова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редпринимательство – это инициативная, самостоятельная, осуществляемая от своего имени, на свой риск, под свою имущественную ответственность деятельность граждан, физических и юридических лиц, направленная на систематическое получение дохода, прибыли от пользования имуществом, продажи товаров, выполнения работ, оказания услуг. Предпринимательство преследует также цель повышения имиджа, статуса предпринимател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7:51:27Z</dcterms:created>
  <dc:creator>Карпеева Оксана</dc:creator>
  <dc:description/>
  <dc:language>en-US</dc:language>
  <cp:lastModifiedBy>Карпеева Оксана</cp:lastModifiedBy>
  <dcterms:modified xsi:type="dcterms:W3CDTF">2002-01-01T01:46:38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