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62E-DB58-48A6-9A63-3CB221CC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077-4A23-4753-8E58-85EFED4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CA4-9837-45EF-9CD1-A801504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91E-385C-482B-A5E6-E4CD8371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967-37B1-4D12-9F37-181F9E15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5F3-C1F8-4D7C-A954-4CF17AC9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0E8-C941-43A5-87AC-AAC80C94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D62-289F-4DBB-9117-3C1D5353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12BD-7C7D-4257-A560-2ADBF560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426-7BAB-4E4B-81E0-D4E8985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069-12EB-4A76-A84D-835C08E7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DE0-C5A0-434A-AEE2-5A17548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8DA0-240E-449F-8990-347806A99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«Заниматься бизнесом – то же самое, что ехать на велосипеде: либо вы движетесь, либо падаете»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51460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Определ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Бизне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это деятельность, связанная с производством товаров и услуг и осуществляемая собственниками капитала с целью получения прибыл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Предпринимательств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это инициативная, самостоятельная, связанная с риском, ответственностью и новаторством деятельность по производству товаров и услуг, осуществляемую собственниками капитала, получателями кредита и арендаторами с целью создан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Кому это нужн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хочется боль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ищите путь к финансовой независим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не устраивает текущее пол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бота по найму вызывает дискомфорт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18176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7 причин не уходить в наем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Труд в найме – самый простой выбо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граниченный жизненный выбор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жизненное приручени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 зарабатываете больше, чем получаете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лишком большой риск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ыпрашивание денег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теря свобод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784920" y="3981600"/>
            <a:ext cx="23590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7 мифов о предпринимател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ди работающие на себя, должны работать очень много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значительно рискованней, нежели наемная рабо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ть на себя – значит класть все яйца в одну корзин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вызывает стрес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ведет к одиночеств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бота на себя слишком слож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м потребуется куча денег, чтобы начать новый бизнес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 №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кой деятельностью считае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организация производства по выпуску детских игруш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организация производства булочных изделий за счет собственных средств и под свою личную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рганизация выставки прикладного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прос №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Риск – эт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епредвиденные расходы для ремонта прием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потеря кошел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пасность неу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7148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сновой свободного предпринимательства являе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финан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охранение коммерческой та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астная соб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22021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Что способствует росту предпринимательской деятельно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научно-технический прог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4120" y="4343400"/>
            <a:ext cx="287640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знес и предпринима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26431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Какое определение считается лучшим для характеристики предприним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человек, который хорошо разбирается в делах ком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человек, который управляет компан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человек, который принимает на себя риск ведения дел комп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человек, который знает, как продавать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Предприимчивость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нужда в чем-л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способность принимать оптимальные решения, мыслить и действовать неордина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) способность осуществлять действия без чужой помощи, собственными си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) чувство успешности для деятельности, рождение самим какой-либо идеи, создание чего-то нового, прогрессив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№ 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705720" y="685800"/>
            <a:ext cx="19620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7925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ет ошибок, то оценка «5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1 – 2 ошибки, то оценка «4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3 ошибки, то оценка «3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более 3 ошибок, то оценка «2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480" y="1600200"/>
          <a:ext cx="8076960" cy="2057040"/>
        </p:xfrm>
        <a:graphic>
          <a:graphicData uri="http://schemas.openxmlformats.org/drawingml/2006/table">
            <a:tbl>
              <a:tblPr/>
              <a:tblGrid>
                <a:gridCol w="1946160"/>
                <a:gridCol w="1056240"/>
                <a:gridCol w="987120"/>
                <a:gridCol w="973440"/>
                <a:gridCol w="973440"/>
                <a:gridCol w="1070280"/>
                <a:gridCol w="107028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та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м ли мы ответить на вопросы, поставленные в начале нашего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явилось ли у Вас желание стать предпринимател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ам не хватает для занятия предпринимательской деятельн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ими новыми понятиями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ких вопросах расширили зн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такое предпринимательств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ути и средства обогащения предпринимателя являются нелегальны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хотели бы стать предпринимател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видом деятельности вы хотели бы занять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люди занимаются бизнес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берите определения следующим термин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зн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знесме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31813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143000"/>
            <a:ext cx="647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это одна из форм участия граждан в предпринимательских отношениях. В соответствии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 ст.2. Гражданского кодекса РФ</a:t>
            </a:r>
            <a:r>
              <a:rPr b="0" lang="en-US" sz="2400" spc="-1" strike="noStrike">
                <a:solidFill>
                  <a:srgbClr val="cf4b3d"/>
                </a:solidFill>
                <a:latin typeface="Arial"/>
              </a:rPr>
              <a:t> предпринимательской деятельностью является  самостоятельная, осуществляемая на свой риск деятельность, направленная на систематическое получение прибыли от  пользования имуществом, продажи товаров, выполнении работ или оказания услуг лицами, зарегистрированными в этом качестве или в установленном законом порядк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19605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6781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Monotype Corsiva"/>
              </a:rPr>
              <a:t>Владимир Даль</a:t>
            </a:r>
            <a:r>
              <a:rPr b="0" i="1" lang="en-US" sz="3600" spc="-1" strike="noStrike">
                <a:solidFill>
                  <a:srgbClr val="000000"/>
                </a:solidFill>
                <a:latin typeface="Monotype Corsiva"/>
              </a:rPr>
              <a:t> в своём словаре даёт объяснение понятия предприниматель. «Предприниматель – предприимчивый торговец, способный к предприятиям, крупным оборотам, смелый и решительный, отважный на дела этого рода человек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9080" y="990720"/>
            <a:ext cx="23749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1814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Современный экономический словар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«Бизнесмен – это человек, который затрачивает необходимое время и силы, берет на себя весь финансовый, психологический и социальный риск, получая в награду деньги и удовлетворение от достигнуто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7800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Иванов С. И., Скляр М. А. Экономика: основы экономической теор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Бизнес – это деятельность, связанная с производством товаров и услуг и осуществляемая собственниками капитала с целью получения прибыли или других форм доходов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857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Экономический словар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редпринимательство – это инициативная, самостоятельная, осуществляемая от своего имени, на свой риск, под свою имущественную ответственность деятельность граждан, физических и юридических лиц, направленная на систематическое получение дохода, прибыли от пользования имуществом, продажи товаров, выполнения работ, оказания услуг. Предпринимательство преследует также цель повышения имиджа, статуса предпринимател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7:51:27Z</dcterms:created>
  <dc:creator>Карпеева Оксана</dc:creator>
  <dc:description/>
  <dc:language>en-US</dc:language>
  <cp:lastModifiedBy>Карпеева Оксана</cp:lastModifiedBy>
  <dcterms:modified xsi:type="dcterms:W3CDTF">2002-01-01T01:46:38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