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A3E-732C-4471-AF03-903548FB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468-F249-4BF5-87EF-2DAFA651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36B-6AA6-47E5-BD93-226480B8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6AB-6FA1-4F4A-BAFD-9F62EC39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847F-B986-49AA-9C08-6FFE7550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4AB5-3210-41AC-8EC0-24DFCD6D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7E88-E383-4BF9-89DC-2E92D3B3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C91F-DBDB-4B99-84A8-671E7DE7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CD8D-0433-41E5-B2B5-6ED637BA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F49C-7EB9-4603-8508-57A0C9E3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B7B5-FAD8-4587-9380-09E1022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B24-B2D5-444F-BBAF-5334F78C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F899-BEB0-4C9D-A167-180367D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2A66-1D5D-4ED4-BC57-6CE28108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976A-3066-4DBF-9ADB-9CAFF164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A92-CEFA-4394-963A-1D68CBC2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D968-2AC0-42DB-A5F0-A25E69DF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E18-5A91-4520-8477-5A0F0378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B75-EB8C-4520-821C-9CB336AE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FC4-D26B-4CD8-B539-1950F74E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86A-62AB-452B-86DE-26CF0F4B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3BD-F3CF-4333-A723-66EDD386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2D7-EF39-49B1-9B80-F5F52D4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820-ADB3-4722-A236-4BA14D2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7687-3052-43B5-B412-4A9C8E8657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ED2E-FED5-48B4-A737-32ED865887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e5ffff"/>
                </a:solidFill>
                <a:latin typeface="Monotype Corsiva"/>
              </a:rPr>
              <a:t>Помощь зимующим птицам</a:t>
            </a:r>
            <a:endParaRPr b="0" lang="en-US" sz="11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56000" y="5445000"/>
            <a:ext cx="608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смотрите, какие птицы! Это просто чуд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79640" y="5300640"/>
            <a:ext cx="561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Декабрь 2011 г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Мы, учащиеся 4 А класса МБОУ БСОШ №1, любим птиц и заботимся о них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58560" y="112536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ы решили сделать кормушки для птиц. Самую большую и красивую кормушку повесили у школ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4500720" y="-3772080"/>
            <a:ext cx="20320200" cy="15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587920" y="-4191120"/>
            <a:ext cx="20319840" cy="15240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32000" y="148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А вот и первая гостья 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5587920" y="-4191120"/>
            <a:ext cx="20319840" cy="15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724360" y="-3267000"/>
            <a:ext cx="20319840" cy="15239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8000" y="148428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Мы кормим птиц семечками, пшеном, крошками хлеба и са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5508720" y="-3843360"/>
            <a:ext cx="20320200" cy="1523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19640" y="4437000"/>
            <a:ext cx="61196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перь в эту столовую прилетают снегири, синицы, воробьи, дрозды. Однажды дятел прилетал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5:53:50Z</dcterms:created>
  <dc:creator>Admin</dc:creator>
  <dc:description/>
  <dc:language>en-US</dc:language>
  <cp:lastModifiedBy>антон</cp:lastModifiedBy>
  <dcterms:modified xsi:type="dcterms:W3CDTF">2012-07-09T16:32:15Z</dcterms:modified>
  <cp:revision>13</cp:revision>
  <dc:subject/>
  <dc:title>Слайд 1</dc:title>
</cp:coreProperties>
</file>