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042-1EDD-4ACF-B42B-1B98D84F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0E0-B3BA-4877-84AF-748B40E1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E68-C67A-4001-B81B-62589680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E12-CEB2-48E9-800F-C0BC6202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A989-5246-409C-8314-8F2DD383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6906-96E8-43F6-88FB-5AE4BDFF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4479-62C2-4215-BA5C-1A5D8A22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D38B-C96D-41D6-8C45-99109792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00C4-611A-41A1-A430-7626A544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4476-987E-4D9D-B578-E1F91694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451F-0299-4796-8E89-89BE70AF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764-3649-4862-8EC3-E7BB5C01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0FAD-FB6B-4FF7-9B9F-EA22D622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BC29-96B2-41E5-9385-2366D4B4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27D3-25A3-4D3E-96E7-33575D12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754E-DE0E-4A42-A79D-4D5399B7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C6B0-2E08-4921-82E8-B23E58C1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AC4-759A-4C03-9729-E44C4784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922-6A29-4713-84CC-D4EE717A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260-846C-4798-AF9A-1EBC732A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B69E-48C9-4CB5-A4E5-E1A4D2CC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054-18A9-43EA-9136-823C855A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40F-F575-4FE7-90BB-06339F42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0E3-E432-4740-B696-DEF3ACFE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A6C1-0B62-4B82-ACF0-992B8EC6AE1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BFB7-66A7-4A0B-8AE6-B7F1E0525E9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569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e5ffff"/>
                </a:solidFill>
                <a:latin typeface="Monotype Corsiva"/>
              </a:rPr>
              <a:t>Помощь зимующим птицам</a:t>
            </a:r>
            <a:endParaRPr b="0" lang="en-US" sz="11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56000" y="5445000"/>
            <a:ext cx="608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осмотрите, какие птицы! Это просто чуд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79640" y="5300640"/>
            <a:ext cx="561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Декабрь 2011 г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Мы, учащиеся 4 А класса МБОУ БСОШ №1, любим птиц и заботимся о них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58560" y="1125360"/>
            <a:ext cx="67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Мы решили сделать кормушки для птиц. Самую большую и красивую кормушку повесили у школ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-4500720" y="-3772080"/>
            <a:ext cx="20320200" cy="152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587920" y="-4191120"/>
            <a:ext cx="20319840" cy="15240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32000" y="1484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ahoma"/>
              </a:rPr>
              <a:t>А вот и первая гостья 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-5587920" y="-4191120"/>
            <a:ext cx="20319840" cy="152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5724360" y="-3267000"/>
            <a:ext cx="20319840" cy="15239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48000" y="148428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Мы кормим птиц семечками, пшеном, крошками хлеба и са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5508720" y="-3843360"/>
            <a:ext cx="20320200" cy="1523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419640" y="4437000"/>
            <a:ext cx="611964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перь в эту столовую прилетают снегири, синицы, воробьи, дрозды. Однажды дятел прилетал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5:53:50Z</dcterms:created>
  <dc:creator>Admin</dc:creator>
  <dc:description/>
  <dc:language>en-US</dc:language>
  <cp:lastModifiedBy>антон</cp:lastModifiedBy>
  <dcterms:modified xsi:type="dcterms:W3CDTF">2012-07-09T16:32:15Z</dcterms:modified>
  <cp:revision>13</cp:revision>
  <dc:subject/>
  <dc:title>Слайд 1</dc:title>
</cp:coreProperties>
</file>