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53B-BD11-4E54-82A4-CB3E13A4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993-E8C5-44C8-95D7-9D95F0A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E33-5E77-4B2A-8CA1-7901F1C0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0790-1EA6-4404-87E1-92B6C9BF8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867F-6372-4D58-A222-598379E1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8FFE-371B-4D74-84BB-5AB437AE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B519-3B7F-4C16-B632-35990AB5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9B4B-5CDC-4044-8322-B101B7BA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E0D7-6EEB-44E6-939E-C7AA562D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AF7C-96DE-498F-AC61-757BC06B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DEAA-FB8E-4737-8C45-3E4554B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A40-4A56-4183-B200-3D4CE693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4C13-0926-4C3E-BD61-7113546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503E-5CDB-45CE-B5DE-9818FD78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9621-AB48-4C3B-8DD5-1EE2B7F5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92B5-704B-4CD9-882E-A875FDCA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862E-6913-4E4B-9025-48AB2445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2FC-2319-440E-B126-C47DC8A9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FC6-1654-410C-A524-C5EB337A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377-49CB-4ACE-86A1-0C5EF57A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44F-DE36-46EB-A996-0691A573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06D-D3E6-439C-9CAD-F9DA0518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E2B2-733A-40A1-9F90-15B9F01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1DA-3935-44ED-BAD1-FEB4ADF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A3F-C709-4969-9FA3-A353A643EF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23FA-F501-4D62-B327-390DC2A662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620640"/>
            <a:ext cx="7056360" cy="32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дшкольное образ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, обеспечивающая с одной стороны развитие способностей каждого ребёнка, а с другой – вхождение его в общество (социализац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5331e"/>
                </a:solidFill>
                <a:uFillTx/>
                <a:latin typeface="Arial"/>
              </a:rPr>
              <a:t>Задачи предшкольного образования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2133720"/>
            <a:ext cx="66978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дготовить детей к новому виду деятельности-обуч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одготовить к обучению именно в школе (т.е. к работе в коллектив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5280" y="981000"/>
            <a:ext cx="69850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Работа по подготовке к школе должна быть направлена на комплексное развитие ребёнка и формирование школьно-значимы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интеллектуальная гото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эмоциональная гото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социальная гото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68360" y="692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Основу организации занятий определяют следующие принципы:</a:t>
            </a: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2133720"/>
            <a:ext cx="6408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мплекс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оответствие возрастным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ьным возможност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степенность и системат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втор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4772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Результат предшкольного образования:</a:t>
            </a:r>
            <a:endParaRPr b="0" lang="en-US" sz="32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товность ребёнка к дальнейшему развитию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оциаль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личност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200" y="18828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логики, мышления и формирование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50920" y="620640"/>
          <a:ext cx="8569080" cy="2131920"/>
        </p:xfrm>
        <a:graphic>
          <a:graphicData uri="http://schemas.openxmlformats.org/drawingml/2006/table">
            <a:tbl>
              <a:tblPr/>
              <a:tblGrid>
                <a:gridCol w="779400"/>
                <a:gridCol w="530280"/>
                <a:gridCol w="695160"/>
                <a:gridCol w="909720"/>
                <a:gridCol w="909720"/>
                <a:gridCol w="1003320"/>
                <a:gridCol w="785520"/>
                <a:gridCol w="800280"/>
                <a:gridCol w="776160"/>
                <a:gridCol w="723960"/>
                <a:gridCol w="65556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ёт до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тный счё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ка в пространст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ка на листе клет. бума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геометрических фи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цифру и число пред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ое мыш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и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+  -  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-457200" y="43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12280" y="285228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речи и творческ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42920" y="3284640"/>
          <a:ext cx="8680320" cy="3160440"/>
        </p:xfrm>
        <a:graphic>
          <a:graphicData uri="http://schemas.openxmlformats.org/drawingml/2006/table">
            <a:tbl>
              <a:tblPr/>
              <a:tblGrid>
                <a:gridCol w="1428840"/>
                <a:gridCol w="1110960"/>
                <a:gridCol w="1428840"/>
                <a:gridCol w="1433520"/>
                <a:gridCol w="1690920"/>
                <a:gridCol w="1587240"/>
              </a:tblGrid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бук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читать(по буквам, по слогам, словами, логопедические нару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развития связной речи (соотношение звуков и букв, пересказ рассказа, сказки, описание предмета и картин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оставлять предложения (анализ предложения: кол-во слов, последовательность их друг за другом, грамматически правильное построение предлож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т последовательность звуков в слове (звук в начале слова, середине, в конц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157320" y="297720"/>
            <a:ext cx="8821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80128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ические наблюдения за развитием моторики и организационных умений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80128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-252360" y="836640"/>
          <a:ext cx="9145440" cy="2522520"/>
        </p:xfrm>
        <a:graphic>
          <a:graphicData uri="http://schemas.openxmlformats.org/drawingml/2006/table">
            <a:tbl>
              <a:tblPr/>
              <a:tblGrid>
                <a:gridCol w="216000"/>
                <a:gridCol w="900720"/>
                <a:gridCol w="870120"/>
                <a:gridCol w="866880"/>
                <a:gridCol w="1012680"/>
                <a:gridCol w="724320"/>
                <a:gridCol w="867240"/>
                <a:gridCol w="890640"/>
                <a:gridCol w="661680"/>
                <a:gridCol w="799200"/>
                <a:gridCol w="549000"/>
                <a:gridCol w="78696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ий дик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копиров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 уз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веди по конту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их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ась рису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лышать и слуш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я по указанию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у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ступать в разго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80128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реагировать на за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6:23:42Z</dcterms:created>
  <dc:creator>Оля</dc:creator>
  <dc:description/>
  <dc:language>en-US</dc:language>
  <cp:lastModifiedBy>Оля</cp:lastModifiedBy>
  <dcterms:modified xsi:type="dcterms:W3CDTF">2008-05-28T17:02:09Z</dcterms:modified>
  <cp:revision>5</cp:revision>
  <dc:subject/>
  <dc:title>Слайд 1</dc:title>
</cp:coreProperties>
</file>