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196D-2DBE-4EBA-81F4-5FD41646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60FF-54C0-477C-934F-80DE633B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5226-4C21-4D0B-97F5-8E2650E7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3AE2-7EEE-4E67-9DC4-B56C0FB6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02A6-CEC2-4F7A-AC23-77E9C1A0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8E3D-A91E-4708-AFA6-04C7CF44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B5A1-6E65-4FA7-A82E-06F34BF8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1F12-6C94-450A-A112-7F3C1848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A15A-6B1A-4DD2-9608-E66E0A9F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8B18-62E8-4F39-A357-D5F6C77D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30D2-E5D0-4774-AC91-BA004E22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4F7-9EFF-4350-B517-38CA5FB2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50B8-4FDD-4FCB-A895-3D299B7F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D051-EE04-4955-B42B-1C68ACFE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C522-F08B-40BF-9FC0-0441DBB2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A6DA-83F4-4073-A775-51AE5F1B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7A64-7116-4614-8E76-C1A41D91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B78-B4B8-41B3-9726-F0AEC8F8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303-8FDB-4A1A-B873-083EE374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6370-1C84-4717-9D2A-A21DDA9B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0A6-9739-461F-939A-0EE72CF3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1C7B-2305-41EE-80ED-B566D9EE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3BA-232A-481A-9125-886DC770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3B2-95CF-44B1-8329-59F054E9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78FF-0BE2-40E5-B3D5-C7EB3930BB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3210-FC06-4B86-B805-80C0199388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95280" y="620640"/>
            <a:ext cx="7056360" cy="32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едшкольное образ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, обеспечивающая с одной стороны развитие способностей каждого ребёнка, а с другой – вхождение его в общество (социализацию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15331e"/>
                </a:solidFill>
                <a:uFillTx/>
                <a:latin typeface="Arial"/>
              </a:rPr>
              <a:t>Задачи предшкольного образования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2133720"/>
            <a:ext cx="66978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дготовить детей к новому виду деятельности-обуче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дготовить к обучению именно в школе (т.е. к работе в коллектив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5280" y="981000"/>
            <a:ext cx="69850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Работа по подготовке к школе должна быть направлена на комплексное развитие ребёнка и формирование школьно-значимых функц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интеллектуальная гото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эмоциональная гото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социальная гото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68360" y="692280"/>
            <a:ext cx="68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Основу организации занятий определяют следующие принципы:</a:t>
            </a:r>
            <a:r>
              <a:rPr b="0" lang="en-US" sz="2000" spc="-1" strike="noStrike">
                <a:solidFill>
                  <a:srgbClr val="30605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2133720"/>
            <a:ext cx="64087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комплекс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соответствие возрастным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видуальным возможност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степенность и систематич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втор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74772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Результат предшкольного образования: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товность ребёнка к дальнейшему развитию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оциаль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личност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200" y="188280"/>
            <a:ext cx="855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 логики, мышления и формирование математически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50920" y="620640"/>
          <a:ext cx="8569080" cy="2131920"/>
        </p:xfrm>
        <a:graphic>
          <a:graphicData uri="http://schemas.openxmlformats.org/drawingml/2006/table">
            <a:tbl>
              <a:tblPr/>
              <a:tblGrid>
                <a:gridCol w="779400"/>
                <a:gridCol w="530280"/>
                <a:gridCol w="695160"/>
                <a:gridCol w="909720"/>
                <a:gridCol w="909720"/>
                <a:gridCol w="1003320"/>
                <a:gridCol w="785520"/>
                <a:gridCol w="800280"/>
                <a:gridCol w="776160"/>
                <a:gridCol w="723960"/>
                <a:gridCol w="655560"/>
              </a:tblGrid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чёт до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тный счё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ировка в пространст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ировка на листе клет. бум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е геометрических фи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сить цифру и число пред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ическое мыш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иф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ия +  - 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-457200" y="43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12280" y="2852280"/>
            <a:ext cx="44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 речи и творческ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42920" y="3284640"/>
          <a:ext cx="8680320" cy="3160440"/>
        </p:xfrm>
        <a:graphic>
          <a:graphicData uri="http://schemas.openxmlformats.org/drawingml/2006/table">
            <a:tbl>
              <a:tblPr/>
              <a:tblGrid>
                <a:gridCol w="1428840"/>
                <a:gridCol w="1110960"/>
                <a:gridCol w="1428840"/>
                <a:gridCol w="1433520"/>
                <a:gridCol w="1690920"/>
                <a:gridCol w="1587240"/>
              </a:tblGrid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е бук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читать(по буквам, по слогам, словами, логопедические наруш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развития связной речи (соотношение звуков и букв, пересказ рассказа, сказки, описание предмета и картин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составлять предложения (анализ предложения: кол-во слов, последовательность их друг за другом, грамматически правильное построение предлож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ывает последовательность звуков в слове (звук в начале слова, середине, в конц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157320" y="297720"/>
            <a:ext cx="88218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80128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ие наблюдения за развитием моторики и организационных умений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80128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52360" y="836640"/>
          <a:ext cx="9145440" cy="2522520"/>
        </p:xfrm>
        <a:graphic>
          <a:graphicData uri="http://schemas.openxmlformats.org/drawingml/2006/table">
            <a:tbl>
              <a:tblPr/>
              <a:tblGrid>
                <a:gridCol w="216000"/>
                <a:gridCol w="900720"/>
                <a:gridCol w="870120"/>
                <a:gridCol w="866880"/>
                <a:gridCol w="1012680"/>
                <a:gridCol w="724320"/>
                <a:gridCol w="867240"/>
                <a:gridCol w="890640"/>
                <a:gridCol w="661680"/>
                <a:gridCol w="799200"/>
                <a:gridCol w="549000"/>
                <a:gridCol w="786960"/>
              </a:tblGrid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0128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80128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ческий дикт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80128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копирова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80128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 уз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80128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веди по конту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80128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ихо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80128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рась рису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80128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слышать и слуш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80128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задания по указанию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80128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е ум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80128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вступать в разгов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80128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еагировать на замеч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6:23:42Z</dcterms:created>
  <dc:creator>Оля</dc:creator>
  <dc:description/>
  <dc:language>en-US</dc:language>
  <cp:lastModifiedBy>Оля</cp:lastModifiedBy>
  <dcterms:modified xsi:type="dcterms:W3CDTF">2008-05-28T17:02:09Z</dcterms:modified>
  <cp:revision>5</cp:revision>
  <dc:subject/>
  <dc:title>Слайд 1</dc:title>
</cp:coreProperties>
</file>