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9AA-7DE0-4A8A-B5E5-38F336F3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1DD-2D15-4774-A886-246E98FA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130-2408-415E-A654-647A3067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A572-273F-47A3-8D62-3D74A6B4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40ED-96FA-4054-A53B-59777F08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6404-4B0A-4246-BC3D-9207AD3F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DD33-5E0E-4E97-B929-D4BE04A8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A0CE-9F5D-4966-8594-DC522737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8CD5-C2A8-4514-9DE7-EA56BB97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4CC2-3E82-4CA2-87C8-550DF870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E721-897D-49A1-A583-8F26B6F4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0C6-6997-4593-B562-5B206E8B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DDE4-3086-4DAB-8D0F-898BF276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BE51-1C3D-463B-9E41-B644EAE4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96FC-0AB7-4DAF-91B6-10290ED4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89BF-4C50-4B64-88B8-47D74E77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0F94-BB9B-4C2B-AE33-8751FA68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F395-5B3E-4754-8329-56EDED69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21B-05B3-4B4B-BBCF-F9497DA2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9A4-8362-46E2-B3D8-2CCB0B6D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9BDD-5202-4E59-96C9-52A1B14F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CC5A-E843-493E-B254-115286AC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9BB2-DB9F-457D-BB52-D7949D5F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CFA-6ACF-44D4-A720-54F199CE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8DFB-F8F1-4DB8-93DD-5BB07064A8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428B-2A6A-471A-AB92-B755C350E1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byblog.ru/community/post/perambulator/1118546" TargetMode="External"/><Relationship Id="rId3" Type="http://schemas.openxmlformats.org/officeDocument/2006/relationships/hyperlink" Target="http://sekret-etiket.narod.ru/_private/v_stranax.htm" TargetMode="External"/><Relationship Id="rId4" Type="http://schemas.openxmlformats.org/officeDocument/2006/relationships/hyperlink" Target="http://www.passion.ru/etiquette.php/vr/24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нтегрированный урок окружающего мира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во 2 классе по теме: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«Какие бывают правила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038480" y="4876920"/>
            <a:ext cx="5105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готовила : учитель нач.классов МБОУ СОШ № 4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 Бел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еховцова Татьяна Алексе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90560" y="914400"/>
            <a:ext cx="65530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есть и пить надо беззвучно и аккуратно, не оставляя на скатерти следов пищ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не склоняться низко над тарелкой, лишь слегка наклонить голову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на столе лежат только кисти рук, локти на стол не ставим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за столом нельзя говорить громко или с полным ртом,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не спешим в еде, но и не сидим долго за одним блюдом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всегда благодарим за угощение хозяйку добрыми словами «Спасибо, очень вкусно!»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52760" cy="1803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00840" y="0"/>
            <a:ext cx="698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Правила этикета и вежлив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за столо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885480"/>
            <a:ext cx="9144000" cy="13129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РУГАТЬ, ЖУРИТЬ, ХВАЛИТЬ, БРАНИ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440" cy="3200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057400" y="380880"/>
            <a:ext cx="2666880" cy="1600200"/>
          </a:xfrm>
          <a:prstGeom prst="wedgeEllipseCallout">
            <a:avLst>
              <a:gd name="adj1" fmla="val -79763"/>
              <a:gd name="adj2" fmla="val -36606"/>
            </a:avLst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3071880" cy="5486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267080" y="1752480"/>
            <a:ext cx="2743200" cy="1600200"/>
          </a:xfrm>
          <a:prstGeom prst="wedgeEllipseCallout">
            <a:avLst>
              <a:gd name="adj1" fmla="val -78935"/>
              <a:gd name="adj2" fmla="val -36606"/>
            </a:avLst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Лишне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Tahoma"/>
              </a:rPr>
              <a:t>Хвал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4267080"/>
            <a:ext cx="8991720" cy="182880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П-С-Б-,   П-Ж-Л-ЙСТ-,   Б-ДЬТ-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-БР-,   СП-К-ЙН-Й   Н-Ч-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486400" y="304920"/>
            <a:ext cx="211140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4343400"/>
            <a:ext cx="8991720" cy="175248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П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И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Б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О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,   П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О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Ж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Л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У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ЙСТ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,  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Б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У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ДЬТ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ДОБР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Ы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,   СП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О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О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ЙН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О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Й   Н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О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Ч</a:t>
            </a:r>
            <a:r>
              <a:rPr b="0" lang="en-US" sz="4000" spc="-1" strike="noStrike">
                <a:solidFill>
                  <a:srgbClr val="ff3399"/>
                </a:solidFill>
                <a:latin typeface="Tahoma"/>
              </a:rPr>
              <a:t>И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486400" y="304920"/>
            <a:ext cx="211140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авила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02920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cccc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cccc"/>
                </a:solidFill>
                <a:uFillTx/>
                <a:latin typeface="Tahoma"/>
              </a:rPr>
              <a:t>Вежливость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 это умение вести себя так, чтобы другим было приятно с тобой общать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* Будь всегда приветлив, здоровайся при встрече, благодари за помощь, уходя, прощай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*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аучись вести себя за стол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* Не капризничай, не ворч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* Не заставляй о себе волноваться, слушайся тех, кто о тебе заботит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17600" y="736560"/>
            <a:ext cx="79912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www.babyblog.ru/community/post/perambulator/11185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7760" y="1371600"/>
            <a:ext cx="63741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ttp://sekret-etiket.narod.ru/_private/v_stranax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4160" y="2260440"/>
            <a:ext cx="53820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http://www.passion.ru/etiquette.php/vr/24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 rot="21436800">
            <a:off x="0" y="762120"/>
            <a:ext cx="87552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а    урока: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акие бывают правила"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114800" y="0"/>
            <a:ext cx="5662440" cy="556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38080" y="0"/>
            <a:ext cx="3124440" cy="5638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5486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анирам</a:t>
            </a:r>
            <a:br>
              <a:rPr sz="4800"/>
            </a:b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ятак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838080" y="0"/>
            <a:ext cx="3124440" cy="56386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191120" y="0"/>
            <a:ext cx="5790960" cy="579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3251160" cy="5867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арина                    Кат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e5ffff"/>
                </a:solidFill>
                <a:uFillTx/>
                <a:latin typeface="Tahoma"/>
              </a:rPr>
              <a:t>Гости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вун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48520" y="609480"/>
            <a:ext cx="3504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ося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57880" y="3124080"/>
            <a:ext cx="2886120" cy="3276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427520" y="6277680"/>
            <a:ext cx="141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рош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72000" y="762120"/>
            <a:ext cx="3809880" cy="3711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68280" y="6019200"/>
            <a:ext cx="24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патыч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1371600"/>
            <a:ext cx="3084480" cy="3962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905120" y="2895480"/>
            <a:ext cx="3962160" cy="3448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838080" y="380880"/>
            <a:ext cx="5790960" cy="5913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191120" y="380880"/>
            <a:ext cx="3657600" cy="1752840"/>
          </a:xfrm>
          <a:prstGeom prst="cloudCallout">
            <a:avLst>
              <a:gd name="adj1" fmla="val -78166"/>
              <a:gd name="adj2" fmla="val 39402"/>
            </a:avLst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Про кого из гостей пословиц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52680" y="2971800"/>
            <a:ext cx="556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«Посади свинью за стол, она и ноги на стол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-838080" y="380880"/>
            <a:ext cx="5790960" cy="5913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114800" y="304920"/>
            <a:ext cx="3429000" cy="1295280"/>
          </a:xfrm>
          <a:prstGeom prst="cloudCallout">
            <a:avLst>
              <a:gd name="adj1" fmla="val -80046"/>
              <a:gd name="adj2" fmla="val 70953"/>
            </a:avLst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Про Кро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181480" y="2514600"/>
            <a:ext cx="326412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2660760" cy="4800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724280" y="1066680"/>
            <a:ext cx="4953240" cy="4953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57600" y="228600"/>
            <a:ext cx="2666880" cy="1219320"/>
          </a:xfrm>
          <a:prstGeom prst="wedgeRoundRectCallout">
            <a:avLst>
              <a:gd name="adj1" fmla="val -4166"/>
              <a:gd name="adj2" fmla="val 188282"/>
              <a:gd name="adj3" fmla="val 16667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ffff"/>
                </a:solidFill>
                <a:latin typeface="Tahoma"/>
              </a:rPr>
              <a:t>А кто самый воспитанны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Самая </a:t>
            </a:r>
            <a:br>
              <a:rPr sz="4400"/>
            </a:br>
            <a:r>
              <a:rPr b="1" i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воспитанна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828800" y="914400"/>
            <a:ext cx="494028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4:44:13Z</dcterms:created>
  <dc:creator>1</dc:creator>
  <dc:description/>
  <dc:language>en-US</dc:language>
  <cp:lastModifiedBy>1</cp:lastModifiedBy>
  <dcterms:modified xsi:type="dcterms:W3CDTF">2012-07-09T16:57:1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