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87D-0B5E-47E4-8DCC-743904AE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91B-405A-43A3-8A24-D20DBE0C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F22-0CA7-471D-835A-11C9ADB8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927-30D2-4A2E-9ACF-18CEABF6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F4F5-984E-4E51-9DEB-6B8A8E00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3F9E-65D7-4113-AA92-1205E46F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3FB4-F9E1-4402-BBB1-81645B0D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3720-74D5-43AF-AFC3-BA6F0B60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0C0D-18E0-4DB6-8B04-FC67EFFA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D949-045A-40B3-AB6E-83A76C01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0720-B3DE-4AE6-B9F6-262E0214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FD8-1ADB-431C-B565-CC9ED773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7D8A-5DA2-4A48-9CA0-9B486564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9292-748C-46A9-AD72-19489A3C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C622-4FF5-40F6-9F20-93695B53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474E-34E6-4AB5-B0F3-ECEAC3A2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7B26-72F3-461E-B4A8-B7C570EF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CB7-BB1D-4DB0-AF8E-E928C791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BB6-EF86-4D22-99DB-33B29E1D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B7A-CC95-4570-89F2-47945EA6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008-35AE-40E9-83CD-FD6F85BD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871-D9CA-4DAA-819A-CB0A6FF6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A47-E7BE-4F5C-973B-3035F2BE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974-75B0-454F-91B8-563FFB2A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BF08-7F0D-4B96-8192-31C2CDC906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AD57-1617-455C-A93A-C8D3CEA95D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byblog.ru/community/post/perambulator/1118546" TargetMode="External"/><Relationship Id="rId3" Type="http://schemas.openxmlformats.org/officeDocument/2006/relationships/hyperlink" Target="http://sekret-etiket.narod.ru/_private/v_stranax.htm" TargetMode="External"/><Relationship Id="rId4" Type="http://schemas.openxmlformats.org/officeDocument/2006/relationships/hyperlink" Target="http://www.passion.ru/etiquette.php/vr/24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нтегрированный урок окружающего мира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о 2 классе по теме: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Какие бывают правил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38480" y="4876920"/>
            <a:ext cx="5105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ила : учитель нач.классов МБОУ СОШ № 4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Бел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еховцова Татьяна Алексе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90560" y="914400"/>
            <a:ext cx="6553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есть и пить надо беззвучно и аккуратно, не оставляя на скатерти следов пищ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не склоняться низко над тарелкой, лишь слегка наклонить голову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на столе лежат только кисти рук, локти на стол не ставим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за столом нельзя говорить громко или с полным ртом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не спешим в еде, но и не сидим долго за одним блюдом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всегда благодарим за угощение хозяйку добрыми словами «Спасибо, очень вкусно!»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52760" cy="1803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00840" y="0"/>
            <a:ext cx="698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Правила этикета и вежлив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за столо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885480"/>
            <a:ext cx="9144000" cy="1312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РУГАТЬ, ЖУРИТЬ, ХВАЛИТЬ, БРАНИ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440" cy="3200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057400" y="380880"/>
            <a:ext cx="2666880" cy="1600200"/>
          </a:xfrm>
          <a:prstGeom prst="wedgeEllipseCallout">
            <a:avLst>
              <a:gd name="adj1" fmla="val -79763"/>
              <a:gd name="adj2" fmla="val -36606"/>
            </a:avLst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3071880" cy="548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267080" y="1752480"/>
            <a:ext cx="2743200" cy="1600200"/>
          </a:xfrm>
          <a:prstGeom prst="wedgeEllipseCallout">
            <a:avLst>
              <a:gd name="adj1" fmla="val -78935"/>
              <a:gd name="adj2" fmla="val -36606"/>
            </a:avLst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Лишне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Tahoma"/>
              </a:rPr>
              <a:t>Хвал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4267080"/>
            <a:ext cx="8991720" cy="18288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П-С-Б-,   П-Ж-Л-ЙСТ-,   Б-ДЬТ-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-БР-,   СП-К-ЙН-Й   Н-Ч-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486400" y="304920"/>
            <a:ext cx="21114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4343400"/>
            <a:ext cx="8991720" cy="17524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П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И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Б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О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,   П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О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Ж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Л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У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ЙСТ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,  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Б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У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ДЬТ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ДОБР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Ы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,   СП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О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О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ЙН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О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Й   Н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О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Ч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И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486400" y="304920"/>
            <a:ext cx="21114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авила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02920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cccc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cccc"/>
                </a:solidFill>
                <a:uFillTx/>
                <a:latin typeface="Tahoma"/>
              </a:rPr>
              <a:t>Вежливость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это умение вести себя так, чтобы другим было приятно с тобой общать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* Будь всегда приветлив, здоровайся при встрече, благодари за помощь, уходя, прощай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*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учись вести себя за стол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* Не капризничай, не ворч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* Не заставляй о себе волноваться, слушайся тех, кто о тебе заботит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17600" y="736560"/>
            <a:ext cx="79912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babyblog.ru/community/post/perambulator/11185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760" y="1371600"/>
            <a:ext cx="63741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sekret-etiket.narod.ru/_private/v_stranax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4160" y="2260440"/>
            <a:ext cx="5382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http://www.passion.ru/etiquette.php/vr/24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 rot="21436800">
            <a:off x="0" y="762120"/>
            <a:ext cx="8755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а    урока: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ие бывают правила"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5662440" cy="556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38080" y="0"/>
            <a:ext cx="3124440" cy="5638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анирам</a:t>
            </a:r>
            <a:br>
              <a:rPr sz="4800"/>
            </a:b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ятак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838080" y="0"/>
            <a:ext cx="312444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5790960" cy="579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3251160" cy="5867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арина                    Кат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5ffff"/>
                </a:solidFill>
                <a:uFillTx/>
                <a:latin typeface="Tahoma"/>
              </a:rPr>
              <a:t>Гости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вун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48520" y="609480"/>
            <a:ext cx="3504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ося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57880" y="3124080"/>
            <a:ext cx="2886120" cy="3276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427520" y="6277680"/>
            <a:ext cx="141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рош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0" y="762120"/>
            <a:ext cx="3809880" cy="3711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68280" y="6019200"/>
            <a:ext cx="24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патыч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1371600"/>
            <a:ext cx="3084480" cy="3962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905120" y="2895480"/>
            <a:ext cx="3962160" cy="3448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838080" y="380880"/>
            <a:ext cx="5790960" cy="591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191120" y="380880"/>
            <a:ext cx="3657600" cy="1752840"/>
          </a:xfrm>
          <a:prstGeom prst="cloudCallout">
            <a:avLst>
              <a:gd name="adj1" fmla="val -78166"/>
              <a:gd name="adj2" fmla="val 39402"/>
            </a:avLst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Про кого из гостей послови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52680" y="297180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«Посади свинью за стол, она и ноги на стол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838080" y="380880"/>
            <a:ext cx="5790960" cy="5913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114800" y="304920"/>
            <a:ext cx="3429000" cy="1295280"/>
          </a:xfrm>
          <a:prstGeom prst="cloudCallout">
            <a:avLst>
              <a:gd name="adj1" fmla="val -80046"/>
              <a:gd name="adj2" fmla="val 70953"/>
            </a:avLst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Про Кро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181480" y="2514600"/>
            <a:ext cx="326412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2660760" cy="480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24280" y="1066680"/>
            <a:ext cx="4953240" cy="4953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57600" y="228600"/>
            <a:ext cx="2666880" cy="1219320"/>
          </a:xfrm>
          <a:prstGeom prst="wedgeRoundRectCallout">
            <a:avLst>
              <a:gd name="adj1" fmla="val -4166"/>
              <a:gd name="adj2" fmla="val 188282"/>
              <a:gd name="adj3" fmla="val 16667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А кто самый воспитанны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Самая </a:t>
            </a:r>
            <a:br>
              <a:rPr sz="4400"/>
            </a:br>
            <a:r>
              <a:rPr b="1" i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воспитанн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28800" y="914400"/>
            <a:ext cx="494028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4:44:13Z</dcterms:created>
  <dc:creator>1</dc:creator>
  <dc:description/>
  <dc:language>en-US</dc:language>
  <cp:lastModifiedBy>1</cp:lastModifiedBy>
  <dcterms:modified xsi:type="dcterms:W3CDTF">2012-07-09T16:57:1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