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85720"/>
            <a:ext cx="953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юджетное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образователь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ждени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ц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№ 373 “Экономический лице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85480" y="2160720"/>
            <a:ext cx="96138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шруты боевой сла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Пулковский рубе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119640" y="5140440"/>
            <a:ext cx="31608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выполнил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рамова Алина 7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юхина Татьяна 7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идова И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39640" y="4140360"/>
            <a:ext cx="4491000" cy="30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40000" y="3040200"/>
            <a:ext cx="3313080" cy="352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79280" y="1220760"/>
            <a:ext cx="3060720" cy="363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6391440" y="4589640"/>
            <a:ext cx="3663720" cy="2815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179280"/>
            <a:ext cx="93600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ичтожены деревни вокруг обсерватории, прекрасный парк, разрушена церковь Смоленской иконы божьей мате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хитектор Джакомо Кварен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26640"/>
            <a:ext cx="93600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январе 1944 г. Пулковские высоты - исходный рубеж наступления ударной группировки 42-й армии Ленинградского фронта в Красносельско-Ропшинской операции 1944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местах боев  - братские могилы советских воинов, павших, защищая Пулковские высоты и родной гор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1955 г. на воинском кладбище установлены обелиски, в 1955-1956 гг. установлены раковины и проведено благоустройство территор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60360" y="3780000"/>
            <a:ext cx="485928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5219640" y="4319640"/>
            <a:ext cx="450072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1898640" y="142920"/>
            <a:ext cx="6436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становка на мемориальном кладбищ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920" y="-360360"/>
            <a:ext cx="982188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4700"/>
            </a:br>
            <a:br>
              <a:rPr sz="47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инское захоронение на Пулковских горах «Пулково» (Пулковское шоссе 65) Площадь 2362кв.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оронено 1619чело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040360" y="2160720"/>
            <a:ext cx="4852800" cy="56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1979 году в память о событиях войны был открыт мемориал – скульптурная группа и гранитные до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центральном обелиске из розового гранита выбита надпис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Доблест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оветским воинам, павшим в бо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свободу и независ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ашей роди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41-194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4500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2000" y="323640"/>
            <a:ext cx="86061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60000" y="1618920"/>
            <a:ext cx="95756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0000"/>
          </a:bodyPr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даев А.Н., Пулковская обсерватория. -  Л.: 1972.- 146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олов В.А., Пулковский рубеж. – СПб., 2002. – 280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– ресур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http://pulrubeg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http://ru.wikipedia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http://www.gao.spb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http://al-spbphoto.narod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w. Photoarchiv.spb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600120"/>
            <a:ext cx="988236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Экскурсия по 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Пулковским высотам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97964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лковские высоты - самая ближняя к Ленинграду часть Ижорской возвышенности . Они расположены в 8 километрах от южной окраины города. От площади Победы к ним убегает ровная лента Киевского шоссе, проложенного по плоской низине. Прямой линией шоссе рассекает поля и упирается в синеющий на горизонте холм, увенчанный трехглавым зданием обсерва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111640" y="2700360"/>
            <a:ext cx="4842000" cy="35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5640" y="610920"/>
            <a:ext cx="5903640" cy="6337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 основания Петербурга недалеко от Пулковских высот выросла летняя царская резиденция - Царское Село. На центральн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ковском холме был построен Деревянный путевой дворец Петра I и создан парк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тровский парк на Пулковском холме в 1807 году был украшен замечательным сооружением, выполненным по проекту известного архитектора А. Н. Вороних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48360" y="1547640"/>
            <a:ext cx="3667320" cy="4643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337760" y="104760"/>
            <a:ext cx="5572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новка первая (на склоне го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539640"/>
            <a:ext cx="468000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от “Старик” на два года старше еще одного паркового фонтана ("Четыре ведьмы"), находящегося у северной подошвы центрального холма. Это открытый со всех сторон гранитный павильон с чашей из серого полированного гранита в центре. . У основания павильона расположены четыре гранитных сфинкса. Прямоугольные и полукруглые бассейны, в которые стекала вода, служили для водопоя лошадей. Фонтан был создан на окраине прежнего парка архитектором Тома де Томоном в 1809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40360" y="1763640"/>
            <a:ext cx="4824360" cy="4519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01320" y="222120"/>
            <a:ext cx="49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смотрите в сторону г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Строительство обсерватори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79640" y="3081240"/>
            <a:ext cx="6480000" cy="4299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39640"/>
            <a:ext cx="9720360" cy="55465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1839 году было завершено строительство Пулковской астрономической обсерватор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оект здания был разработан профессором архитектуры А. П. Брюлловым, братом известного художника Карла Брюллова. Здание состоит из пяти каменных частей, соединенных между собой переходными галереями. Три центральные части увенчаны башнями с куполами (в башнях установлены телескопы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90880" y="357120"/>
            <a:ext cx="9753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новка на Пулковском меридиане у здания обсерватор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918072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Годы войны 1941 - 1945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503360"/>
            <a:ext cx="93600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6000"/>
          </a:bodyPr>
          <a:p>
            <a:pPr marL="4143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лковские высоты до войны были густо заселены. На карте отмечены деревни, которые были разрушены в ходе боевых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5688000" y="6012000"/>
            <a:ext cx="49356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863640" y="3506760"/>
            <a:ext cx="44748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4842000" y="3544920"/>
            <a:ext cx="49032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4535640" y="6716880"/>
            <a:ext cx="455400" cy="46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5954760" y="3863880"/>
            <a:ext cx="45396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2303640" y="5541840"/>
            <a:ext cx="441000" cy="470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8"/>
          <a:stretch/>
        </p:blipFill>
        <p:spPr>
          <a:xfrm>
            <a:off x="4989600" y="2762280"/>
            <a:ext cx="4395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9"/>
          <a:stretch/>
        </p:blipFill>
        <p:spPr>
          <a:xfrm>
            <a:off x="8785080" y="6012000"/>
            <a:ext cx="439920" cy="46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23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1250"/>
                            </p:stCondLst>
                            <p:childTnLst>
                              <p:par>
                                <p:cTn id="35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9750"/>
                            </p:stCondLst>
                            <p:childTnLst>
                              <p:par>
                                <p:cTn id="47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539280"/>
            <a:ext cx="9539280" cy="26067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423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улковские высоты -  важный стратегический объект, доминирующая над городом высота. Поэтому немцы стремились любой ценой захватить Пулковский рубеж. В полутора километрах к югу от Главного здания обсерватории пролегала передовая линия фронта в период с 12 сентября 1941 года до 15 января 1944 года. Советские бойцы стояли здесь насмерть, но не отдали высоты враг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868400" y="3298680"/>
            <a:ext cx="6350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619280" y="3181320"/>
            <a:ext cx="7261200" cy="4319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46080" y="1792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Бои на Пулковских высотах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360" y="1332000"/>
            <a:ext cx="9539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3358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сенью 1941 г. на подступах к Пулковским высотам шли ожесточённые бои. В сентябре 1941 г. на Пулковском рубеже сражались 3-я гвардейская и 5-я Ленинградская стрелковые дивизии народного ополчения, остановившие наступление немецко-фашистских войск на Ленинград с юга. Советские войска удерживали этот рубеж в течение всех 900 дней блокад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19080" y="1763280"/>
            <a:ext cx="10080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6000"/>
          </a:bodyPr>
          <a:p>
            <a:pPr marL="4143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Части Красной армии закрепились на северном склоне Пулковских высот. Здесь были сооружены землянки, подземный ход, медицинский пункт располагался в историческом гроте “Старик”. В ходе боев полностью было разрушено здание обсерватори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55600" y="3959280"/>
            <a:ext cx="4964040" cy="27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5219640" y="4859280"/>
            <a:ext cx="4680000" cy="2519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55600" y="466560"/>
            <a:ext cx="8273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становка у братской могилы, осмотр северного склона Пулковского холм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05:14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Acer</cp:lastModifiedBy>
  <dcterms:modified xsi:type="dcterms:W3CDTF">2012-07-09T07:14:19Z</dcterms:modified>
  <cp:revision>14</cp:revision>
  <dc:subject/>
  <dc:title>Предложение стратегии</dc:title>
</cp:coreProperties>
</file>