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516-D4F9-4F0D-958C-D12FE190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E58-FB00-4D3F-B3AA-7876D678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FD7-8129-4F06-9B73-BB11347F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613-CC3C-4303-9D51-67CE9DD1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786A-02EE-4F4F-BD44-CB485C60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02DE-DCC4-44E2-BEDA-8E094274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943-7857-49B9-B300-48962A57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1C7-7531-42F3-874D-699A5868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1CD-9F0A-45BC-BB44-E90DE259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AEF4-A224-4FC0-BD43-05FABDA5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8F6-1067-4E1D-AAD2-F27DFCF1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F14-6199-482A-A156-7EA366C8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396F-5036-47BF-9481-6277035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C920-50B6-4074-9400-3845BC1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F6B4-68EA-4311-A8E5-01AA7E8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15E6-4CC3-4960-9756-A5C94F73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FD3-6597-42D5-A053-96A1F59E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17F-ED1F-4856-B1A7-4D93DDDA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5C4-ACC7-4214-8376-508877FC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2D5-4C55-40FB-BAE7-B001194D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E4D-90B0-416D-8B5B-8CB04FF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F1D-EDEA-4B7B-A985-75A0F44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214B-3870-40DB-AA92-B369DCC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395-4CBC-46F1-938D-C13F3D1C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E74-B7A2-4040-828D-4F6EC6D4CD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9F50-DBEE-43C5-A580-BD91ABB6FF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акие бывают животны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2987640" y="342900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240" y="2381040"/>
            <a:ext cx="557388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3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4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2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16000" y="907560"/>
            <a:ext cx="7772400" cy="6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 называется наука о животны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оолог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отаник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1160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относится к насеком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971640" y="4221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негир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1600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, которое относится к рыба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рп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4"/>
          <p:cNvSpPr/>
          <p:nvPr/>
        </p:nvSpPr>
        <p:spPr>
          <a:xfrm>
            <a:off x="3564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дельфи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бегемо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16000" y="765000"/>
            <a:ext cx="777240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относится к земновод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Скругленный прямоугольник 3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ягушк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нос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ящериц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16000" y="6922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зови животное, которое относится к птиц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Скругленный прямоугольник 3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либр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жираф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и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16000" y="54900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ты отнесешь к диким живот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Скругленный прямоугольник 3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медвед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рову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5"/>
          <p:cNvSpPr/>
          <p:nvPr/>
        </p:nvSpPr>
        <p:spPr>
          <a:xfrm>
            <a:off x="363528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ошад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116000" y="54900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ое животное ты отнесешь к домашним животны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370836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ви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97164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газел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6012000" y="4149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за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User</cp:lastModifiedBy>
  <dcterms:modified xsi:type="dcterms:W3CDTF">2012-07-09T08:11:46Z</dcterms:modified>
  <cp:revision>712</cp:revision>
  <dc:subject/>
  <dc:title>Слайд 1</dc:title>
</cp:coreProperties>
</file>