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CAAF-B76E-4E86-804E-B3FC26794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99EC-8F64-4A72-842B-FFE18A108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02A0-8A7E-4E1F-A037-65654FD4B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E55C-C3FB-4302-BD2E-C8961905D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C3449-4251-4F1D-951C-12647238C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1068A-210F-40A0-8C77-286174757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B18E7-7CBB-4BE1-BE4D-708CB49CE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2D30F-E28F-4500-876A-C0904718B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816F3-9C90-4324-8887-AC7F7C542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64285-08D2-4329-AC07-5BF0DB6A7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25FA2-A0B9-4D30-8DFA-733CB72E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CF22-1B7F-4CB9-BD13-246201B2A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7045C-0730-469D-84C7-EB81BA3A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8201D-1AF0-41C9-8ED9-F377DD30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01117-63DB-4144-902F-138F045C0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84900-BAFF-45C9-A3C8-DB4968FC8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A20E2-EAC0-44DC-A80A-567E06E24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EE93-BD92-4248-B059-F1E0F0DDB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C001-8C31-40FD-91C7-89C40A923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56B5-45E4-4449-837F-0D2009779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D5C2-B1DA-4C6F-B380-D7109C5B0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2CD6-250D-496B-B7FC-BD2D1147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7D59-F3D5-473F-B36D-67D619FC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141E-3598-4D58-89CF-73F22A6C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5D42D-4FF5-4BC9-8085-67EEC35F892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02F22-4B42-4432-8EBB-6BD17FB31C0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nachalka.com/test_shablon" TargetMode="External"/><Relationship Id="rId2" Type="http://schemas.openxmlformats.org/officeDocument/2006/relationships/hyperlink" Target="http://www.nachalka.com/test_shablon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6000" y="54936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Какие бывают животные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Скругленный прямоугольник 7"/>
          <p:cNvSpPr/>
          <p:nvPr/>
        </p:nvSpPr>
        <p:spPr>
          <a:xfrm>
            <a:off x="2987640" y="3429000"/>
            <a:ext cx="3000240" cy="71424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одзаголовок 2"/>
          <p:cNvSpPr/>
          <p:nvPr/>
        </p:nvSpPr>
        <p:spPr>
          <a:xfrm>
            <a:off x="250920" y="6453360"/>
            <a:ext cx="85723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Arial"/>
                <a:ea typeface="Arial"/>
              </a:rPr>
              <a:t>Использован </a:t>
            </a:r>
            <a:r>
              <a:rPr b="0" lang="ru-RU" sz="10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1"/>
              </a:rPr>
              <a:t>шаблон создания тестов в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2"/>
              </a:rPr>
              <a:t>Power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  <a:ea typeface="Arial"/>
              </a:rPr>
              <a:t>Результат тес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182240" y="2381040"/>
            <a:ext cx="5573880" cy="29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Верно: 3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Ошибки: 4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Отметка: 2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Содержимое 2"/>
          <p:cNvSpPr/>
          <p:nvPr/>
        </p:nvSpPr>
        <p:spPr>
          <a:xfrm>
            <a:off x="500040" y="557208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Время: 0 мин. 5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кругленный прямоугольник 4"/>
          <p:cNvSpPr/>
          <p:nvPr/>
        </p:nvSpPr>
        <p:spPr>
          <a:xfrm>
            <a:off x="6500880" y="55720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кругленный прямоугольник 5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116000" y="907560"/>
            <a:ext cx="7772400" cy="69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ак называется наука о животных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Скругленный прямоугольник 3"/>
          <p:cNvSpPr/>
          <p:nvPr/>
        </p:nvSpPr>
        <p:spPr>
          <a:xfrm>
            <a:off x="6012000" y="414972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зоология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кругленный прямоугольник 4"/>
          <p:cNvSpPr/>
          <p:nvPr/>
        </p:nvSpPr>
        <p:spPr>
          <a:xfrm>
            <a:off x="971640" y="414972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ботаника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кругленный прямоугольник 5"/>
          <p:cNvSpPr/>
          <p:nvPr/>
        </p:nvSpPr>
        <p:spPr>
          <a:xfrm>
            <a:off x="3564000" y="270828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астроно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1160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акое животное относится к насекомым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Скругленный прямоугольник 3"/>
          <p:cNvSpPr/>
          <p:nvPr/>
        </p:nvSpPr>
        <p:spPr>
          <a:xfrm>
            <a:off x="3564000" y="270828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пч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4"/>
          <p:cNvSpPr/>
          <p:nvPr/>
        </p:nvSpPr>
        <p:spPr>
          <a:xfrm>
            <a:off x="971640" y="42210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па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кругленный прямоугольник 5"/>
          <p:cNvSpPr/>
          <p:nvPr/>
        </p:nvSpPr>
        <p:spPr>
          <a:xfrm>
            <a:off x="6012000" y="414972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снегирь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1160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акое животное, которое относится к рыба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Скругленный прямоугольник 3"/>
          <p:cNvSpPr/>
          <p:nvPr/>
        </p:nvSpPr>
        <p:spPr>
          <a:xfrm>
            <a:off x="971640" y="414972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карп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кругленный прямоугольник 4"/>
          <p:cNvSpPr/>
          <p:nvPr/>
        </p:nvSpPr>
        <p:spPr>
          <a:xfrm>
            <a:off x="3564000" y="270828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дельфин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Скругленный прямоугольник 5"/>
          <p:cNvSpPr/>
          <p:nvPr/>
        </p:nvSpPr>
        <p:spPr>
          <a:xfrm>
            <a:off x="6012000" y="414972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бегемот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116000" y="765000"/>
            <a:ext cx="7772400" cy="8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акое животное относится к земноводным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Скругленный прямоугольник 3"/>
          <p:cNvSpPr/>
          <p:nvPr/>
        </p:nvSpPr>
        <p:spPr>
          <a:xfrm>
            <a:off x="3635280" y="270828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лягушка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кругленный прямоугольник 4"/>
          <p:cNvSpPr/>
          <p:nvPr/>
        </p:nvSpPr>
        <p:spPr>
          <a:xfrm>
            <a:off x="971640" y="414972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носор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кругленный прямоугольник 5"/>
          <p:cNvSpPr/>
          <p:nvPr/>
        </p:nvSpPr>
        <p:spPr>
          <a:xfrm>
            <a:off x="6012000" y="414972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ящерица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116000" y="692280"/>
            <a:ext cx="7772400" cy="76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азови животное, которое относится к птицам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Скругленный прямоугольник 3"/>
          <p:cNvSpPr/>
          <p:nvPr/>
        </p:nvSpPr>
        <p:spPr>
          <a:xfrm>
            <a:off x="971640" y="414972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колибри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кругленный прямоугольник 4"/>
          <p:cNvSpPr/>
          <p:nvPr/>
        </p:nvSpPr>
        <p:spPr>
          <a:xfrm>
            <a:off x="3635280" y="270828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жираф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кругленный прямоугольник 5"/>
          <p:cNvSpPr/>
          <p:nvPr/>
        </p:nvSpPr>
        <p:spPr>
          <a:xfrm>
            <a:off x="6012000" y="414972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пит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116000" y="549000"/>
            <a:ext cx="777240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акое животное ты отнесешь к диким животным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Скругленный прямоугольник 3"/>
          <p:cNvSpPr/>
          <p:nvPr/>
        </p:nvSpPr>
        <p:spPr>
          <a:xfrm>
            <a:off x="6012000" y="414972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медведя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кругленный прямоугольник 4"/>
          <p:cNvSpPr/>
          <p:nvPr/>
        </p:nvSpPr>
        <p:spPr>
          <a:xfrm>
            <a:off x="971640" y="414972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корову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кругленный прямоугольник 5"/>
          <p:cNvSpPr/>
          <p:nvPr/>
        </p:nvSpPr>
        <p:spPr>
          <a:xfrm>
            <a:off x="3635280" y="270828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лошадь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1116000" y="549000"/>
            <a:ext cx="777240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акое животное ты отнесешь к домашним животным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Скругленный прямоугольник 3"/>
          <p:cNvSpPr/>
          <p:nvPr/>
        </p:nvSpPr>
        <p:spPr>
          <a:xfrm>
            <a:off x="3708360" y="270828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свин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кругленный прямоугольник 4"/>
          <p:cNvSpPr/>
          <p:nvPr/>
        </p:nvSpPr>
        <p:spPr>
          <a:xfrm>
            <a:off x="971640" y="414972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газель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кругленный прямоугольник 5"/>
          <p:cNvSpPr/>
          <p:nvPr/>
        </p:nvSpPr>
        <p:spPr>
          <a:xfrm>
            <a:off x="6012000" y="414972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зай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User</cp:lastModifiedBy>
  <dcterms:modified xsi:type="dcterms:W3CDTF">2012-07-09T08:11:46Z</dcterms:modified>
  <cp:revision>712</cp:revision>
  <dc:subject/>
  <dc:title>Слайд 1</dc:title>
</cp:coreProperties>
</file>