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115550" cy="71278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F1D-13EE-417F-89A5-48819C06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910404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160" y="4214880"/>
            <a:ext cx="910404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885-377A-430A-9BBB-8D2D8DDA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160" y="42148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71400" y="42148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0F3-9DCE-4833-A740-53F7FE84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9810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62160" y="19810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160" y="42148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42148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62160" y="42148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4C6-CFCC-463A-AB40-2C9375EB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5AA1F-4CEA-42BF-AAE8-E41FB52D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72E3E-30AF-4295-9527-9305E2D4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EC673-83F6-4442-BD60-9753E35D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7CF0A-3749-4C56-A493-8C83D376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95C69-9205-4A54-ADE8-E071AB69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6160" y="303120"/>
            <a:ext cx="910404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54DFE-8100-417B-960A-92FB9B19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160" y="42148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A28AC-63C9-4063-BD9A-EE14D341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DF9-33B3-4783-9C77-366F5CC4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71400" y="42148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2E3C2-F780-4D93-99DD-AEC3C6AB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160" y="4214880"/>
            <a:ext cx="910404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C7643-DF5F-440E-A8C1-FD94BE9B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910404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160" y="4214880"/>
            <a:ext cx="910404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4D70C-368F-498E-B79B-27C3E73C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6160" y="42148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71400" y="42148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0DEA1-7CFE-42B4-B6CB-78CE6DB0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4160" y="19810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62160" y="19810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160" y="42148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84160" y="42148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62160" y="4214880"/>
            <a:ext cx="293112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96522-B182-4E8E-BE39-112BEED2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BBC5-E873-41FA-9C0D-C5038AD0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813-1956-429B-ADA6-92352793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28A-1418-4F19-BDBF-0112AC71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6160" y="303120"/>
            <a:ext cx="910404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77F-4C84-4C8A-BAB8-352B9681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160" y="42148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DFA-E913-46D0-B19A-0FB34368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71400" y="42148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302-1C33-456B-BE17-4A34F80C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1400" y="1981080"/>
            <a:ext cx="444276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160" y="4214880"/>
            <a:ext cx="9104040" cy="2039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408-C739-4286-B526-CC7ACA75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7000"/>
          </a:bodyPr>
          <a:p>
            <a:pPr marL="358560" indent="-358560"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76160" indent="-298800">
              <a:spcBef>
                <a:spcPts val="850"/>
              </a:spcBef>
              <a:buClr>
                <a:srgbClr val="ffffff"/>
              </a:buClr>
              <a:buFont typeface="Tahoma"/>
              <a:buChar char="–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2" marL="1194840" indent="-238680"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3" marL="1672200" indent="-238680">
              <a:spcBef>
                <a:spcPts val="850"/>
              </a:spcBef>
              <a:buClr>
                <a:srgbClr val="ffffff"/>
              </a:buClr>
              <a:buFont typeface="Tahoma"/>
              <a:buChar char="–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4" marL="2151000" indent="-238320">
              <a:spcBef>
                <a:spcPts val="85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5" marL="2151000" indent="-238320"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6" marL="2151000" indent="-238320">
              <a:spcBef>
                <a:spcPts val="85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6160" y="6492960"/>
            <a:ext cx="2360520" cy="495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55640" y="6492960"/>
            <a:ext cx="3205080" cy="495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49680" y="6492960"/>
            <a:ext cx="2360520" cy="495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49F34B34-C5E1-4919-8201-FFB8515C8828}" type="slidenum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8520" y="2076480"/>
            <a:ext cx="8599320" cy="14889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 anchorCtr="1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2914560"/>
            <a:ext cx="1440" cy="315612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455640" y="6492960"/>
            <a:ext cx="3205080" cy="495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7249680" y="6492960"/>
            <a:ext cx="2360520" cy="495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 algn="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fld id="{54C6E954-48DB-45E3-AC67-F3FFDA16E822}" type="slidenum"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506160" y="6492960"/>
            <a:ext cx="2360520" cy="495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  <a:defRPr b="0" lang="en-U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505800" y="1667880"/>
            <a:ext cx="91040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492120" indent="0" algn="ctr">
              <a:spcBef>
                <a:spcPts val="7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85680" algn="ctr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1477800" algn="ctr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4" marL="1971720" algn="ctr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5" marL="197172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6" marL="197172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Картинка 4 из 236875"/>
          <p:cNvPicPr/>
          <p:nvPr/>
        </p:nvPicPr>
        <p:blipFill>
          <a:blip r:embed="rId2"/>
          <a:stretch/>
        </p:blipFill>
        <p:spPr>
          <a:xfrm>
            <a:off x="-1349280" y="-826920"/>
            <a:ext cx="13438080" cy="9466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0360" y="1765080"/>
            <a:ext cx="835668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Mongolian Baiti"/>
              </a:rPr>
              <a:t>ОБЛАСТНОЙ КОНКУР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Mongolian Baiti"/>
              </a:rPr>
              <a:t>ИССЛЕДОВАТЕЛЬСКИХ РАБОТ И ТВОРЧЕСКИХ ПРОЕКТОВ ДОШКОЛЬНИКОВ И МЛАДШИХ ШКОЛЬНИК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Mongolian Baiti"/>
              </a:rPr>
              <a:t>«ЮНЫЙ ИССЛЕДОВАТЕЛЬ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22360" y="396720"/>
            <a:ext cx="88138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да - что это такое?</a:t>
            </a:r>
            <a:endParaRPr b="0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8000" y="3565440"/>
            <a:ext cx="835632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Mongolian Baiti"/>
              </a:rPr>
              <a:t>Автор: Буря Екате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Mongolian Baiti"/>
              </a:rPr>
              <a:t>ученица 1 «А»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ahoma"/>
              </a:rPr>
              <a:t>Классный руководитель: Фёдорова Зинаида Никола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МОУ «СОШ р.п. Соколовый, Саратовского района, Саратовской обла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ahoma"/>
              </a:rPr>
              <a:t>т: 67-66-18,  359-47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2360" y="323640"/>
            <a:ext cx="910440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 книг я узнала, что вода в нашей жизни присутствует в виде осадков. Зимой, когда вода замерзает, идёт снег, летом, когда тепло идет дождь.</a:t>
            </a: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 rot="20714400">
            <a:off x="666720" y="1980720"/>
            <a:ext cx="2921040" cy="424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 rot="904200">
            <a:off x="5922720" y="1980720"/>
            <a:ext cx="3014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77640" y="323640"/>
            <a:ext cx="4105080" cy="6553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4000"/>
          </a:bodyPr>
          <a:p>
            <a:pPr marL="347400" indent="-347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лнышко нагревает поверхность Земл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7400" indent="0">
              <a:spcBef>
                <a:spcPts val="49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7400" indent="-347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а океанов и морей превращается в пар. Лёгкий пар поднимается вверх и образует обла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7400" indent="0">
              <a:spcBef>
                <a:spcPts val="49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7400" indent="-3474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тер переносит облака по небу и они, проплывая над сушей, образуют тучи, из которых льет дожд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7400" indent="0">
              <a:spcBef>
                <a:spcPts val="49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7400" indent="-34740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авшие на землю дождевые капли стекают с гор и холмов, объединяются в ручьи и реки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Реки текут в моря и океан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7400" indent="-347400">
              <a:spcBef>
                <a:spcPts val="8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круговорот начинается снова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83080" y="181080"/>
            <a:ext cx="4915080" cy="69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0720" y="180720"/>
            <a:ext cx="9104400" cy="863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Свойства воды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7640" y="1044360"/>
            <a:ext cx="9104040" cy="1584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Оказывается  вода – </a:t>
            </a:r>
            <a:r>
              <a:rPr b="1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это вещество</a:t>
            </a: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ahoma"/>
              </a:rPr>
              <a:t>Это вещество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может быть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таким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06360" y="2268360"/>
            <a:ext cx="194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70000"/>
          </a:bodyPr>
          <a:p>
            <a:pPr marL="453240" indent="-453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* жидки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18000" y="2268360"/>
            <a:ext cx="223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* твёрды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02360" y="2268360"/>
            <a:ext cx="223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* паро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426360" y="2773440"/>
            <a:ext cx="3078000" cy="4103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186000" y="2773440"/>
            <a:ext cx="3079800" cy="4103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2773440"/>
            <a:ext cx="3078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3280" y="324000"/>
            <a:ext cx="2449440" cy="8445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Опыт 1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6000" y="1115640"/>
            <a:ext cx="4319640" cy="5832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3000"/>
          </a:bodyPr>
          <a:p>
            <a:pPr marL="343800" indent="-34380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Возьмём посуду разной формы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800" indent="-34380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Какую форму имеет эта посуда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800" indent="-34380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А вода? Вода жидкая, не имеет форму и принимает форму того сосуда, в который налит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800" indent="-3438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Показываем это, налив воду в посуду разной формы.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54360" y="1405080"/>
            <a:ext cx="54136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32920" y="1547640"/>
            <a:ext cx="4264200" cy="5113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2000"/>
          </a:bodyPr>
          <a:p>
            <a:pPr marL="339840" indent="-3398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Вода не имеет вкуса. Какого вкуса вода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Попробуй кипячёную воду. Затем в один стакан добавим немного соли, а в другой сахар. Размешиваем и попробуем оба раствор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Какой же вкус приобрела теперь вода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06000" y="252360"/>
            <a:ext cx="2376360" cy="9144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Опыт 2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483080" y="612720"/>
            <a:ext cx="3906720" cy="3154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634000" y="4068720"/>
            <a:ext cx="339732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77640" y="-360"/>
            <a:ext cx="3111480" cy="1189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Опыт 3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" y="1476360"/>
            <a:ext cx="4319640" cy="54007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Вода не имеет запаха. Чем пахнет вода? Как ты думаешь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Понюхаем воду в стакане с сахаром, а затем с солью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Затем капнем в один из них, но так, чтобы ребёнок не видел (закрыть глаза), пахучий раствор валерианы. А теперь в каком стакане пахнет вода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338720" y="828720"/>
            <a:ext cx="3541680" cy="2657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130720" y="3708360"/>
            <a:ext cx="40496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6000" y="323640"/>
            <a:ext cx="2808360" cy="936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Опыт 4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2000" y="1620360"/>
            <a:ext cx="3960720" cy="5327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89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Вода не имеет цвет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Перед нами стакан с водой, другой с молоком. В каждый стакан нужно положить ложечку и посмотреть, в каком стакане они видны, а в каком нет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Почему?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978360" y="1692360"/>
            <a:ext cx="54165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22360" y="323640"/>
            <a:ext cx="910440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ыты помогли мне на уроке правильно выбрать ответ по тесту, который задал нам учитель  на уроке окружающий ми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2360" y="1980720"/>
            <a:ext cx="9104400" cy="7923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0">
              <a:spcBef>
                <a:spcPts val="45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Тест был такой: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Определи, под каким номером названы свойства чистой вод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170000" y="277344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85000"/>
          </a:bodyPr>
          <a:p>
            <a:pPr marL="313920" indent="-313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ёлтая, имеет сладковатый вкус и запах лимона, растекается, не имеет фор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70000" y="356544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78000"/>
          </a:bodyPr>
          <a:p>
            <a:pPr marL="288360" indent="-28836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расная, горьковатого вкуса, имеет запах, растекается.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70000" y="442908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78000"/>
          </a:bodyPr>
          <a:p>
            <a:pPr marL="288360" indent="-28836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елая, очень вкусная, текучая, непрозрачная.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70000" y="536400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78000"/>
          </a:bodyPr>
          <a:p>
            <a:pPr marL="288360" indent="-28836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 имеет цвета, запаха, вкуса, текучая, прозрачная, не имеет своей формы.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8000" y="2700360"/>
            <a:ext cx="57600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" y="3708360"/>
            <a:ext cx="57600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8000" y="4645080"/>
            <a:ext cx="57600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" y="5508720"/>
            <a:ext cx="576000" cy="504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Список использованной литературы</a:t>
            </a: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3000"/>
          </a:bodyPr>
          <a:p>
            <a:pPr marL="602280" indent="-6022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«Я и окружающий мир», И.П. Товпинец, 2002 г.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2280" indent="0"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2280" indent="-6022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«Экологический букварь», С.В. Рянжин, 1994 г.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2280" indent="0"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2280" indent="-6022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Учебник «Мир и человек» (окружающий мир. Земля. Части света), часть 1,А.А. Вахрушев, О.В. Бурский, А.С. Раутиан, 2007 г.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2280" indent="0">
              <a:spcBef>
                <a:spcPts val="649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2280" indent="-6022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«Волшебница вода», Рыжова Н.А. 1997 г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2280" indent="0">
              <a:spcBef>
                <a:spcPts val="649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Картинка 4 из 236875"/>
          <p:cNvPicPr/>
          <p:nvPr/>
        </p:nvPicPr>
        <p:blipFill>
          <a:blip r:embed="rId2"/>
          <a:stretch/>
        </p:blipFill>
        <p:spPr>
          <a:xfrm>
            <a:off x="-1422360" y="-1332000"/>
            <a:ext cx="13438080" cy="9466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241280" y="252360"/>
            <a:ext cx="6553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83000"/>
          </a:bodyPr>
          <a:p>
            <a:pPr marL="537480" indent="-537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 воды не прожив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480" indent="-537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п в тарелку не наль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480" indent="-537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лужу сапогом не топне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480" indent="-537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в сугроб не упадеш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480" indent="-537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480" indent="-537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тя Бу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77640" y="468000"/>
            <a:ext cx="9104040" cy="6337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Цель работы: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 изучить источники воды, свойства воды, понять её важность и назначение в окружающем мире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1. Определить источники воды на планете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2. Выявить основные свойства воды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3. Провести опыты и исследования направленные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на изучение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воды в окружающем мире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4. Оформить полученные зна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Объект исследования: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вода из разных источников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Методы исследования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- экскурсии с родителями (пруды, родники)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- беседы с учителем и родителями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- самостоятельные наблюдения и обдумывания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- поиск информации в книгах и Интернете с родителями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- проведение с родителями занятий-опытов по изучению вод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Гипотеза: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 Я предположила, что вода это вещество, о котором мне не всё известно и что она полезна и важна дл человека и окружающего мира.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6000" y="252360"/>
            <a:ext cx="4969080" cy="8431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Вода нужна всем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91080" y="0"/>
            <a:ext cx="3960720" cy="2971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360" y="3204720"/>
            <a:ext cx="4103640" cy="430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Мои курочки без воды не проживут ни дня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232080" y="1260360"/>
            <a:ext cx="1981440" cy="3529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33280" y="1620720"/>
            <a:ext cx="2909880" cy="518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275440" y="3781440"/>
            <a:ext cx="4103640" cy="307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86000" y="5005440"/>
            <a:ext cx="20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78000"/>
          </a:bodyPr>
          <a:p>
            <a:pPr marL="288360" indent="-288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Мой любим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8360" indent="-288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Боярышн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8360" indent="-28836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любит водичку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696000"/>
            <a:ext cx="3546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98000"/>
          </a:bodyPr>
          <a:p>
            <a:pPr marL="362160" indent="-3621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Мой кролик Саша  -бел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62160" indent="-3621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без воды не проживет больше 3-х дней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07080" y="6877080"/>
            <a:ext cx="35463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Эй, крошки! А вы любите водичк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00"/>
                            </p:stCondLst>
                            <p:childTnLst>
                              <p:par>
                                <p:cTn id="8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150"/>
                            </p:stCondLst>
                            <p:childTnLst>
                              <p:par>
                                <p:cTn id="9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100"/>
                            </p:stCondLst>
                            <p:childTnLst>
                              <p:par>
                                <p:cTn id="9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200"/>
                            </p:stCondLst>
                            <p:childTnLst>
                              <p:par>
                                <p:cTn id="10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i="1" lang="en-US" sz="4300" spc="-1" strike="noStrike">
                <a:solidFill>
                  <a:srgbClr val="33cccc"/>
                </a:solidFill>
                <a:latin typeface="Tahoma"/>
              </a:rPr>
              <a:t>Среда обитания – вода!</a:t>
            </a:r>
            <a:br>
              <a:rPr sz="4300"/>
            </a:br>
            <a:r>
              <a:rPr b="0" i="1" lang="en-US" sz="4300" spc="-1" strike="noStrike">
                <a:solidFill>
                  <a:srgbClr val="33cccc"/>
                </a:solidFill>
                <a:latin typeface="Tahoma"/>
              </a:rPr>
              <a:t>отгадай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1640" y="1765440"/>
            <a:ext cx="3833640" cy="21160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Сапожник не сапожник, портной, не портной. Держит во рту щетину, в руках ножниц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(рак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626000" y="1765440"/>
            <a:ext cx="38336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Вильнёт хвостом туда-сюда – и нет её, и нет след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                       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                               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(рыб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360" y="4213080"/>
            <a:ext cx="383400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Через море океан плывет чудо великан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Прячет ус во рту, растянулся на версту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(кит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30720" y="4213080"/>
            <a:ext cx="383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99000"/>
          </a:bodyPr>
          <a:p>
            <a:pPr marL="365760" indent="-36576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Есть крылья – не летаю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760" indent="-365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Ног нет а я гуляю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760" indent="-365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По земле не хожу, на небо не гляжу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760" indent="-365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Звезд не считаю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760" indent="-365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Людей избегаю. 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760" indent="-365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       </a:t>
            </a:r>
            <a:r>
              <a:rPr b="0" lang="en-US" sz="2100" spc="-1" strike="noStrike">
                <a:solidFill>
                  <a:srgbClr val="33cccc"/>
                </a:solidFill>
                <a:latin typeface="Tahoma"/>
              </a:rPr>
              <a:t>(рыб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65760" indent="-365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6000" y="252360"/>
            <a:ext cx="4969080" cy="84312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Вода нужна всем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62000" y="1405080"/>
            <a:ext cx="3097080" cy="2274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33280" y="4356000"/>
            <a:ext cx="2916360" cy="1935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762360" y="3637080"/>
            <a:ext cx="2952720" cy="2638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147080" y="3708360"/>
            <a:ext cx="2093760" cy="2846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491080" y="900000"/>
            <a:ext cx="397980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89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а – это чудо приро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нам без воды не прожи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а – достоянье народ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ой мы должны дорожить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100"/>
                            </p:stCondLst>
                            <p:childTnLst>
                              <p:par>
                                <p:cTn id="1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8000" y="323640"/>
            <a:ext cx="4968720" cy="84276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ahoma"/>
              </a:rPr>
              <a:t>Вода нужна всем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78000" y="1260360"/>
            <a:ext cx="2863800" cy="3816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194000" y="5653080"/>
            <a:ext cx="48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/>
          </a:bodyPr>
          <a:p>
            <a:pPr marL="369720" indent="-369720" algn="ctr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И мой младший  брат!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850000" y="2773440"/>
            <a:ext cx="3529080" cy="2644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2000" y="5364000"/>
            <a:ext cx="331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97000"/>
          </a:bodyPr>
          <a:p>
            <a:pPr marL="358560" indent="-358560">
              <a:lnSpc>
                <a:spcPct val="80000"/>
              </a:lnSpc>
              <a:spcBef>
                <a:spcPts val="4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И я люблю чистую водицу!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546360" y="1836720"/>
            <a:ext cx="2212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95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450"/>
                            </p:stCondLst>
                            <p:childTnLst>
                              <p:par>
                                <p:cTn id="16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3280" y="684360"/>
            <a:ext cx="5180040" cy="518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013440"/>
            <a:ext cx="3960720" cy="4334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 fontScale="97000"/>
          </a:bodyPr>
          <a:p>
            <a:pPr marL="358560" indent="-35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ш  - серебряный родник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978360" y="1100160"/>
            <a:ext cx="3738600" cy="4984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750000" y="2629080"/>
            <a:ext cx="2733840" cy="3644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54360" y="6300720"/>
            <a:ext cx="424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96000"/>
          </a:bodyPr>
          <a:p>
            <a:pPr marL="354600" indent="-354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ши самые красивые пруды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8720" y="181080"/>
            <a:ext cx="45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normAutofit fontScale="86000"/>
          </a:bodyPr>
          <a:p>
            <a:pPr marL="317880" indent="-317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ши источники воды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6160" y="303120"/>
            <a:ext cx="9104040" cy="1440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17080" cy="72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2360" y="323640"/>
            <a:ext cx="910440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Где есть вода на планете?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6160" y="1981080"/>
            <a:ext cx="9104040" cy="42768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rmAutofit/>
          </a:bodyPr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Вода находится везде – в океанах, морях, реках и озёрах, под землей и в почве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97 % воды на планете – это солёные воды морей и океанов;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3 % воды – пресной – пригодной для человека из них: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69-75 % - Арктика, Антарктика, Гренландия, горные ледники, айсберги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24-30% - грунтовые вод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0,5% - атмосферная влаг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0,5 % - поверхностные вод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9720" indent="-36972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В нашей стране много ледников в Арктике, на Кавказе, Камчатке, Алтае, в Сибири. Большая часть запасов пресной воды находится в озерах. Подземные воды распространены по всей территории нашей Родины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14:23:10Z</dcterms:created>
  <dc:creator>user</dc:creator>
  <dc:description/>
  <dc:language>en-US</dc:language>
  <cp:lastModifiedBy>user</cp:lastModifiedBy>
  <dcterms:modified xsi:type="dcterms:W3CDTF">2012-07-09T15:36:38Z</dcterms:modified>
  <cp:revision>36</cp:revision>
  <dc:subject/>
  <dc:title>ВОДА – ЧТО ЭТО ТАКОЕ?</dc:title>
</cp:coreProperties>
</file>