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CF9-A508-4EDF-B812-2D211127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4CC-B97B-466B-933E-CF2B229C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DA0-1482-4D3A-BC76-851E534B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2AD-64EB-4490-B32C-70C769F8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71BB-4720-4BF9-A63E-51EB150B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C73C-5FB3-479D-9C5B-C05D8FB1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5A69-06A2-483A-9305-7D6978F6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CC32-ACF9-405E-893D-73212E27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D343-1CF7-48F2-842B-4695C1A1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C4CD-2AC4-4BAA-AD52-C03D1FA2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A0B6-C5A8-4497-8033-EBD8370A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328-0F4D-4828-A5F6-A3D463C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2C3D-2526-4195-9AFC-FD93474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C718-F784-45EF-823D-15ADF0D7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5E4B-FA11-4409-8181-11D4E965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7328-67EA-41C0-A119-00ED05A0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2E97-54B8-414F-8162-9ECF4615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A4E-D18A-4230-AD5E-37CC2448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D34-98DB-42C1-800A-774A292B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27C-A2EC-4F50-9AC7-9BA0CD5B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3E4-A6EE-41FF-9125-4C40572F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C7F-5F43-4953-8625-93AD230E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225-4281-4D60-8734-9CC9E210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195-59F0-4324-BA56-E7AC1AC2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F805-B08B-4626-8CFB-D4DEF0FFF98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2DF0-E226-471B-AC18-35EE6334007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500040"/>
            <a:ext cx="8858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«Экология природы» и «экология душ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современной литератур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заимоотношения человека и природы в произведениях Ч.Айтматова и В. Астафьева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2643120" y="4286160"/>
            <a:ext cx="6215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655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4489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14200" y="514368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гармония между природой и человеком носит как экологический, так и нравственный характ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0" y="2858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«Помни живой язык природы,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И скажешь ты: прекрасен мир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H:\Documents and Settings\Администратор\Рабочий стол\f_5512430.jpg"/>
          <p:cNvPicPr/>
          <p:nvPr/>
        </p:nvPicPr>
        <p:blipFill>
          <a:blip r:embed="rId1"/>
          <a:stretch/>
        </p:blipFill>
        <p:spPr>
          <a:xfrm>
            <a:off x="1500120" y="2087640"/>
            <a:ext cx="635796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642960" y="57168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чал, задумавшись, и 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ычным взглядом созерц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ловещий праздник быт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жный вид родного кр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. Руб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вердит природы голос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ашей власти, в вашей вла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всё не расколо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бессмысленные ча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.Мартын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988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«Царь – рыба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23800" y="2000160"/>
            <a:ext cx="527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овь к природе, отношение ко всему живо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изует человека, помогает понять, к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есть, какого его отношение к большой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ой родине, способен ли он делать добр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мать о будущ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нно об этом пишет В.Астафь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воём произвед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Рисунок 1" descr="98.jpg"/>
          <p:cNvPicPr/>
          <p:nvPr/>
        </p:nvPicPr>
        <p:blipFill>
          <a:blip r:embed="rId1"/>
          <a:stretch/>
        </p:blipFill>
        <p:spPr>
          <a:xfrm>
            <a:off x="4548240" y="3357720"/>
            <a:ext cx="423864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viktor_astafiev_b_alschool430719wpmgs.jpg"/>
          <p:cNvPicPr/>
          <p:nvPr/>
        </p:nvPicPr>
        <p:blipFill>
          <a:blip r:embed="rId1"/>
          <a:stretch/>
        </p:blipFill>
        <p:spPr>
          <a:xfrm>
            <a:off x="4143240" y="357120"/>
            <a:ext cx="4786560" cy="5983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0" y="0"/>
            <a:ext cx="40719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тор Астафьев родился 1 мая 1924 года в селе Овсянка, недалеко от Красноярска, в семье Лидии Ильиничны Потылициной и Петра Павловича Астафьева. После смерти матери Виктор жил у её родителей — Екатерины Петровны и Ильи Евграфовича Потылициных. О детстве, проведённом с бабушкой Катериной Петровной и оставившим в душе писателя светлые воспоминания, Виктор Астафьев рассказал в первой части автобиографии «Последний поклон». Важнейшие темы творчества Астафьева — антисоветская, военная и деревенская. Одним из первых его произведений было написанное в школе сочинение, в будущем превращённое писателем в рассказ «Васюткино озеро». Первые рассказы автора были опубликованы в журнал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«Смена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Большинство рассказов, написанных им для детей, вошло в сборник «Конь с розовой гриво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vwodeebg.jpg"/>
          <p:cNvPicPr/>
          <p:nvPr/>
        </p:nvPicPr>
        <p:blipFill>
          <a:blip r:embed="rId1"/>
          <a:stretch/>
        </p:blipFill>
        <p:spPr>
          <a:xfrm>
            <a:off x="142920" y="176040"/>
            <a:ext cx="4572000" cy="6110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000760" y="214200"/>
            <a:ext cx="42415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численны образы браконьер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бящих всё жив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рассказ о браконьер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анчив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казан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img00129"/>
          <p:cNvPicPr/>
          <p:nvPr/>
        </p:nvPicPr>
        <p:blipFill>
          <a:blip r:embed="rId2"/>
          <a:stretch/>
        </p:blipFill>
        <p:spPr>
          <a:xfrm>
            <a:off x="5857920" y="2286000"/>
            <a:ext cx="2577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28584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Чингиз Айтматов «Плаха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5" descr="48206-371150-19-obl-l.jpg"/>
          <p:cNvPicPr/>
          <p:nvPr/>
        </p:nvPicPr>
        <p:blipFill>
          <a:blip r:embed="rId1"/>
          <a:stretch/>
        </p:blipFill>
        <p:spPr>
          <a:xfrm>
            <a:off x="142920" y="1182600"/>
            <a:ext cx="3571920" cy="5032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3786120" y="1785960"/>
            <a:ext cx="566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щение общечеловече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строфы веет со страниц книг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Чингиз_Айтматов.jpg"/>
          <p:cNvPicPr/>
          <p:nvPr/>
        </p:nvPicPr>
        <p:blipFill>
          <a:blip r:embed="rId1"/>
          <a:stretch/>
        </p:blipFill>
        <p:spPr>
          <a:xfrm>
            <a:off x="214200" y="285840"/>
            <a:ext cx="5326200" cy="599112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5572080" y="14292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ингиз Айтматов – киргизский прозаик. Родился 12 декабря 1928 года в кишлаке Шекер в Киргизии в семье партийного работ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5572080" y="1285920"/>
            <a:ext cx="3357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37 отец был репрессирован, будущий писатель воспитывался у бабушки, его первые жизненные впечатления связаны с национальным киргизским образом жизни. В семье говорили и на киргизском, и на русском языках, и это определило двуязычный характер творчества Айтматова.  В 1948 Айтматов окончил ветеринарный техникум и поступил в сельскохозяйственный институт, который окончил в 1953. В 1952 начал публиковать в периодической печати рассказы на киргизском язык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69840" y="1000080"/>
            <a:ext cx="90741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ман «Плаха» – крик души, как «крик жиз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ик человека, с вознесёнными ввысь руками», увидевшего, «что всё летит в тартарары, низвергается в огненную пропасть», над которой мечется в страшной тоске и страданияхБог –Завтра, рождённый мыслью Авд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85840" y="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Поединок добра и зл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6000840" y="928800"/>
            <a:ext cx="3143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оединок добра и зла будет продолжаться, зло будет побеждать до тех пор, пока будут жить равнодушные люди, жаждущие своей выгоды за счёт другого человека, его горя и смер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5" descr="otkritka-lisi_i_volki_11.jpg"/>
          <p:cNvPicPr/>
          <p:nvPr/>
        </p:nvPicPr>
        <p:blipFill>
          <a:blip r:embed="rId1"/>
          <a:stretch/>
        </p:blipFill>
        <p:spPr>
          <a:xfrm>
            <a:off x="250920" y="1413000"/>
            <a:ext cx="5643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8:26:51Z</dcterms:created>
  <dc:creator>XTreme</dc:creator>
  <dc:description/>
  <dc:language>en-US</dc:language>
  <cp:lastModifiedBy>Admin</cp:lastModifiedBy>
  <dcterms:modified xsi:type="dcterms:W3CDTF">2011-04-03T15:39:32Z</dcterms:modified>
  <cp:revision>47</cp:revision>
  <dc:subject/>
  <dc:title>Слайд 1</dc:title>
</cp:coreProperties>
</file>