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BF30-EFB3-4273-9FDF-64CA7ACC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742D-1507-4D1F-B27B-7B46D2F9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5B5-C81C-4288-9022-41358B2B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5DD7-BA39-4788-892D-D272033B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5169-16BA-4D90-BD4D-3B45DD8B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E4C3-8006-4DC1-B026-1D16B986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78F3-ABC5-4D2A-9912-171E4B4B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D55B-2DB3-4339-9CD0-6BEC1FD9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5C39-89D7-46C9-941A-58529169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E1CD-AF45-428F-8DB0-D8ACDC70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D304-F560-42D8-9D6A-C326F3DA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F277-BE7D-4835-B6D1-98C5BA0D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71649-8EA9-4782-A49D-C0D9730F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9F6F-21BC-49B5-A279-84948E24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8A0A-4ECD-4EF0-992C-ED7429CA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969D-2C49-4083-ADF6-B6E92EEF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5BF1-3AB1-406C-95EB-ED867D5A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527-520C-40E7-94B6-91C72A26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0BC-C7D8-4EC7-86D7-55474C08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4B7-F229-4C9D-B08A-89026257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9CE-A37A-4CB1-8013-1CA34A7E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08ED-D96C-4327-91D7-568D26D6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B012-5751-42A0-B257-E7673DEB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1FBF-4BA3-4E04-9391-F22A9417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1A6A-848E-462A-A212-B54496C6A65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47B7-8A17-4ECD-9E67-C9D578B3A77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0" y="500040"/>
            <a:ext cx="88581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«Экология природы» и «экология души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 современной литературе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заимоотношения человека и природы в произведениях Ч.Айтматова и В. Астафьева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2643120" y="4286160"/>
            <a:ext cx="6215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655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44895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214200" y="514368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сгармония между природой и человеком носит как экологический, так и нравственный характе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0" y="28584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«Помни живой язык природы,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И скажешь ты: прекрасен мир»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H:\Documents and Settings\Администратор\Рабочий стол\f_5512430.jpg"/>
          <p:cNvPicPr/>
          <p:nvPr/>
        </p:nvPicPr>
        <p:blipFill>
          <a:blip r:embed="rId1"/>
          <a:stretch/>
        </p:blipFill>
        <p:spPr>
          <a:xfrm>
            <a:off x="1500120" y="2087640"/>
            <a:ext cx="635796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642960" y="571680"/>
            <a:ext cx="807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лчал, задумавшись, и 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ычным взглядом созерц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ловещий праздник быт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ежный вид родного кр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. Рубц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вердит природы голос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ашей власти, в вашей власт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всё не раскололо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бессмысленные ча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.Мартын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0" y="0"/>
            <a:ext cx="988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</a:rPr>
              <a:t>«Царь – рыба»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523800" y="2000160"/>
            <a:ext cx="527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юбовь к природе, отношение ко всему живо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изует человека, помогает понять, к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 есть, какого его отношение к большой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лой родине, способен ли он делать добр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умать о будущ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нно об этом пишет В.Астафье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воём произвед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Рисунок 1" descr="98.jpg"/>
          <p:cNvPicPr/>
          <p:nvPr/>
        </p:nvPicPr>
        <p:blipFill>
          <a:blip r:embed="rId1"/>
          <a:stretch/>
        </p:blipFill>
        <p:spPr>
          <a:xfrm>
            <a:off x="4548240" y="3357720"/>
            <a:ext cx="423864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viktor_astafiev_b_alschool430719wpmgs.jpg"/>
          <p:cNvPicPr/>
          <p:nvPr/>
        </p:nvPicPr>
        <p:blipFill>
          <a:blip r:embed="rId1"/>
          <a:stretch/>
        </p:blipFill>
        <p:spPr>
          <a:xfrm>
            <a:off x="4143240" y="357120"/>
            <a:ext cx="4786560" cy="5983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0" y="0"/>
            <a:ext cx="40719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иктор Астафьев родился 1 мая 1924 года в селе Овсянка, недалеко от Красноярска, в семье Лидии Ильиничны Потылициной и Петра Павловича Астафьева. После смерти матери Виктор жил у её родителей — Екатерины Петровны и Ильи Евграфовича Потылициных. О детстве, проведённом с бабушкой Катериной Петровной и оставившим в душе писателя светлые воспоминания, Виктор Астафьев рассказал в первой части автобиографии «Последний поклон». Важнейшие темы творчества Астафьева — антисоветская, военная и деревенская. Одним из первых его произведений было написанное в школе сочинение, в будущем превращённое писателем в рассказ «Васюткино озеро». Первые рассказы автора были опубликованы в журнале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«Смена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Большинство рассказов, написанных им для детей, вошло в сборник «Конь с розовой гривой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vwodeebg.jpg"/>
          <p:cNvPicPr/>
          <p:nvPr/>
        </p:nvPicPr>
        <p:blipFill>
          <a:blip r:embed="rId1"/>
          <a:stretch/>
        </p:blipFill>
        <p:spPr>
          <a:xfrm>
            <a:off x="142920" y="176040"/>
            <a:ext cx="4572000" cy="61106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5000760" y="214200"/>
            <a:ext cx="42415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численны образы браконьер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бящих всё жив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рассказ о браконьер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анчив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казание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img00129"/>
          <p:cNvPicPr/>
          <p:nvPr/>
        </p:nvPicPr>
        <p:blipFill>
          <a:blip r:embed="rId2"/>
          <a:stretch/>
        </p:blipFill>
        <p:spPr>
          <a:xfrm>
            <a:off x="5857920" y="2286000"/>
            <a:ext cx="25779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0" y="28584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Чингиз Айтматов «Плаха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Рисунок 5" descr="48206-371150-19-obl-l.jpg"/>
          <p:cNvPicPr/>
          <p:nvPr/>
        </p:nvPicPr>
        <p:blipFill>
          <a:blip r:embed="rId1"/>
          <a:stretch/>
        </p:blipFill>
        <p:spPr>
          <a:xfrm>
            <a:off x="142920" y="1182600"/>
            <a:ext cx="3571920" cy="5032440"/>
          </a:xfrm>
          <a:prstGeom prst="rect">
            <a:avLst/>
          </a:prstGeom>
          <a:ln w="0">
            <a:noFill/>
          </a:ln>
        </p:spPr>
      </p:pic>
      <p:sp>
        <p:nvSpPr>
          <p:cNvPr id="95" name="TextBox 9"/>
          <p:cNvSpPr/>
          <p:nvPr/>
        </p:nvSpPr>
        <p:spPr>
          <a:xfrm>
            <a:off x="3786120" y="1785960"/>
            <a:ext cx="566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щущение общечеловеческ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строфы веет со страниц книг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Чингиз_Айтматов.jpg"/>
          <p:cNvPicPr/>
          <p:nvPr/>
        </p:nvPicPr>
        <p:blipFill>
          <a:blip r:embed="rId1"/>
          <a:stretch/>
        </p:blipFill>
        <p:spPr>
          <a:xfrm>
            <a:off x="214200" y="285840"/>
            <a:ext cx="5326200" cy="599112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5572080" y="142920"/>
            <a:ext cx="35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ингиз Айтматов – киргизский прозаик. Родился 12 декабря 1928 года в кишлаке Шекер в Киргизии в семье партийного работн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5572080" y="1285920"/>
            <a:ext cx="3357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37 отец был репрессирован, будущий писатель воспитывался у бабушки, его первые жизненные впечатления связаны с национальным киргизским образом жизни. В семье говорили и на киргизском, и на русском языках, и это определило двуязычный характер творчества Айтматова.  В 1948 Айтматов окончил ветеринарный техникум и поступил в сельскохозяйственный институт, который окончил в 1953. В 1952 начал публиковать в периодической печати рассказы на киргизском языке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69840" y="1000080"/>
            <a:ext cx="90741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ман «Плаха» – крик души, как «крик жизн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ик человека, с вознесёнными ввысь руками», увидевшего, «что всё летит в тартарары, низвергается в огненную пропасть», над которой мечется в страшной тоске и страданияхБог –Завтра, рождённый мыслью Авд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285840" y="0"/>
            <a:ext cx="807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Поединок добра и зл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6000840" y="928800"/>
            <a:ext cx="3143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оединок добра и зла будет продолжаться, зло будет побеждать до тех пор, пока будут жить равнодушные люди, жаждущие своей выгоды за счёт другого человека, его горя и смер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Рисунок 5" descr="otkritka-lisi_i_volki_11.jpg"/>
          <p:cNvPicPr/>
          <p:nvPr/>
        </p:nvPicPr>
        <p:blipFill>
          <a:blip r:embed="rId1"/>
          <a:stretch/>
        </p:blipFill>
        <p:spPr>
          <a:xfrm>
            <a:off x="250920" y="1413000"/>
            <a:ext cx="564336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8:26:51Z</dcterms:created>
  <dc:creator>XTreme</dc:creator>
  <dc:description/>
  <dc:language>en-US</dc:language>
  <cp:lastModifiedBy>Admin</cp:lastModifiedBy>
  <dcterms:modified xsi:type="dcterms:W3CDTF">2011-04-03T15:39:32Z</dcterms:modified>
  <cp:revision>47</cp:revision>
  <dc:subject/>
  <dc:title>Слайд 1</dc:title>
</cp:coreProperties>
</file>