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2.png" ContentType="image/png"/>
  <Override PartName="/ppt/media/image20.jpeg" ContentType="image/jpeg"/>
  <Override PartName="/ppt/media/image9.png" ContentType="image/png"/>
  <Override PartName="/ppt/media/image7.gif" ContentType="image/gif"/>
  <Override PartName="/ppt/media/image5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8.gif" ContentType="image/gif"/>
  <Override PartName="/ppt/media/image18.jpeg" ContentType="image/jpeg"/>
  <Override PartName="/ppt/media/image21.jpeg" ContentType="image/jpeg"/>
  <Override PartName="/ppt/media/image16.gif" ContentType="image/gif"/>
  <Override PartName="/ppt/media/image15.gif" ContentType="image/gif"/>
  <Override PartName="/ppt/media/image14.png" ContentType="image/pn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722E-C31E-4D01-8D3A-B34A108C86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9315-824B-431B-80F1-B361575213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5CF0-2531-4975-9D8C-D791F636E1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2053-D81C-4CDD-A0DF-73744B010B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743C-9FF3-479D-A872-A2810E4429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3EED-6922-48F1-B13D-F393268391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7D8F-9C06-4C29-BCED-39FF956EF1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1B4A-FA47-4A54-BF74-405A460444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3DF-B338-4622-9350-D6D2116B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13C-C9AC-4BDD-8217-33E8EE2F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6A614-C5D2-4FF2-9480-8C5F14BA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11B98-8337-42D7-B541-E05D8B0B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E0265-C110-4496-A980-4C754B93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DF54A-D070-4B25-BA55-1CD4089D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A3222-8948-4544-BA14-3C361E83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D2D9E-A903-4C38-856A-B6DD0D1B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100F9-4D98-4052-AD52-70C7F5FB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71326-F05D-471E-8BEE-76504B38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D5FC8-4B58-438B-9448-B67F58CC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C85-AD60-4F0F-87EB-99A65F33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36D-1D5C-4930-97C8-DD0A092D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659C-3BEE-4165-822E-46A2658E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D6E7-80FC-4E6B-BE83-2F54DB2C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7BBB-3ABF-499E-B28A-1C194AEA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56C5-B4EA-46C3-BE0E-13A26DE8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0B5F-BA3F-4FC4-83C5-0EFA4564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1A2F-60B8-481A-913C-428EE372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0F97-BD2D-4B86-90AD-2BA43E68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B46-99BC-41CA-A4C0-3A0B022A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3FFF-6349-4665-9834-D0AAA7B6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B251-E17B-42AC-BF07-DDF6306D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ED28-9727-43A5-A0FD-112D8283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0627-DB53-49E1-82AA-E57CB5DD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3764-AD4F-4D29-AF1C-A7165168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0F2B9-F9CC-4132-8812-5A3EF616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C0637-747D-4E0F-AC02-1822510F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1CF3-D689-4893-83FC-A9A9F289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AF9AC-0B43-49F3-8262-8A56807E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DEE17-E3D5-408A-9296-371CB430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1B65-3B57-4889-8786-1E65BC66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8CAA3-2505-4084-A2C7-7785DB61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C8D84-243E-4121-86B2-021D0BBA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81BB-48C8-4795-B929-D79086B6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4DF8-22D4-4B77-8816-9B8E43EF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CE412-5224-415D-A4E3-3E5C55F5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E990-3F08-4BFE-AAAE-0636BE21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8FCF8-CCFF-42B5-86FD-F1B344DB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A3995-8869-4056-899D-B0CD573C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97F04-08F8-4EA2-90D2-87E2EE25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F1B86-9FEE-4952-8C25-CA4D5A9F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305-E2A9-432D-BFB5-64FF7CC4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7894D-92B4-44AD-B3EE-1F65DDA2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F630C-F9B0-4F8A-AE2E-C76A42FB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9921F-EB8D-4682-8ABB-C14A7675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1AC19-E81E-4B6B-B118-57372ABE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80055-D101-4FD3-A97D-3C8E2F3B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2D95F-F8E1-4F91-8410-2E867D02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1013A-4A67-4F42-B2C4-1F671CDC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C6759-3884-4B52-BD34-663D96AA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23714-0040-4A7B-8313-EF8FE285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D6C23-CBB3-4328-80B6-F1D5211B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CA9-3DAC-4871-B79A-3FD9EE84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8E8F9-5DF8-4D17-A9E8-04AA8DB6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F296D-EFAB-40CD-9EA8-F99B995D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38343-4D50-4F4A-AB9F-5A18984B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B029D-5D48-40D9-86D4-F5958E61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C8387-22A8-4203-8D2E-59F34E91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59619-1A8D-402E-90A4-91E25D53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F869D-9B03-4CAF-978B-BA27EF63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6B890-6C24-4D67-9D46-8DBF13C8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8A534-8C99-409B-8FEB-78716CCF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994CD-77EB-46A9-AEEC-FE6C70F4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568-7FAD-4FB4-8B84-9CE10DA0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73832-00C4-402B-BCD2-35B81090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6D51B-F745-48DE-B4AA-FD6EF1A3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2E9A9-DEBA-4C64-87F8-466ADC44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6EA39-A18B-4801-A61D-16338C87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A056E-C1AF-4E17-A005-C86E0D97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B97C9-38A1-4482-8F27-84CE2936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345BB-4B95-4C12-9E80-DC8D1DD6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06D27-9852-431E-97A3-9ACD5A28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91F35-36EF-49BC-974E-35F7A832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1BD79-3E09-4717-B06D-963C13AD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B5D3-BD00-49A5-935A-E29E9B69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BF098-C819-49AC-AA73-9B3E2F9B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4E6C5-4F7F-4C78-A4E4-F5799636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A9FB0-6769-4B6A-8A6D-42C42307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51AD5-42B0-4429-A59A-D8E376A9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1DBCC-BBF9-4417-97D5-BF155ED4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59E2B-1D24-4B34-B5A6-678C31A1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FE928-B24C-4506-B899-5B87DC40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DCD14-2CFB-408C-87E0-1262B5C0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C26D5-9990-4BD4-B13B-B6051875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9A238-15A8-4A32-9FB7-649F63E9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C5B-9F0A-4DC6-A795-4CE63AC8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108F1-1D12-4924-8C9A-6E8315A2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E8041-6964-480B-B41D-25A6E984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1644E-47CF-4019-9EE4-4FE9FDDA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02216-981F-4D92-BD15-0F2A602C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9C895-00D8-4D59-A5BC-91B688CC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569E1-109A-4E75-99BC-D5A664E8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ADA08-9DD8-4DDC-AACB-BF06C957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FF5CA-0B82-4F88-B75E-3EF1AE8F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52D50-1491-4515-8E38-1EF20328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0FF0C-87C2-403C-8C36-E14F118E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1DB-615D-418C-A930-5CA7C47F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F0275-5B68-422F-98ED-FB91B7DC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F0FFE-17C0-4ABE-ADFB-37B86BB1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BC122-7B23-49F3-9451-A70F8A20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12A07-37FE-45F0-AD79-76BE8532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EB955-FC41-486F-BD59-26426FE0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CAF86-5AA9-495F-8F1D-C4ED39F4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967A6-0E20-4992-8A22-78B94C65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F8CB3-14F8-417C-B6D2-058EE8E44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46E1F-4920-43F4-A844-3F6CEE2E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96D5F-DC57-45F5-BE04-D1EC840B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6DDE-E9E0-46CD-B5A7-8CD44173D41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D654-67A7-4F5E-9701-1CB773AAB85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B095-284C-4955-B60C-4B138EDC63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E103-ED73-4164-8572-BE4F585B03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8344-CA6B-4449-A015-00BAEC67A9B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CEAF-403F-430D-A78E-A35F0E330B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9DC8-E428-49A8-99BA-3786CC378E7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B4A0-D3F4-4034-B8F3-45964CABC92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21DF-65BD-4399-B480-B8023BD0701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-6480" y="420840"/>
            <a:ext cx="8839440" cy="14270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43280" y="92844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b0761f"/>
              </a:solidFill>
              <a:latin typeface="Franklin Gothic Medium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80800" y="1315800"/>
            <a:ext cx="42908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428720" y="2357280"/>
            <a:ext cx="528804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езентацию выполнил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ченица 6 «а» класса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ОУ СОШ№1 с. Александров-Гай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улекаева Эльмир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Учитель: Грищенкова Н.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1" descr="C:\Documents and Settings\Чупров Леонид\Мои документы\А. наглядность\Анимации исторические\g2.gif"/>
          <p:cNvPicPr/>
          <p:nvPr/>
        </p:nvPicPr>
        <p:blipFill>
          <a:blip r:embed="rId3"/>
          <a:stretch/>
        </p:blipFill>
        <p:spPr>
          <a:xfrm>
            <a:off x="785880" y="3071880"/>
            <a:ext cx="1738080" cy="1704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4"/>
          <a:stretch/>
        </p:blipFill>
        <p:spPr>
          <a:xfrm>
            <a:off x="4857840" y="2000160"/>
            <a:ext cx="19494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3" descr=""/>
          <p:cNvPicPr/>
          <p:nvPr/>
        </p:nvPicPr>
        <p:blipFill>
          <a:blip r:embed="rId2"/>
          <a:stretch/>
        </p:blipFill>
        <p:spPr>
          <a:xfrm>
            <a:off x="-146160" y="-42840"/>
            <a:ext cx="8382240" cy="91440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10"/>
          <p:cNvSpPr/>
          <p:nvPr/>
        </p:nvSpPr>
        <p:spPr>
          <a:xfrm>
            <a:off x="468360" y="642960"/>
            <a:ext cx="824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лово «экономика» означает «управление домашним хозяйством» — производство товаров и оказание услуг, которые позволяют выжить сем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1"/>
          <p:cNvSpPr/>
          <p:nvPr/>
        </p:nvSpPr>
        <p:spPr>
          <a:xfrm>
            <a:off x="395280" y="3429000"/>
            <a:ext cx="831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акая экономика направлена на удовлетворение основных потребностей семьи в пище, одежде и жил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3"/>
          <a:stretch/>
        </p:blipFill>
        <p:spPr>
          <a:xfrm>
            <a:off x="6715080" y="4929120"/>
            <a:ext cx="128124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Заголовок 1"/>
          <p:cNvSpPr/>
          <p:nvPr/>
        </p:nvSpPr>
        <p:spPr>
          <a:xfrm>
            <a:off x="301680" y="457200"/>
            <a:ext cx="86868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"/>
          <p:cNvSpPr/>
          <p:nvPr/>
        </p:nvSpPr>
        <p:spPr>
          <a:xfrm>
            <a:off x="571680" y="357120"/>
            <a:ext cx="83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ЭКОНОМИКА ОКАЗЫВАЕТ ВЛИЯНИЕ НА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Прямоугольник 14"/>
          <p:cNvGrpSpPr/>
          <p:nvPr/>
        </p:nvGrpSpPr>
        <p:grpSpPr>
          <a:xfrm>
            <a:off x="-36360" y="822240"/>
            <a:ext cx="9144000" cy="1427400"/>
            <a:chOff x="-36360" y="822240"/>
            <a:chExt cx="9144000" cy="1427400"/>
          </a:xfrm>
        </p:grpSpPr>
        <p:pic>
          <p:nvPicPr>
            <p:cNvPr id="420" name="Прямоугольник 14" descr=""/>
            <p:cNvPicPr/>
            <p:nvPr/>
          </p:nvPicPr>
          <p:blipFill>
            <a:blip r:embed="rId2"/>
            <a:stretch/>
          </p:blipFill>
          <p:spPr>
            <a:xfrm>
              <a:off x="-36360" y="822240"/>
              <a:ext cx="9144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14200" y="1071720"/>
              <a:ext cx="864396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СУЩЕСТВОВАНИЕ ОБЩЕСТВА НЕВОЗМОЖНО БЕЗ ПРОИЗВОДСТВА  МАТЕРИАЛЬНЫХ БЛА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Прямоугольник 15"/>
          <p:cNvGrpSpPr/>
          <p:nvPr/>
        </p:nvGrpSpPr>
        <p:grpSpPr>
          <a:xfrm>
            <a:off x="109440" y="2176560"/>
            <a:ext cx="8570880" cy="1285920"/>
            <a:chOff x="109440" y="2176560"/>
            <a:chExt cx="8570880" cy="1285920"/>
          </a:xfrm>
        </p:grpSpPr>
        <p:pic>
          <p:nvPicPr>
            <p:cNvPr id="423" name="Прямоугольник 15" descr=""/>
            <p:cNvPicPr/>
            <p:nvPr/>
          </p:nvPicPr>
          <p:blipFill>
            <a:blip r:embed="rId3"/>
            <a:stretch/>
          </p:blipFill>
          <p:spPr>
            <a:xfrm>
              <a:off x="109440" y="2176560"/>
              <a:ext cx="857088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357120" y="2428920"/>
              <a:ext cx="80726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ОБЩЕСТВЕННОЕ ПРОИЗВОДСТВО  ОПРЕДЕЛЯЕТ ПОЯВЛЕНИЕ И РАЗВИТ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СОЦИАЛЬНОЙ СТРУКТУР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Прямоугольник 16"/>
          <p:cNvGrpSpPr/>
          <p:nvPr/>
        </p:nvGrpSpPr>
        <p:grpSpPr>
          <a:xfrm>
            <a:off x="36360" y="3395520"/>
            <a:ext cx="8571240" cy="1285920"/>
            <a:chOff x="36360" y="3395520"/>
            <a:chExt cx="8571240" cy="1285920"/>
          </a:xfrm>
        </p:grpSpPr>
        <p:pic>
          <p:nvPicPr>
            <p:cNvPr id="426" name="Прямоугольник 16" descr=""/>
            <p:cNvPicPr/>
            <p:nvPr/>
          </p:nvPicPr>
          <p:blipFill>
            <a:blip r:embed="rId4"/>
            <a:stretch/>
          </p:blipFill>
          <p:spPr>
            <a:xfrm>
              <a:off x="36360" y="3395520"/>
              <a:ext cx="857124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285840" y="3643200"/>
              <a:ext cx="80722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ЭКОНОМИЧЕСКИЕ  ОТНОШЕНИЯ ВЛИЯТ НА  ПОЛИТИЧЕСКУЮ ЖИЗНЬ ОБЩЕСТВ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Прямоугольник 17"/>
          <p:cNvGrpSpPr/>
          <p:nvPr/>
        </p:nvGrpSpPr>
        <p:grpSpPr>
          <a:xfrm>
            <a:off x="176040" y="4535640"/>
            <a:ext cx="8577360" cy="1427040"/>
            <a:chOff x="176040" y="4535640"/>
            <a:chExt cx="8577360" cy="1427040"/>
          </a:xfrm>
        </p:grpSpPr>
        <p:pic>
          <p:nvPicPr>
            <p:cNvPr id="429" name="Прямоугольник 17" descr=""/>
            <p:cNvPicPr/>
            <p:nvPr/>
          </p:nvPicPr>
          <p:blipFill>
            <a:blip r:embed="rId5"/>
            <a:stretch/>
          </p:blipFill>
          <p:spPr>
            <a:xfrm>
              <a:off x="176040" y="4535640"/>
              <a:ext cx="857736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428760" y="4786200"/>
              <a:ext cx="807228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Franklin Gothic Book"/>
                </a:rPr>
                <a:t>В ПРОЦЕССЕ ПРОИЗВОДСТВА  СОЗДАЮТСЯ НЕОБХОДИМЫЕ УСЛОВИЯ   ДЛЯ  РАЗВИТИЯ</a:t>
              </a:r>
              <a:r>
                <a:rPr b="0" lang="en-US" sz="2000" spc="-1" strike="noStrike">
                  <a:solidFill>
                    <a:srgbClr val="000000"/>
                  </a:solidFill>
                  <a:latin typeface="Franklin Gothic Book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Franklin Gothic Book"/>
                  <a:ea typeface="Times New Roman"/>
                </a:rPr>
                <a:t>бизнес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6"/>
          <p:cNvSpPr/>
          <p:nvPr/>
        </p:nvSpPr>
        <p:spPr>
          <a:xfrm>
            <a:off x="214200" y="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туральное хозяйство – это хозяйство, в котором все, что производится, производится не для продажи или обмена, а для личного потреб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7"/>
          <p:cNvSpPr/>
          <p:nvPr/>
        </p:nvSpPr>
        <p:spPr>
          <a:xfrm>
            <a:off x="214200" y="2781360"/>
            <a:ext cx="892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у семьи при натуральном хозяйстве сверх необходимого появлялись продукты, которые они могли обменять или продать на рынке, то она тем самым включалась в систему более широких рыночных отнош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" descr="C:\Documents and Settings\Чупров Леонид\Мои документы\А. наглядность\Анимации исторические\g2.gif"/>
          <p:cNvPicPr/>
          <p:nvPr/>
        </p:nvPicPr>
        <p:blipFill>
          <a:blip r:embed="rId2"/>
          <a:stretch/>
        </p:blipFill>
        <p:spPr>
          <a:xfrm>
            <a:off x="571680" y="4572000"/>
            <a:ext cx="1357200" cy="13302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3786120" y="4786200"/>
            <a:ext cx="1436760" cy="1000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" descr="C:\Documents and Settings\Чупров Леонид\Мои документы\А. наглядность\Анимации исторические\g2.gif"/>
          <p:cNvPicPr/>
          <p:nvPr/>
        </p:nvPicPr>
        <p:blipFill>
          <a:blip r:embed="rId4"/>
          <a:stretch/>
        </p:blipFill>
        <p:spPr>
          <a:xfrm>
            <a:off x="6858000" y="4714920"/>
            <a:ext cx="1357200" cy="13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118880" cy="1371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" descr="C:\Documents and Settings\Чупров Леонид\Мои документы\А. наглядность\Анимации исторические\g2.gif"/>
          <p:cNvPicPr/>
          <p:nvPr/>
        </p:nvPicPr>
        <p:blipFill>
          <a:blip r:embed="rId3"/>
          <a:stretch/>
        </p:blipFill>
        <p:spPr>
          <a:xfrm>
            <a:off x="285840" y="4286160"/>
            <a:ext cx="1770120" cy="17366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0"/>
          <p:cNvSpPr/>
          <p:nvPr/>
        </p:nvSpPr>
        <p:spPr>
          <a:xfrm>
            <a:off x="285840" y="7142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акое хозяйство, в котором появляются излишки, продаваемые их хозяевами на рынке называется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ТОВАР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31"/>
          <p:cNvSpPr/>
          <p:nvPr/>
        </p:nvSpPr>
        <p:spPr>
          <a:xfrm>
            <a:off x="285840" y="1785960"/>
            <a:ext cx="82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ономику государств, в которых хорошо развито товарное хозяйство, называют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РЫНОЧН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коном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25"/>
          <p:cNvSpPr/>
          <p:nvPr/>
        </p:nvSpPr>
        <p:spPr>
          <a:xfrm>
            <a:off x="357120" y="26431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Любое занятие в рыночной экономике называется бизнесом потому, что оно приносит прибыль. Даже если вы сдали в магазин две пустые бутылки, вы сделали свой маленький бизнес. Иначе бы они валялись без пользы и никаких денег не прине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рямоугольник 2"/>
          <p:cNvSpPr/>
          <p:nvPr/>
        </p:nvSpPr>
        <p:spPr>
          <a:xfrm>
            <a:off x="428760" y="2714760"/>
            <a:ext cx="2928960" cy="85716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Как стать богат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Выноска 1 (граница и черта) 3"/>
          <p:cNvSpPr/>
          <p:nvPr/>
        </p:nvSpPr>
        <p:spPr>
          <a:xfrm rot="16200000">
            <a:off x="1000080" y="142920"/>
            <a:ext cx="1357200" cy="221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860" y="10967"/>
                </a:moveTo>
                <a:lnTo>
                  <a:pt x="-1160" y="10971"/>
                </a:lnTo>
              </a:path>
              <a:path w="21600" h="21600">
                <a:moveTo>
                  <a:pt x="-1160" y="0"/>
                </a:moveTo>
                <a:lnTo>
                  <a:pt x="-1160" y="21600"/>
                </a:lnTo>
              </a:path>
            </a:pathLst>
          </a:custGeom>
          <a:solidFill>
            <a:srgbClr val="0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Семья производит только такое количество продуктов, которого хватает для удовлетворения первичных потребностей и простого воспроизво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5"/>
          <p:cNvSpPr/>
          <p:nvPr/>
        </p:nvSpPr>
        <p:spPr>
          <a:xfrm>
            <a:off x="571680" y="0"/>
            <a:ext cx="428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остое воспроизводство – покупка самого необходимого для поддержания нормальной жиз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Выноска 1 (граница и черта) 6"/>
          <p:cNvSpPr/>
          <p:nvPr/>
        </p:nvSpPr>
        <p:spPr>
          <a:xfrm>
            <a:off x="4643280" y="1643040"/>
            <a:ext cx="3143520" cy="13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707" y="23381"/>
                </a:moveTo>
                <a:lnTo>
                  <a:pt x="-446" y="10731"/>
                </a:lnTo>
              </a:path>
              <a:path w="21600" h="21600">
                <a:moveTo>
                  <a:pt x="-446" y="0"/>
                </a:moveTo>
                <a:lnTo>
                  <a:pt x="-446" y="21600"/>
                </a:lnTo>
              </a:path>
            </a:pathLst>
          </a:custGeom>
          <a:solidFill>
            <a:srgbClr val="0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Семья производит избыточное количество продуктов, которые продает на рынке, где на вырученные деньги покупает дополнительную технику и товары, удовлетворяющие вторичные потреб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" descr="C:\Documents and Settings\Чупров Леонид\Мои документы\А. наглядность\Анимации исторические\g2.gif"/>
          <p:cNvPicPr/>
          <p:nvPr/>
        </p:nvPicPr>
        <p:blipFill>
          <a:blip r:embed="rId3"/>
          <a:stretch/>
        </p:blipFill>
        <p:spPr>
          <a:xfrm>
            <a:off x="5429160" y="3357720"/>
            <a:ext cx="1738440" cy="1704960"/>
          </a:xfrm>
          <a:prstGeom prst="rect">
            <a:avLst/>
          </a:prstGeom>
          <a:ln w="0">
            <a:noFill/>
          </a:ln>
        </p:spPr>
      </p:pic>
      <p:sp>
        <p:nvSpPr>
          <p:cNvPr id="446" name="Выноска 1 (граница и черта) 8"/>
          <p:cNvSpPr/>
          <p:nvPr/>
        </p:nvSpPr>
        <p:spPr>
          <a:xfrm>
            <a:off x="1357200" y="4357800"/>
            <a:ext cx="314352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20" y="-7576"/>
                </a:moveTo>
                <a:lnTo>
                  <a:pt x="-541" y="9652"/>
                </a:lnTo>
              </a:path>
              <a:path w="21600" h="21600">
                <a:moveTo>
                  <a:pt x="-541" y="0"/>
                </a:moveTo>
                <a:lnTo>
                  <a:pt x="-541" y="21600"/>
                </a:lnTo>
              </a:path>
            </a:pathLst>
          </a:custGeom>
          <a:solidFill>
            <a:srgbClr val="0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Рынок помогает семье разбогатеть: становится лучше дом, одежда, питание, техника. Семья понимает, что надо больше работать на рынке, и все усилия вкладывает в производство товаров повышенного спроса. С рынка привозят предметы длительного пользования и укра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4"/>
          <a:stretch/>
        </p:blipFill>
        <p:spPr>
          <a:xfrm>
            <a:off x="7215120" y="5335560"/>
            <a:ext cx="1571760" cy="10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3"/>
          <p:cNvSpPr/>
          <p:nvPr/>
        </p:nvSpPr>
        <p:spPr>
          <a:xfrm>
            <a:off x="214200" y="10717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 процесс воздействия человека на вещество природы в целях создания материальных благ и услуг , необходимых для развития общества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4"/>
          <p:cNvSpPr/>
          <p:nvPr/>
        </p:nvSpPr>
        <p:spPr>
          <a:xfrm>
            <a:off x="571680" y="2714760"/>
            <a:ext cx="62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5"/>
          <p:cNvSpPr/>
          <p:nvPr/>
        </p:nvSpPr>
        <p:spPr>
          <a:xfrm>
            <a:off x="2286000" y="275904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Mj02836030000[1]"/>
          <p:cNvPicPr/>
          <p:nvPr/>
        </p:nvPicPr>
        <p:blipFill>
          <a:blip r:embed="rId2"/>
          <a:stretch/>
        </p:blipFill>
        <p:spPr>
          <a:xfrm>
            <a:off x="5143680" y="385776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8" descr="произ-во машин"/>
          <p:cNvPicPr/>
          <p:nvPr/>
        </p:nvPicPr>
        <p:blipFill>
          <a:blip r:embed="rId2"/>
          <a:stretch/>
        </p:blipFill>
        <p:spPr>
          <a:xfrm>
            <a:off x="214200" y="1571760"/>
            <a:ext cx="3076560" cy="1836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1" descr="производство одежды"/>
          <p:cNvPicPr/>
          <p:nvPr/>
        </p:nvPicPr>
        <p:blipFill>
          <a:blip r:embed="rId3"/>
          <a:stretch/>
        </p:blipFill>
        <p:spPr>
          <a:xfrm>
            <a:off x="4071960" y="1500120"/>
            <a:ext cx="2232000" cy="1928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2" descr="трансп перев людей"/>
          <p:cNvPicPr/>
          <p:nvPr/>
        </p:nvPicPr>
        <p:blipFill>
          <a:blip r:embed="rId4"/>
          <a:stretch/>
        </p:blipFill>
        <p:spPr>
          <a:xfrm>
            <a:off x="6786720" y="5072040"/>
            <a:ext cx="2049480" cy="13683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5" descr="спорт"/>
          <p:cNvPicPr/>
          <p:nvPr/>
        </p:nvPicPr>
        <p:blipFill>
          <a:blip r:embed="rId5"/>
          <a:stretch/>
        </p:blipFill>
        <p:spPr>
          <a:xfrm>
            <a:off x="4714920" y="3643200"/>
            <a:ext cx="1857240" cy="21542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8" descr="спорт5"/>
          <p:cNvPicPr/>
          <p:nvPr/>
        </p:nvPicPr>
        <p:blipFill>
          <a:blip r:embed="rId6"/>
          <a:stretch/>
        </p:blipFill>
        <p:spPr>
          <a:xfrm>
            <a:off x="214200" y="3500280"/>
            <a:ext cx="1805040" cy="1944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66"/>
          <p:cNvPicPr/>
          <p:nvPr/>
        </p:nvPicPr>
        <p:blipFill>
          <a:blip r:embed="rId7"/>
          <a:stretch/>
        </p:blipFill>
        <p:spPr>
          <a:xfrm>
            <a:off x="6786720" y="857160"/>
            <a:ext cx="2158920" cy="37432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концерт"/>
          <p:cNvPicPr/>
          <p:nvPr/>
        </p:nvPicPr>
        <p:blipFill>
          <a:blip r:embed="rId8"/>
          <a:stretch/>
        </p:blipFill>
        <p:spPr>
          <a:xfrm>
            <a:off x="2214720" y="4357800"/>
            <a:ext cx="2203200" cy="1796760"/>
          </a:xfrm>
          <a:prstGeom prst="rect">
            <a:avLst/>
          </a:prstGeom>
          <a:ln w="0">
            <a:noFill/>
          </a:ln>
        </p:spPr>
      </p:pic>
      <p:pic>
        <p:nvPicPr>
          <p:cNvPr id="459" name="Заголовок 11" descr=""/>
          <p:cNvPicPr/>
          <p:nvPr/>
        </p:nvPicPr>
        <p:blipFill>
          <a:blip r:embed="rId9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2500200" y="1553760"/>
            <a:ext cx="6491520" cy="88920"/>
          </a:xfrm>
          <a:prstGeom prst="rect">
            <a:avLst/>
          </a:prstGeom>
          <a:noFill/>
          <a:ln w="0">
            <a:noFill/>
          </a:ln>
        </p:spPr>
        <p:txBody>
          <a:bodyPr tIns="43200" bIns="432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Franklin Gothic Book"/>
              </a:rPr>
              <a:t>Спасибо за внимание!!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2:54:12Z</dcterms:created>
  <dc:creator>Леонид</dc:creator>
  <dc:description/>
  <dc:language>en-US</dc:language>
  <cp:lastModifiedBy>НА</cp:lastModifiedBy>
  <dcterms:modified xsi:type="dcterms:W3CDTF">2012-07-10T12:53:11Z</dcterms:modified>
  <cp:revision>109</cp:revision>
  <dc:subject/>
  <dc:title>Что такое экономика и бизнес?</dc:title>
</cp:coreProperties>
</file>