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0.gif" ContentType="image/gif"/>
  <Override PartName="/ppt/media/image12.png" ContentType="image/png"/>
  <Override PartName="/ppt/media/image20.jpeg" ContentType="image/jpeg"/>
  <Override PartName="/ppt/media/image9.png" ContentType="image/png"/>
  <Override PartName="/ppt/media/image7.gif" ContentType="image/gif"/>
  <Override PartName="/ppt/media/image5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4.png" ContentType="image/png"/>
  <Override PartName="/ppt/media/image23.jpeg" ContentType="image/jpeg"/>
  <Override PartName="/ppt/media/image8.gif" ContentType="image/gif"/>
  <Override PartName="/ppt/media/image18.jpeg" ContentType="image/jpeg"/>
  <Override PartName="/ppt/media/image21.jpeg" ContentType="image/jpeg"/>
  <Override PartName="/ppt/media/image16.gif" ContentType="image/gif"/>
  <Override PartName="/ppt/media/image15.gif" ContentType="image/gif"/>
  <Override PartName="/ppt/media/image14.png" ContentType="image/png"/>
  <Override PartName="/ppt/media/image22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0FEA-5277-4C06-A026-7BD5E1C34D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568A-0BD2-460B-BDD3-BF2A95759C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C232-800C-41F2-AADB-2B5EAEB94C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C56F-2D1F-4B1A-ABC5-730881A3E6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5073-F366-42B2-936F-DAB64A56D8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17B6-94E2-40CF-B937-47C38F945F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2521-B94D-446D-A72C-BB6C956CC9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B513-04C7-4FCC-AD39-9B8A46DD93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4CE8-E9A8-406F-A23E-75FC01325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FE3E-F376-4B51-AD3F-41400B24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80060-15B7-45B3-A3BA-41424E17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E5093-167A-4A63-86D9-460B1360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C6618-0965-4CBC-8E36-81560BEF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E07CD-8031-4360-B5DF-7E31401B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2A123-62F0-4D00-8C2A-02EB9B92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24CF0-4B59-4AB2-A18D-FFC2D14D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464758-78CD-463B-93C1-13BD9D82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B7D28-3DB7-47D2-BFB5-33AC38794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B287D-4838-4811-AC60-AE3E3C254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1CED-6A17-4E0E-A26B-F1A5354E3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0631-7BAE-442E-BC8D-4A8AA004D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6364-294E-4F51-98F2-6E845846F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4860-4C5F-4128-A53D-03F378BE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907C-C854-4198-9AAF-3AA2FA38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2B2A-F3A4-4688-A9B7-0447A39F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BB76-717C-4E83-AD12-3D91516D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FC58-C125-43C6-85AD-5168EDA8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4969-094D-445D-B55B-8D03E2EF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AA8E-D925-4930-8C99-7E2ACB24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8F43-DF8C-4FD3-9D2B-17490A3F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3139-FB39-4960-B38F-5AD09C6B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3246-DC92-4825-82A7-B1744D6C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BAB8-D90A-4D84-ACA7-82BCC05D6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3039-32A2-4909-8104-DE6F06363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88D57-D2F2-41CD-8A7D-22150BD7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2DE89-2E17-4433-811F-4A1AE219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0D30F-FEB8-422B-BA88-B5FEE879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00627-DE73-46F0-9FD8-2FEF5068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40B80-5B82-455C-8A60-FA79CF6F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37EF-6742-482A-AF8F-8031F3D2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7E7D7-3062-473E-BD4D-164F0E5F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55A67-CC02-4F4C-99CA-D76DF8F6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BCCFA-9AE6-40A6-AD2F-D24CD6F1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A3931-48FC-4736-8817-65B728D2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191B6-CA62-452D-8B7F-55F9AC49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AE99E-57BF-482B-A5BD-27A389C12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73097-C39C-4BA0-A2B7-E68445349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9D4D0-D63A-40D5-9DA0-160B3881D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14254-CCA4-467D-B19B-EB4A63AB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5FB84-CB51-4206-9F1B-A05AA8F2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5B07-5019-4458-A474-990C1F55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93FB6-9C53-4ADC-807F-278A3AD5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D9371-9CCC-4B6D-AD17-EFE737A9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2CA0E-B166-41F8-AF8E-1E9D019A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0D634-C0BB-423C-BC3C-2ECFE2CD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8C890-FDA9-4FF4-B8B9-3C77EE11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5C6E1-FC48-40D9-99A6-6C8D3369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4B6DF-06B3-4747-B395-D5756C16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550B9-B653-4DDA-BF1D-BD5A90DAB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E7E05-D648-46EC-A019-6A113798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2B35C-2D75-46AE-95C1-5BCEF6F15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72FE-87B9-4396-B5C2-61E2EFEC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CD048-1E81-40FB-A39C-D7AC39B7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E55FE-C461-4A13-A290-34CDFAD3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1BACE-6009-4C74-9C2E-04E03266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4B370-D1D9-496D-8F1E-88917CA7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019AA-4DD3-4344-BCA4-81259177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25336-8371-47DA-B117-5205F204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E945D-C290-4C04-B93E-E07FF5B8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7D9EA-6C41-4A41-96AB-5DFB3392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A1862-FFFC-4943-9998-C923D74A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32B13-18FC-4B3B-B607-8B08BE2A7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C11E-2E79-4CE0-8F41-E76288CD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598D6-D0CA-4A2A-A43E-D3682B9C3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66D9F-DAA4-4BDC-AD61-3C3417F89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00337-BC8E-404F-B06C-8166076E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39AD8-EC61-4AAC-AB89-3A5E1180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9CE48-2333-40C5-8678-AB4E283A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DA760-A946-4606-9894-24B96488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F022B-828D-4230-8A19-6D2FE32F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F11EB-6738-468A-BE17-F82C0520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24886-8886-4F20-8980-CD95FFBD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EE963-6925-4FD7-8799-55A60CDA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3934-6A08-46EC-BB65-FA3A0BC2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293D7-90EC-4FA3-A3D9-C5A73045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DD0FD-F945-4DA0-A5C5-940E5AF2E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A6386-C308-4B5B-BA50-7FAC641A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8BF5C-BBD0-42DC-A944-389E8E75E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F94DD-992D-4EE1-B949-456D42CC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8A75A-4DBF-45DB-834A-D85E048A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A892A-4B3F-4AB8-9B2F-EB37A35E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7584E-C405-491E-982C-0F407084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09BA7-C312-49A8-8F5E-69819019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537DA-7138-4C85-9E25-EACA4B0C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E409-C1F5-4A51-A3E8-9025C71D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F306F-5BF0-4EB1-88BE-4EA55DF6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99706-B626-4227-A14C-591B1277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ECC08-9B82-47B9-87B2-16F1E0CD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5FB29-6FF3-4815-A48E-83D1AB521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B9399-6632-4C20-8EF2-579569248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DF3BE-0412-48A9-B588-C6D9E132E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B666D-98D2-468A-95B2-CD366673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169AE-0C20-4A41-8C79-67D02097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DBEAF-9A1A-46FC-AADB-5DEFDE48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E5F50-5E90-4B62-B64E-A14B5AA7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C869-264E-492B-BCAD-3DDE7376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DF43D-7DF4-443B-903F-43FFACC5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E9A69-2A3B-4DB5-B993-F1D3E8AF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7B69D-F043-464F-BE3C-D899CCBE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3529C-AB22-4CEC-BB48-510A7773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BC03F-3809-4D4F-9D38-C2C6DC53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A0392-46D5-4A17-B6C7-FA17D7252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7653A-10CD-4AF3-A26D-B3AFF68F0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A66C3-FEA8-42EA-801C-B57182845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93AC90-F75F-486B-9CDE-3FC1A134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1AEEB-AB52-45D1-9969-2AECE05E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EF98-930B-488F-ACCA-DC7D3BD43E0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CE44-46E5-4A7F-A36E-882D2843F90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B7BD-5FDF-4CF5-94E9-E03029B7605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D599-7BF6-4C2B-AAD0-0AC1F22F454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D23B-5746-43FF-AE5B-0DD27BB9F73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8462-B003-4A81-8E25-7A583CC0C5C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6C4B-759B-480A-A51E-62BDEB518CC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8ECA-D706-4E24-A8C0-06804D3D05A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30F6-F807-4F42-B2BD-C31778A8D73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2"/>
          <a:stretch/>
        </p:blipFill>
        <p:spPr>
          <a:xfrm>
            <a:off x="-6480" y="420840"/>
            <a:ext cx="8839440" cy="14270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280800" y="666360"/>
            <a:ext cx="4290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Franklin Gothic Medium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643280" y="928440"/>
            <a:ext cx="4292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Franklin Gothic Medium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80800" y="1315800"/>
            <a:ext cx="429084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428720" y="2357280"/>
            <a:ext cx="528804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резентацию выполнила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ученица 6 «а» класса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МОУ СОШ№1 с. Александров-Гай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Мулекаева Эльмир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Учитель: Грищенкова Н.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1" descr="C:\Documents and Settings\Чупров Леонид\Мои документы\А. наглядность\Анимации исторические\g2.gif"/>
          <p:cNvPicPr/>
          <p:nvPr/>
        </p:nvPicPr>
        <p:blipFill>
          <a:blip r:embed="rId3"/>
          <a:stretch/>
        </p:blipFill>
        <p:spPr>
          <a:xfrm>
            <a:off x="785880" y="3071880"/>
            <a:ext cx="1738080" cy="17049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"/>
          <p:cNvPicPr/>
          <p:nvPr/>
        </p:nvPicPr>
        <p:blipFill>
          <a:blip r:embed="rId4"/>
          <a:stretch/>
        </p:blipFill>
        <p:spPr>
          <a:xfrm>
            <a:off x="4857840" y="2000160"/>
            <a:ext cx="194940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3" descr=""/>
          <p:cNvPicPr/>
          <p:nvPr/>
        </p:nvPicPr>
        <p:blipFill>
          <a:blip r:embed="rId2"/>
          <a:stretch/>
        </p:blipFill>
        <p:spPr>
          <a:xfrm>
            <a:off x="-146160" y="-42840"/>
            <a:ext cx="8382240" cy="914400"/>
          </a:xfrm>
          <a:prstGeom prst="rect">
            <a:avLst/>
          </a:prstGeom>
          <a:ln w="0">
            <a:noFill/>
          </a:ln>
        </p:spPr>
      </p:pic>
      <p:sp>
        <p:nvSpPr>
          <p:cNvPr id="414" name="Прямоугольник 10"/>
          <p:cNvSpPr/>
          <p:nvPr/>
        </p:nvSpPr>
        <p:spPr>
          <a:xfrm>
            <a:off x="468360" y="642960"/>
            <a:ext cx="8246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лово «экономика» означает «управление домашним хозяйством» — производство товаров и оказание услуг, которые позволяют выжить семь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1"/>
          <p:cNvSpPr/>
          <p:nvPr/>
        </p:nvSpPr>
        <p:spPr>
          <a:xfrm>
            <a:off x="395280" y="3429000"/>
            <a:ext cx="831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акая экономика направлена на удовлетворение основных потребностей семьи в пище, одежде и жиль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3" descr=""/>
          <p:cNvPicPr/>
          <p:nvPr/>
        </p:nvPicPr>
        <p:blipFill>
          <a:blip r:embed="rId3"/>
          <a:stretch/>
        </p:blipFill>
        <p:spPr>
          <a:xfrm>
            <a:off x="6715080" y="4929120"/>
            <a:ext cx="1281240" cy="157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Заголовок 1"/>
          <p:cNvSpPr/>
          <p:nvPr/>
        </p:nvSpPr>
        <p:spPr>
          <a:xfrm>
            <a:off x="301680" y="457200"/>
            <a:ext cx="86868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2"/>
          <p:cNvSpPr/>
          <p:nvPr/>
        </p:nvSpPr>
        <p:spPr>
          <a:xfrm>
            <a:off x="571680" y="357120"/>
            <a:ext cx="83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ЭКОНОМИКА ОКАЗЫВАЕТ ВЛИЯНИЕ НА ОБЩ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Прямоугольник 14"/>
          <p:cNvGrpSpPr/>
          <p:nvPr/>
        </p:nvGrpSpPr>
        <p:grpSpPr>
          <a:xfrm>
            <a:off x="-36360" y="822240"/>
            <a:ext cx="9144000" cy="1427400"/>
            <a:chOff x="-36360" y="822240"/>
            <a:chExt cx="9144000" cy="1427400"/>
          </a:xfrm>
        </p:grpSpPr>
        <p:pic>
          <p:nvPicPr>
            <p:cNvPr id="420" name="Прямоугольник 14" descr=""/>
            <p:cNvPicPr/>
            <p:nvPr/>
          </p:nvPicPr>
          <p:blipFill>
            <a:blip r:embed="rId2"/>
            <a:stretch/>
          </p:blipFill>
          <p:spPr>
            <a:xfrm>
              <a:off x="-36360" y="822240"/>
              <a:ext cx="91440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14200" y="1071720"/>
              <a:ext cx="864396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Franklin Gothic Book"/>
                  <a:ea typeface="Times New Roman"/>
                </a:rPr>
                <a:t>СУЩЕСТВОВАНИЕ ОБЩЕСТВА НЕВОЗМОЖНО БЕЗ ПРОИЗВОДСТВА  МАТЕРИАЛЬНЫХ БЛАГ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Прямоугольник 15"/>
          <p:cNvGrpSpPr/>
          <p:nvPr/>
        </p:nvGrpSpPr>
        <p:grpSpPr>
          <a:xfrm>
            <a:off x="109440" y="2176560"/>
            <a:ext cx="8570880" cy="1285920"/>
            <a:chOff x="109440" y="2176560"/>
            <a:chExt cx="8570880" cy="1285920"/>
          </a:xfrm>
        </p:grpSpPr>
        <p:pic>
          <p:nvPicPr>
            <p:cNvPr id="423" name="Прямоугольник 15" descr=""/>
            <p:cNvPicPr/>
            <p:nvPr/>
          </p:nvPicPr>
          <p:blipFill>
            <a:blip r:embed="rId3"/>
            <a:stretch/>
          </p:blipFill>
          <p:spPr>
            <a:xfrm>
              <a:off x="109440" y="2176560"/>
              <a:ext cx="857088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357120" y="2428920"/>
              <a:ext cx="80726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Franklin Gothic Book"/>
                </a:rPr>
                <a:t>ОБЩЕСТВЕННОЕ ПРОИЗВОДСТВО  ОПРЕДЕЛЯЕТ ПОЯВЛЕНИЕ И РАЗВИТ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Franklin Gothic Book"/>
                </a:rPr>
                <a:t>СОЦИАЛЬНОЙ СТРУКТУРЫ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Прямоугольник 16"/>
          <p:cNvGrpSpPr/>
          <p:nvPr/>
        </p:nvGrpSpPr>
        <p:grpSpPr>
          <a:xfrm>
            <a:off x="36360" y="3395520"/>
            <a:ext cx="8571240" cy="1285920"/>
            <a:chOff x="36360" y="3395520"/>
            <a:chExt cx="8571240" cy="1285920"/>
          </a:xfrm>
        </p:grpSpPr>
        <p:pic>
          <p:nvPicPr>
            <p:cNvPr id="426" name="Прямоугольник 16" descr=""/>
            <p:cNvPicPr/>
            <p:nvPr/>
          </p:nvPicPr>
          <p:blipFill>
            <a:blip r:embed="rId4"/>
            <a:stretch/>
          </p:blipFill>
          <p:spPr>
            <a:xfrm>
              <a:off x="36360" y="3395520"/>
              <a:ext cx="85712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285840" y="3643200"/>
              <a:ext cx="807228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Franklin Gothic Book"/>
                </a:rPr>
                <a:t>ЭКОНОМИЧЕСКИЕ  ОТНОШЕНИЯ ВЛИЯТ НА  ПОЛИТИЧЕСКУЮ ЖИЗНЬ ОБЩЕСТВ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Прямоугольник 17"/>
          <p:cNvGrpSpPr/>
          <p:nvPr/>
        </p:nvGrpSpPr>
        <p:grpSpPr>
          <a:xfrm>
            <a:off x="176040" y="4535640"/>
            <a:ext cx="8577360" cy="1427040"/>
            <a:chOff x="176040" y="4535640"/>
            <a:chExt cx="8577360" cy="1427040"/>
          </a:xfrm>
        </p:grpSpPr>
        <p:pic>
          <p:nvPicPr>
            <p:cNvPr id="429" name="Прямоугольник 17" descr=""/>
            <p:cNvPicPr/>
            <p:nvPr/>
          </p:nvPicPr>
          <p:blipFill>
            <a:blip r:embed="rId5"/>
            <a:stretch/>
          </p:blipFill>
          <p:spPr>
            <a:xfrm>
              <a:off x="176040" y="4535640"/>
              <a:ext cx="857736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428760" y="4786200"/>
              <a:ext cx="807228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Franklin Gothic Book"/>
                </a:rPr>
                <a:t>В ПРОЦЕССЕ ПРОИЗВОДСТВА  СОЗДАЮТСЯ НЕОБХОДИМЫЕ УСЛОВИЯ   ДЛЯ  РАЗВИТИЯ</a:t>
              </a:r>
              <a:r>
                <a:rPr b="0" lang="en-US" sz="2000" spc="-1" strike="noStrike">
                  <a:solidFill>
                    <a:srgbClr val="000000"/>
                  </a:solidFill>
                  <a:latin typeface="Franklin Gothic Book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Franklin Gothic Book"/>
                  <a:ea typeface="Times New Roman"/>
                </a:rPr>
                <a:t>бизнеса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Box 6"/>
          <p:cNvSpPr/>
          <p:nvPr/>
        </p:nvSpPr>
        <p:spPr>
          <a:xfrm>
            <a:off x="214200" y="0"/>
            <a:ext cx="871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туральное хозяйство – это хозяйство, в котором все, что производится, производится не для продажи или обмена, а для личного потреб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оугольник 7"/>
          <p:cNvSpPr/>
          <p:nvPr/>
        </p:nvSpPr>
        <p:spPr>
          <a:xfrm>
            <a:off x="214200" y="2781360"/>
            <a:ext cx="8929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у семьи при натуральном хозяйстве сверх необходимого появлялись продукты, которые они могли обменять или продать на рынке, то она тем самым включалась в систему более широких рыночных отнош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1" descr="C:\Documents and Settings\Чупров Леонид\Мои документы\А. наглядность\Анимации исторические\g2.gif"/>
          <p:cNvPicPr/>
          <p:nvPr/>
        </p:nvPicPr>
        <p:blipFill>
          <a:blip r:embed="rId2"/>
          <a:stretch/>
        </p:blipFill>
        <p:spPr>
          <a:xfrm>
            <a:off x="571680" y="4572000"/>
            <a:ext cx="1357200" cy="13302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4" descr=""/>
          <p:cNvPicPr/>
          <p:nvPr/>
        </p:nvPicPr>
        <p:blipFill>
          <a:blip r:embed="rId3"/>
          <a:stretch/>
        </p:blipFill>
        <p:spPr>
          <a:xfrm>
            <a:off x="3786120" y="4786200"/>
            <a:ext cx="1436760" cy="10000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" descr="C:\Documents and Settings\Чупров Леонид\Мои документы\А. наглядность\Анимации исторические\g2.gif"/>
          <p:cNvPicPr/>
          <p:nvPr/>
        </p:nvPicPr>
        <p:blipFill>
          <a:blip r:embed="rId4"/>
          <a:stretch/>
        </p:blipFill>
        <p:spPr>
          <a:xfrm>
            <a:off x="6858000" y="4714920"/>
            <a:ext cx="1357200" cy="133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118880" cy="13716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" descr="C:\Documents and Settings\Чупров Леонид\Мои документы\А. наглядность\Анимации исторические\g2.gif"/>
          <p:cNvPicPr/>
          <p:nvPr/>
        </p:nvPicPr>
        <p:blipFill>
          <a:blip r:embed="rId3"/>
          <a:stretch/>
        </p:blipFill>
        <p:spPr>
          <a:xfrm>
            <a:off x="285840" y="4286160"/>
            <a:ext cx="1770120" cy="1736640"/>
          </a:xfrm>
          <a:prstGeom prst="rect">
            <a:avLst/>
          </a:prstGeom>
          <a:ln w="0">
            <a:noFill/>
          </a:ln>
        </p:spPr>
      </p:pic>
      <p:sp>
        <p:nvSpPr>
          <p:cNvPr id="438" name="TextBox 30"/>
          <p:cNvSpPr/>
          <p:nvPr/>
        </p:nvSpPr>
        <p:spPr>
          <a:xfrm>
            <a:off x="285840" y="71424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акое хозяйство, в котором появляются излишки, продаваемые их хозяевами на рынке называется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ТОВАР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31"/>
          <p:cNvSpPr/>
          <p:nvPr/>
        </p:nvSpPr>
        <p:spPr>
          <a:xfrm>
            <a:off x="285840" y="1785960"/>
            <a:ext cx="82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кономику государств, в которых хорошо развито товарное хозяйство, называют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РЫНОЧНОЙ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кономи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оугольник 25"/>
          <p:cNvSpPr/>
          <p:nvPr/>
        </p:nvSpPr>
        <p:spPr>
          <a:xfrm>
            <a:off x="357120" y="264312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Любое занятие в рыночной экономике называется бизнесом потому, что оно приносит прибыль. Даже если вы сдали в магазин две пустые бутылки, вы сделали свой маленький бизнес. Иначе бы они валялись без пользы и никаких денег не принес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Прямоугольник 2"/>
          <p:cNvSpPr/>
          <p:nvPr/>
        </p:nvSpPr>
        <p:spPr>
          <a:xfrm>
            <a:off x="428760" y="2714760"/>
            <a:ext cx="2928960" cy="85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Как стать богат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Выноска 1 (граница и черта) 3"/>
          <p:cNvSpPr/>
          <p:nvPr/>
        </p:nvSpPr>
        <p:spPr>
          <a:xfrm rot="16200000">
            <a:off x="1000080" y="142920"/>
            <a:ext cx="1357200" cy="221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0860" y="10967"/>
                </a:moveTo>
                <a:lnTo>
                  <a:pt x="-1160" y="10971"/>
                </a:lnTo>
              </a:path>
              <a:path w="21600" h="21600">
                <a:moveTo>
                  <a:pt x="-1160" y="0"/>
                </a:moveTo>
                <a:lnTo>
                  <a:pt x="-1160" y="21600"/>
                </a:lnTo>
              </a:path>
            </a:pathLst>
          </a:custGeom>
          <a:solidFill>
            <a:srgbClr val="0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Franklin Gothic Book"/>
              </a:rPr>
              <a:t>Семья производит только такое количество продуктов, которого хватает для удовлетворения первичных потребностей и простого воспроизвод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5"/>
          <p:cNvSpPr/>
          <p:nvPr/>
        </p:nvSpPr>
        <p:spPr>
          <a:xfrm>
            <a:off x="571680" y="0"/>
            <a:ext cx="428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ростое воспроизводство – покупка самого необходимого для поддержания нормальной жизн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Выноска 1 (граница и черта) 6"/>
          <p:cNvSpPr/>
          <p:nvPr/>
        </p:nvSpPr>
        <p:spPr>
          <a:xfrm>
            <a:off x="4643280" y="1643040"/>
            <a:ext cx="3143520" cy="13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707" y="23381"/>
                </a:moveTo>
                <a:lnTo>
                  <a:pt x="-446" y="10731"/>
                </a:lnTo>
              </a:path>
              <a:path w="21600" h="21600">
                <a:moveTo>
                  <a:pt x="-446" y="0"/>
                </a:moveTo>
                <a:lnTo>
                  <a:pt x="-446" y="21600"/>
                </a:lnTo>
              </a:path>
            </a:pathLst>
          </a:custGeom>
          <a:solidFill>
            <a:srgbClr val="0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Franklin Gothic Book"/>
              </a:rPr>
              <a:t>Семья производит избыточное количество продуктов, которые продает на рынке, где на вырученные деньги покупает дополнительную технику и товары, удовлетворяющие вторичные потребнос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1" descr="C:\Documents and Settings\Чупров Леонид\Мои документы\А. наглядность\Анимации исторические\g2.gif"/>
          <p:cNvPicPr/>
          <p:nvPr/>
        </p:nvPicPr>
        <p:blipFill>
          <a:blip r:embed="rId3"/>
          <a:stretch/>
        </p:blipFill>
        <p:spPr>
          <a:xfrm>
            <a:off x="5429160" y="3357720"/>
            <a:ext cx="1738440" cy="1704960"/>
          </a:xfrm>
          <a:prstGeom prst="rect">
            <a:avLst/>
          </a:prstGeom>
          <a:ln w="0">
            <a:noFill/>
          </a:ln>
        </p:spPr>
      </p:pic>
      <p:sp>
        <p:nvSpPr>
          <p:cNvPr id="446" name="Выноска 1 (граница и черта) 8"/>
          <p:cNvSpPr/>
          <p:nvPr/>
        </p:nvSpPr>
        <p:spPr>
          <a:xfrm>
            <a:off x="1357200" y="4357800"/>
            <a:ext cx="314352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20" y="-7576"/>
                </a:moveTo>
                <a:lnTo>
                  <a:pt x="-541" y="9652"/>
                </a:lnTo>
              </a:path>
              <a:path w="21600" h="21600">
                <a:moveTo>
                  <a:pt x="-541" y="0"/>
                </a:moveTo>
                <a:lnTo>
                  <a:pt x="-541" y="21600"/>
                </a:lnTo>
              </a:path>
            </a:pathLst>
          </a:custGeom>
          <a:solidFill>
            <a:srgbClr val="0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Franklin Gothic Book"/>
              </a:rPr>
              <a:t>Рынок помогает семье разбогатеть: становится лучше дом, одежда, питание, техника. Семья понимает, что надо больше работать на рынке, и все усилия вкладывает в производство товаров повышенного спроса. С рынка привозят предметы длительного пользования и украш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4" descr=""/>
          <p:cNvPicPr/>
          <p:nvPr/>
        </p:nvPicPr>
        <p:blipFill>
          <a:blip r:embed="rId4"/>
          <a:stretch/>
        </p:blipFill>
        <p:spPr>
          <a:xfrm>
            <a:off x="7215120" y="5335560"/>
            <a:ext cx="1571760" cy="109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Прямоугольник 3"/>
          <p:cNvSpPr/>
          <p:nvPr/>
        </p:nvSpPr>
        <p:spPr>
          <a:xfrm>
            <a:off x="214200" y="107172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то процесс воздействия человека на вещество природы в целях создания материальных благ и услуг , необходимых для развития общества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4"/>
          <p:cNvSpPr/>
          <p:nvPr/>
        </p:nvSpPr>
        <p:spPr>
          <a:xfrm>
            <a:off x="571680" y="2714760"/>
            <a:ext cx="62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5"/>
          <p:cNvSpPr/>
          <p:nvPr/>
        </p:nvSpPr>
        <p:spPr>
          <a:xfrm>
            <a:off x="2286000" y="275904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Mj02836030000[1]"/>
          <p:cNvPicPr/>
          <p:nvPr/>
        </p:nvPicPr>
        <p:blipFill>
          <a:blip r:embed="rId2"/>
          <a:stretch/>
        </p:blipFill>
        <p:spPr>
          <a:xfrm>
            <a:off x="5143680" y="385776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8" descr="произ-во машин"/>
          <p:cNvPicPr/>
          <p:nvPr/>
        </p:nvPicPr>
        <p:blipFill>
          <a:blip r:embed="rId2"/>
          <a:stretch/>
        </p:blipFill>
        <p:spPr>
          <a:xfrm>
            <a:off x="214200" y="1571760"/>
            <a:ext cx="3076560" cy="18367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1" descr="производство одежды"/>
          <p:cNvPicPr/>
          <p:nvPr/>
        </p:nvPicPr>
        <p:blipFill>
          <a:blip r:embed="rId3"/>
          <a:stretch/>
        </p:blipFill>
        <p:spPr>
          <a:xfrm>
            <a:off x="4071960" y="1500120"/>
            <a:ext cx="2232000" cy="1928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2" descr="трансп перев людей"/>
          <p:cNvPicPr/>
          <p:nvPr/>
        </p:nvPicPr>
        <p:blipFill>
          <a:blip r:embed="rId4"/>
          <a:stretch/>
        </p:blipFill>
        <p:spPr>
          <a:xfrm>
            <a:off x="6786720" y="5072040"/>
            <a:ext cx="2049480" cy="136836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5" descr="спорт"/>
          <p:cNvPicPr/>
          <p:nvPr/>
        </p:nvPicPr>
        <p:blipFill>
          <a:blip r:embed="rId5"/>
          <a:stretch/>
        </p:blipFill>
        <p:spPr>
          <a:xfrm>
            <a:off x="4714920" y="3643200"/>
            <a:ext cx="1857240" cy="21542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8" descr="спорт5"/>
          <p:cNvPicPr/>
          <p:nvPr/>
        </p:nvPicPr>
        <p:blipFill>
          <a:blip r:embed="rId6"/>
          <a:stretch/>
        </p:blipFill>
        <p:spPr>
          <a:xfrm>
            <a:off x="214200" y="3500280"/>
            <a:ext cx="1805040" cy="19447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6" descr="66"/>
          <p:cNvPicPr/>
          <p:nvPr/>
        </p:nvPicPr>
        <p:blipFill>
          <a:blip r:embed="rId7"/>
          <a:stretch/>
        </p:blipFill>
        <p:spPr>
          <a:xfrm>
            <a:off x="6786720" y="857160"/>
            <a:ext cx="2158920" cy="37432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5" descr="концерт"/>
          <p:cNvPicPr/>
          <p:nvPr/>
        </p:nvPicPr>
        <p:blipFill>
          <a:blip r:embed="rId8"/>
          <a:stretch/>
        </p:blipFill>
        <p:spPr>
          <a:xfrm>
            <a:off x="2214720" y="4357800"/>
            <a:ext cx="2203200" cy="1796760"/>
          </a:xfrm>
          <a:prstGeom prst="rect">
            <a:avLst/>
          </a:prstGeom>
          <a:ln w="0">
            <a:noFill/>
          </a:ln>
        </p:spPr>
      </p:pic>
      <p:pic>
        <p:nvPicPr>
          <p:cNvPr id="459" name="Заголовок 11" descr=""/>
          <p:cNvPicPr/>
          <p:nvPr/>
        </p:nvPicPr>
        <p:blipFill>
          <a:blip r:embed="rId9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2500200" y="1553760"/>
            <a:ext cx="6491520" cy="88920"/>
          </a:xfrm>
          <a:prstGeom prst="rect">
            <a:avLst/>
          </a:prstGeom>
          <a:noFill/>
          <a:ln w="0">
            <a:noFill/>
          </a:ln>
        </p:spPr>
        <p:txBody>
          <a:bodyPr tIns="43200" bIns="432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0000"/>
                </a:solidFill>
                <a:latin typeface="Franklin Gothic Book"/>
              </a:rPr>
              <a:t>Спасибо за внимание!!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02:54:12Z</dcterms:created>
  <dc:creator>Леонид</dc:creator>
  <dc:description/>
  <dc:language>en-US</dc:language>
  <cp:lastModifiedBy>НА</cp:lastModifiedBy>
  <dcterms:modified xsi:type="dcterms:W3CDTF">2012-07-10T12:53:11Z</dcterms:modified>
  <cp:revision>109</cp:revision>
  <dc:subject/>
  <dc:title>Что такое экономика и бизнес?</dc:title>
</cp:coreProperties>
</file>