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280-1AE0-438F-8C5B-CA6EA14A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5E2-45EB-4522-9A11-162B0FE4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74F-7278-44D8-BFC5-2F664431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156-47B2-44D8-814E-0501EDA4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880B-38BA-4573-8452-25A7D00C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2AA1-B892-456B-88F8-84394DA0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1A69-FFB6-4DD7-ABC9-22B15E8F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9686-53D5-4BCC-AA39-77027F5B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3A92-3822-4222-AE35-27C7C8C3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176B-C1A9-4404-A7A9-0FDB45E3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9FF3-2ED2-4088-90C2-825A97C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28E-C439-4F3B-9632-A8C85750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898C-B5BF-414F-98CC-812362CD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5754-9A47-4332-AA01-8301710F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95E3-9298-4BD0-8553-74FF2B6E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D36D-4539-4DF7-AD5E-96089C5B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BD18-0E7E-40C5-BB60-C7204E5B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83C3-2DCC-462B-8235-57AF8187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1A7C-A491-4E4D-9342-D155EAE9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DCA6-EE7F-4994-9A79-E8E88BFB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7D6D-2FA0-4F55-8822-F0A00C17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4006-B7F4-42D0-8BF1-55F23BF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A05-22B4-4935-BC5F-9809BF4C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F6E62-5120-4AE1-B405-82F405CF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BF02-280A-468F-8E0E-BD5C05DE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6FEC8-8CEA-4A87-BFBD-C75503A6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8421-CD3A-49F8-BDE9-A988A39E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6377D-69A9-4839-8FF1-3E09B2FB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081FA-CF2E-4CBA-B090-27F4FDED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59DC-AA42-4F4B-A5CB-60455D59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92A0-38FA-4BF5-A101-3A8E311C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AB69F-125F-4C48-A5C9-F3FD82F0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6E403-75E3-4CDA-9393-8387C278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3F04-FA76-4953-B069-5FA7216C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3B9EA-F0EC-47AD-8724-2C607367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EC366-ED34-466D-AA4E-256E529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35F7-9751-4CD9-8AA8-0EB52A46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6FC0F-146A-49E2-8724-8E93D051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20DE1-7C80-4AE3-805D-8A5CEC2B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FDFB8-E347-4454-8BC1-33CEF861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222BB-1C9B-4A4D-8871-A46599C7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8EBE-0E29-4E56-9A41-8CCE40B7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467A-CDFC-4787-813B-ECCB6D11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14CD-6CEC-4AAE-A36A-AE17D8CC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D14-70E3-40C9-A373-843ED07C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F11D3-FC5A-4B59-B4A4-7CD0B2A7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30B21-9E21-4CED-A209-9A228C65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777A4-4AB2-460D-8DDD-E466639C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875E-C468-449C-A81F-58AA1278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2111D-6F5A-46FE-8426-536385BB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BC751-B3F7-46B6-8DD8-B3F6C060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8B67-0B22-4728-B4CD-FC1E75A1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EDFE2-9CCB-4B31-8928-16B2F00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8E3CC-3984-412B-AF19-3E9EB258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63034-67FF-44FD-BBFF-47BB5C6D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B9A-A398-44F6-9A42-D4FF42AD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5711E-66D2-40C2-BC2B-8B44B3F4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BFE5B-6FF0-407A-8E87-3BD1A253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C00C5-10FD-4E0C-9A4A-F5D0EF99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4F3C3-AB15-4FAF-9727-76797177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C4633-8279-41EF-A8C7-F03AEA23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FFDAA-F756-4EC4-9195-C6E2AA29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8AD11-CD59-43E0-A24A-7B39D972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7056A-7113-4AF6-B9F5-E88898F5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BC360-6EC0-4D81-A707-694F06BD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A63C7-7DDA-45FD-8343-E54DFDE3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56B-10EF-47A6-8895-EC1C0687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BDDE-9F48-4C2A-85C6-E3A091AD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88BFE-59B8-4A8D-BA29-76F6E021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D266B-6C8C-4E41-8932-0CF08A35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F8FD1-CE47-4ECA-A5DB-C295D9F7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B9CCC-91C1-45E1-8A33-14CED81F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B3CEB-2DAE-49D5-847D-FC8CE340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CBB40-AFE5-4540-9130-EFA155F2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408A-BBC4-4815-988C-8D9A56ED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89F59-ECD4-465C-BC99-9A07349B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72804-F794-455E-BBF6-A5FEEAB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6F8-A639-4F85-AD75-2E0996BA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EC600-0215-405F-BAC5-A416D90D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922AC-BD95-4656-A05C-6E881CD0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6659D-BDAA-4BFF-95E0-3FD6FCA6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5FB33-B7AF-413A-A44A-0278B0C0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57702-C1F0-493F-90E7-AC74A223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C7944-3B0B-4C1A-A091-396A74AB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EFEC1-0BB0-4C47-902D-33553324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C20AA-00D9-4D13-8EFD-FAF51D40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F9971-DB27-4E95-8BA1-6C99E91A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A01BB-6A03-4417-955F-C42FB5B3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F85-5020-4AF6-96DA-E9EC0362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B9AA4-8ADE-44B8-9FFC-F6505948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87A64-AB39-4E60-B679-4685FC8E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EDF3D-8F6C-4978-ABFD-6CA93B9A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75E15-BC9C-42FF-A055-D60CDD24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B7991-62ED-4CCB-B013-C1A6DF52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596B2-0618-4C44-AEB3-F55421E6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B2E3C-C657-4345-A49F-8A0D5E15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DBDE-5946-4C7F-805C-71D6B4B0165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C17C-2C3E-4220-8AF1-38FDF356B25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9A57-B05B-4352-8CBD-4EE21C760A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610E-E359-4F41-BB7A-E0A4CA2A01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2C5A-7E12-4D86-9AE2-EF0F97A608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8CFB-AF12-413F-8367-F176EA5C6DC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72E8-F09F-4C21-9B61-48A4DAC662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B3E1-D45D-4BB5-A086-953AB389347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720" y="713880"/>
            <a:ext cx="79200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Формирование ключевых компетенций через проектную и исследовательскую деятельность учащихс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0" y="5072040"/>
            <a:ext cx="42861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ритерии проекта в познавательной деятельности учени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2428920"/>
            <a:ext cx="74995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амостоятельность (полная или частичная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иск и перебор возможных вариантов движения к цел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ние в процессе движения к цели нового продук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7" name="Picture 5" descr="J0345625"/>
          <p:cNvPicPr/>
          <p:nvPr/>
        </p:nvPicPr>
        <p:blipFill>
          <a:blip r:embed="rId1"/>
          <a:stretch/>
        </p:blipFill>
        <p:spPr>
          <a:xfrm>
            <a:off x="7778880" y="5229360"/>
            <a:ext cx="1144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00080" y="151920"/>
            <a:ext cx="785808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2314"/>
                </a:solidFill>
                <a:latin typeface="Corbel"/>
              </a:rPr>
              <a:t>ХАРАКТЕРИСТИКИ УРОВНЯ ТВОРЧЕСКИХ МЫСЛИТЕЛЬНЫХ СПОСОБНОСТЕЙ.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071720" y="1285920"/>
          <a:ext cx="8072280" cy="5259240"/>
        </p:xfrm>
        <a:graphic>
          <a:graphicData uri="http://schemas.openxmlformats.org/drawingml/2006/table">
            <a:tbl>
              <a:tblPr/>
              <a:tblGrid>
                <a:gridCol w="2849400"/>
                <a:gridCol w="52228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л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быстро генерировать поток идей, возможных решений, подходящих объектов и т.п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бкос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применять разнообразные подходы и стратегии при решении проблем; готовность и умение рассматривать имеющеюся информацию под различными углами зр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создавать умные, уникальные и необычные идеи и реш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к детальной разработ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расширять, развивать, приукрашивать и подробно разрабатывать какие-либо идеи, сюжеты и рисунки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434960" y="285480"/>
            <a:ext cx="749952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зучение школьников, их интересов, психофизиологических особенностей, склонносте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бор, определение темы проект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рганизация проектной деятельности учащих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полнение проекта –процесс исследования, обдумывания, принятия решения, планирования, изготовления и оценки издел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</a:rPr>
              <a:t>Критерии проектной зада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773360"/>
            <a:ext cx="7499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это за изделие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функцию оно должно выполнять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его будет использовать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а его формы и размер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 используемых материал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мые способы обработ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мая отделка издел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-609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качеств, связанных со здоровьем и безопасностью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92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63072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ведение научных исследований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34960" y="2714760"/>
            <a:ext cx="749952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 создания человеком новых знаний о самом себе и о мире, в котором он живет с целью получения ответа на какой-либо вопрос или решения какой-либо задач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6" name="Picture 5" descr="J0345601"/>
          <p:cNvPicPr/>
          <p:nvPr/>
        </p:nvPicPr>
        <p:blipFill>
          <a:blip r:embed="rId1"/>
          <a:stretch/>
        </p:blipFill>
        <p:spPr>
          <a:xfrm>
            <a:off x="1476360" y="333360"/>
            <a:ext cx="1638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Исследовательская работа включает в себя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2500200"/>
            <a:ext cx="7499520" cy="37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выбор темы,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определение цели,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постановку задач,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выбор методов,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выдвижение гипотезы.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9" name="Picture 5" descr="J0345600"/>
          <p:cNvPicPr/>
          <p:nvPr/>
        </p:nvPicPr>
        <p:blipFill>
          <a:blip r:embed="rId1"/>
          <a:stretch/>
        </p:blipFill>
        <p:spPr>
          <a:xfrm>
            <a:off x="6659640" y="2205000"/>
            <a:ext cx="20764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ритерии исследовательской работ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rbel"/>
              </a:rPr>
              <a:t>Субъективный: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orbel"/>
              </a:rPr>
              <a:t>тема должна соответствовать интересам исследователя;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276880" y="1523520"/>
            <a:ext cx="3657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orbel"/>
              </a:rPr>
              <a:t>объективный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) – тема должна быть актуальной, то есть недостаточно изученной и важной в научном и практическом отношения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) – тема должна быть реально выполнимой – надо иметь условия для успешного проведения работы (литература, материальное обеспечение)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3" name="Picture 6" descr="J0345605"/>
          <p:cNvPicPr/>
          <p:nvPr/>
        </p:nvPicPr>
        <p:blipFill>
          <a:blip r:embed="rId1"/>
          <a:stretch/>
        </p:blipFill>
        <p:spPr>
          <a:xfrm>
            <a:off x="1835280" y="3500280"/>
            <a:ext cx="211752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784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434960" y="571320"/>
            <a:ext cx="749952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риентируется в выбранной области научного исследования, в том числе знает о степени изученности отдельных вопросов, о нерешенных проблемах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знакомлен теоретически с методиками исследова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может сформулировать задачи исследования (конкретизировать цель) и разработать его план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пособен проанализировать результаты своей работы, сравнить полученные данные с таковыми других исследователей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71280" y="274680"/>
            <a:ext cx="616284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ЛАН </a:t>
            </a:r>
            <a:br>
              <a:rPr sz="4000"/>
            </a:b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ИССЛЕДОВАНИЯ.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34960" y="2428920"/>
            <a:ext cx="749952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роблема или вопрос, подлежащи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следованию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Гипотез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одробное описание мето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Библиограф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8" name="Picture 5" descr="J0345610"/>
          <p:cNvPicPr/>
          <p:nvPr/>
        </p:nvPicPr>
        <p:blipFill>
          <a:blip r:embed="rId1"/>
          <a:stretch/>
        </p:blipFill>
        <p:spPr>
          <a:xfrm>
            <a:off x="1403280" y="189000"/>
            <a:ext cx="19414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ункции учителя при работе над проекто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434960" y="1857240"/>
            <a:ext cx="74995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читель «помогает ученикам в поиске источников, способных помочь им в работе над проектом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ам является источником информации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оординирует весь процесс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держивает и поощряет ученико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держивает непрерывную обратную связь, чтобы помогать ученикам продвигаться в работе над проектом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89156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280" y="2349000"/>
            <a:ext cx="7962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нятие «ключевые компетентности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является центральным для научно-ме-тодологических оснований модерниза-ции, обладает интегративной при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й, объединяет знание, навыковую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нте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ектуальную составляющ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зова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5" descr="J0345611"/>
          <p:cNvPicPr/>
          <p:nvPr/>
        </p:nvPicPr>
        <p:blipFill>
          <a:blip r:embed="rId1"/>
          <a:stretch/>
        </p:blipFill>
        <p:spPr>
          <a:xfrm>
            <a:off x="7093080" y="189000"/>
            <a:ext cx="1823760" cy="19335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345612"/>
          <p:cNvPicPr/>
          <p:nvPr/>
        </p:nvPicPr>
        <p:blipFill>
          <a:blip r:embed="rId2"/>
          <a:stretch/>
        </p:blipFill>
        <p:spPr>
          <a:xfrm>
            <a:off x="1042920" y="260280"/>
            <a:ext cx="1800360" cy="1873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345597"/>
          <p:cNvPicPr/>
          <p:nvPr/>
        </p:nvPicPr>
        <p:blipFill>
          <a:blip r:embed="rId3"/>
          <a:stretch/>
        </p:blipFill>
        <p:spPr>
          <a:xfrm>
            <a:off x="4067280" y="260280"/>
            <a:ext cx="1726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ектное обуче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личностно – ориентированное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спользует множество дидактических подходов – обучение в деле, независимые занятия, совместное учение, мозговой штурм, ролевая игра, эвристическое и проблемное обучение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амомотивируемо, что означает возрастание интереса и вовлеченности в работу по мере её выполне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иносит удовлетворение ученикам видящим продукт своего собственного труда»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ачества выпускник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785960"/>
            <a:ext cx="749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нициативность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нновационность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мобильность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гибкость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инамизм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онструктив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5" descr="J0345616"/>
          <p:cNvPicPr/>
          <p:nvPr/>
        </p:nvPicPr>
        <p:blipFill>
          <a:blip r:embed="rId1"/>
          <a:stretch/>
        </p:blipFill>
        <p:spPr>
          <a:xfrm>
            <a:off x="6012000" y="1844640"/>
            <a:ext cx="26352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Компетенция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руг полномочий какого-либо лиц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руг вопросов, в которых данное лицо обладает познаниями, опыто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Picture 6" descr="J0345631"/>
          <p:cNvPicPr/>
          <p:nvPr/>
        </p:nvPicPr>
        <p:blipFill>
          <a:blip r:embed="rId1"/>
          <a:stretch/>
        </p:blipFill>
        <p:spPr>
          <a:xfrm>
            <a:off x="1619280" y="3986280"/>
            <a:ext cx="2665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етод проект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434960" y="1989000"/>
            <a:ext cx="74995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335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хнология организации  образовательных ситуаций, в которых учащийся ставит и разрешает собственные проблемы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335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хнология сопровождения самостоятельной деятельности учащегося по разрешению пробл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5" descr="J0345643"/>
          <p:cNvPicPr/>
          <p:nvPr/>
        </p:nvPicPr>
        <p:blipFill>
          <a:blip r:embed="rId1"/>
          <a:stretch/>
        </p:blipFill>
        <p:spPr>
          <a:xfrm>
            <a:off x="971640" y="189000"/>
            <a:ext cx="17920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71400" y="1989000"/>
            <a:ext cx="700092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процесс создания прототипа, прообраза предполагаемого или возможного объекта, состояния, специфическая деятельность, результатом которой является науч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еоретически и практически обоснованное определение вариантов прогнозируемого и планового развития новых процессов и явлени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«Проектирование» - «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ojectus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» - брошенный вперед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5" name="Picture 6" descr="J0345606"/>
          <p:cNvPicPr/>
          <p:nvPr/>
        </p:nvPicPr>
        <p:blipFill>
          <a:blip r:embed="rId1"/>
          <a:stretch/>
        </p:blipFill>
        <p:spPr>
          <a:xfrm>
            <a:off x="1042920" y="189000"/>
            <a:ext cx="1368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ек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ан, замысел, текст или чертеж чего-либо, предваряющий его созда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тотип, прообраз какого-либо объекта, вида деятельности и т.п., а в планирование – процесс создания проект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6" descr="J0345608"/>
          <p:cNvPicPr/>
          <p:nvPr/>
        </p:nvPicPr>
        <p:blipFill>
          <a:blip r:embed="rId1"/>
          <a:stretch/>
        </p:blipFill>
        <p:spPr>
          <a:xfrm>
            <a:off x="1692360" y="3789360"/>
            <a:ext cx="2520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щеучебные компетенции школьник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звлечение основного содержания прочитанного или услышанного;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точная формулировка мыслей,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остроение оригинальных высказываний по заданному вопросу или теме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сследование различных вариантов решения проблемы, выбор наилучшего, принимая во внимание различные критери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отрудничество с другими (учениками и учителем) при выполнении общего  задания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ланирование действий и времени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ценка результатов своей деятельности и т.д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72314"/>
                </a:solidFill>
                <a:latin typeface="Corbel"/>
              </a:rPr>
              <a:t>Наиболее актуальные компетенции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учебно-познавательная,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информационная,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оммуникативная,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компетенция личностного самосовершенствования.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Picture 5" descr="J0345591"/>
          <p:cNvPicPr/>
          <p:nvPr/>
        </p:nvPicPr>
        <p:blipFill>
          <a:blip r:embed="rId1"/>
          <a:stretch/>
        </p:blipFill>
        <p:spPr>
          <a:xfrm>
            <a:off x="7451640" y="2565360"/>
            <a:ext cx="14652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20:24:47Z</dcterms:created>
  <dc:creator>Жупикова</dc:creator>
  <dc:description/>
  <dc:language>en-US</dc:language>
  <cp:lastModifiedBy>Admin</cp:lastModifiedBy>
  <dcterms:modified xsi:type="dcterms:W3CDTF">2012-07-10T09:17:51Z</dcterms:modified>
  <cp:revision>17</cp:revision>
  <dc:subject/>
  <dc:title>Формирование ключевых компетенций через проектную и исследовательскую деятельность учащихся</dc:title>
</cp:coreProperties>
</file>