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CF5-B0F3-405C-BBEC-E686707A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C54-D8A5-4C6A-9DC8-463AAD19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CEA-A34D-4C00-AF35-8A818283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E69-CB86-4888-B8C0-5C1893CA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818-054C-483A-9A70-F0808E47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23F-516C-4EB6-8BE1-7A8FFA69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2023-5F37-4D97-A74C-87E1BDC1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F1FD-7D50-4FF5-8036-F1335646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7F98-86C5-44CE-B416-5F18C54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BEDF-41C6-4363-A747-773F633C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C59-A864-4268-987F-F797A2D4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5EA-2105-4ABD-9FFE-56A15071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3CE6-0939-40AE-9C18-2E5A259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1B5D-4536-48E2-8CDE-EC0E56A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1DDE-C682-42D2-A099-7DF017F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667C-EC16-4D64-9442-D0E7D75F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1A60-FBEB-45EF-8307-C25DCAAE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86A6-CBFA-4CCB-9717-00CFD982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205E-E288-4739-981F-CC1D82A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3203-E680-4180-A0C9-B3D6913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147F-0885-4DFD-8C5F-30F70D8E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F24B-0FED-4342-8849-AFDFC7C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93A-EDE8-47E4-9A14-1CB16A5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2A30-4255-4948-B0DD-2F82DF2B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30F9-AFD6-4E5C-BC7A-05E5117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63D0-9229-4E01-B5D5-5FA0FFD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D617-230F-47F2-9C8D-3D6A0EA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6E86-4D76-426D-8477-A1591794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1A29-7577-47BD-BF6F-4B8FDBDF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1464-3763-4932-8207-0EF5DF0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E11A-3596-4CFC-A2CE-29E499A1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EB62-3211-4BD6-8C2A-8A5D281D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9F75-BAD0-48A3-A839-C2EA4E2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87C-F3A2-4D0C-A5E5-31D5E2D6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6A51-124F-42C2-AEA6-85B8FEEF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72EF-C489-4BFF-A014-105BD12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2259-CEC0-4873-BD6C-DE9DB2DB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8855-BF53-470C-9C63-68DD4ED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AC45-36DA-4FDE-BA2C-EB2C5D76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FD840-A922-487B-8DEC-F4E2CE3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6DB0-E51C-423F-8A83-DECB6735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0335-A46D-4480-AE45-01791C7F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8C24E-A469-4E35-8B07-12B1E80F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FA12-0DF7-49A3-91AD-F3E7F1C6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D53-BBCB-46F8-9F70-9145EF3D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A167-E8C4-48B7-B2DD-34354415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95874-153F-4CAC-A21F-996165B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C621-E6E1-45DC-91EF-3ED87B9A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5CBDB-837A-417E-8119-418D040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AA8D-CAEF-4713-9846-9E68B8B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2B689-62DA-4F2E-9C95-E911107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A444-120B-43D3-9025-EB0F5E5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E1FB-4943-4F70-A9C1-1988130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4A34-4447-42BF-9631-53BADCAD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9F17-D586-49F3-83BD-EAF10E60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BAA-AD16-47B8-B903-BA80297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119EC-7E54-4E99-BF10-FCA1D174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FB37-433B-4C94-8CDD-D88FE1EF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5F25-508E-4882-B0F4-A1014A0A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B1FA-7DF9-44D9-BB7D-F9CAB423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F6469-3B29-4EFC-A322-0FA3643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328F-CDEE-434D-B44B-7A9E4D1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4E84-01F5-4ECD-A0DC-4098A160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8EF9E-03DD-40C1-ADC3-DEFA2C1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70EFE-24F4-4211-96F1-9BE4FC94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488F-03E3-481A-9129-8D5C24A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047-7F41-449D-BECD-FCE02B55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74644-8A11-420F-B1DE-09F0FF50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1F01A-E877-4E7A-9FFD-213734C9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1E3C-338A-4203-8FF1-CB563B1B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DBB8-D4FD-4D28-9824-877DCAD9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C544-4470-42D0-AE04-8AE7C4A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3A08-5E1B-42C2-BD3A-D7C342E2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DA36-10F4-43DA-8348-567922D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5D35-14E3-4FF8-AE89-5D125FCE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6629-87DD-4975-9320-AE63FE00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E7F78-F97C-4786-B030-DDD9D91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0EC-D005-4EF3-95D5-19C1A08C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A24BF-30DB-4D70-97C4-4EE735B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9308-2BE3-4044-874D-E051455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A7AEF-4780-4FE6-92C5-C4975859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5A96-11D5-428A-9A4B-94F003C8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EDA17-CC60-4E34-9990-50061357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6C5F7-953B-46BB-8720-B4699FC9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3EEAA-F25C-4C7B-AB38-B3410335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6DF54-60B5-41E3-B268-44B86E3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ADF61-C867-451F-8000-95573E81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601A2-BA05-4024-9859-F78EBCA8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34D-BDE2-4AC7-AC7C-DBC8F8F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5F4AE-DDC6-4090-9B5C-6E1766C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EF9C8-4B0D-4A4F-8083-CAAB2F8D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320F-443F-4936-8892-09C8C78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DC02B-972C-490B-AF38-2CB26B4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928FC-7A7B-423A-B64D-5FE59B8E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20F8D-AE0E-4278-B7FA-B06A4917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32820-9006-4FDF-92C6-377C69D9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420C-10D1-4E56-8BCA-6CF150D34D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4FF-9FBC-4DC2-9E68-F95BA5262E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147-84BE-4778-8FEB-F3517BF3C0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3C18-2B8C-4A1F-91BB-B2EAC81C28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0286-E3A3-42BE-B39B-0D902A00AC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A2C0-D999-4D74-9E2C-95CB3AA47D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D80-E560-4285-B4CA-807B5D0A69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D422-AE07-4308-85C8-844B21EED2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720" y="713880"/>
            <a:ext cx="79200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Формирование ключевых компетенций через проектную и исследовательскую деятельность учащихс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0" y="5072040"/>
            <a:ext cx="4286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ритерии проекта в познавательной деятельности учени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2428920"/>
            <a:ext cx="74995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мостоятельность (полная или частичная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иск и перебор возможных вариантов движения к цел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в процессе движения к цели нового продук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5" descr="J0345625"/>
          <p:cNvPicPr/>
          <p:nvPr/>
        </p:nvPicPr>
        <p:blipFill>
          <a:blip r:embed="rId1"/>
          <a:stretch/>
        </p:blipFill>
        <p:spPr>
          <a:xfrm>
            <a:off x="7778880" y="5229360"/>
            <a:ext cx="1144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0080" y="151920"/>
            <a:ext cx="785808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2314"/>
                </a:solidFill>
                <a:latin typeface="Corbel"/>
              </a:rPr>
              <a:t>ХАРАКТЕРИСТИКИ УРОВНЯ ТВОРЧЕСКИХ МЫСЛИТЕЛЬНЫХ СПОСОБНОСТЕЙ.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71720" y="1285920"/>
          <a:ext cx="8072280" cy="5259240"/>
        </p:xfrm>
        <a:graphic>
          <a:graphicData uri="http://schemas.openxmlformats.org/drawingml/2006/table">
            <a:tbl>
              <a:tblPr/>
              <a:tblGrid>
                <a:gridCol w="2849400"/>
                <a:gridCol w="5222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л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быстро генерировать поток идей, возможных решений, подходящих объектов и т.п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к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применять разнообразные подходы и стратегии при решении проблем; готовность и умение рассматривать имеющеюся информацию под различными углами зр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создавать умные, уникальные и необычные идеи и реш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детальной разработ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расширять, развивать, приукрашивать и подробно разрабатывать какие-либо идеи, сюжеты и рисунк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учение школьников, их интересов, психофизиологических особенностей, склоннос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ор, определение темы проект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ация проектной деятельности учащих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ение проекта –процесс исследования, обдумывания, принятия решения, планирования, изготовления и оценки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Критерии проектной 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773360"/>
            <a:ext cx="7499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это за изделие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функцию оно должно выполнят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его будет использоват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его формы и размер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используемых материа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мые способы обработ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мая отделка издел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качеств, связанных со здоровьем и безопасность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63072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дение научных исследований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2714760"/>
            <a:ext cx="74995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 создания человеком новых знаний о самом себе и о мире, в котором он живет с целью получения ответа на какой-либо вопрос или решения какой-либо задач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5" descr="J0345601"/>
          <p:cNvPicPr/>
          <p:nvPr/>
        </p:nvPicPr>
        <p:blipFill>
          <a:blip r:embed="rId1"/>
          <a:stretch/>
        </p:blipFill>
        <p:spPr>
          <a:xfrm>
            <a:off x="1476360" y="333360"/>
            <a:ext cx="1638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Исследовательская работа включает в себя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выбор темы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определение цели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постановку задач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выбор методов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выдвижение гипотезы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5" descr="J0345600"/>
          <p:cNvPicPr/>
          <p:nvPr/>
        </p:nvPicPr>
        <p:blipFill>
          <a:blip r:embed="rId1"/>
          <a:stretch/>
        </p:blipFill>
        <p:spPr>
          <a:xfrm>
            <a:off x="6659640" y="2205000"/>
            <a:ext cx="2076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ритерии исследовательской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Субъективный: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ема должна соответствовать интересам исследователя;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276880" y="1523520"/>
            <a:ext cx="3657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объективный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– тема должна быть актуальной, то есть недостаточно изученной и важной в научном и практическом отношения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– тема должна быть реально выполнимой – надо иметь условия для успешного проведения работы (литература, материальное обеспечение)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3" name="Picture 6" descr="J0345605"/>
          <p:cNvPicPr/>
          <p:nvPr/>
        </p:nvPicPr>
        <p:blipFill>
          <a:blip r:embed="rId1"/>
          <a:stretch/>
        </p:blipFill>
        <p:spPr>
          <a:xfrm>
            <a:off x="1835280" y="3500280"/>
            <a:ext cx="2117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784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риентируется в выбранной области научного исследования, в том числе знает о степени изученности отдельных вопросов, о нерешенных проблемах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знакомлен теоретически с методиками исследова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может сформулировать задачи исследования (конкретизировать цель) и разработать его план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ен проанализировать результаты своей работы, сравнить полученные данные с таковыми других исследовател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616284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ЛАН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ИССЛЕДОВАНИЯ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2428920"/>
            <a:ext cx="74995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облема или вопрос, подлежащи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следова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ипотез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дробное описание мето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иблиограф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5" descr="J0345610"/>
          <p:cNvPicPr/>
          <p:nvPr/>
        </p:nvPicPr>
        <p:blipFill>
          <a:blip r:embed="rId1"/>
          <a:stretch/>
        </p:blipFill>
        <p:spPr>
          <a:xfrm>
            <a:off x="1403280" y="189000"/>
            <a:ext cx="1941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ункции учителя при работе над проект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читель «помогает ученикам в поиске источников, способных помочь им в работе над проектом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 является источником информ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ординирует весь процесс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держивает и поощряет учени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держивает непрерывную обратную связь, чтобы помогать ученикам продвигаться в работе над проекто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280" y="2349000"/>
            <a:ext cx="7962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ие «ключевые компетентност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вляется центральным для научно-ме-тодологических оснований модерниза-ции, обладает интегративной при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й, объединяет знание, навыковую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ктуальную составляю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5" descr="J0345611"/>
          <p:cNvPicPr/>
          <p:nvPr/>
        </p:nvPicPr>
        <p:blipFill>
          <a:blip r:embed="rId1"/>
          <a:stretch/>
        </p:blipFill>
        <p:spPr>
          <a:xfrm>
            <a:off x="7093080" y="189000"/>
            <a:ext cx="1823760" cy="1933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345612"/>
          <p:cNvPicPr/>
          <p:nvPr/>
        </p:nvPicPr>
        <p:blipFill>
          <a:blip r:embed="rId2"/>
          <a:stretch/>
        </p:blipFill>
        <p:spPr>
          <a:xfrm>
            <a:off x="1042920" y="260280"/>
            <a:ext cx="1800360" cy="1873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345597"/>
          <p:cNvPicPr/>
          <p:nvPr/>
        </p:nvPicPr>
        <p:blipFill>
          <a:blip r:embed="rId3"/>
          <a:stretch/>
        </p:blipFill>
        <p:spPr>
          <a:xfrm>
            <a:off x="4067280" y="260280"/>
            <a:ext cx="1726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ное обуче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личностно – ориентированно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спользует множество дидактических подходов – обучение в деле, независимые занятия, совместное учение, мозговой штурм, ролевая игра, эвристическое и проблемное обучени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амомотивируемо, что означает возрастание интереса и вовлеченности в работу по мере её выполн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иносит удовлетворение ученикам видящим продукт своего собственного труда»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ачества выпускни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ициативн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новационн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обильн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ибк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инамизм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онструкт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5" descr="J0345616"/>
          <p:cNvPicPr/>
          <p:nvPr/>
        </p:nvPicPr>
        <p:blipFill>
          <a:blip r:embed="rId1"/>
          <a:stretch/>
        </p:blipFill>
        <p:spPr>
          <a:xfrm>
            <a:off x="6012000" y="1844640"/>
            <a:ext cx="2635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Компетенц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уг полномочий какого-либо лиц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уг вопросов, в которых данное лицо обладает познаниями, опыт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6" descr="J0345631"/>
          <p:cNvPicPr/>
          <p:nvPr/>
        </p:nvPicPr>
        <p:blipFill>
          <a:blip r:embed="rId1"/>
          <a:stretch/>
        </p:blipFill>
        <p:spPr>
          <a:xfrm>
            <a:off x="1619280" y="3986280"/>
            <a:ext cx="2665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 проек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989000"/>
            <a:ext cx="74995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335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я организации  образовательных ситуаций, в которых учащийся ставит и разрешает собственные проблем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335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я сопровождения самостоятельной деятельности учащегося по разрешению пробл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5" descr="J0345643"/>
          <p:cNvPicPr/>
          <p:nvPr/>
        </p:nvPicPr>
        <p:blipFill>
          <a:blip r:embed="rId1"/>
          <a:stretch/>
        </p:blipFill>
        <p:spPr>
          <a:xfrm>
            <a:off x="971640" y="189000"/>
            <a:ext cx="17920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71400" y="1989000"/>
            <a:ext cx="7000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процесс создания прототипа, прообраза предполагаемого или возможного объекта, состояния, специфическая деятельность, результатом которой является нау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оретически и практически обоснованное определение вариантов прогнозируемого и планового развития новых процессов и явл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«Проектирование» - «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jectus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» - брошенный вперед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5" name="Picture 6" descr="J0345606"/>
          <p:cNvPicPr/>
          <p:nvPr/>
        </p:nvPicPr>
        <p:blipFill>
          <a:blip r:embed="rId1"/>
          <a:stretch/>
        </p:blipFill>
        <p:spPr>
          <a:xfrm>
            <a:off x="1042920" y="189000"/>
            <a:ext cx="1368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ан, замысел, текст или чертеж чего-либо, предваряющий его созд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отип, прообраз какого-либо объекта, вида деятельности и т.п., а в планирование – процесс создания проек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6" descr="J0345608"/>
          <p:cNvPicPr/>
          <p:nvPr/>
        </p:nvPicPr>
        <p:blipFill>
          <a:blip r:embed="rId1"/>
          <a:stretch/>
        </p:blipFill>
        <p:spPr>
          <a:xfrm>
            <a:off x="1692360" y="3789360"/>
            <a:ext cx="2520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еучебные компетенции школь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звлечение основного содержания прочитанного или услышанного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точная формулировка мыслей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строение оригинальных высказываний по заданному вопросу или тем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сследование различных вариантов решения проблемы, выбор наилучшего, принимая во внимание различные критери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трудничество с другими (учениками и учителем) при выполнении общего  зада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ланирование действий и времен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ценка результатов своей деятельности и т.д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Наиболее актуальные компетенци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учебно-познавательная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информационная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оммуникативная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компетенция личностного самосовершенствования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5" descr="J0345591"/>
          <p:cNvPicPr/>
          <p:nvPr/>
        </p:nvPicPr>
        <p:blipFill>
          <a:blip r:embed="rId1"/>
          <a:stretch/>
        </p:blipFill>
        <p:spPr>
          <a:xfrm>
            <a:off x="7451640" y="2565360"/>
            <a:ext cx="14652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24:47Z</dcterms:created>
  <dc:creator>Жупикова</dc:creator>
  <dc:description/>
  <dc:language>en-US</dc:language>
  <cp:lastModifiedBy>Admin</cp:lastModifiedBy>
  <dcterms:modified xsi:type="dcterms:W3CDTF">2012-07-10T09:17:51Z</dcterms:modified>
  <cp:revision>17</cp:revision>
  <dc:subject/>
  <dc:title>Формирование ключевых компетенций через проектную и исследовательскую деятельность учащихся</dc:title>
</cp:coreProperties>
</file>