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7192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688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DBA-E4BB-4430-B341-10E2E0D3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A519-1DD9-48ED-913B-D9069D2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6AB-1146-449D-B0EA-8B562717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71A-0FE0-4111-998D-E6AC0E8F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8D-FF16-4584-9100-FDFA614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F45-63AD-4164-8566-70790C5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806-FAC8-4B45-9F5F-381DCD77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33C-DBF2-4F70-A7D7-25CD4DD8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010-58F2-4610-85A4-09482D28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A16-70E9-4337-9A2D-0F6B1753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068-ADB1-47D7-9AB8-4400B2FA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239-95D8-4ED2-804A-ECFB27F4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40BB-CE7C-432A-8159-78F6C7DC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62B6-ECFA-4765-A5ED-7FD23A78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A9DF-AD82-4964-B943-E1D0E83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4834-B109-4963-B731-3FB015E4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AE80-E37F-46B1-9B40-39F8D1E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8CE-FF39-4CA1-9D77-9F0ED056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47A7-DE94-4CCB-8445-019AEA7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B80-4CE2-4B5C-BD76-51A2103B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6BAF-B601-4840-BD3C-6E6D32AF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980-B9B1-4562-A52D-237F243B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BA6B-2417-40E0-93A7-19371F5E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3245-1A41-468B-BC5E-58166CAF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804440" cy="86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1717560"/>
            <a:ext cx="877716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6840" y="1717560"/>
            <a:ext cx="877716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755640" y="6165360"/>
            <a:ext cx="763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кяненко Э.А., учитель начальных классов МОУ СОШ №25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 ЗАТО г.Фокино  Примор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B6C55C-83FD-49DE-A0E0-95ADC2F7FB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1258920" y="6244920"/>
            <a:ext cx="6626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и256 ГО ЗАТО г.Фокино Приморского кр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1C4041-7728-4C6B-A5CB-B7851C120E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0840" y="1800360"/>
            <a:ext cx="8850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0047ff"/>
                </a:solidFill>
                <a:latin typeface="Arial"/>
              </a:rPr>
              <a:t>Как сохранить улыбку красиво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0" y="3600360"/>
            <a:ext cx="50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Классный час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для учащихся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666666"/>
                </a:solidFill>
                <a:latin typeface="Arial"/>
              </a:rPr>
              <a:t>начальной школ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4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6237360"/>
            <a:ext cx="761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71640" y="476280"/>
            <a:ext cx="7020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АВИЛА ЧИСТКИ ЗУБОВ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349360"/>
            <a:ext cx="431964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3360" indent="-33336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ПРОИЗВОДИТ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КОРОТКИЕ ДВИЖЕНИЯ, РАСПОЛАГАЯ ЩЁТКУ ПОД УГЛОМ К ЗУБ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859280" y="2205000"/>
            <a:ext cx="3656160" cy="2879280"/>
            <a:chOff x="4859280" y="2205000"/>
            <a:chExt cx="3656160" cy="28792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859280" y="2205000"/>
              <a:ext cx="3656160" cy="28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4859280" y="2205000"/>
              <a:ext cx="3656160" cy="28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58920" y="587700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11280" y="1125360"/>
            <a:ext cx="453708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ОЛОВК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ЗУБНОЙ ЩЁТКИ РАСПОЛАГАЙТЕ ПОД УГЛОМ 45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К ЗУБУ И ПРОИЗВОДИТЕ ВЫМЕТАЮЩИЕ ДВИЖЕНИЯ ОТ ДЕ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0" y="1197000"/>
            <a:ext cx="3659040" cy="3744360"/>
            <a:chOff x="4572000" y="1197000"/>
            <a:chExt cx="3659040" cy="374436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tretch/>
          </p:blipFill>
          <p:spPr>
            <a:xfrm>
              <a:off x="4572000" y="1197000"/>
              <a:ext cx="3659040" cy="37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0" y="1197000"/>
              <a:ext cx="3659040" cy="37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19280" y="6021360"/>
            <a:ext cx="72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4724280" y="1447920"/>
            <a:ext cx="4113360" cy="3204720"/>
            <a:chOff x="4724280" y="1447920"/>
            <a:chExt cx="4113360" cy="320472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4724280" y="1447920"/>
              <a:ext cx="4113360" cy="32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724280" y="1447920"/>
              <a:ext cx="4113360" cy="32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68360" y="1484280"/>
            <a:ext cx="55706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УБНУЮ ЩЁТ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РАСПОЛАГАЙ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ГОРИЗОНТАЛЬ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И ПРОИЗВОДИТЕ ДВИЖ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ПЕРЁД-НАЗ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76360" y="5950080"/>
            <a:ext cx="71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4267080" y="1347840"/>
            <a:ext cx="4037040" cy="2803320"/>
            <a:chOff x="4267080" y="1347840"/>
            <a:chExt cx="4037040" cy="2803320"/>
          </a:xfrm>
        </p:grpSpPr>
        <p:pic>
          <p:nvPicPr>
            <p:cNvPr id="245" name="" descr=""/>
            <p:cNvPicPr/>
            <p:nvPr/>
          </p:nvPicPr>
          <p:blipFill>
            <a:blip r:embed="rId2"/>
            <a:stretch/>
          </p:blipFill>
          <p:spPr>
            <a:xfrm>
              <a:off x="4267080" y="1347840"/>
              <a:ext cx="403704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267080" y="1347840"/>
              <a:ext cx="4037040" cy="28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0920" y="2133720"/>
            <a:ext cx="653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УБНАЯ ЩЁТКА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РАСПОЛАГ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ЕРТИКАЛЬНО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НАПРАВЛЕНИЕ ДВИЖЕНИЯ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ОТ ДЕСНЫ К РЕЖУЩЕМУ КРАЮ З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5950080"/>
            <a:ext cx="734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5030640" y="692280"/>
            <a:ext cx="3934080" cy="2950920"/>
            <a:chOff x="5030640" y="692280"/>
            <a:chExt cx="3934080" cy="29509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5030640" y="692280"/>
              <a:ext cx="3934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030640" y="692280"/>
              <a:ext cx="3934080" cy="29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50920" y="1844640"/>
            <a:ext cx="68659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ЗАКАНЧИВАЮТ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ЧИСТКУ ЗУБ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УГОВЫМИ ДВИЖЕНИЯ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ЩЁТКИ С ЗАХВАТОМ ЗУБОВ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ДЁСЕН ПРИ СОМКНУТЫХ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ЧЕЛЮСТ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6021360"/>
            <a:ext cx="712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0000ff"/>
                </a:solidFill>
                <a:latin typeface="Arial"/>
              </a:rPr>
              <a:t>Что нужно сделать, чтобы зубы не болели?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1484280"/>
            <a:ext cx="698508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Как поел, почисти зуб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Делай так два раза в су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Предпочти конфетам фрукт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Очень важные продукты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5877000"/>
            <a:ext cx="770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227640" y="3789360"/>
            <a:ext cx="2376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3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539640" y="7351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Чтобы зуб не беспокоил,</a:t>
            </a:r>
            <a:br>
              <a:rPr sz="3200"/>
            </a:b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Помни правило тако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2205000"/>
            <a:ext cx="71294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К стоматологу идё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В год два раза на при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И тогда улыбки с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Сохранишь на много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лет!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164360" y="4365720"/>
            <a:ext cx="1655640" cy="2232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79640" y="6093000"/>
            <a:ext cx="71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333360"/>
            <a:ext cx="889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того, чтобы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у вас б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ыла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ослепи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улыбк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нужно выполнять следующие прав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1341360"/>
            <a:ext cx="9144000" cy="45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Ешьте фрукты и овощ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Не злоупотребляйте сахаром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и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сладостя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Чистите зубы два раза в день: пос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завтрака и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перед с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Меняйте зубную щётку кажд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3 месяц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олощите рот после 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Дважды в год посеща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й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те стоматоло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 ваша улыбка будет рад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с и окружающих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9640" y="6093000"/>
            <a:ext cx="71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236000" y="2781360"/>
            <a:ext cx="165708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0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0" dur="2000" fill="hold"/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-4680" y="6480"/>
            <a:ext cx="9144000" cy="6825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014560" y="6093000"/>
            <a:ext cx="7129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040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40464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Давайте чащ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GB" sz="4000" spc="-1" strike="noStrike">
                <a:solidFill>
                  <a:srgbClr val="0000ff"/>
                </a:solidFill>
                <a:latin typeface="Arial"/>
              </a:rPr>
              <a:t>улыбать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1413000"/>
            <a:ext cx="4753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Если только рассмея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То начнутся чудес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От улыбок проясня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И глаза, и небе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Ну-ка взрослые и де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Улыбнитесь поскоре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Чтобы стало на план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2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Monotype Corsiva"/>
              </a:rPr>
              <a:t>И светлее, и тепл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2880000" cy="3151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68360" y="6237360"/>
            <a:ext cx="770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1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870200" y="6222960"/>
            <a:ext cx="7273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1640" y="315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808200"/>
            <a:ext cx="82803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лыбка красит каждого челове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ставляет "светиться", располагает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27880" y="3020760"/>
            <a:ext cx="508968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лыбка на лицах – улыбка на сердце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 ключик волшебный откроет все дверцы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к солнечный лучик дорогу осветит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 радуга в небе — улыбке на встре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6720" y="2066400"/>
            <a:ext cx="821268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лыбка на лицах – улыбка на сердце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 ключик волшебный откро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се дверц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ак солнечный лучик дорогу осветит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 радуга в небе — улыбке на встре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61928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50840" y="1800360"/>
            <a:ext cx="885024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42920" y="6237360"/>
            <a:ext cx="761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453708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6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03280" y="1773360"/>
            <a:ext cx="86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расивая улыбка, какая о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781360"/>
            <a:ext cx="5940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Доб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Весёл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ткры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С красивыми 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здоровыми зуб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8569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Помни,  н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е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на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всякие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зубы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приятно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  </a:t>
            </a:r>
            <a:r>
              <a:rPr b="1" i="1" lang="en-GB" sz="3200" spc="-1" strike="noStrike">
                <a:solidFill>
                  <a:srgbClr val="3333cc"/>
                </a:solidFill>
                <a:latin typeface="Monotype Corsiva"/>
              </a:rPr>
              <a:t>смотре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70200" y="6222960"/>
            <a:ext cx="7273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81640" y="3154680"/>
            <a:ext cx="180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808200"/>
            <a:ext cx="82803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лыбка красит каждого человек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заставляет "светиться", располагает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05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79640" y="620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Зуб – это живой орган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844640"/>
            <a:ext cx="396072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аждый зуб состоит из трёх основных част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Коронка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часть зуба, которая видна в полости р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Корен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часть зуба, которая располагается в челюс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Шейка</a:t>
            </a: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часть зуба, которая располагается между коронкой и корнем. Она прикрыта дес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80000" y="1773360"/>
            <a:ext cx="2368440" cy="3884400"/>
            <a:chOff x="5580000" y="1773360"/>
            <a:chExt cx="2368440" cy="38844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5580000" y="1773360"/>
              <a:ext cx="2368440" cy="38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80000" y="1773360"/>
              <a:ext cx="2368440" cy="38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V="1">
            <a:off x="3924360" y="2637000"/>
            <a:ext cx="2160360" cy="50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3860640"/>
            <a:ext cx="2362320" cy="106704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40360" y="3284640"/>
            <a:ext cx="1800000" cy="1944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6237360"/>
            <a:ext cx="756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728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9564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 з</a:t>
            </a:r>
            <a:r>
              <a:rPr b="1" i="1" lang="en-GB" sz="3200" spc="-1" strike="noStrike">
                <a:solidFill>
                  <a:srgbClr val="0000ff"/>
                </a:solidFill>
                <a:latin typeface="Arial"/>
              </a:rPr>
              <a:t>наете ли вы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, что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125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Зубы покрыты эмалью. Она твёрдая, защищает зубы от повреждени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й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ли за зубами неправильно ухаживать – появляется дырочка (</a:t>
            </a:r>
            <a:r>
              <a:rPr b="1" i="1" lang="en-GB" sz="3200" spc="-1" strike="noStrike">
                <a:solidFill>
                  <a:srgbClr val="333333"/>
                </a:solidFill>
                <a:latin typeface="Arial"/>
              </a:rPr>
              <a:t>кариес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. А д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ырка в зубе – всегда больн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Не забывайте, что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 боль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зубы вредят другим органа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сердцу, почка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Здоровые зубы- залог здоровь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92360" y="6351480"/>
            <a:ext cx="745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164360" y="2924280"/>
            <a:ext cx="1979640" cy="26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4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87280" y="476280"/>
            <a:ext cx="64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Arial"/>
              </a:rPr>
              <a:t>В разных странах существуют разные обычаи, связанные с выпадением зуб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2708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Америке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– дети кладут на ночь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ыпавший зуб под подушку на ночь специально для Зубной Феи, которая может забрать зуб и положить вместо него несколько монет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516720" y="4149720"/>
            <a:ext cx="2376360" cy="2708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547640" y="6351480"/>
            <a:ext cx="712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80444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24000" y="40464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Корейский обычай. Выпавший зуб бросают на крышу и говорят: «Чёрная птица, я даю тебе старый зуб, пожалуйста, дай мне новый!» Чёрная птица в Корее символизирует удачу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916280"/>
            <a:ext cx="9144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Когда японский ребёнок теряет зуб, он бросает его в воздух и кричит:«Превратись в зуб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Они!»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Они – это японское чудовище, у которого очень крепкие зуб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как в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Росси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ступают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авшим зуб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6603840"/>
            <a:ext cx="72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4680" y="1764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378160" y="720720"/>
            <a:ext cx="6261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Что вредно для зубов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60720" y="2133720"/>
            <a:ext cx="64800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Грызть орех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ть очень холодную или очень горячую пищ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5360" indent="-425520">
              <a:lnSpc>
                <a:spcPct val="93000"/>
              </a:lnSpc>
              <a:spcBef>
                <a:spcPts val="799"/>
              </a:spcBef>
              <a:buClr>
                <a:srgbClr val="99284c"/>
              </a:buClr>
              <a:buFont typeface="Wingdings" charset="2"/>
              <a:buChar char=""/>
              <a:tabLst>
                <a:tab algn="l" pos="495360"/>
                <a:tab algn="l" pos="942840"/>
                <a:tab algn="l" pos="1392120"/>
                <a:tab algn="l" pos="1841400"/>
                <a:tab algn="l" pos="2290680"/>
                <a:tab algn="l" pos="2739960"/>
                <a:tab algn="l" pos="3189240"/>
                <a:tab algn="l" pos="3638520"/>
                <a:tab algn="l" pos="4087800"/>
                <a:tab algn="l" pos="4537080"/>
                <a:tab algn="l" pos="4986360"/>
                <a:tab algn="l" pos="5435640"/>
                <a:tab algn="l" pos="5884920"/>
                <a:tab algn="l" pos="6334200"/>
                <a:tab algn="l" pos="6783480"/>
                <a:tab algn="l" pos="7232760"/>
                <a:tab algn="l" pos="7682040"/>
                <a:tab algn="l" pos="8131320"/>
                <a:tab algn="l" pos="8580600"/>
                <a:tab algn="l" pos="9029880"/>
                <a:tab algn="l" pos="947880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Есть вредную для зубов пищу (особенно много сладког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76360" y="5950080"/>
            <a:ext cx="766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47628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ы чистим, чистим зу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 весело живё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А тем, кто их не чисти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Мы песенку по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Эй, давай, не зевай, о зубах не забыва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низу-вверх, сверху-вниз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чистить зубы не лен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58920" y="5877000"/>
            <a:ext cx="7705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кяненко Э.А.,учитель начальных классов МОУ СОШ №25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 ЗАТО г.Фокино Примо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84720" y="476280"/>
            <a:ext cx="25052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I</cp:lastModifiedBy>
  <dcterms:modified xsi:type="dcterms:W3CDTF">2010-06-22T23:43:31Z</dcterms:modified>
  <cp:revision>7</cp:revision>
  <dc:subject/>
  <dc:title>PowerPoint Presentation</dc:title>
</cp:coreProperties>
</file>