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7192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688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126-51D8-4DD6-A5C6-E1833C26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82F-1E50-4C70-84CE-9EC9B515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688-A7F5-48A2-B517-326BBD7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778-063A-49F2-8A40-7366B90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A3F-434E-400F-82EC-96368BB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558-FA29-4C77-961F-92136CB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FEB-019F-4D1A-BD10-3D5D4B78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4E2-C6E9-497F-825F-3AD2DF6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02B-0D5D-4167-84EA-A113F42C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F53-D3FA-42E5-B1DF-138336F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DB5-D6DD-4F12-A98D-964FA3B3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5ED-3812-4656-B4E4-5230D34B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DC8A-40E4-401D-96DB-0E67EF1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313-8C5C-49FA-A9A2-EF8D4DC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5297-E562-4DE1-AC4D-8501C59F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8AF-0BA0-4AAE-8853-A54A87B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8D97-D1C8-4647-BB8E-63CFF8EA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980B-EAD4-4133-8CB2-7E01E83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699-681C-407B-9EE3-F3786FE3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DA46-04BB-4C03-846B-75E34AD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E81-3279-4B50-A313-830FAC6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14A-EEFA-494B-AA2D-5AF2267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2E0E-8E14-462A-9684-369851F4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B3C-9DFA-4C68-88C4-225D3A39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1717560"/>
            <a:ext cx="877716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6840" y="1717560"/>
            <a:ext cx="877716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755640" y="6165360"/>
            <a:ext cx="763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кяненко Э.А., учитель начальных классов МОУ СОШ №25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 ЗАТО г.Фокино  Примор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571758-53EE-4598-A76E-05B111799C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1258920" y="6244920"/>
            <a:ext cx="6626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и256 ГО ЗАТО г.Фокино Примор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92D334-8992-4CEB-9574-6F38D966DE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0840" y="1800360"/>
            <a:ext cx="8850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47ff"/>
                </a:solidFill>
                <a:latin typeface="Arial"/>
              </a:rPr>
              <a:t>Как сохранить улыбку красиво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0" y="3600360"/>
            <a:ext cx="50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Классный ча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для учащихся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начальной школ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237360"/>
            <a:ext cx="761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7020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АВИЛА ЧИСТКИ ЗУБ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349360"/>
            <a:ext cx="431964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РОИЗВОДИТ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РОТКИЕ ДВИЖЕНИЯ, РАСПОЛАГАЯ ЩЁТКУ ПОД УГЛОМ К ЗУБ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205000"/>
            <a:ext cx="3656160" cy="2879280"/>
            <a:chOff x="4859280" y="2205000"/>
            <a:chExt cx="3656160" cy="28792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859280" y="2205000"/>
              <a:ext cx="3656160" cy="28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859280" y="2205000"/>
              <a:ext cx="3656160" cy="28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58920" y="587700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11280" y="1125360"/>
            <a:ext cx="45370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ОЛОВК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ЗУБНОЙ ЩЁТКИ РАСПОЛАГАЙТЕ ПОД УГЛОМ 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К ЗУБУ И ПРОИЗВОДИТЕ ВЫМЕТАЮЩИЕ ДВИЖЕНИЯ ОТ ДЕ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0" y="1197000"/>
            <a:ext cx="3659040" cy="3744360"/>
            <a:chOff x="4572000" y="1197000"/>
            <a:chExt cx="3659040" cy="374436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4572000" y="1197000"/>
              <a:ext cx="365904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0" y="1197000"/>
              <a:ext cx="365904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19280" y="602136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4724280" y="1447920"/>
            <a:ext cx="4113360" cy="3204720"/>
            <a:chOff x="4724280" y="1447920"/>
            <a:chExt cx="4113360" cy="320472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4724280" y="1447920"/>
              <a:ext cx="4113360" cy="32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724280" y="1447920"/>
              <a:ext cx="4113360" cy="32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68360" y="1484280"/>
            <a:ext cx="55706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УБНУЮ ЩЁ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РАСПОЛАГ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ГОРИЗОНТАЛЬ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И ПРОИЗВОДИТЕ ДВИ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ПЕРЁД-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5950080"/>
            <a:ext cx="71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4267080" y="1347840"/>
            <a:ext cx="4037040" cy="2803320"/>
            <a:chOff x="4267080" y="1347840"/>
            <a:chExt cx="4037040" cy="280332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4267080" y="1347840"/>
              <a:ext cx="403704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267080" y="1347840"/>
              <a:ext cx="403704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0920" y="2133720"/>
            <a:ext cx="653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УБНАЯ ЩЁТКА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РАСПОЛАГ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ЕРТИКАЛЬНО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АПРАВЛЕНИЕ ДВИЖЕНИ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ОТ ДЕСНЫ К РЕЖУЩЕМУ КРАЮ З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595008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5030640" y="692280"/>
            <a:ext cx="3934080" cy="2950920"/>
            <a:chOff x="5030640" y="692280"/>
            <a:chExt cx="3934080" cy="29509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5030640" y="692280"/>
              <a:ext cx="3934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030640" y="692280"/>
              <a:ext cx="3934080" cy="29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50920" y="1844640"/>
            <a:ext cx="6865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КАНЧИВАЮТ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ЧИСТКУ ЗУБ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УГОВЫМИ ДВИЖЕНИ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ЩЁТКИ С ЗАХВАТОМ ЗУБ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ЁСЕН ПРИ СОМКНУТЫХ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ЧЕЛЮСТ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6021360"/>
            <a:ext cx="712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Что нужно сделать, чтобы зубы не болели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484280"/>
            <a:ext cx="698508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Как поел, почисти зуб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Делай так два раза в су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Предпочти конфетам фрукт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Очень важные продукт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5877000"/>
            <a:ext cx="770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376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39640" y="7351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Чтобы зуб не беспокоил,</a:t>
            </a:r>
            <a:br>
              <a:rPr sz="3200"/>
            </a:b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Помни правило тако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2205000"/>
            <a:ext cx="71294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К стоматологу идё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В год два раза на при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И тогда улыбки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Сохранишь на много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т!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164360" y="4365720"/>
            <a:ext cx="165564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79640" y="6093000"/>
            <a:ext cx="71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333360"/>
            <a:ext cx="88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того, чтобы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у вас б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ла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ослепи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улыбк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нужно выполнять следующие прав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134136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Ешьте фрукты и ов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Не злоупотребляйте сахаром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сладостя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Чистите зубы два раза в день: пос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завтрака и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перед с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Меняйте зубную щётку кажд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3 месяц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лощите рот после 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Дважды в год посеща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й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те стоматоло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 ваша улыбка будет рад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с и окружающи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6093000"/>
            <a:ext cx="71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236000" y="2781360"/>
            <a:ext cx="16570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14560" y="6093000"/>
            <a:ext cx="712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040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40464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Давайте чащ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улыбать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1413000"/>
            <a:ext cx="475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Если только рассмея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То начнутся чудес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От улыбок проясня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И глаза, и неб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Ну-ка взрослые и де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Улыбнитесь поскор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Чтобы стало на пла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И светлее, и тепл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2880000" cy="3151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8360" y="6237360"/>
            <a:ext cx="770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70200" y="6222960"/>
            <a:ext cx="7273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1640" y="315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808200"/>
            <a:ext cx="82803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лыбка красит каждого челове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ставляет "светиться", располагает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27880" y="3020760"/>
            <a:ext cx="50896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лыбка на лицах – улыбка на сердце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 ключик волшебный откроет все дверцы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 солнечный лучик дорогу осветит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радуга в небе — улыбке на встре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6720" y="2066400"/>
            <a:ext cx="821268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лыбка на лицах – улыбка на сердце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 ключик волшебный откро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дверц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 солнечный лучик дорогу осветит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радуга в небе — улыбке на встре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6192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50840" y="1800360"/>
            <a:ext cx="8850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6237360"/>
            <a:ext cx="761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53708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03280" y="1773360"/>
            <a:ext cx="86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расивая улыбка, какая 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781360"/>
            <a:ext cx="5940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Доб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Весёл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ткры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С красивыми 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здоровыми зуб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8569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Помни,  н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е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на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всякие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зубы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приятно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смотре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0200" y="6222960"/>
            <a:ext cx="7273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81640" y="315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808200"/>
            <a:ext cx="82803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лыбка красит каждого челове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ставляет "светиться", располагает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05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9640" y="620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Зуб – это живой орга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844640"/>
            <a:ext cx="396072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аждый зуб состоит из трёх основных ча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Коронка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часть зуба, которая видна в полости р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Корен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часть зуба, которая располагается в челюс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Шейка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часть зуба, которая располагается между коронкой и корнем. Она прикрыта дес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80000" y="1773360"/>
            <a:ext cx="2368440" cy="3884400"/>
            <a:chOff x="5580000" y="1773360"/>
            <a:chExt cx="2368440" cy="38844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5580000" y="1773360"/>
              <a:ext cx="236844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80000" y="1773360"/>
              <a:ext cx="2368440" cy="38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3924360" y="2637000"/>
            <a:ext cx="216036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860640"/>
            <a:ext cx="2362320" cy="10670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40360" y="3284640"/>
            <a:ext cx="1800000" cy="1944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6237360"/>
            <a:ext cx="756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728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9564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 з</a:t>
            </a: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наете ли вы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, что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125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Зубы покрыты эмалью. Она твёрдая, защищает зубы от повреждени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й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ли за зубами неправильно ухаживать – появляется дырочка (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кариес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. А д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ырка в зубе – всегда боль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Не забывайте, что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 бо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зубы вредят другим органа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сердцу, почк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Здоровые зубы- залог здоров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6351480"/>
            <a:ext cx="745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164360" y="2924280"/>
            <a:ext cx="197964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4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87280" y="476280"/>
            <a:ext cx="64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В разных странах существуют разные обычаи, связанные с выпадением зуб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2708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Америке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– дети кладут на ночь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ыпавший зуб под подушку на ночь специально для Зубной Феи, которая может забрать зуб и положить вместо него несколько монет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376360" cy="270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47640" y="6351480"/>
            <a:ext cx="712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Корейский обычай. Выпавший зуб бросают на крышу и говорят: «Чёрная птица, я даю тебе старый зуб, пожалуйста, дай мне новый!» Чёрная птица в Корее символизирует удачу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1628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Когда японский ребёнок теряет зуб, он бросает его в воздух и кричит:«Превратись в зуб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Они!»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Они – это японское чудовище, у которого очень крепкие зуб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как в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Росси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тупают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авшим зуб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6603840"/>
            <a:ext cx="72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4680" y="176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378160" y="720720"/>
            <a:ext cx="6261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Что вредно для зуб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60720" y="2133720"/>
            <a:ext cx="64800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Грызть оре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ть очень холодную или очень горячую пищ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ть вредную для зубов пищу (особенно много сладког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5950080"/>
            <a:ext cx="766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47628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ы чистим, чистим зу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 весело жив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 тем, кто их не чисти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ы песенку по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Эй, давай, не зевай, о зубах не забыва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низу-вверх, сверху-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истить зубы не лен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5877000"/>
            <a:ext cx="770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5052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I</cp:lastModifiedBy>
  <dcterms:modified xsi:type="dcterms:W3CDTF">2010-06-22T23:43:31Z</dcterms:modified>
  <cp:revision>7</cp:revision>
  <dc:subject/>
  <dc:title>PowerPoint Presentation</dc:title>
</cp:coreProperties>
</file>