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D17-4ED3-4327-92E7-41892E06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8EF-8FF0-4F30-8482-F5E908FD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414E-59A1-4E61-B893-9ECB99A6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2168-EF86-426D-A8CA-BDDF672F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DEC4-8BD0-4EBE-95F0-72729AFE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1AF9-8577-43EC-ADC4-A06D2920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92CE-1A86-4853-A107-E9E70EED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5B01-28D0-4960-B9D5-211894DF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3DBF-C0CA-42FD-AC5D-C1DFC629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E4F5-7231-4FC5-8710-CD47AF9F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437D-D0E3-4496-8F8B-3797DF70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F26-599C-466C-A95B-E48999B8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4845-BAE4-4708-8246-0998EF0F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0847-D3BF-418C-8203-782E64FE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9372-ADA6-4D05-92B2-172E3CFA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D4F1-6306-48A2-BE49-5065D96D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7407-7D40-4703-9E31-88EA35AA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D79D-5309-4F14-8451-F3DAAC96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B9C-489C-419B-A48B-916543FA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D48-212A-4DAE-84EC-E801AD7F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A54-178E-4C51-9536-61EC6FC1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ACB-94AA-42B4-BCD6-20A3EE4B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518-A301-4CA2-B877-007C9458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70A-C097-497B-A878-1E0EFD80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CC96-AA52-4FBA-B96E-AFF362B3A9B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FFBB-588F-42E0-80F4-423CA880CEC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Мой дедушка – защитник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Родины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оект выполнил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Ученица 5 класс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Терехова Мари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КОУ СОШ№8 с.Ульяновка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инераловодского района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тавропольского края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Узнать о жизни моего дедушки как можно больше от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Моей бабушки и мамы.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 мир, за детей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035000" y="2673000"/>
            <a:ext cx="658512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В любом краю любой стран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Ребята не хотят войны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м в жизнь вступать придется скоро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м нужен мир, а не войн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Зелёный шум родного бора,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м школа каждому нужн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И сад у мирного порог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тец и мать, и отчий до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Е. Трутнева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5000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иктор Иванович Шушпанов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Мой дедушка родился 20 декабря 1918 года в городе Грозный. Во время Гражданской войны его родители погибли. Мальчика воспитали близкие родственники, которых он всегда вспоминал с уважением. С 14 лет дедушка стал работать помощником повара в ресторане. Ему очень нравилось готовить вкусные блюда, и это стало делом всей его жизни. До самой пенсии дедушка работал в санатории «Светлана» г.Железноводска поваром – кондитером. У бабушки хранятся почетные грамоты, которыми награждали дедушку на работе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ойна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Внезапно обрывается мирная жизнь нашей страны. Дедушка отправляется на фронт. Он командовал отделением стрелков в звании старшего лейтенанта и награждён медалью «За оборону Кавказа». Немало у дедушки боевых заслуг. Три раза дедушка был ранен. Был направлен на лечение в госпиталь города  Железноводска, куда и вернулся жить после войны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Сегодня я с любовью и гордостью смотрю на фотографию и вижу родные, ласковые и умные глаза моего дедушки. Он будто говорит :« Я сделал всё, что было в моих силах, для вашей счастливой жизни. И хочу, чтобы вы, юные, жили счастливо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   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ечная память героям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195720" y="2203560"/>
            <a:ext cx="2789280" cy="37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Я узнала о детстве и молодости дедушки, об участи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в Великой Отечественной войн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4:05:22Z</dcterms:created>
  <dc:creator>1</dc:creator>
  <dc:description/>
  <dc:language>en-US</dc:language>
  <cp:lastModifiedBy>1</cp:lastModifiedBy>
  <dcterms:modified xsi:type="dcterms:W3CDTF">2012-07-10T17:43:11Z</dcterms:modified>
  <cp:revision>10</cp:revision>
  <dc:subject/>
  <dc:title>Мой дедушка – защитник  Родины</dc:title>
</cp:coreProperties>
</file>