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809-268C-44FA-9CB3-9A229320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34A-4736-4792-8D24-A15E25AA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CB1-03CA-4271-9193-39ACE503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D3B-861F-42FB-9428-2BCD9E0B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67B7-2292-442C-BE74-27A01F1B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C995-2AEF-4702-B964-EE96A47B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D46B-5671-4203-A35D-24A5E5DB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E86D-1B25-4615-844F-6A92C231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5D6F-E261-44F7-A197-66A18E35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AB25-9AEC-479B-9961-13DC511D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DEEA-A76D-40D0-801E-353F085C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D6D-815D-41BC-A415-68FB7BDB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F110-7450-428B-B273-5B6BA3BC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911A-DB83-4A67-A4F0-9D5A838D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EEBA-4C07-4113-82DD-40A6AB2A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B121-3BDC-41AB-A076-2064FFDA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9C0F-D16D-4446-B5CC-FE1A665B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61F-25D5-4533-92A9-238972D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FFC-AF20-43AD-92F9-2CB47389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972-8479-42A0-B9D5-280398C2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61E-0F66-4488-99E5-D5E1BF48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2AC-1ABE-4121-BEE3-93D60378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F9F-1565-4C68-82E1-536E4618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C4E-6C7E-4381-9ACF-DDB560B8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9F4C-B0AC-416C-A6ED-5B2DD2920BE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0C55-4A52-4140-BB93-3EED8882C61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Мой дедушка – защитник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Родины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оект выполнил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Ученица 5 класс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ерехова Мар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КОУ СОШ№8 с.Ульяновк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инераловодского района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тавропольского кра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Узнать о жизни моего дедушки как можно больше о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Моей бабушки и мамы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 мир, за детей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035000" y="2673000"/>
            <a:ext cx="658512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 любом краю любой стран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ебята не хотят войн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м в жизнь вступать придется скоро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м нужен мир, а не войн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елёный шум родного бора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м школа каждому нужн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 сад у мирного порог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тец и мать, и отчий до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Е. Трутнев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000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иктор Иванович Шушпанов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ой дедушка родился 20 декабря 1918 года в городе Грозный. Во время Гражданской войны его родители погибли. Мальчика воспитали близкие родственники, которых он всегда вспоминал с уважением. С 14 лет дедушка стал работать помощником повара в ресторане. Ему очень нравилось готовить вкусные блюда, и это стало делом всей его жизни. До самой пенсии дедушка работал в санатории «Светлана» г.Железноводска поваром – кондитером. У бабушки хранятся почетные грамоты, которыми награждали дедушку на работ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ойна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незапно обрывается мирная жизнь нашей страны. Дедушка отправляется на фронт. Он командовал отделением стрелков в звании старшего лейтенанта и награждён медалью «За оборону Кавказа». Немало у дедушки боевых заслуг. Три раза дедушка был ранен. Был направлен на лечение в госпиталь города  Железноводска, куда и вернулся жить после войны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егодня я с любовью и гордостью смотрю на фотографию и вижу родные, ласковые и умные глаза моего дедушки. Он будто говорит :« Я сделал всё, что было в моих силах, для вашей счастливой жизни. И хочу, чтобы вы, юные, жили счастливо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ечная память героям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195720" y="2203560"/>
            <a:ext cx="278928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Я узнала о детстве и молодости дедушки, об участи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 Великой Отечественной войн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4:05:22Z</dcterms:created>
  <dc:creator>1</dc:creator>
  <dc:description/>
  <dc:language>en-US</dc:language>
  <cp:lastModifiedBy>1</cp:lastModifiedBy>
  <dcterms:modified xsi:type="dcterms:W3CDTF">2012-07-10T17:43:11Z</dcterms:modified>
  <cp:revision>10</cp:revision>
  <dc:subject/>
  <dc:title>Мой дедушка – защитник  Родины</dc:title>
</cp:coreProperties>
</file>