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gif" ContentType="image/gif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3F8B-BED0-4ED4-AB00-574CF302C9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AD94-86CA-4747-A272-CB81FBC7E3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D800-EC75-41DC-B067-1E96A434F5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39B3-A3EE-433B-8943-5601A948E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1356-6536-4119-8D6B-7EB852F8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8A0E-6C8D-475A-9C3F-F5D3FEFCD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5179-B9B6-49D1-A581-309A448E5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8B4A-3EDD-4F26-9781-1038EF55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E98C-FAD1-4286-AC17-A2146D36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8251-5914-4D3B-85F0-EBC33588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3228-973B-4396-BB04-10B5D9F8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B0C9-2753-4123-AEA6-9C8EA44A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7240-0936-4A28-8383-FD4FE127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2C61-F267-4338-AD83-A41463EB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0C09-F666-449C-98F4-85CA20B6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7EB3-A112-4419-B752-ABF1234CF97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Тунгусков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C916-5E36-41DF-8DD2-13608FBB19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ugaeff.ru/wp-content/uploads/2010/11/21.jpg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az.lib.ru/l/lomonosow_m_w/.photo2.jpg" TargetMode="External"/><Relationship Id="rId2" Type="http://schemas.openxmlformats.org/officeDocument/2006/relationships/hyperlink" Target="http://tol-nabat.org.ua/uploads/posts/2011-01/1294857345_lomonsv-1.jpg" TargetMode="External"/><Relationship Id="rId3" Type="http://schemas.openxmlformats.org/officeDocument/2006/relationships/hyperlink" Target="http://colonization.com.ua/images/content/history/astronomy_old/lomonosov.jpg" TargetMode="External"/><Relationship Id="rId4" Type="http://schemas.openxmlformats.org/officeDocument/2006/relationships/hyperlink" Target="http://class-fizika.narod.ru/phys/15.jpg" TargetMode="External"/><Relationship Id="rId5" Type="http://schemas.openxmlformats.org/officeDocument/2006/relationships/hyperlink" Target="http://img1.liveinternet.ru/images/attach/c/0//51/799/51799947_Lomonosov_2.jpg" TargetMode="External"/><Relationship Id="rId6" Type="http://schemas.openxmlformats.org/officeDocument/2006/relationships/hyperlink" Target="http://www.edu.severodvinsk.ru/after_school/obl_www/2009/4/picture/content/laboratory.gif" TargetMode="External"/><Relationship Id="rId7" Type="http://schemas.openxmlformats.org/officeDocument/2006/relationships/hyperlink" Target="http://museum-old.lomic.ru/img/zal3_img1.jpg%20&#1089;&#1083;&#1072;&#1081;&#1076;4" TargetMode="External"/><Relationship Id="rId8" Type="http://schemas.openxmlformats.org/officeDocument/2006/relationships/hyperlink" Target="http://ekislova.ru/wp-content/uploads/2009/11/gram1.jpg" TargetMode="External"/><Relationship Id="rId9" Type="http://schemas.openxmlformats.org/officeDocument/2006/relationships/image" Target="../media/image26.gif"/><Relationship Id="rId10" Type="http://schemas.openxmlformats.org/officeDocument/2006/relationships/image" Target="../media/image26.gif"/><Relationship Id="rId11" Type="http://schemas.openxmlformats.org/officeDocument/2006/relationships/image" Target="../media/image26.gif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ru.wikipedia.org/wiki/&#1050;&#1086;&#1088;&#1087;&#1091;&#1089;&#1082;&#1091;&#1083;&#1072;" TargetMode="External"/><Relationship Id="rId3" Type="http://schemas.openxmlformats.org/officeDocument/2006/relationships/hyperlink" Target="http://ru.wikipedia.org/wiki/&#1069;&#1083;&#1077;&#1084;&#1077;&#1085;&#1090;" TargetMode="External"/><Relationship Id="rId4" Type="http://schemas.openxmlformats.org/officeDocument/2006/relationships/hyperlink" Target="http://ru.wikipedia.org/wiki/&#1040;&#1090;&#1086;&#1084;" TargetMode="External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кругленный прямоугольник 3"/>
          <p:cNvSpPr/>
          <p:nvPr/>
        </p:nvSpPr>
        <p:spPr>
          <a:xfrm>
            <a:off x="142920" y="142920"/>
            <a:ext cx="8786880" cy="6429240"/>
          </a:xfrm>
          <a:prstGeom prst="roundRect">
            <a:avLst>
              <a:gd name="adj" fmla="val 16667"/>
            </a:avLst>
          </a:prstGeom>
          <a:noFill/>
          <a:ln w="123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826920" y="476280"/>
            <a:ext cx="7560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4920">
                  <a:solidFill>
                    <a:srgbClr val="3333cc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 Antiqua"/>
              </a:rPr>
              <a:t>М.В. Ломоносов</a:t>
            </a:r>
            <a:endParaRPr b="1" i="1" lang="en-US" sz="1800" spc="1" strike="noStrike">
              <a:ln w="34920">
                <a:solidFill>
                  <a:srgbClr val="3333cc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4920">
                  <a:solidFill>
                    <a:srgbClr val="3333cc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 Antiqua"/>
              </a:rPr>
              <a:t> </a:t>
            </a:r>
            <a:r>
              <a:rPr b="1" i="1" lang="en-US" sz="1800" spc="1" strike="noStrike">
                <a:ln w="34920">
                  <a:solidFill>
                    <a:srgbClr val="3333cc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 Antiqua"/>
              </a:rPr>
              <a:t>и его вклад в естествознание.</a:t>
            </a:r>
            <a:endParaRPr b="1" i="1" lang="en-US" sz="1800" spc="1" strike="noStrike">
              <a:ln w="34920">
                <a:solidFill>
                  <a:srgbClr val="3333cc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 Antiqua"/>
              <a:ea typeface="Book Antiqua"/>
            </a:endParaRPr>
          </a:p>
        </p:txBody>
      </p:sp>
      <p:pic>
        <p:nvPicPr>
          <p:cNvPr id="50" name="Picture 7" descr="D:\Мои документы Любовь\Мои рисунки\природа\54740012_Planeta_Zemlya_mezh_ladonyami.gif"/>
          <p:cNvPicPr/>
          <p:nvPr/>
        </p:nvPicPr>
        <p:blipFill>
          <a:blip r:embed="rId2"/>
          <a:stretch/>
        </p:blipFill>
        <p:spPr>
          <a:xfrm>
            <a:off x="3054240" y="2200320"/>
            <a:ext cx="3206880" cy="3249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4427640" y="5589720"/>
            <a:ext cx="42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втор: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Шурыгин Александ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обучающийся 5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МОУ СОШ №1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Безымянный"/>
          <p:cNvPicPr/>
          <p:nvPr/>
        </p:nvPicPr>
        <p:blipFill>
          <a:blip r:embed="rId3"/>
          <a:stretch/>
        </p:blipFill>
        <p:spPr>
          <a:xfrm>
            <a:off x="3924360" y="299736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544500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57120" y="1000080"/>
            <a:ext cx="5410440" cy="32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Одним из важных изобретений Ломоносова в области оптики была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"ночезрительная труба"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 (1756-58), позволявшая в сумерки более отчётливо различать предметы. Кроме того, задолго до В. Гершеля Ломоносов сконструировал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отражательный (зеркальный) телескоп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 без дополнительного плоского зерка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2" descr="8"/>
          <p:cNvPicPr/>
          <p:nvPr/>
        </p:nvPicPr>
        <p:blipFill>
          <a:blip r:embed="rId1"/>
          <a:stretch/>
        </p:blipFill>
        <p:spPr>
          <a:xfrm>
            <a:off x="6715080" y="1571760"/>
            <a:ext cx="1181160" cy="1657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images (3)"/>
          <p:cNvPicPr/>
          <p:nvPr/>
        </p:nvPicPr>
        <p:blipFill>
          <a:blip r:embed="rId2"/>
          <a:stretch/>
        </p:blipFill>
        <p:spPr>
          <a:xfrm>
            <a:off x="4714920" y="3571920"/>
            <a:ext cx="3959280" cy="24591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4"/>
          <p:cNvSpPr/>
          <p:nvPr/>
        </p:nvSpPr>
        <p:spPr>
          <a:xfrm>
            <a:off x="3786120" y="358920"/>
            <a:ext cx="359748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риборостроение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446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Вклад в науку о стекл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4206960"/>
            <a:ext cx="6913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Calibri"/>
              </a:rPr>
              <a:t>     </a:t>
            </a:r>
            <a:r>
              <a:rPr b="1" i="1" lang="ru-RU" sz="2400" spc="-1" strike="noStrike">
                <a:solidFill>
                  <a:srgbClr val="3333cc"/>
                </a:solidFill>
                <a:latin typeface="Calibri"/>
              </a:rPr>
              <a:t>Ломоносовым разработана технология цветных стёкол (прозрачных и «глухих»).Эту методику он применил в промышленной варке цветного стекла и при создании изделий из не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200px-Vase_of_St_Peterburg_s_Glass_Factory_Second_half_of_XVIII_c"/>
          <p:cNvPicPr/>
          <p:nvPr/>
        </p:nvPicPr>
        <p:blipFill>
          <a:blip r:embed="rId1"/>
          <a:stretch/>
        </p:blipFill>
        <p:spPr>
          <a:xfrm>
            <a:off x="6804000" y="1254240"/>
            <a:ext cx="1587600" cy="2406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697667_3fruitbowl_btn"/>
          <p:cNvPicPr/>
          <p:nvPr/>
        </p:nvPicPr>
        <p:blipFill>
          <a:blip r:embed="rId2"/>
          <a:stretch/>
        </p:blipFill>
        <p:spPr>
          <a:xfrm>
            <a:off x="900000" y="1182600"/>
            <a:ext cx="3816360" cy="2705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images (5)"/>
          <p:cNvPicPr/>
          <p:nvPr/>
        </p:nvPicPr>
        <p:blipFill>
          <a:blip r:embed="rId3"/>
          <a:stretch/>
        </p:blipFill>
        <p:spPr>
          <a:xfrm>
            <a:off x="5003640" y="1254240"/>
            <a:ext cx="1470240" cy="2374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Ломоносов01"/>
          <p:cNvPicPr/>
          <p:nvPr/>
        </p:nvPicPr>
        <p:blipFill>
          <a:blip r:embed="rId4"/>
          <a:stretch/>
        </p:blipFill>
        <p:spPr>
          <a:xfrm>
            <a:off x="7500960" y="4714920"/>
            <a:ext cx="111132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4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468360" y="1127160"/>
            <a:ext cx="4967280" cy="49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cc"/>
                </a:solidFill>
                <a:latin typeface="Arial"/>
              </a:rPr>
              <a:t>Ломоносов был убежден, что электрические явления в атмосфере определяются метеорологическими процессами, в связи с чем считал необходимым изучать состояние ее верхних сло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cc"/>
                </a:solidFill>
                <a:latin typeface="Arial"/>
              </a:rPr>
              <a:t>С этой целью он предложил конструкцию 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«аэродинамической машины»,</a:t>
            </a:r>
            <a:r>
              <a:rPr b="0" i="1" lang="ru-RU" sz="1800" spc="-1" strike="noStrike">
                <a:solidFill>
                  <a:srgbClr val="3333cc"/>
                </a:solidFill>
                <a:latin typeface="Arial"/>
              </a:rPr>
              <a:t> способной поднимать, по мнению ученого самопишущие приборы на значительную выс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cc"/>
                </a:solidFill>
                <a:latin typeface="Arial"/>
              </a:rPr>
              <a:t>С 1743 года Ломоносов начал изучать электрические явления. Вместе с академиком Г.В.Рихманом он несколько лет наблюдал грозовые явления, причем для определения степени наэлектризованности атмосферы использовалась так называемая 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«громовая машин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8" descr="_ 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1305000"/>
            <a:ext cx="3289320" cy="24670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0"/>
          <p:cNvSpPr/>
          <p:nvPr/>
        </p:nvSpPr>
        <p:spPr>
          <a:xfrm>
            <a:off x="1043640" y="404640"/>
            <a:ext cx="60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Теория электричества и метеор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1" descr="270px-Lomonosov_Word_about_the_air_phenomena_occurring_from_electrical_force_1753"/>
          <p:cNvPicPr/>
          <p:nvPr/>
        </p:nvPicPr>
        <p:blipFill>
          <a:blip r:embed="rId3"/>
          <a:stretch/>
        </p:blipFill>
        <p:spPr>
          <a:xfrm>
            <a:off x="5435640" y="3933720"/>
            <a:ext cx="3290760" cy="21733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22"/>
          <p:cNvSpPr/>
          <p:nvPr/>
        </p:nvSpPr>
        <p:spPr>
          <a:xfrm>
            <a:off x="5376240" y="6021360"/>
            <a:ext cx="3587040" cy="56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3333cc"/>
                </a:solidFill>
                <a:latin typeface="Arial"/>
              </a:rPr>
              <a:t>М. В. Ломонос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1300" spc="-1" strike="noStrike">
                <a:solidFill>
                  <a:srgbClr val="3333cc"/>
                </a:solidFill>
                <a:latin typeface="Arial"/>
              </a:rPr>
              <a:t>«Слово о явлениях воздушных…». 175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3" descr="Ломоносов01"/>
          <p:cNvPicPr/>
          <p:nvPr/>
        </p:nvPicPr>
        <p:blipFill>
          <a:blip r:embed="rId4"/>
          <a:stretch/>
        </p:blipFill>
        <p:spPr>
          <a:xfrm>
            <a:off x="7705800" y="189000"/>
            <a:ext cx="1111320" cy="143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5986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Использованные ресур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734544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az.lib.ru/l/lomonosow_m_w/.photo2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http://tol-nabat.org.ua/uploads/posts/2011-01/1294857345_lomonsv-1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http://colonization.com.ua/images/content/history/astronomy_old/lomonosov.jpg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http://class-fizika.narod.ru/phys/15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http://img1.liveinternet.ru/images/attach/c/0//51/799/51799947_Lomonosov_2.jpg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http://www.edu.severodvinsk.ru/after_school/obl_www/2009/4/picture/content/laboratory.gif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hlinkClick r:id="rId7"/>
              </a:rPr>
              <a:t>http://museum-old.lomic.ru/img/zal3_img1.jpg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hlinkClick r:id="rId8"/>
              </a:rPr>
              <a:t>http://ekislova.ru/wp-content/uploads/2009/11/gram1.jpg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hotel-lomonosov.ru/assets/images/Exterior/photo2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m-necropol.narod.ru/lomonosov1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www.hrono.info/img/rgd/lomonosov_ovech.jp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hvbooks.ru/images/shots/f_msu_smart_br/lomonosov_max.jp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www.ui.ua/UploadFiles/File_76193637Co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www.vmireinteresnogo.com/Content/ArticleImages/864/2.jpg?98577509382937413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8" descr="a"/>
          <p:cNvPicPr/>
          <p:nvPr/>
        </p:nvPicPr>
        <p:blipFill>
          <a:blip r:embed="rId9"/>
          <a:stretch/>
        </p:blipFill>
        <p:spPr>
          <a:xfrm>
            <a:off x="6084720" y="5589720"/>
            <a:ext cx="1333800" cy="952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a"/>
          <p:cNvPicPr/>
          <p:nvPr/>
        </p:nvPicPr>
        <p:blipFill>
          <a:blip r:embed="rId10"/>
          <a:stretch/>
        </p:blipFill>
        <p:spPr>
          <a:xfrm>
            <a:off x="4572000" y="5589720"/>
            <a:ext cx="1333440" cy="952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a"/>
          <p:cNvPicPr/>
          <p:nvPr/>
        </p:nvPicPr>
        <p:blipFill>
          <a:blip r:embed="rId11"/>
          <a:stretch/>
        </p:blipFill>
        <p:spPr>
          <a:xfrm>
            <a:off x="3059280" y="5589720"/>
            <a:ext cx="1333440" cy="95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393"/>
          <p:cNvPicPr/>
          <p:nvPr/>
        </p:nvPicPr>
        <p:blipFill>
          <a:blip r:embed="rId2"/>
          <a:stretch/>
        </p:blipFill>
        <p:spPr>
          <a:xfrm>
            <a:off x="755640" y="2637000"/>
            <a:ext cx="3208320" cy="3528720"/>
          </a:xfrm>
          <a:prstGeom prst="rect">
            <a:avLst/>
          </a:prstGeom>
          <a:ln w="0">
            <a:noFill/>
          </a:ln>
        </p:spPr>
      </p:pic>
      <p:sp>
        <p:nvSpPr>
          <p:cNvPr id="54" name="WordArt 11"/>
          <p:cNvSpPr txBox="1"/>
          <p:nvPr/>
        </p:nvSpPr>
        <p:spPr>
          <a:xfrm>
            <a:off x="1332000" y="1773360"/>
            <a:ext cx="32400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</a:rPr>
              <a:t>1711-1765 гг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aramond"/>
              <a:ea typeface="Garamond"/>
            </a:endParaRPr>
          </a:p>
        </p:txBody>
      </p:sp>
      <p:pic>
        <p:nvPicPr>
          <p:cNvPr id="55" name="Picture 9" descr="1385407359[1]"/>
          <p:cNvPicPr/>
          <p:nvPr/>
        </p:nvPicPr>
        <p:blipFill>
          <a:blip r:embed="rId3"/>
          <a:stretch/>
        </p:blipFill>
        <p:spPr>
          <a:xfrm>
            <a:off x="5076720" y="1413000"/>
            <a:ext cx="3598920" cy="4752720"/>
          </a:xfrm>
          <a:prstGeom prst="rect">
            <a:avLst/>
          </a:prstGeom>
          <a:ln w="0">
            <a:noFill/>
          </a:ln>
        </p:spPr>
      </p:pic>
      <p:sp>
        <p:nvSpPr>
          <p:cNvPr id="56" name="WordArt 10"/>
          <p:cNvSpPr txBox="1"/>
          <p:nvPr/>
        </p:nvSpPr>
        <p:spPr>
          <a:xfrm>
            <a:off x="826920" y="476280"/>
            <a:ext cx="6337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М.В.Ломоносов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9"/>
          <p:cNvSpPr/>
          <p:nvPr/>
        </p:nvSpPr>
        <p:spPr>
          <a:xfrm>
            <a:off x="684360" y="3211560"/>
            <a:ext cx="7272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Ещё в ранней юности Ломоносов обнаружил сильную тягу к естественно-научным знаниям. Он долго не мог раздобыть книг, которые бы удовлетворили его пытливый ум. После долгих поисков Михайло приобрёл «Грамматику» Смотрицкого, а «Арифметика» Магницкого стала для него «вратами учёности». Он чувствовал, что для продолжения обучения ему необходимо изучить латынь, научный язык тех времён. Но в Холмогорах он этого сделать не мо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0" descr="2 (1)"/>
          <p:cNvPicPr/>
          <p:nvPr/>
        </p:nvPicPr>
        <p:blipFill>
          <a:blip r:embed="rId1"/>
          <a:stretch/>
        </p:blipFill>
        <p:spPr>
          <a:xfrm>
            <a:off x="4786200" y="428760"/>
            <a:ext cx="4044960" cy="25254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7"/>
          <p:cNvSpPr/>
          <p:nvPr/>
        </p:nvSpPr>
        <p:spPr>
          <a:xfrm>
            <a:off x="179280" y="404640"/>
            <a:ext cx="48927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Михайло Ломоносов родился 21 ноября 1711 года в Архангельской губернии в д. Денисовка близ Холмогор в семье крестьянина-пом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Сын государственного  крестьянина, Ломоносов вырос в условиях северорусской культуры, тесно связанной с традициями допетровской  Рус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в москву"/>
          <p:cNvPicPr/>
          <p:nvPr/>
        </p:nvPicPr>
        <p:blipFill>
          <a:blip r:embed="rId1"/>
          <a:stretch/>
        </p:blipFill>
        <p:spPr>
          <a:xfrm>
            <a:off x="357120" y="285840"/>
            <a:ext cx="3456000" cy="3456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lomonosov5"/>
          <p:cNvPicPr/>
          <p:nvPr/>
        </p:nvPicPr>
        <p:blipFill>
          <a:blip r:embed="rId2"/>
          <a:stretch/>
        </p:blipFill>
        <p:spPr>
          <a:xfrm>
            <a:off x="5572080" y="1757520"/>
            <a:ext cx="3165480" cy="48481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8"/>
          <p:cNvSpPr/>
          <p:nvPr/>
        </p:nvSpPr>
        <p:spPr>
          <a:xfrm>
            <a:off x="857160" y="3942360"/>
            <a:ext cx="4572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cc"/>
                </a:solidFill>
                <a:latin typeface="Arial"/>
              </a:rPr>
              <a:t>На «словесном расспросе» проявил ясность ума и глубину знаний, невозможные, для выходца из крестья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cc"/>
                </a:solidFill>
                <a:latin typeface="Arial"/>
              </a:rPr>
              <a:t>15 января 1731 года Михаил Ломоносов был зачислен в Академию, но в самый низший класс вместе с гораздо более юными учениками, смеявшимися над тем, что двадцатилетний здоровяк пришел обучаться латыни вместе с «малыми детьми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708360" y="333360"/>
            <a:ext cx="51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В декабре 1730 года 19-летний Михаил с тремя рублями денег ушел вслед за обозом с мороженой рыбой в Москву. Целью его было поступление в Славяно-греко-латинскую академ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79360" y="477720"/>
            <a:ext cx="436392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Благодаря своей одаренности и жажде знаний  Ломоносов 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за год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 прошел программу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трех классов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. Обучение в Академии продолжалось пять лет. Несмотря на жесточайшую нужду Ломоносов учился жадно, проводя свободное время за чтением книг в библиотеке Заиконоспассокого монастыр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2928960" y="3463560"/>
            <a:ext cx="5602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В 1735 в числе наиболее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отличившихся учеников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 Ломоносов был послан в Петербург для зачисления в Академический университет, а в 1736 командирован в Германию для обучения химии и металлургии. Он учился сначала в Марбургском университете под наблюдением и руководством известного физика и философа Х. Вольфа, а затем во Фрейберге у химика и металлурга И. Генкеля</a:t>
            </a:r>
            <a:r>
              <a:rPr b="1" i="1" lang="ru-RU" sz="1600" spc="-1" strike="noStrike">
                <a:solidFill>
                  <a:srgbClr val="3333cc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13"/>
          <p:cNvGrpSpPr/>
          <p:nvPr/>
        </p:nvGrpSpPr>
        <p:grpSpPr>
          <a:xfrm>
            <a:off x="4643280" y="368280"/>
            <a:ext cx="3961080" cy="2990160"/>
            <a:chOff x="4643280" y="368280"/>
            <a:chExt cx="3961080" cy="2990160"/>
          </a:xfrm>
        </p:grpSpPr>
        <p:pic>
          <p:nvPicPr>
            <p:cNvPr id="67" name="Picture 9" descr="Akademia"/>
            <p:cNvPicPr/>
            <p:nvPr/>
          </p:nvPicPr>
          <p:blipFill>
            <a:blip r:embed="rId1"/>
            <a:stretch/>
          </p:blipFill>
          <p:spPr>
            <a:xfrm>
              <a:off x="4643280" y="368280"/>
              <a:ext cx="3961080" cy="27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Rectangle 11"/>
            <p:cNvSpPr/>
            <p:nvPr/>
          </p:nvSpPr>
          <p:spPr>
            <a:xfrm>
              <a:off x="4716360" y="2959560"/>
              <a:ext cx="36734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c0504d"/>
                  </a:solidFill>
                  <a:latin typeface="Arial"/>
                </a:rPr>
                <a:t>Марбургский университе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4"/>
          <p:cNvGrpSpPr/>
          <p:nvPr/>
        </p:nvGrpSpPr>
        <p:grpSpPr>
          <a:xfrm>
            <a:off x="357120" y="3571920"/>
            <a:ext cx="2160360" cy="2463120"/>
            <a:chOff x="357120" y="3571920"/>
            <a:chExt cx="2160360" cy="2463120"/>
          </a:xfrm>
        </p:grpSpPr>
        <p:pic>
          <p:nvPicPr>
            <p:cNvPr id="70" name="Picture 10" descr="MAImagee082e664_0b5d_45ca_9dbf_8169e5ba2421_slide_7519c8d7-d8ca-4ba5-a61d-feaa7b471863_0"/>
            <p:cNvPicPr/>
            <p:nvPr/>
          </p:nvPicPr>
          <p:blipFill>
            <a:blip r:embed="rId2"/>
            <a:stretch/>
          </p:blipFill>
          <p:spPr>
            <a:xfrm>
              <a:off x="500040" y="3571920"/>
              <a:ext cx="1719000" cy="22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12"/>
            <p:cNvSpPr/>
            <p:nvPr/>
          </p:nvSpPr>
          <p:spPr>
            <a:xfrm>
              <a:off x="357120" y="5514840"/>
              <a:ext cx="216036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c0504d"/>
                  </a:solidFill>
                  <a:latin typeface="Arial"/>
                </a:rPr>
                <a:t>Известный физик и философ Х. Вольф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10920" y="260280"/>
            <a:ext cx="806436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1800" spc="-1" strike="noStrike">
                <a:solidFill>
                  <a:srgbClr val="3333cc"/>
                </a:solidFill>
                <a:latin typeface="Arial"/>
              </a:rPr>
              <a:t>За границей Ломоносов пробыл до 1741 и вскоре по возвращении (в январе 1742) был назначен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адъюнктом Академии Наук</a:t>
            </a:r>
            <a:r>
              <a:rPr b="0" i="1" lang="ru-RU" sz="1800" spc="-1" strike="noStrike">
                <a:solidFill>
                  <a:srgbClr val="3333cc"/>
                </a:solidFill>
                <a:latin typeface="Arial"/>
              </a:rPr>
              <a:t> по физическому класс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i="1" lang="ru-RU" sz="1800" spc="-1" strike="noStrike">
                <a:solidFill>
                  <a:srgbClr val="3333cc"/>
                </a:solidFill>
                <a:latin typeface="Arial"/>
              </a:rPr>
              <a:t>В августе 1745 стал первым русским, избранным на должность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профессора (академика) химии</a:t>
            </a:r>
            <a:r>
              <a:rPr b="0" i="1" lang="ru-RU" sz="1800" spc="-1" strike="noStrike">
                <a:solidFill>
                  <a:srgbClr val="3333cc"/>
                </a:solidFill>
                <a:latin typeface="Arial"/>
              </a:rPr>
              <a:t>. Деятельность Ломоносова в АН была весьма разносторонн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3333cc"/>
                </a:solidFill>
                <a:latin typeface="Arial"/>
              </a:rPr>
              <a:t>В 1746 он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первым стал читать публичные лекции по физике на русском языке</a:t>
            </a:r>
            <a:r>
              <a:rPr b="0" i="1" lang="ru-RU" sz="1800" spc="-1" strike="noStrike">
                <a:solidFill>
                  <a:srgbClr val="3333cc"/>
                </a:solidFill>
                <a:latin typeface="Arial"/>
              </a:rPr>
              <a:t>, тогда же опубликовал перевод краткого изложения "Экспериментальной физики" Х. Вольф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i="1" lang="ru-RU" sz="1800" spc="-1" strike="noStrike">
                <a:solidFill>
                  <a:srgbClr val="3333cc"/>
                </a:solidFill>
                <a:latin typeface="Arial"/>
              </a:rPr>
              <a:t>В 1748 по настоянию  Ломоносова  для него была  построена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 первая  в России химическая  научно-исследовательская   лаборатория</a:t>
            </a:r>
            <a:r>
              <a:rPr b="0" i="1" lang="ru-RU" sz="1800" spc="-1" strike="noStrike">
                <a:solidFill>
                  <a:srgbClr val="3333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407"/>
          <p:cNvPicPr/>
          <p:nvPr/>
        </p:nvPicPr>
        <p:blipFill>
          <a:blip r:embed="rId1"/>
          <a:stretch/>
        </p:blipFill>
        <p:spPr>
          <a:xfrm>
            <a:off x="900000" y="3284640"/>
            <a:ext cx="2930760" cy="3168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408"/>
          <p:cNvPicPr/>
          <p:nvPr/>
        </p:nvPicPr>
        <p:blipFill>
          <a:blip r:embed="rId2"/>
          <a:stretch/>
        </p:blipFill>
        <p:spPr>
          <a:xfrm>
            <a:off x="4140360" y="3220920"/>
            <a:ext cx="4608360" cy="3183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755640" y="317160"/>
            <a:ext cx="75614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Научную деятельность Ломоносова можно разделить на три период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- до создания лаборатории он в основном занимался химическими и физическими исследованиям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-с 1748 проводил преимущественно химические работ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-с 1753 до конца жизни - в самых различных областях естественных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и прикладных нау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Наряду с научными исследованиями Ломоносов занимался литературным творчеством и опубликовал несколько од и трагедий. Проявляя заботу о распространении просвещения в России, Ломоносов настаивал на создании университета европейского типа, доступного всем слоям населения. Его хлопоты увенчались успех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М.В.Ломоносов и его вклад в естествознание"/>
          <p:cNvPicPr/>
          <p:nvPr/>
        </p:nvPicPr>
        <p:blipFill>
          <a:blip r:embed="rId1"/>
          <a:stretch/>
        </p:blipFill>
        <p:spPr>
          <a:xfrm>
            <a:off x="4508640" y="3759120"/>
            <a:ext cx="3879720" cy="25495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7"/>
          <p:cNvSpPr/>
          <p:nvPr/>
        </p:nvSpPr>
        <p:spPr>
          <a:xfrm>
            <a:off x="4869000" y="6236640"/>
            <a:ext cx="35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сковский университет. 1911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8"/>
          <p:cNvSpPr txBox="1"/>
          <p:nvPr/>
        </p:nvSpPr>
        <p:spPr>
          <a:xfrm>
            <a:off x="1476360" y="404640"/>
            <a:ext cx="6408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808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Гений на портрете</a:t>
            </a:r>
            <a:endParaRPr b="1" lang="en-US" sz="1800" spc="1" strike="noStrike">
              <a:ln w="25560">
                <a:solidFill>
                  <a:srgbClr val="00808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79" name="Picture 9" descr="images"/>
          <p:cNvPicPr/>
          <p:nvPr/>
        </p:nvPicPr>
        <p:blipFill>
          <a:blip r:embed="rId3"/>
          <a:stretch/>
        </p:blipFill>
        <p:spPr>
          <a:xfrm>
            <a:off x="4014720" y="2633760"/>
            <a:ext cx="1565280" cy="2235240"/>
          </a:xfrm>
          <a:prstGeom prst="rect">
            <a:avLst/>
          </a:prstGeom>
          <a:ln w="0">
            <a:noFill/>
          </a:ln>
        </p:spPr>
      </p:pic>
      <p:sp>
        <p:nvSpPr>
          <p:cNvPr id="80" name="Line 10"/>
          <p:cNvSpPr/>
          <p:nvPr/>
        </p:nvSpPr>
        <p:spPr>
          <a:xfrm flipV="1">
            <a:off x="4643280" y="2060640"/>
            <a:ext cx="0" cy="504720"/>
          </a:xfrm>
          <a:prstGeom prst="line">
            <a:avLst/>
          </a:prstGeom>
          <a:ln w="5724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 rot="10800000">
            <a:off x="1116000" y="1715760"/>
            <a:ext cx="1574640" cy="609480"/>
          </a:xfrm>
          <a:custGeom>
            <a:avLst/>
            <a:gdLst>
              <a:gd name="textAreaLeft" fmla="*/ 196560 w 1574640"/>
              <a:gd name="textAreaRight" fmla="*/ 1378080 w 1574640"/>
              <a:gd name="textAreaTop" fmla="*/ 0 h 609480"/>
              <a:gd name="textAreaBottom" fmla="*/ 40644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14400"/>
                </a:moveTo>
                <a:lnTo>
                  <a:pt x="5400" y="19800"/>
                </a:lnTo>
                <a:cubicBezTo>
                  <a:pt x="5400" y="20700"/>
                  <a:pt x="4980" y="21600"/>
                  <a:pt x="4560" y="21600"/>
                </a:cubicBezTo>
                <a:lnTo>
                  <a:pt x="0" y="21600"/>
                </a:lnTo>
                <a:lnTo>
                  <a:pt x="2750" y="14400"/>
                </a:lnTo>
                <a:lnTo>
                  <a:pt x="0" y="7200"/>
                </a:lnTo>
                <a:lnTo>
                  <a:pt x="2700" y="7200"/>
                </a:lnTo>
                <a:lnTo>
                  <a:pt x="2700" y="1800"/>
                </a:lnTo>
                <a:cubicBezTo>
                  <a:pt x="2700" y="900"/>
                  <a:pt x="3120" y="0"/>
                  <a:pt x="3540" y="0"/>
                </a:cubicBezTo>
                <a:lnTo>
                  <a:pt x="18060" y="0"/>
                </a:lnTo>
                <a:cubicBezTo>
                  <a:pt x="18480" y="0"/>
                  <a:pt x="18900" y="900"/>
                  <a:pt x="18900" y="1800"/>
                </a:cubicBezTo>
                <a:lnTo>
                  <a:pt x="18900" y="7200"/>
                </a:lnTo>
                <a:lnTo>
                  <a:pt x="21600" y="7200"/>
                </a:lnTo>
                <a:lnTo>
                  <a:pt x="18850" y="14400"/>
                </a:lnTo>
                <a:lnTo>
                  <a:pt x="21600" y="21600"/>
                </a:lnTo>
                <a:lnTo>
                  <a:pt x="17040" y="21600"/>
                </a:lnTo>
                <a:cubicBezTo>
                  <a:pt x="16620" y="21600"/>
                  <a:pt x="16200" y="20700"/>
                  <a:pt x="16200" y="19800"/>
                </a:cubicBezTo>
                <a:lnTo>
                  <a:pt x="16200" y="14400"/>
                </a:lnTo>
                <a:close/>
              </a:path>
              <a:path fill="darkenLess" w="21600" h="21600">
                <a:moveTo>
                  <a:pt x="5400" y="14400"/>
                </a:moveTo>
                <a:lnTo>
                  <a:pt x="5400" y="19800"/>
                </a:lnTo>
                <a:cubicBezTo>
                  <a:pt x="5400" y="18900"/>
                  <a:pt x="4980" y="18000"/>
                  <a:pt x="4560" y="18000"/>
                </a:cubicBezTo>
                <a:lnTo>
                  <a:pt x="3540" y="18000"/>
                </a:lnTo>
                <a:cubicBezTo>
                  <a:pt x="3120" y="18000"/>
                  <a:pt x="2700" y="17100"/>
                  <a:pt x="2700" y="16200"/>
                </a:cubicBezTo>
                <a:cubicBezTo>
                  <a:pt x="2700" y="15300"/>
                  <a:pt x="3120" y="14400"/>
                  <a:pt x="3540" y="14400"/>
                </a:cubicBezTo>
                <a:close/>
              </a:path>
              <a:path fill="darkenLess" w="21600" h="21600">
                <a:moveTo>
                  <a:pt x="16200" y="14400"/>
                </a:moveTo>
                <a:lnTo>
                  <a:pt x="16200" y="19800"/>
                </a:lnTo>
                <a:cubicBezTo>
                  <a:pt x="16200" y="18900"/>
                  <a:pt x="16620" y="18000"/>
                  <a:pt x="17040" y="18000"/>
                </a:cubicBezTo>
                <a:lnTo>
                  <a:pt x="18060" y="18000"/>
                </a:lnTo>
                <a:cubicBezTo>
                  <a:pt x="18480" y="18000"/>
                  <a:pt x="18900" y="17100"/>
                  <a:pt x="18900" y="16200"/>
                </a:cubicBezTo>
                <a:cubicBezTo>
                  <a:pt x="18900" y="15300"/>
                  <a:pt x="18480" y="14400"/>
                  <a:pt x="18060" y="14400"/>
                </a:cubicBezTo>
                <a:close/>
              </a:path>
              <a:path fill="darkenLess" w="21600" h="21600">
                <a:moveTo>
                  <a:pt x="2700" y="16200"/>
                </a:moveTo>
                <a:lnTo>
                  <a:pt x="2700" y="7200"/>
                </a:lnTo>
              </a:path>
              <a:path fill="darkenLess" w="21600" h="21600">
                <a:moveTo>
                  <a:pt x="18900" y="16200"/>
                </a:moveTo>
                <a:lnTo>
                  <a:pt x="18900" y="7200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2"/>
          <p:cNvSpPr/>
          <p:nvPr/>
        </p:nvSpPr>
        <p:spPr>
          <a:xfrm rot="10800000">
            <a:off x="3850920" y="1268280"/>
            <a:ext cx="1655640" cy="609840"/>
          </a:xfrm>
          <a:custGeom>
            <a:avLst/>
            <a:gdLst>
              <a:gd name="textAreaLeft" fmla="*/ 207000 w 1655640"/>
              <a:gd name="textAreaRight" fmla="*/ 1449000 w 1655640"/>
              <a:gd name="textAreaTop" fmla="*/ 0 h 609840"/>
              <a:gd name="textAreaBottom" fmla="*/ 406800 h 609840"/>
            </a:gdLst>
            <a:ahLst/>
            <a:rect l="textAreaLeft" t="textAreaTop" r="textAreaRight" b="textAreaBottom"/>
            <a:pathLst>
              <a:path w="21600" h="21600">
                <a:moveTo>
                  <a:pt x="5400" y="14400"/>
                </a:moveTo>
                <a:lnTo>
                  <a:pt x="5400" y="19800"/>
                </a:lnTo>
                <a:cubicBezTo>
                  <a:pt x="5400" y="20700"/>
                  <a:pt x="4980" y="21600"/>
                  <a:pt x="4560" y="21600"/>
                </a:cubicBezTo>
                <a:lnTo>
                  <a:pt x="0" y="21600"/>
                </a:lnTo>
                <a:lnTo>
                  <a:pt x="2750" y="14400"/>
                </a:lnTo>
                <a:lnTo>
                  <a:pt x="0" y="7200"/>
                </a:lnTo>
                <a:lnTo>
                  <a:pt x="2700" y="7200"/>
                </a:lnTo>
                <a:lnTo>
                  <a:pt x="2700" y="1800"/>
                </a:lnTo>
                <a:cubicBezTo>
                  <a:pt x="2700" y="900"/>
                  <a:pt x="3120" y="0"/>
                  <a:pt x="3540" y="0"/>
                </a:cubicBezTo>
                <a:lnTo>
                  <a:pt x="18060" y="0"/>
                </a:lnTo>
                <a:cubicBezTo>
                  <a:pt x="18480" y="0"/>
                  <a:pt x="18900" y="900"/>
                  <a:pt x="18900" y="1800"/>
                </a:cubicBezTo>
                <a:lnTo>
                  <a:pt x="18900" y="7200"/>
                </a:lnTo>
                <a:lnTo>
                  <a:pt x="21600" y="7200"/>
                </a:lnTo>
                <a:lnTo>
                  <a:pt x="18850" y="14400"/>
                </a:lnTo>
                <a:lnTo>
                  <a:pt x="21600" y="21600"/>
                </a:lnTo>
                <a:lnTo>
                  <a:pt x="17040" y="21600"/>
                </a:lnTo>
                <a:cubicBezTo>
                  <a:pt x="16620" y="21600"/>
                  <a:pt x="16200" y="20700"/>
                  <a:pt x="16200" y="19800"/>
                </a:cubicBezTo>
                <a:lnTo>
                  <a:pt x="16200" y="14400"/>
                </a:lnTo>
                <a:close/>
              </a:path>
              <a:path fill="darkenLess" w="21600" h="21600">
                <a:moveTo>
                  <a:pt x="5400" y="14400"/>
                </a:moveTo>
                <a:lnTo>
                  <a:pt x="5400" y="19800"/>
                </a:lnTo>
                <a:cubicBezTo>
                  <a:pt x="5400" y="18900"/>
                  <a:pt x="4980" y="18000"/>
                  <a:pt x="4560" y="18000"/>
                </a:cubicBezTo>
                <a:lnTo>
                  <a:pt x="3540" y="18000"/>
                </a:lnTo>
                <a:cubicBezTo>
                  <a:pt x="3120" y="18000"/>
                  <a:pt x="2700" y="17100"/>
                  <a:pt x="2700" y="16200"/>
                </a:cubicBezTo>
                <a:cubicBezTo>
                  <a:pt x="2700" y="15300"/>
                  <a:pt x="3120" y="14400"/>
                  <a:pt x="3540" y="14400"/>
                </a:cubicBezTo>
                <a:close/>
              </a:path>
              <a:path fill="darkenLess" w="21600" h="21600">
                <a:moveTo>
                  <a:pt x="16200" y="14400"/>
                </a:moveTo>
                <a:lnTo>
                  <a:pt x="16200" y="19800"/>
                </a:lnTo>
                <a:cubicBezTo>
                  <a:pt x="16200" y="18900"/>
                  <a:pt x="16620" y="18000"/>
                  <a:pt x="17040" y="18000"/>
                </a:cubicBezTo>
                <a:lnTo>
                  <a:pt x="18060" y="18000"/>
                </a:lnTo>
                <a:cubicBezTo>
                  <a:pt x="18480" y="18000"/>
                  <a:pt x="18900" y="17100"/>
                  <a:pt x="18900" y="16200"/>
                </a:cubicBezTo>
                <a:cubicBezTo>
                  <a:pt x="18900" y="15300"/>
                  <a:pt x="18480" y="14400"/>
                  <a:pt x="18060" y="14400"/>
                </a:cubicBezTo>
                <a:close/>
              </a:path>
              <a:path fill="darkenLess" w="21600" h="21600">
                <a:moveTo>
                  <a:pt x="2700" y="16200"/>
                </a:moveTo>
                <a:lnTo>
                  <a:pt x="2700" y="7200"/>
                </a:lnTo>
              </a:path>
              <a:path fill="darkenLess" w="21600" h="21600">
                <a:moveTo>
                  <a:pt x="18900" y="16200"/>
                </a:moveTo>
                <a:lnTo>
                  <a:pt x="18900" y="7200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3"/>
          <p:cNvSpPr/>
          <p:nvPr/>
        </p:nvSpPr>
        <p:spPr>
          <a:xfrm rot="10800000">
            <a:off x="4211640" y="5660640"/>
            <a:ext cx="1574640" cy="609480"/>
          </a:xfrm>
          <a:custGeom>
            <a:avLst/>
            <a:gdLst>
              <a:gd name="textAreaLeft" fmla="*/ 196560 w 1574640"/>
              <a:gd name="textAreaRight" fmla="*/ 1378080 w 1574640"/>
              <a:gd name="textAreaTop" fmla="*/ 0 h 609480"/>
              <a:gd name="textAreaBottom" fmla="*/ 40644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14400"/>
                </a:moveTo>
                <a:lnTo>
                  <a:pt x="5400" y="19800"/>
                </a:lnTo>
                <a:cubicBezTo>
                  <a:pt x="5400" y="20700"/>
                  <a:pt x="4980" y="21600"/>
                  <a:pt x="4560" y="21600"/>
                </a:cubicBezTo>
                <a:lnTo>
                  <a:pt x="0" y="21600"/>
                </a:lnTo>
                <a:lnTo>
                  <a:pt x="2750" y="14400"/>
                </a:lnTo>
                <a:lnTo>
                  <a:pt x="0" y="7200"/>
                </a:lnTo>
                <a:lnTo>
                  <a:pt x="2700" y="7200"/>
                </a:lnTo>
                <a:lnTo>
                  <a:pt x="2700" y="1800"/>
                </a:lnTo>
                <a:cubicBezTo>
                  <a:pt x="2700" y="900"/>
                  <a:pt x="3120" y="0"/>
                  <a:pt x="3540" y="0"/>
                </a:cubicBezTo>
                <a:lnTo>
                  <a:pt x="18060" y="0"/>
                </a:lnTo>
                <a:cubicBezTo>
                  <a:pt x="18480" y="0"/>
                  <a:pt x="18900" y="900"/>
                  <a:pt x="18900" y="1800"/>
                </a:cubicBezTo>
                <a:lnTo>
                  <a:pt x="18900" y="7200"/>
                </a:lnTo>
                <a:lnTo>
                  <a:pt x="21600" y="7200"/>
                </a:lnTo>
                <a:lnTo>
                  <a:pt x="18850" y="14400"/>
                </a:lnTo>
                <a:lnTo>
                  <a:pt x="21600" y="21600"/>
                </a:lnTo>
                <a:lnTo>
                  <a:pt x="17040" y="21600"/>
                </a:lnTo>
                <a:cubicBezTo>
                  <a:pt x="16620" y="21600"/>
                  <a:pt x="16200" y="20700"/>
                  <a:pt x="16200" y="19800"/>
                </a:cubicBezTo>
                <a:lnTo>
                  <a:pt x="16200" y="14400"/>
                </a:lnTo>
                <a:close/>
              </a:path>
              <a:path fill="darkenLess" w="21600" h="21600">
                <a:moveTo>
                  <a:pt x="5400" y="14400"/>
                </a:moveTo>
                <a:lnTo>
                  <a:pt x="5400" y="19800"/>
                </a:lnTo>
                <a:cubicBezTo>
                  <a:pt x="5400" y="18900"/>
                  <a:pt x="4980" y="18000"/>
                  <a:pt x="4560" y="18000"/>
                </a:cubicBezTo>
                <a:lnTo>
                  <a:pt x="3540" y="18000"/>
                </a:lnTo>
                <a:cubicBezTo>
                  <a:pt x="3120" y="18000"/>
                  <a:pt x="2700" y="17100"/>
                  <a:pt x="2700" y="16200"/>
                </a:cubicBezTo>
                <a:cubicBezTo>
                  <a:pt x="2700" y="15300"/>
                  <a:pt x="3120" y="14400"/>
                  <a:pt x="3540" y="14400"/>
                </a:cubicBezTo>
                <a:close/>
              </a:path>
              <a:path fill="darkenLess" w="21600" h="21600">
                <a:moveTo>
                  <a:pt x="16200" y="14400"/>
                </a:moveTo>
                <a:lnTo>
                  <a:pt x="16200" y="19800"/>
                </a:lnTo>
                <a:cubicBezTo>
                  <a:pt x="16200" y="18900"/>
                  <a:pt x="16620" y="18000"/>
                  <a:pt x="17040" y="18000"/>
                </a:cubicBezTo>
                <a:lnTo>
                  <a:pt x="18060" y="18000"/>
                </a:lnTo>
                <a:cubicBezTo>
                  <a:pt x="18480" y="18000"/>
                  <a:pt x="18900" y="17100"/>
                  <a:pt x="18900" y="16200"/>
                </a:cubicBezTo>
                <a:cubicBezTo>
                  <a:pt x="18900" y="15300"/>
                  <a:pt x="18480" y="14400"/>
                  <a:pt x="18060" y="14400"/>
                </a:cubicBezTo>
                <a:close/>
              </a:path>
              <a:path fill="darkenLess" w="21600" h="21600">
                <a:moveTo>
                  <a:pt x="2700" y="16200"/>
                </a:moveTo>
                <a:lnTo>
                  <a:pt x="2700" y="7200"/>
                </a:lnTo>
              </a:path>
              <a:path fill="darkenLess" w="21600" h="21600">
                <a:moveTo>
                  <a:pt x="18900" y="16200"/>
                </a:moveTo>
                <a:lnTo>
                  <a:pt x="18900" y="7200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4"/>
          <p:cNvSpPr/>
          <p:nvPr/>
        </p:nvSpPr>
        <p:spPr>
          <a:xfrm rot="10800000">
            <a:off x="1115640" y="3428640"/>
            <a:ext cx="1584360" cy="60948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0 h 609480"/>
              <a:gd name="textAreaBottom" fmla="*/ 50796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17999"/>
                </a:moveTo>
                <a:lnTo>
                  <a:pt x="5400" y="20700"/>
                </a:lnTo>
                <a:cubicBezTo>
                  <a:pt x="5400" y="21150"/>
                  <a:pt x="4980" y="21600"/>
                  <a:pt x="4560" y="21600"/>
                </a:cubicBezTo>
                <a:lnTo>
                  <a:pt x="0" y="21600"/>
                </a:lnTo>
                <a:lnTo>
                  <a:pt x="2750" y="12601"/>
                </a:lnTo>
                <a:lnTo>
                  <a:pt x="0" y="3601"/>
                </a:lnTo>
                <a:lnTo>
                  <a:pt x="2700" y="3601"/>
                </a:lnTo>
                <a:lnTo>
                  <a:pt x="2700" y="900"/>
                </a:lnTo>
                <a:cubicBezTo>
                  <a:pt x="2700" y="450"/>
                  <a:pt x="3120" y="0"/>
                  <a:pt x="3540" y="0"/>
                </a:cubicBezTo>
                <a:lnTo>
                  <a:pt x="18060" y="0"/>
                </a:lnTo>
                <a:cubicBezTo>
                  <a:pt x="18480" y="0"/>
                  <a:pt x="18900" y="450"/>
                  <a:pt x="18900" y="900"/>
                </a:cubicBezTo>
                <a:lnTo>
                  <a:pt x="18900" y="3601"/>
                </a:lnTo>
                <a:lnTo>
                  <a:pt x="21600" y="3601"/>
                </a:lnTo>
                <a:lnTo>
                  <a:pt x="18850" y="12601"/>
                </a:lnTo>
                <a:lnTo>
                  <a:pt x="21600" y="21600"/>
                </a:lnTo>
                <a:lnTo>
                  <a:pt x="17040" y="21600"/>
                </a:lnTo>
                <a:cubicBezTo>
                  <a:pt x="16620" y="21600"/>
                  <a:pt x="16200" y="21150"/>
                  <a:pt x="16200" y="20700"/>
                </a:cubicBezTo>
                <a:lnTo>
                  <a:pt x="16200" y="17999"/>
                </a:lnTo>
                <a:close/>
              </a:path>
              <a:path fill="darkenLess" w="21600" h="21600">
                <a:moveTo>
                  <a:pt x="5400" y="17999"/>
                </a:moveTo>
                <a:lnTo>
                  <a:pt x="5400" y="20700"/>
                </a:lnTo>
                <a:cubicBezTo>
                  <a:pt x="5400" y="20250"/>
                  <a:pt x="4980" y="19800"/>
                  <a:pt x="4560" y="19800"/>
                </a:cubicBezTo>
                <a:lnTo>
                  <a:pt x="3540" y="19800"/>
                </a:lnTo>
                <a:cubicBezTo>
                  <a:pt x="3120" y="19800"/>
                  <a:pt x="2700" y="19349"/>
                  <a:pt x="2700" y="18899"/>
                </a:cubicBezTo>
                <a:cubicBezTo>
                  <a:pt x="2700" y="18449"/>
                  <a:pt x="3120" y="17999"/>
                  <a:pt x="3540" y="17999"/>
                </a:cubicBezTo>
                <a:close/>
              </a:path>
              <a:path fill="darkenLess" w="21600" h="21600">
                <a:moveTo>
                  <a:pt x="16200" y="17999"/>
                </a:moveTo>
                <a:lnTo>
                  <a:pt x="16200" y="20700"/>
                </a:lnTo>
                <a:cubicBezTo>
                  <a:pt x="16200" y="20250"/>
                  <a:pt x="16620" y="19800"/>
                  <a:pt x="17040" y="19800"/>
                </a:cubicBezTo>
                <a:lnTo>
                  <a:pt x="18060" y="19800"/>
                </a:lnTo>
                <a:cubicBezTo>
                  <a:pt x="18480" y="19800"/>
                  <a:pt x="18900" y="19349"/>
                  <a:pt x="18900" y="18899"/>
                </a:cubicBezTo>
                <a:cubicBezTo>
                  <a:pt x="18900" y="18449"/>
                  <a:pt x="18480" y="17999"/>
                  <a:pt x="18060" y="17999"/>
                </a:cubicBezTo>
                <a:close/>
              </a:path>
              <a:path fill="darkenLess" w="21600" h="21600">
                <a:moveTo>
                  <a:pt x="2700" y="18899"/>
                </a:moveTo>
                <a:lnTo>
                  <a:pt x="2700" y="3601"/>
                </a:lnTo>
              </a:path>
              <a:path fill="darkenLess" w="21600" h="21600">
                <a:moveTo>
                  <a:pt x="18900" y="18899"/>
                </a:moveTo>
                <a:lnTo>
                  <a:pt x="18900" y="3601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5"/>
          <p:cNvSpPr/>
          <p:nvPr/>
        </p:nvSpPr>
        <p:spPr>
          <a:xfrm rot="10800000">
            <a:off x="1402920" y="5157720"/>
            <a:ext cx="1584360" cy="60984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0 h 609840"/>
              <a:gd name="textAreaBottom" fmla="*/ 406800 h 609840"/>
            </a:gdLst>
            <a:ahLst/>
            <a:rect l="textAreaLeft" t="textAreaTop" r="textAreaRight" b="textAreaBottom"/>
            <a:pathLst>
              <a:path w="21600" h="21600">
                <a:moveTo>
                  <a:pt x="5400" y="14400"/>
                </a:moveTo>
                <a:lnTo>
                  <a:pt x="5400" y="19800"/>
                </a:lnTo>
                <a:cubicBezTo>
                  <a:pt x="5400" y="20700"/>
                  <a:pt x="4980" y="21600"/>
                  <a:pt x="4560" y="21600"/>
                </a:cubicBezTo>
                <a:lnTo>
                  <a:pt x="0" y="21600"/>
                </a:lnTo>
                <a:lnTo>
                  <a:pt x="2750" y="14400"/>
                </a:lnTo>
                <a:lnTo>
                  <a:pt x="0" y="7200"/>
                </a:lnTo>
                <a:lnTo>
                  <a:pt x="2700" y="7200"/>
                </a:lnTo>
                <a:lnTo>
                  <a:pt x="2700" y="1800"/>
                </a:lnTo>
                <a:cubicBezTo>
                  <a:pt x="2700" y="900"/>
                  <a:pt x="3120" y="0"/>
                  <a:pt x="3540" y="0"/>
                </a:cubicBezTo>
                <a:lnTo>
                  <a:pt x="18060" y="0"/>
                </a:lnTo>
                <a:cubicBezTo>
                  <a:pt x="18480" y="0"/>
                  <a:pt x="18900" y="900"/>
                  <a:pt x="18900" y="1800"/>
                </a:cubicBezTo>
                <a:lnTo>
                  <a:pt x="18900" y="7200"/>
                </a:lnTo>
                <a:lnTo>
                  <a:pt x="21600" y="7200"/>
                </a:lnTo>
                <a:lnTo>
                  <a:pt x="18850" y="14400"/>
                </a:lnTo>
                <a:lnTo>
                  <a:pt x="21600" y="21600"/>
                </a:lnTo>
                <a:lnTo>
                  <a:pt x="17040" y="21600"/>
                </a:lnTo>
                <a:cubicBezTo>
                  <a:pt x="16620" y="21600"/>
                  <a:pt x="16200" y="20700"/>
                  <a:pt x="16200" y="19800"/>
                </a:cubicBezTo>
                <a:lnTo>
                  <a:pt x="16200" y="14400"/>
                </a:lnTo>
                <a:close/>
              </a:path>
              <a:path fill="darkenLess" w="21600" h="21600">
                <a:moveTo>
                  <a:pt x="5400" y="14400"/>
                </a:moveTo>
                <a:lnTo>
                  <a:pt x="5400" y="19800"/>
                </a:lnTo>
                <a:cubicBezTo>
                  <a:pt x="5400" y="18900"/>
                  <a:pt x="4980" y="18000"/>
                  <a:pt x="4560" y="18000"/>
                </a:cubicBezTo>
                <a:lnTo>
                  <a:pt x="3540" y="18000"/>
                </a:lnTo>
                <a:cubicBezTo>
                  <a:pt x="3120" y="18000"/>
                  <a:pt x="2700" y="17100"/>
                  <a:pt x="2700" y="16200"/>
                </a:cubicBezTo>
                <a:cubicBezTo>
                  <a:pt x="2700" y="15300"/>
                  <a:pt x="3120" y="14400"/>
                  <a:pt x="3540" y="14400"/>
                </a:cubicBezTo>
                <a:close/>
              </a:path>
              <a:path fill="darkenLess" w="21600" h="21600">
                <a:moveTo>
                  <a:pt x="16200" y="14400"/>
                </a:moveTo>
                <a:lnTo>
                  <a:pt x="16200" y="19800"/>
                </a:lnTo>
                <a:cubicBezTo>
                  <a:pt x="16200" y="18900"/>
                  <a:pt x="16620" y="18000"/>
                  <a:pt x="17040" y="18000"/>
                </a:cubicBezTo>
                <a:lnTo>
                  <a:pt x="18060" y="18000"/>
                </a:lnTo>
                <a:cubicBezTo>
                  <a:pt x="18480" y="18000"/>
                  <a:pt x="18900" y="17100"/>
                  <a:pt x="18900" y="16200"/>
                </a:cubicBezTo>
                <a:cubicBezTo>
                  <a:pt x="18900" y="15300"/>
                  <a:pt x="18480" y="14400"/>
                  <a:pt x="18060" y="14400"/>
                </a:cubicBezTo>
                <a:close/>
              </a:path>
              <a:path fill="darkenLess" w="21600" h="21600">
                <a:moveTo>
                  <a:pt x="2700" y="16200"/>
                </a:moveTo>
                <a:lnTo>
                  <a:pt x="2700" y="7200"/>
                </a:lnTo>
              </a:path>
              <a:path fill="darkenLess" w="21600" h="21600">
                <a:moveTo>
                  <a:pt x="18900" y="16200"/>
                </a:moveTo>
                <a:lnTo>
                  <a:pt x="18900" y="7200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6"/>
          <p:cNvSpPr/>
          <p:nvPr/>
        </p:nvSpPr>
        <p:spPr>
          <a:xfrm rot="10800000">
            <a:off x="6372000" y="4887720"/>
            <a:ext cx="1646280" cy="609480"/>
          </a:xfrm>
          <a:custGeom>
            <a:avLst/>
            <a:gdLst>
              <a:gd name="textAreaLeft" fmla="*/ 205560 w 1646280"/>
              <a:gd name="textAreaRight" fmla="*/ 1440720 w 1646280"/>
              <a:gd name="textAreaTop" fmla="*/ 0 h 609480"/>
              <a:gd name="textAreaBottom" fmla="*/ 40644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14400"/>
                </a:moveTo>
                <a:lnTo>
                  <a:pt x="5400" y="19800"/>
                </a:lnTo>
                <a:cubicBezTo>
                  <a:pt x="5400" y="20700"/>
                  <a:pt x="4980" y="21600"/>
                  <a:pt x="4560" y="21600"/>
                </a:cubicBezTo>
                <a:lnTo>
                  <a:pt x="0" y="21600"/>
                </a:lnTo>
                <a:lnTo>
                  <a:pt x="2750" y="14400"/>
                </a:lnTo>
                <a:lnTo>
                  <a:pt x="0" y="7200"/>
                </a:lnTo>
                <a:lnTo>
                  <a:pt x="2700" y="7200"/>
                </a:lnTo>
                <a:lnTo>
                  <a:pt x="2700" y="1800"/>
                </a:lnTo>
                <a:cubicBezTo>
                  <a:pt x="2700" y="900"/>
                  <a:pt x="3120" y="0"/>
                  <a:pt x="3540" y="0"/>
                </a:cubicBezTo>
                <a:lnTo>
                  <a:pt x="18060" y="0"/>
                </a:lnTo>
                <a:cubicBezTo>
                  <a:pt x="18480" y="0"/>
                  <a:pt x="18900" y="900"/>
                  <a:pt x="18900" y="1800"/>
                </a:cubicBezTo>
                <a:lnTo>
                  <a:pt x="18900" y="7200"/>
                </a:lnTo>
                <a:lnTo>
                  <a:pt x="21600" y="7200"/>
                </a:lnTo>
                <a:lnTo>
                  <a:pt x="18850" y="14400"/>
                </a:lnTo>
                <a:lnTo>
                  <a:pt x="21600" y="21600"/>
                </a:lnTo>
                <a:lnTo>
                  <a:pt x="17040" y="21600"/>
                </a:lnTo>
                <a:cubicBezTo>
                  <a:pt x="16620" y="21600"/>
                  <a:pt x="16200" y="20700"/>
                  <a:pt x="16200" y="19800"/>
                </a:cubicBezTo>
                <a:lnTo>
                  <a:pt x="16200" y="14400"/>
                </a:lnTo>
                <a:close/>
              </a:path>
              <a:path fill="darkenLess" w="21600" h="21600">
                <a:moveTo>
                  <a:pt x="5400" y="14400"/>
                </a:moveTo>
                <a:lnTo>
                  <a:pt x="5400" y="19800"/>
                </a:lnTo>
                <a:cubicBezTo>
                  <a:pt x="5400" y="18900"/>
                  <a:pt x="4980" y="18000"/>
                  <a:pt x="4560" y="18000"/>
                </a:cubicBezTo>
                <a:lnTo>
                  <a:pt x="3540" y="18000"/>
                </a:lnTo>
                <a:cubicBezTo>
                  <a:pt x="3120" y="18000"/>
                  <a:pt x="2700" y="17100"/>
                  <a:pt x="2700" y="16200"/>
                </a:cubicBezTo>
                <a:cubicBezTo>
                  <a:pt x="2700" y="15300"/>
                  <a:pt x="3120" y="14400"/>
                  <a:pt x="3540" y="14400"/>
                </a:cubicBezTo>
                <a:close/>
              </a:path>
              <a:path fill="darkenLess" w="21600" h="21600">
                <a:moveTo>
                  <a:pt x="16200" y="14400"/>
                </a:moveTo>
                <a:lnTo>
                  <a:pt x="16200" y="19800"/>
                </a:lnTo>
                <a:cubicBezTo>
                  <a:pt x="16200" y="18900"/>
                  <a:pt x="16620" y="18000"/>
                  <a:pt x="17040" y="18000"/>
                </a:cubicBezTo>
                <a:lnTo>
                  <a:pt x="18060" y="18000"/>
                </a:lnTo>
                <a:cubicBezTo>
                  <a:pt x="18480" y="18000"/>
                  <a:pt x="18900" y="17100"/>
                  <a:pt x="18900" y="16200"/>
                </a:cubicBezTo>
                <a:cubicBezTo>
                  <a:pt x="18900" y="15300"/>
                  <a:pt x="18480" y="14400"/>
                  <a:pt x="18060" y="14400"/>
                </a:cubicBezTo>
                <a:close/>
              </a:path>
              <a:path fill="darkenLess" w="21600" h="21600">
                <a:moveTo>
                  <a:pt x="2700" y="16200"/>
                </a:moveTo>
                <a:lnTo>
                  <a:pt x="2700" y="7200"/>
                </a:lnTo>
              </a:path>
              <a:path fill="darkenLess" w="21600" h="21600">
                <a:moveTo>
                  <a:pt x="18900" y="16200"/>
                </a:moveTo>
                <a:lnTo>
                  <a:pt x="18900" y="7200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7"/>
          <p:cNvSpPr/>
          <p:nvPr/>
        </p:nvSpPr>
        <p:spPr>
          <a:xfrm rot="10800000">
            <a:off x="6659640" y="3284280"/>
            <a:ext cx="1503360" cy="609480"/>
          </a:xfrm>
          <a:custGeom>
            <a:avLst/>
            <a:gdLst>
              <a:gd name="textAreaLeft" fmla="*/ 187920 w 1503360"/>
              <a:gd name="textAreaRight" fmla="*/ 1315440 w 1503360"/>
              <a:gd name="textAreaTop" fmla="*/ 0 h 609480"/>
              <a:gd name="textAreaBottom" fmla="*/ 40644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14400"/>
                </a:moveTo>
                <a:lnTo>
                  <a:pt x="5400" y="19800"/>
                </a:lnTo>
                <a:cubicBezTo>
                  <a:pt x="5400" y="20700"/>
                  <a:pt x="4980" y="21600"/>
                  <a:pt x="4560" y="21600"/>
                </a:cubicBezTo>
                <a:lnTo>
                  <a:pt x="0" y="21600"/>
                </a:lnTo>
                <a:lnTo>
                  <a:pt x="2750" y="14400"/>
                </a:lnTo>
                <a:lnTo>
                  <a:pt x="0" y="7200"/>
                </a:lnTo>
                <a:lnTo>
                  <a:pt x="2700" y="7200"/>
                </a:lnTo>
                <a:lnTo>
                  <a:pt x="2700" y="1800"/>
                </a:lnTo>
                <a:cubicBezTo>
                  <a:pt x="2700" y="900"/>
                  <a:pt x="3120" y="0"/>
                  <a:pt x="3540" y="0"/>
                </a:cubicBezTo>
                <a:lnTo>
                  <a:pt x="18060" y="0"/>
                </a:lnTo>
                <a:cubicBezTo>
                  <a:pt x="18480" y="0"/>
                  <a:pt x="18900" y="900"/>
                  <a:pt x="18900" y="1800"/>
                </a:cubicBezTo>
                <a:lnTo>
                  <a:pt x="18900" y="7200"/>
                </a:lnTo>
                <a:lnTo>
                  <a:pt x="21600" y="7200"/>
                </a:lnTo>
                <a:lnTo>
                  <a:pt x="18850" y="14400"/>
                </a:lnTo>
                <a:lnTo>
                  <a:pt x="21600" y="21600"/>
                </a:lnTo>
                <a:lnTo>
                  <a:pt x="17040" y="21600"/>
                </a:lnTo>
                <a:cubicBezTo>
                  <a:pt x="16620" y="21600"/>
                  <a:pt x="16200" y="20700"/>
                  <a:pt x="16200" y="19800"/>
                </a:cubicBezTo>
                <a:lnTo>
                  <a:pt x="16200" y="14400"/>
                </a:lnTo>
                <a:close/>
              </a:path>
              <a:path fill="darkenLess" w="21600" h="21600">
                <a:moveTo>
                  <a:pt x="5400" y="14400"/>
                </a:moveTo>
                <a:lnTo>
                  <a:pt x="5400" y="19800"/>
                </a:lnTo>
                <a:cubicBezTo>
                  <a:pt x="5400" y="18900"/>
                  <a:pt x="4980" y="18000"/>
                  <a:pt x="4560" y="18000"/>
                </a:cubicBezTo>
                <a:lnTo>
                  <a:pt x="3540" y="18000"/>
                </a:lnTo>
                <a:cubicBezTo>
                  <a:pt x="3120" y="18000"/>
                  <a:pt x="2700" y="17100"/>
                  <a:pt x="2700" y="16200"/>
                </a:cubicBezTo>
                <a:cubicBezTo>
                  <a:pt x="2700" y="15300"/>
                  <a:pt x="3120" y="14400"/>
                  <a:pt x="3540" y="14400"/>
                </a:cubicBezTo>
                <a:close/>
              </a:path>
              <a:path fill="darkenLess" w="21600" h="21600">
                <a:moveTo>
                  <a:pt x="16200" y="14400"/>
                </a:moveTo>
                <a:lnTo>
                  <a:pt x="16200" y="19800"/>
                </a:lnTo>
                <a:cubicBezTo>
                  <a:pt x="16200" y="18900"/>
                  <a:pt x="16620" y="18000"/>
                  <a:pt x="17040" y="18000"/>
                </a:cubicBezTo>
                <a:lnTo>
                  <a:pt x="18060" y="18000"/>
                </a:lnTo>
                <a:cubicBezTo>
                  <a:pt x="18480" y="18000"/>
                  <a:pt x="18900" y="17100"/>
                  <a:pt x="18900" y="16200"/>
                </a:cubicBezTo>
                <a:cubicBezTo>
                  <a:pt x="18900" y="15300"/>
                  <a:pt x="18480" y="14400"/>
                  <a:pt x="18060" y="14400"/>
                </a:cubicBezTo>
                <a:close/>
              </a:path>
              <a:path fill="darkenLess" w="21600" h="21600">
                <a:moveTo>
                  <a:pt x="2700" y="16200"/>
                </a:moveTo>
                <a:lnTo>
                  <a:pt x="2700" y="7200"/>
                </a:lnTo>
              </a:path>
              <a:path fill="darkenLess" w="21600" h="21600">
                <a:moveTo>
                  <a:pt x="18900" y="16200"/>
                </a:moveTo>
                <a:lnTo>
                  <a:pt x="18900" y="7200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8"/>
          <p:cNvSpPr/>
          <p:nvPr/>
        </p:nvSpPr>
        <p:spPr>
          <a:xfrm rot="10800000">
            <a:off x="6300360" y="1915920"/>
            <a:ext cx="1870200" cy="609480"/>
          </a:xfrm>
          <a:custGeom>
            <a:avLst/>
            <a:gdLst>
              <a:gd name="textAreaLeft" fmla="*/ 343080 w 1870200"/>
              <a:gd name="textAreaRight" fmla="*/ 1527120 w 1870200"/>
              <a:gd name="textAreaTop" fmla="*/ 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6662" y="16202"/>
                </a:moveTo>
                <a:lnTo>
                  <a:pt x="6662" y="20251"/>
                </a:lnTo>
                <a:cubicBezTo>
                  <a:pt x="6662" y="20925"/>
                  <a:pt x="6242" y="21600"/>
                  <a:pt x="5822" y="21600"/>
                </a:cubicBezTo>
                <a:lnTo>
                  <a:pt x="0" y="21600"/>
                </a:lnTo>
                <a:lnTo>
                  <a:pt x="2750" y="13499"/>
                </a:lnTo>
                <a:lnTo>
                  <a:pt x="0" y="5398"/>
                </a:lnTo>
                <a:lnTo>
                  <a:pt x="3962" y="5398"/>
                </a:lnTo>
                <a:lnTo>
                  <a:pt x="3962" y="1350"/>
                </a:lnTo>
                <a:cubicBezTo>
                  <a:pt x="3962" y="675"/>
                  <a:pt x="4382" y="0"/>
                  <a:pt x="4802" y="0"/>
                </a:cubicBezTo>
                <a:lnTo>
                  <a:pt x="16798" y="0"/>
                </a:lnTo>
                <a:cubicBezTo>
                  <a:pt x="17218" y="0"/>
                  <a:pt x="17638" y="675"/>
                  <a:pt x="17638" y="1350"/>
                </a:cubicBezTo>
                <a:lnTo>
                  <a:pt x="17638" y="5398"/>
                </a:lnTo>
                <a:lnTo>
                  <a:pt x="21600" y="5398"/>
                </a:lnTo>
                <a:lnTo>
                  <a:pt x="18850" y="13499"/>
                </a:lnTo>
                <a:lnTo>
                  <a:pt x="21600" y="21600"/>
                </a:lnTo>
                <a:lnTo>
                  <a:pt x="15778" y="21600"/>
                </a:lnTo>
                <a:cubicBezTo>
                  <a:pt x="15358" y="21600"/>
                  <a:pt x="14938" y="20925"/>
                  <a:pt x="14938" y="20251"/>
                </a:cubicBezTo>
                <a:lnTo>
                  <a:pt x="14938" y="16202"/>
                </a:lnTo>
                <a:close/>
              </a:path>
              <a:path fill="darkenLess" w="21600" h="21600">
                <a:moveTo>
                  <a:pt x="6662" y="16202"/>
                </a:moveTo>
                <a:lnTo>
                  <a:pt x="6662" y="20251"/>
                </a:lnTo>
                <a:cubicBezTo>
                  <a:pt x="6662" y="19576"/>
                  <a:pt x="6242" y="18901"/>
                  <a:pt x="5822" y="18901"/>
                </a:cubicBezTo>
                <a:lnTo>
                  <a:pt x="4802" y="18901"/>
                </a:lnTo>
                <a:cubicBezTo>
                  <a:pt x="4382" y="18901"/>
                  <a:pt x="3962" y="18226"/>
                  <a:pt x="3962" y="17552"/>
                </a:cubicBezTo>
                <a:cubicBezTo>
                  <a:pt x="3962" y="16877"/>
                  <a:pt x="4382" y="16202"/>
                  <a:pt x="4802" y="16202"/>
                </a:cubicBezTo>
                <a:close/>
              </a:path>
              <a:path fill="darkenLess" w="21600" h="21600">
                <a:moveTo>
                  <a:pt x="14938" y="16202"/>
                </a:moveTo>
                <a:lnTo>
                  <a:pt x="14938" y="20251"/>
                </a:lnTo>
                <a:cubicBezTo>
                  <a:pt x="14938" y="19576"/>
                  <a:pt x="15358" y="18901"/>
                  <a:pt x="15778" y="18901"/>
                </a:cubicBezTo>
                <a:lnTo>
                  <a:pt x="16798" y="18901"/>
                </a:lnTo>
                <a:cubicBezTo>
                  <a:pt x="17218" y="18901"/>
                  <a:pt x="17638" y="18226"/>
                  <a:pt x="17638" y="17552"/>
                </a:cubicBezTo>
                <a:cubicBezTo>
                  <a:pt x="17638" y="16877"/>
                  <a:pt x="17218" y="16202"/>
                  <a:pt x="16798" y="16202"/>
                </a:cubicBezTo>
                <a:close/>
              </a:path>
              <a:path fill="darkenLess" w="21600" h="21600">
                <a:moveTo>
                  <a:pt x="3962" y="17552"/>
                </a:moveTo>
                <a:lnTo>
                  <a:pt x="3962" y="5398"/>
                </a:lnTo>
              </a:path>
              <a:path fill="darkenLess" w="21600" h="21600">
                <a:moveTo>
                  <a:pt x="17638" y="17552"/>
                </a:moveTo>
                <a:lnTo>
                  <a:pt x="17638" y="5398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9"/>
          <p:cNvSpPr/>
          <p:nvPr/>
        </p:nvSpPr>
        <p:spPr>
          <a:xfrm>
            <a:off x="4859280" y="4941720"/>
            <a:ext cx="0" cy="576360"/>
          </a:xfrm>
          <a:prstGeom prst="line">
            <a:avLst/>
          </a:prstGeom>
          <a:ln w="5724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1"/>
          <p:cNvSpPr/>
          <p:nvPr/>
        </p:nvSpPr>
        <p:spPr>
          <a:xfrm>
            <a:off x="1548000" y="357336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физ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2"/>
          <p:cNvSpPr/>
          <p:nvPr/>
        </p:nvSpPr>
        <p:spPr>
          <a:xfrm>
            <a:off x="1478880" y="191628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ге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1550520" y="5373720"/>
            <a:ext cx="11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астро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4"/>
          <p:cNvSpPr/>
          <p:nvPr/>
        </p:nvSpPr>
        <p:spPr>
          <a:xfrm>
            <a:off x="4644720" y="5877000"/>
            <a:ext cx="6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поэ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5"/>
          <p:cNvSpPr/>
          <p:nvPr/>
        </p:nvSpPr>
        <p:spPr>
          <a:xfrm>
            <a:off x="6733440" y="508464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истор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6"/>
          <p:cNvSpPr/>
          <p:nvPr/>
        </p:nvSpPr>
        <p:spPr>
          <a:xfrm>
            <a:off x="6804720" y="35002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худож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7"/>
          <p:cNvSpPr/>
          <p:nvPr/>
        </p:nvSpPr>
        <p:spPr>
          <a:xfrm>
            <a:off x="6804360" y="2133720"/>
            <a:ext cx="8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хим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8"/>
          <p:cNvSpPr/>
          <p:nvPr/>
        </p:nvSpPr>
        <p:spPr>
          <a:xfrm>
            <a:off x="4214520" y="14842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геог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9"/>
          <p:cNvSpPr/>
          <p:nvPr/>
        </p:nvSpPr>
        <p:spPr>
          <a:xfrm flipH="1">
            <a:off x="3348000" y="4724280"/>
            <a:ext cx="432000" cy="432000"/>
          </a:xfrm>
          <a:prstGeom prst="line">
            <a:avLst/>
          </a:prstGeom>
          <a:ln w="5724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0"/>
          <p:cNvSpPr/>
          <p:nvPr/>
        </p:nvSpPr>
        <p:spPr>
          <a:xfrm flipH="1">
            <a:off x="2987640" y="3789360"/>
            <a:ext cx="936720" cy="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1"/>
          <p:cNvSpPr/>
          <p:nvPr/>
        </p:nvSpPr>
        <p:spPr>
          <a:xfrm>
            <a:off x="5651640" y="3716280"/>
            <a:ext cx="934920" cy="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2"/>
          <p:cNvSpPr/>
          <p:nvPr/>
        </p:nvSpPr>
        <p:spPr>
          <a:xfrm>
            <a:off x="5724360" y="4724280"/>
            <a:ext cx="503280" cy="360360"/>
          </a:xfrm>
          <a:prstGeom prst="line">
            <a:avLst/>
          </a:prstGeom>
          <a:ln w="5724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3"/>
          <p:cNvSpPr/>
          <p:nvPr/>
        </p:nvSpPr>
        <p:spPr>
          <a:xfrm flipH="1" flipV="1">
            <a:off x="3203280" y="2420640"/>
            <a:ext cx="647640" cy="360360"/>
          </a:xfrm>
          <a:prstGeom prst="line">
            <a:avLst/>
          </a:prstGeom>
          <a:ln w="5724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4"/>
          <p:cNvSpPr/>
          <p:nvPr/>
        </p:nvSpPr>
        <p:spPr>
          <a:xfrm flipV="1">
            <a:off x="5724360" y="2421000"/>
            <a:ext cx="576360" cy="287280"/>
          </a:xfrm>
          <a:prstGeom prst="line">
            <a:avLst/>
          </a:prstGeom>
          <a:ln w="5724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755280" y="384840"/>
            <a:ext cx="5025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Достижения в химии и физ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Ломоносов01"/>
          <p:cNvPicPr/>
          <p:nvPr/>
        </p:nvPicPr>
        <p:blipFill>
          <a:blip r:embed="rId1"/>
          <a:stretch/>
        </p:blipFill>
        <p:spPr>
          <a:xfrm>
            <a:off x="6732720" y="189000"/>
            <a:ext cx="2084400" cy="27018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539640" y="1054440"/>
            <a:ext cx="583272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cc"/>
                </a:solidFill>
                <a:latin typeface="Arial"/>
              </a:rPr>
              <a:t>*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Ломоносов показал природу твердых тел, теплоты и холода, разработал теорию изменения агрегатного состояния и упругости газ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*Ломоносов утверждал, что все вещества состоят из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корпускул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 — молекул, которые являются «собраниями»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элементов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 —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атомов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*Ломоносов доказал теоремы о том, что свойства тел—«теплота и холод, удельный вес, цвет, запах, вкус, силы, электрическая, магнитная, лекарственная и другие—зависят от протяжения, силы инерции, фигуры, движения и расположения частич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trud"/>
          <p:cNvPicPr/>
          <p:nvPr/>
        </p:nvPicPr>
        <p:blipFill>
          <a:blip r:embed="rId5"/>
          <a:stretch/>
        </p:blipFill>
        <p:spPr>
          <a:xfrm>
            <a:off x="5435640" y="4653000"/>
            <a:ext cx="2857320" cy="176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7:38:43Z</dcterms:created>
  <dc:creator>Тунгускова Л.И.</dc:creator>
  <dc:description/>
  <dc:language>en-US</dc:language>
  <cp:lastModifiedBy>User</cp:lastModifiedBy>
  <dcterms:modified xsi:type="dcterms:W3CDTF">2012-07-09T22:20:43Z</dcterms:modified>
  <cp:revision>67</cp:revision>
  <dc:subject>Экология</dc:subject>
  <dc:title>22 апреля- День Земли</dc:title>
</cp:coreProperties>
</file>