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8A8-BC33-4C79-B2FE-264322978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FF8C-8386-48C9-AB46-6807522304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3C66-9C8B-4149-B86D-F4BC70549F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AB0A-A697-44AC-A612-D0033E7A96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7F8-AB91-4C10-93E6-10901F8E4C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10A7-DAA1-4527-8A78-81665F44F8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C7F1-C228-46FA-9966-BBD14CE5D5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145-1B64-411B-8E71-C4C5095E41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C64A-B1BB-4FD0-A0C0-446232C8F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68B8-72B6-417F-8E41-237535DF22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D345-E505-43EA-8CAD-F4297E2277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8B7D-D9F3-47DF-9E7E-BADEFED810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A328-E685-423D-AC0A-CCBEC0D6DF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3CA0-9A98-439A-99DB-D24A06DB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4806-007B-40E9-A736-8EDF0B7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C346-51CF-4D1C-A669-D91F513E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2055-3722-4735-8C91-72C61727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AAC-1FAE-474D-ACBA-383FDBB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56AA-8808-4D87-B5A3-DF9D369B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D304-5749-4033-9E42-B3B6383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2D1-E2FF-4245-A3F5-9867708A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70B7-E431-4D5D-B103-2549D300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9933-79C7-4927-9BD9-ABF1F986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2A3-CBAA-49D3-BFA4-3A7BB40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4AE2-CCCB-47F2-8AB2-ED256C6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2D11-D6A6-4437-9DBF-D6B4D432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FDDF-A7EE-4313-ABD9-02185ED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0631-F3A0-4F87-8221-96F67167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BA26-A76D-45B1-B5D4-E2D764E2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359-5CC3-4FC9-BC0A-238D9AE6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A8E6-9F21-4B93-93AC-F1636A6B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413B-2700-4001-9A59-5E74FD1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D26F-2DEF-4DAF-8FA9-AFD8D5C8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B5F7-1DC6-46E2-8AD5-5EDFA99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6DF4-4F4F-403D-9498-5EB13BC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4264-7962-4D4B-A949-B97BDEA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77EE-214A-4E45-8EB0-B1EE2CF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180C-4B60-4E48-AE0C-727951A8AC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349F-2D75-407C-B7AC-0B982DA1F7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униципальное</a:t>
            </a:r>
            <a:r>
              <a:rPr b="1" lang="ru-RU" sz="6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щеобразовательное бюджетное учреждение  основная общеобразовательная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школа № 24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. Северокавказский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928840" y="5072040"/>
            <a:ext cx="27003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дин Петр Игоревич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8.08.1998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Люст 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286000" y="2071800"/>
            <a:ext cx="457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освоени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ос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ровая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освоения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см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56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77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86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7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Наталья</cp:lastModifiedBy>
  <dcterms:modified xsi:type="dcterms:W3CDTF">2012-02-27T05:54:29Z</dcterms:modified>
  <cp:revision>55</cp:revision>
  <dc:subject/>
  <dc:title>Мировая  история освоения  космоса</dc:title>
</cp:coreProperties>
</file>