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E553-0B57-4F9C-91BF-9F7DC07F54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5930-D07F-42ED-B029-7941AD7FBA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A0B2-A6AB-4570-AB06-2E2B58EE85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AD29-D799-456B-89A3-D56894C1BD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C6CC-9997-4B0D-B091-35146C8527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CF9D-84AB-41D3-877E-87731D2867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CBCB-B836-4D97-A31B-40D15925AE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A7D7-7D72-4916-A177-734E395DF6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BC73-FAD6-4218-A835-6AAA18B3E3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7A47-B998-48A0-B3E9-C46BC7AB28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67BA-FA27-4AC8-A46E-E7E87EEE2B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BCAD-FDD9-43A7-95C3-44A864B834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1B51-44EF-464E-8828-7797AB63C9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351B8-90B8-4DB0-BD2E-625D8277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96094-6AF9-416C-96D4-FD7C8C9F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91A1-932C-48E2-80A7-A3FF97B5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F34BB-113B-4399-9B29-4CC703B2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B34B-4AB2-4E7B-B5EA-16469ED3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6173-CCE6-4556-97AF-571110C1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483F-07CC-4791-ADB4-CC7A9D20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F1CA-B21A-423C-81D7-2CBDEFB1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CC69-74CE-4334-9353-BA6D953A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3706-61CD-4412-8063-643D1C90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63E6-ED04-47DE-9C3F-7FCC7D40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E24BA-FF01-47E3-BDB5-8AB0DFF1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6954-0618-468D-A60E-4D1505F5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D990-8D99-42AE-905D-B4A6414D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4A36-0818-49BF-A2C8-57B9AEAD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6E7A-1300-4DD7-BC17-4CFB38DC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5B5E-0EA4-4FAD-82A4-E8EDD2A9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0F384-547D-4901-8ADA-8001068C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818FC-AF5F-4546-AFC0-657B7494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E846-364C-4E22-AC79-C59B551A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1D345-6D2A-4A55-AEB6-E6B12EF0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62B2F-44E3-4045-9706-7254E613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8DBD4-6240-48D4-92C3-3ABB970E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B7E80-4E3F-4F83-B0E8-14393741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8B7E-01D6-4567-86DB-75277571EC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42B6-79CF-46FE-A6AF-A453626F0A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Муниципальное</a:t>
            </a:r>
            <a:r>
              <a:rPr b="1" lang="ru-RU" sz="60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общеобразовательное бюджетное учреждение  основная общеобразовательная 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школа № 24 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х. Северокавказский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928840" y="5072040"/>
            <a:ext cx="27003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ндин Петр Игоревич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8.08.1998г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ь: Люст Н.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2286000" y="2071800"/>
            <a:ext cx="4572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ровая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я освоения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мос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07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ля длительной работы в космосе используют станции «Салют» и «Мир». Размеры их таковы, что внутри могут длительное время жить и работать несколько космонавтов. Они ведут научные исследования не только внутри космического корабля, но и в открытом космосе. Связь станций с Землей осуществляется космическими кораблями типа «Союз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755640" y="18900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aramond"/>
              </a:rPr>
              <a:t>«Леонов в космосе»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BT001395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5977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4481280"/>
            <a:ext cx="9144000" cy="2376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Tahoma"/>
              </a:rPr>
              <a:t>Космические аппараты исследуют не только Землю, но и её естественный спутник – Луну. Много интересного рассказали о ней запущенные в СССР луноходы, управляемые с Земл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5" descr="moon4"/>
          <p:cNvPicPr/>
          <p:nvPr/>
        </p:nvPicPr>
        <p:blipFill>
          <a:blip r:embed="rId2"/>
          <a:stretch/>
        </p:blipFill>
        <p:spPr>
          <a:xfrm>
            <a:off x="0" y="0"/>
            <a:ext cx="4356000" cy="4525920"/>
          </a:xfrm>
          <a:prstGeom prst="rect">
            <a:avLst/>
          </a:prstGeom>
          <a:ln w="0">
            <a:noFill/>
          </a:ln>
        </p:spPr>
      </p:pic>
      <p:pic>
        <p:nvPicPr>
          <p:cNvPr id="151" name="ДиДюЛ-Каметы хвост.mp3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Тем не менее, первые годы развития космонавтики характеризовались не сотрудничеством, а острой конкуренцией в космической области (так называемая Космическая гонка). Международное сотрудничество стало интенсивно развиваться только в последние десятилетия, в первую очередь, благодаря совместному строительству и исследованиям на борту Международной космической стан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374472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егодняшний день характеризуется новыми проектами и планами освоения космического пространства. Активно развивается космический туризм. Пилотируемая космонавтика вновь собирается вернуться на Луну и обратила свой взор к далёкому Марс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Garamond"/>
              </a:rPr>
              <a:t>Марсох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0"/>
            <a:ext cx="428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грамма исследований Марса объединенными усилиями стран Земли предполагает запуск нескольких автоматических межпланетных станций и доставку экипажа из нескольких человек на Марс и обратно. До того, как на Марс ступит нога человека, он должен быть как следует изучен роботами. Недавно Марс исследовал первый марсоход - PathFinder(Следопыт)!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 своему назначению Следопыт похож на Луноход, однако ручное управление экипажем, движущимся по Марсу, совершенно невозможн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4" descr="marsohods"/>
          <p:cNvPicPr/>
          <p:nvPr/>
        </p:nvPicPr>
        <p:blipFill>
          <a:blip r:embed="rId1"/>
          <a:stretch/>
        </p:blipFill>
        <p:spPr>
          <a:xfrm>
            <a:off x="4284720" y="1557360"/>
            <a:ext cx="4859280" cy="42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уноход вел человек (между прочим, танкист): изображения телекамер передавались на Землю, водитель принимал решения и нажимал рычаги. Задержка составляла около трех секунд, к чему вполне можно было привыкнуть, тем более что Луноход двигался не очень быстро. Совсем другое дело - Марс, сигнал от которого идет к нам от трех до двадцати минут! Здесь многое приходится автоматизировать, доверять бортовым компьютерам, и тщательно планировать путь робота, чтобы он не упал в яму и не перевернулся от наезда на булыж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Выв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следования и освоение космоса приносят прежде всего практическую пользу. Например, теперь в нашем распоряжении надежная спутниковая теле- радиосвязь, точные прогнозы погоды и многое другое. Но, к сожалению, в результате активизации исследований, резкого увеличения числа запусков ракет-носителей и других аппаратов, а также связанных с этим последствий все чаще происходит загрязнение земной и околоземной среды, что пагубно влияет на экологию Земл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712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асибо за вним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147621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ировая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стория освоения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осмо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ДиДюЛ-Каметы хвост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15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155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115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АЖНЕЙШИЕ ЭТАПЫ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5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1104840" cy="1590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1547640" y="0"/>
            <a:ext cx="2232360" cy="1541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4206960" y="0"/>
            <a:ext cx="1463760" cy="155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4"/>
          <a:stretch/>
        </p:blipFill>
        <p:spPr>
          <a:xfrm>
            <a:off x="6145200" y="0"/>
            <a:ext cx="1317600" cy="1557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Безымянный2"/>
          <p:cNvPicPr/>
          <p:nvPr/>
        </p:nvPicPr>
        <p:blipFill>
          <a:blip r:embed="rId5"/>
          <a:stretch/>
        </p:blipFill>
        <p:spPr>
          <a:xfrm>
            <a:off x="7961400" y="0"/>
            <a:ext cx="1182600" cy="1628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6"/>
          <a:stretch/>
        </p:blipFill>
        <p:spPr>
          <a:xfrm>
            <a:off x="395280" y="3902040"/>
            <a:ext cx="4105440" cy="29559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0" y="2349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 октября 1957 — первый ИСЗ (СССР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0" y="2421000"/>
            <a:ext cx="88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— первый полёт человека в космос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Ю. Гагарин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250920" y="2852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8 марта 1965 — первый выход человека в открытый космос (А. Леонов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179280" y="242100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1 июля 1969 — высадка человека на Луну (Н. Армстронг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250920" y="227664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 апреля 1971 — первая орбитальная станция (СССР), позднее — совместно с США, создание международной станц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0" y="256536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 марта 1972 — запуск первого аппарата, покинувшего пределы Солнечной системы (Пионер-10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0" y="234936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81 — вывод на орбиту первого корабля многоразового использования («Колумбия»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9" descr="125922ma"/>
          <p:cNvPicPr/>
          <p:nvPr/>
        </p:nvPicPr>
        <p:blipFill>
          <a:blip r:embed="rId7"/>
          <a:stretch/>
        </p:blipFill>
        <p:spPr>
          <a:xfrm>
            <a:off x="5724360" y="3870360"/>
            <a:ext cx="298800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97" nodeType="after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4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76720" y="0"/>
            <a:ext cx="586728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04.10.1957. В 19:28 (22 ч 28 мин по московскому времени) с космодрома Байконур был осуществлен пуск ракеты-носителя "Спутник 8К71ПС" №М1-ПС, которая вывела на околоземную орбиту Первый в мире искусственный спутник Земли. Спутник отделился от второй ступени ракеты-носителя на 315-й секунде после старта и был выведен на орбит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6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156" dur="5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имел форму шара диаметром 58 см и весом 83,6 кг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нем были установлены два радиопередатчика, непрерывно излучающие сигналы с частотой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,005 и 40,002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гагерц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177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43280" y="-360"/>
            <a:ext cx="4500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бытие 4 октября 1957 года имело громадное значение для познания свойств космического пространства и изучения Земли как планеты нашей Солнечной систем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186" dur="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21928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пуском первого в мире спутни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 октябр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957 го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ыла открыта космическая эра в истории человечества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07" dur="5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292720" y="188640"/>
            <a:ext cx="38512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чалом пилотируемой космонавтики стал полёт советского космонавта Юрия Гагарина 12 апреля 196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7" descr="308b8760c13f5e6bfdc45222479"/>
          <p:cNvPicPr/>
          <p:nvPr/>
        </p:nvPicPr>
        <p:blipFill>
          <a:blip r:embed="rId1"/>
          <a:stretch/>
        </p:blipFill>
        <p:spPr>
          <a:xfrm>
            <a:off x="395280" y="333360"/>
            <a:ext cx="5138640" cy="619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00720" y="189000"/>
            <a:ext cx="4643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2.04.196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:07 с космодрома Байконур стартовала ракета-носитель 8К72, впоследствии названная РН "Восток",  которая вывела на околоземную орбиту советский космический корабль "Восток" 3КА №3. Впервые в мире космический корабль с человеком на борту ворвался в просторы Вселенн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6" descr="163711312"/>
          <p:cNvPicPr/>
          <p:nvPr/>
        </p:nvPicPr>
        <p:blipFill>
          <a:blip r:embed="rId1"/>
          <a:stretch/>
        </p:blipFill>
        <p:spPr>
          <a:xfrm>
            <a:off x="250920" y="189000"/>
            <a:ext cx="4681440" cy="525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gagarin"/>
          <p:cNvPicPr/>
          <p:nvPr/>
        </p:nvPicPr>
        <p:blipFill>
          <a:blip r:embed="rId2"/>
          <a:stretch/>
        </p:blipFill>
        <p:spPr>
          <a:xfrm>
            <a:off x="900000" y="3789360"/>
            <a:ext cx="341496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9:54:13Z</dcterms:created>
  <dc:creator>Alexey</dc:creator>
  <dc:description/>
  <dc:language>en-US</dc:language>
  <cp:lastModifiedBy>Наталья</cp:lastModifiedBy>
  <dcterms:modified xsi:type="dcterms:W3CDTF">2012-02-27T05:54:29Z</dcterms:modified>
  <cp:revision>55</cp:revision>
  <dc:subject/>
  <dc:title>Мировая  история освоения  космоса</dc:title>
</cp:coreProperties>
</file>