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985-6119-4864-8FE4-4B4CAAFC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92E-45E9-4921-8A59-172C6753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B97-979D-4E6D-B8DF-13E1D777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4AE-7089-4C8A-AF16-08638302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7953-53EF-44ED-8613-9330A2E7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37A9-0F97-4E17-B60D-61FD03F8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45FF-6F79-470C-B140-655699D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7D1-997B-408A-A403-A6E0CC2D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8F95-3260-469D-890A-BA529E71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EF90-6813-46E0-9611-0678046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64E-F3A1-49D5-882B-323DD9E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57E-4DA8-4762-BEBD-08691DC4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011-96F2-41FB-A3E6-D579227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7A3B-DE80-4ABC-9D3A-B8085F3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C55-2D60-4D8B-BB82-9EE3A560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6EFB-F9F5-4301-A1E4-F01DA086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CF3-C925-450D-B08F-0362BB93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D251-FA16-496E-8FEB-32E8C441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A4CF-B123-4BA2-91F7-3D801F51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A91D-BA6C-4674-9545-B19C5125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9CE8-3FC4-4E4D-8ADC-8C7E8C95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B293-741D-43E7-B93F-1D2276F0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3E77-04D7-4DE8-A417-FDB43388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5744-8E47-4A94-86FB-443BAE470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E8CA-6849-4BA5-97C6-CA8C4ED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F17B-6BD3-4469-947F-B1D0E7E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2C59-CD7D-42F5-8BFD-5C18A022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67F6-0D8C-4810-879C-EEC7214B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5467-6A03-42F8-BAA7-F05E4D68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4F2C-868E-4374-B5B9-FAF49EC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325F-8797-47D7-B439-96E03E10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88BC-1C3B-45DB-B18A-E9F1D2FE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2F57-204F-4B58-869A-FC554B49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B25-2D4B-4949-B90D-2A64817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5675-E8BA-44BE-85E0-FFFB0AEA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E3368-AB99-4EE0-86D7-A08C07DF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02A3-2303-4F46-86EC-039195DF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80894-FBB5-449B-BD9B-A7842724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9F84-DEC3-492B-B553-782DBA2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5EE3-0C08-41EA-B888-1541B817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AC865-DB62-46F7-91D5-814F11E6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FA1BC-73C9-42B4-8BF1-2A25CD1A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0BCBF-D4B7-46F0-9F6D-9488F8E6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9CB0B-4226-416A-8990-C49DF633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F6D-053D-41C1-A83F-23832E3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D081B-DB4F-4D47-A8BB-4B5CCBB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A4123-D4AF-4427-890B-DBEC4EBD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2108D-9A1F-4D5A-AAC9-0805EB8B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51ED7-9DEC-4FFA-B52F-37C775C3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B29F-30B1-4D11-B00A-13B51DD2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0415-A7D0-41F4-9C4E-92E8C3DF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B8B9-D371-47E7-9873-9E0FAAC6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368D8-3137-4EFE-92A8-B24E7C5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FE72F-452F-450A-B8F9-917DC10A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CBE65-F199-418F-8AD7-3FF6AE11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5FB-41DA-4403-B484-0450CB34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51147-9C2E-49C7-B24F-144B38AC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C2D-B69B-42BF-96EA-E0E75A7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F05-6D44-4514-9C6D-0C6A14AF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3C8-8B27-40A2-8E6E-598AFCE3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AD9E-D819-43A1-879C-FAFCA413D9B2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D95B-6D41-49E0-875D-2FCE613110EB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B34-FFF5-45E0-856A-78D448B1FDC2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005-17C3-4F38-8676-6A847A3FA4FB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1A8F-C3C3-4730-A987-CC9DF7DA531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75b7e"/>
                </a:solidFill>
                <a:latin typeface="Verdana"/>
              </a:rPr>
              <a:t>Сказочный дворик на ул. Правды </a:t>
            </a:r>
            <a:endParaRPr b="1" lang="en-US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c64"/>
                </a:solidFill>
                <a:latin typeface="Verdana"/>
              </a:rPr>
              <a:t>Выполнил ученик 3А 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c64"/>
                </a:solidFill>
                <a:latin typeface="Verdana"/>
              </a:rPr>
              <a:t>школы №3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a2c64"/>
                </a:solidFill>
                <a:latin typeface="Verdana"/>
              </a:rPr>
              <a:t>Зиновьев Его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пасибо за внимание :)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42" name="Содержимое 5" descr="0_14de1_aa6adc90_L.jpg"/>
          <p:cNvPicPr/>
          <p:nvPr/>
        </p:nvPicPr>
        <p:blipFill>
          <a:blip r:embed="rId1"/>
          <a:stretch/>
        </p:blipFill>
        <p:spPr>
          <a:xfrm>
            <a:off x="2844720" y="530280"/>
            <a:ext cx="3500640" cy="418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орик дома № 2 по улице Правды в Санкт-Петербурге - сказочное и необычное место в Петербурге для отдыха и прогулок. Это место - страна сказки "Изумрудный город"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м уже поселились герои сказки "Волшебник Изумрудного города" – Страшила, Трусливый Лев, Стелла, Людоед, Железный дровосек, Фарамон, Бастинда, Саблезубые тигры и Велин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b83d68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1640" y="1428840"/>
            <a:ext cx="3938760" cy="4225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входе в первый двор на фасаде размещен барельеф доброй феи Виллины: именно она первой повстречалась Элли в Волшебной стран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6" descr="Куда &#10;сходить с детьми в Питере"/>
          <p:cNvPicPr/>
          <p:nvPr/>
        </p:nvPicPr>
        <p:blipFill>
          <a:blip r:embed="rId1"/>
          <a:stretch/>
        </p:blipFill>
        <p:spPr>
          <a:xfrm>
            <a:off x="642960" y="642960"/>
            <a:ext cx="35002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b83d68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57800" y="1500120"/>
            <a:ext cx="4152960" cy="4154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т и «страшный» дворик: в нем разместится скульптурная группа из саблезубых тигров во главе с людоедом и злой колдуньей Бастиндо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Содержимое 4" descr="3le1bs-4ax.jpg"/>
          <p:cNvPicPr/>
          <p:nvPr/>
        </p:nvPicPr>
        <p:blipFill>
          <a:blip r:embed="rId1"/>
          <a:stretch/>
        </p:blipFill>
        <p:spPr>
          <a:xfrm>
            <a:off x="714240" y="5716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b83d68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2040" y="1500120"/>
            <a:ext cx="3438720" cy="4154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елтая дорога приведет путешественников в Изумрудный Город, охраняет который бессменный страж Фарамант. И, наконец, встреча с таинственным Гудвином... </a:t>
            </a:r>
            <a:br>
              <a:rPr sz="2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Содержимое 8" descr="VIG_013.jpg"/>
          <p:cNvPicPr/>
          <p:nvPr/>
        </p:nvPicPr>
        <p:blipFill>
          <a:blip r:embed="rId1"/>
          <a:stretch/>
        </p:blipFill>
        <p:spPr>
          <a:xfrm>
            <a:off x="571680" y="100008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побывать в Волшебной стране могут все желающие, и для этого не придется лететь в фургоне через пустыни и горы. Изумрудный город появился и радует своих г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Веселая виктори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На какой улице находится «Сказочный дворик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на улице Прав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Какой сказке посвящен «Сказочный дворик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«Волшебник Изумрудного город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Кто размещен при в ходе в пар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фея Вилл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Как звали злую колдунь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колдунья Бастин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Куда приводит «желтая дорога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в «Изумрудный город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04:30Z</dcterms:created>
  <dc:creator>Asus</dc:creator>
  <dc:description/>
  <dc:language>en-US</dc:language>
  <cp:lastModifiedBy>Admin</cp:lastModifiedBy>
  <dcterms:modified xsi:type="dcterms:W3CDTF">2010-04-21T11:45:57Z</dcterms:modified>
  <cp:revision>6</cp:revision>
  <dc:subject/>
  <dc:title>Сказочный дворик на ул. Правды</dc:title>
</cp:coreProperties>
</file>