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6AE-403E-456D-A374-00BDFFC2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9F0-257B-487A-9281-C4B56A97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0EC-A113-4E0E-BDD8-8D4FD82C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CAA-3618-496F-B178-16CE9F59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E8AD-2A72-4241-A961-B02DC27E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0069-3C9F-4A55-8231-EEB81615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E78B-A737-4403-A5B6-D0349C15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A2A7-33B6-4EBD-B426-7BD7C2E0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593A-B2D9-4EAE-920A-9ACE13C7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3DE4-53FC-41F7-98EE-1A0FDDD7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D79B-8ABA-45C0-A70E-9304864B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346-549B-425F-AF88-4CE5F01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C7F0-16A4-4771-8E5A-60D94E3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191C-F914-4B04-9787-1C3F9926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6FB5-626A-4A34-9F3C-692CFF58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F7A1-1D6F-439D-93A3-D4925A21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2115-3114-45F1-8897-ECAAA21B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08C2-4942-4B30-972D-EA6D5C52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6869-C585-405D-AA35-F04877AC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D0C25-9B63-45F8-8F18-C5EE4DA6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1460-811A-4BED-B689-4C4BD26C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D985-E075-4147-9BF6-B89C0C63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AE1-7CD1-415B-BA8E-49ECF11F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4B98-33D5-4122-9F21-5F2E36B4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B618-CD35-4C56-B87C-11FB963F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DF14-0818-409C-93EB-F5E66CC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FEEA-E901-4B02-9BBA-D5D932ED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94B1-D37D-48B2-B750-153FACB3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BA59-BC4F-4A86-8DE2-28E9BBE8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CD98-6DE2-49A5-AFB1-2AFE9C03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BD17-61A8-4018-B98F-F6B96636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1573-5382-455A-B614-FE331951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752B2-C58D-4EB6-B16C-40F1B2FA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BA8-F292-4581-8320-2B2914B1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AE886-C78C-4678-B255-9280680F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E653A-8F5D-4042-A7BE-F50F5991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56D7-3796-418B-86AD-BDFC25F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1DB6-C937-4F35-9F9F-D344E82B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45636-E11B-4EDD-A18A-62FA7F8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DCC47-2D60-40BF-9CC0-25F546A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09B8-113D-4912-890C-2718A2C0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E5D65-A034-4EA6-9E9C-72174656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4D89-4DE2-4691-B0AA-77DAE609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E7C58-2280-4B35-BEDC-D0DF49BA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7D2-094D-47BC-AE02-1CF061E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32B7-8A66-40DC-80BA-7EFD9BCC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BE076-DFED-418B-9710-CBC9F1C4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606B3-D2AD-40A9-A913-E606492E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5DB8-2E27-4197-B39C-F377E1F4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882EC-9D5A-468D-A3AB-E3B6147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99EE-0557-4951-8BFC-4375A231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3149A-3852-44CE-B23E-6C5B5ED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0955-E328-438A-A914-B2B91331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B2C9A-B71E-4FEC-9CB6-8EB1D8C6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B1C0-5701-4D8C-B8F2-D44671AC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128-0A8E-4B8B-8478-32B6C8D6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A55A-F217-430D-9A13-99670E98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1C3-9B37-4B3D-BD0A-DF1D11E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FDC-305B-47F2-BF72-C979C444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D30-E78D-4BD6-8C26-F5041CF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CC17-84B8-4CB9-9D93-51081A676F74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B945-1DBD-4111-BBEF-C63CB56051AC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019E-1665-4AE9-A065-FC83BF14F374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C775-1C48-4D71-822E-B9506B7E1BF5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4843-DD81-4561-BA47-BF6F3F1AAC07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75b7e"/>
                </a:solidFill>
                <a:latin typeface="Verdana"/>
              </a:rPr>
              <a:t>Сказочный дворик на ул. Правды </a:t>
            </a:r>
            <a:endParaRPr b="1" lang="en-US" sz="45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c64"/>
                </a:solidFill>
                <a:latin typeface="Verdana"/>
              </a:rPr>
              <a:t>Выполнил ученик 3А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c64"/>
                </a:solidFill>
                <a:latin typeface="Verdana"/>
              </a:rPr>
              <a:t>школы №3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c64"/>
                </a:solidFill>
                <a:latin typeface="Verdana"/>
              </a:rPr>
              <a:t>Зиновьев Его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Спасибо за внимание :)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42" name="Содержимое 5" descr="0_14de1_aa6adc90_L.jpg"/>
          <p:cNvPicPr/>
          <p:nvPr/>
        </p:nvPicPr>
        <p:blipFill>
          <a:blip r:embed="rId1"/>
          <a:stretch/>
        </p:blipFill>
        <p:spPr>
          <a:xfrm>
            <a:off x="2844720" y="530280"/>
            <a:ext cx="3500640" cy="418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орик дома № 2 по улице Правды в Санкт-Петербурге - сказочное и необычное место в Петербурге для отдыха и прогулок. Это место - страна сказки "Изумрудный город"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м уже поселились герои сказки "Волшебник Изумрудного города" – Страшила, Трусливый Лев, Стелла, Людоед, Железный дровосек, Фарамон, Бастинда, Саблезубые тигры и Велин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b83d68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1640" y="1428840"/>
            <a:ext cx="3938760" cy="4225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входе в первый двор на фасаде размещен барельеф доброй феи Виллины: именно она первой повстречалась Элли в Волшеб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Содержимое 6" descr="Куда &#10;сходить с детьми в Питере"/>
          <p:cNvPicPr/>
          <p:nvPr/>
        </p:nvPicPr>
        <p:blipFill>
          <a:blip r:embed="rId1"/>
          <a:stretch/>
        </p:blipFill>
        <p:spPr>
          <a:xfrm>
            <a:off x="642960" y="642960"/>
            <a:ext cx="350028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b83d6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57800" y="1500120"/>
            <a:ext cx="4152960" cy="4154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т и «страшный» дворик: в нем разместится скульптурная группа из саблезубых тигров во главе с людоедом и злой колдуньей Бастиндо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Содержимое 4" descr="3le1bs-4ax.jpg"/>
          <p:cNvPicPr/>
          <p:nvPr/>
        </p:nvPicPr>
        <p:blipFill>
          <a:blip r:embed="rId1"/>
          <a:stretch/>
        </p:blipFill>
        <p:spPr>
          <a:xfrm>
            <a:off x="714240" y="5716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b83d68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2040" y="1500120"/>
            <a:ext cx="3438720" cy="4154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елтая дорога приведет путешественников в Изумрудный Город, охраняет который бессменный страж Фарамант. И, наконец, встреча с таинственным Гудвином... 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Содержимое 8" descr="VIG_013.jpg"/>
          <p:cNvPicPr/>
          <p:nvPr/>
        </p:nvPicPr>
        <p:blipFill>
          <a:blip r:embed="rId1"/>
          <a:stretch/>
        </p:blipFill>
        <p:spPr>
          <a:xfrm>
            <a:off x="571680" y="100008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побывать в Волшебной стране могут все желающие, и для этого не придется лететь в фургоне через пустыни и горы. Изумрудный город появился и радует своих г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Веселая викторин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На какой улице находится «Сказочный дворик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на улице Прав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Какой сказке посвящен «Сказочный дворик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«Волшебник Изумрудного город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Кто размещен при в ходе в парк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фея Вилл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Как звали злую колдунь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колдунья Бастин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)Куда приводит «желтая дорога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в «Изумрудный город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04:30Z</dcterms:created>
  <dc:creator>Asus</dc:creator>
  <dc:description/>
  <dc:language>en-US</dc:language>
  <cp:lastModifiedBy>Admin</cp:lastModifiedBy>
  <dcterms:modified xsi:type="dcterms:W3CDTF">2010-04-21T11:45:57Z</dcterms:modified>
  <cp:revision>6</cp:revision>
  <dc:subject/>
  <dc:title>Сказочный дворик на ул. Правды</dc:title>
</cp:coreProperties>
</file>