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5AE-B03B-45D8-9FBF-4A0C32E8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702-3A28-4B48-9ADA-18E448DD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002-0A41-4EB3-9174-E05CC7F1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836-E88E-4050-A7B7-75C843EE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C85-D5E7-4334-A6C2-958ACAF6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9C1-69C6-4D4A-BDB9-6A39AD17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4E5-5945-47D7-96E5-75592956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574-234E-43ED-89B3-D378D1E0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753-AD58-4B86-80C6-7FD16D21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074-08AD-4237-981C-4A2B4569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B93-12E3-428F-84A3-90CC8581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019-64D1-47FF-B872-A602C922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E2E9-DA25-4D9D-8070-F11ACE059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058800">
            <a:off x="1115640" y="2565360"/>
            <a:ext cx="605808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то такое конституция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1989000"/>
            <a:ext cx="82090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Нынешняя Конституция РФ принималась в очень сложной обстановке, в условиях политического и экономического кризи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Долго обсуждались различные проекты нового основного за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Представители законодательной и исполнительной власти никак не могли договорится о том, на каком варианте останов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Наконец, были назначены выборы в Федеральное Собрание и Референдум (всенародное голосование) по новой Конституци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47628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стория принятия Конституции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20341800">
            <a:off x="826560" y="1483920"/>
            <a:ext cx="4896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12 декабря 1993 год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 rot="20228400">
            <a:off x="1115640" y="2781000"/>
            <a:ext cx="624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нята Конституция России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407664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4149720"/>
            <a:ext cx="63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Новая Конституция юридически закрепила переход России в разряд стран с демократической республиканской формой правления, рыночной экономикой, уважением к права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411280" y="787320"/>
            <a:ext cx="0" cy="528480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-418680"/>
            <a:ext cx="8207280" cy="728892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99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lfaen"/>
              </a:rPr>
              <a:t>ВВОДНАЯ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lfaen"/>
                <a:ea typeface="Times New Roman"/>
              </a:rPr>
              <a:t>КОНСТИТУЦИ</a:t>
            </a:r>
            <a:r>
              <a:rPr b="1" lang="en-US" sz="2000" spc="-1" strike="noStrike">
                <a:solidFill>
                  <a:srgbClr val="ff0066"/>
                </a:solidFill>
                <a:latin typeface="Sylfaen"/>
              </a:rPr>
              <a:t>И</a:t>
            </a:r>
            <a:r>
              <a:rPr b="1" lang="en-US" sz="2000" spc="-1" strike="noStrike">
                <a:solidFill>
                  <a:srgbClr val="ff0066"/>
                </a:solidFill>
                <a:latin typeface="Sylfaen"/>
                <a:ea typeface="Times New Roman"/>
              </a:rPr>
              <a:t>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Мы, многонациональный народ Российской Федер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соединенные общей судьбой на своей земле, утверждая права и свободы человека, гражданский мир и соглас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сохраняя исторически сложившееся государственное един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исходя из общепризнанных принципов равноправия и самоопределения народ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чтя память предков, передавших нам любовь и уважение к Отечеству, веру в добро и справедли­в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возрождая суверенную государственность России и утверждая незыблемость ее демократической ос­но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стремясь обеспечить благополучие и процветание Росс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исходя из ответственности за свою Родину перед нынешним и будущими поколениями, сознавая себя частью мирового сообщества,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принимаем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ff0066"/>
                </a:solidFill>
                <a:uFillTx/>
                <a:latin typeface="Sylfaen"/>
                <a:ea typeface="Times New Roman"/>
              </a:rPr>
              <a:t>КОНСТИТУЦИЮ РОССИЙСКОЙ ФЕДЕРАЦИИ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lfae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941040"/>
            <a:ext cx="720108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Sylfaen"/>
              </a:rPr>
              <a:t>СОДЕРЖ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lfaen"/>
              </a:rPr>
              <a:t>Раздел </a:t>
            </a: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ы конституционного стро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ава и свободы человека и граждан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едеративное устрой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зидент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едеральное Собр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авительство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7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удебная вла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ное само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ституционные поправки и пересмотр Конститу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-208080"/>
            <a:ext cx="8135640" cy="70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Российская Федерация   - Россия есть демократическое федеративное правовое государство с республиканской формой 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аименования Российская Федерация и Россия равнознач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Sylfaen"/>
              </a:rPr>
              <a:t>Статья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Человек, его права и свободы являются высшей ценностью. Признание, соблюдение и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защита прав и свобод человека и гражданина - обязанность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Sylfaen"/>
              </a:rPr>
              <a:t>Стать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арод осуществляет свою власть непосредственно, а также через органы государственной власти и органы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Высшим и непосредственным выражением власти народа являются референдум и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свободные выб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икто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е может присваивать власть в Российской Федерации. Захват власти или присвоение властных полномочий преследуются по федеральному зак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46476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348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Суверенитет Российской Федерации распространяется на всю ее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348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Конституция   Российской   Федерации   и   федеральные   законы имеют верховенство на всей территории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348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Российская Федерация обеспечивает целостность и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еприкосновенность своей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1. Российская Федерация     социальное государство, поли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которого направлена на создание условий, обеспечивающих достойную жизнь и свободное развити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2. В Российской Федерации охраняются труд и здоровье людей, устанавливается гарантированный минимальный размер оплаты труда, обеспечивается государственная поддержка семьи, материнства, отцовства и детства, инвалидов и пожилых граждан, развивается система социальных служб, устанавливаются государственные пенсии, пособия и иные гарантии социальной защ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620640"/>
            <a:ext cx="820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1. В Российской Федерации гарантируются 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экономического пространства, свободное перемещение товаров, услуг и финансовых средств, поддержка конкуренции, свобода эконом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2. В Российской Федерации признаются и защищаются равным образом частная, государственная, муниципальная и иные формы соб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53980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Государственная власть в Российской Федерации осуществляется на основе разделения на законодательную, исполнительную и судебную. Органы законодательной, исполнительной и судебной власти самостоятель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В Российской Федерации признается и гарантируется местное самоуправление. Местное самоуправление в пределах своих полномочий самостоятельно. Органы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местного самоуправления не входят в систему органов государствен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28080"/>
            <a:ext cx="8496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1. В Российской Федерации признается идеологическое многообраз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2. Никакая идеология не может устанавливаться в качест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государственной или обяз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3. В Российской Федерации признаются политическое многообразие, многопартий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4. Общественные объединения равны перед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5. Запрещается создание и деятельность обществ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объединений, цели или действия которых направлены на насильственное изменение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1. Российская Федерация - светское государство. Никакая религ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е может устанавливаться в качестве государственной или обяз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2. Религиозные объединения отделены от государства и равны перед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340000" y="549360"/>
            <a:ext cx="468000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дведем итоги</a:t>
            </a:r>
            <a:endParaRPr b="1" lang="en-US" sz="4000" spc="1" strike="noStrike">
              <a:ln w="9360">
                <a:solidFill>
                  <a:srgbClr val="99ff66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421000"/>
            <a:ext cx="806436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Главным законом нашей страны является Конституция Р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В ней записаны важные правила совместной жизни людей, эти правила носят общий характ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Существуют и другие законы, где более конкретно прописывается, как должен вести себя человек в той или иной правовой ситу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lfaen"/>
              </a:rPr>
              <a:t>Эти юридические правила следует исполнять, они создаются для сохранения организованной, безопасной жизни людей в одном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79640" y="83664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47640" y="476280"/>
            <a:ext cx="5616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стовое закрепление</a:t>
            </a:r>
            <a:endParaRPr b="1" lang="en-US" sz="1800" spc="1" strike="noStrike">
              <a:ln w="9360">
                <a:solidFill>
                  <a:srgbClr val="99ff66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197000"/>
            <a:ext cx="7993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1. Конституция – это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рупный юридический акт, содержащий все законы ст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сяга на верность государ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новной закон государства, определяющий его устройство, образование органов власти, фиксирующий права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2. Государственное устройство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нитарное;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едеративное;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нфедер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В РФ действу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исанная конституция;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писанная конститу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иктивная конститу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4. Когда была принята Конституция РФ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2 августа 1991 г.;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 декабря 1993 г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октября 1994 г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20838600">
            <a:off x="1187280" y="1052280"/>
            <a:ext cx="481968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НСТИТУЦИЯ - 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ОЙ ЗАКОН СТРАНЫ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378936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нститу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от латинского слова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onstitution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- устанавлива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58920" y="69228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404640"/>
            <a:ext cx="792000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5.  Депутаты Государственной Ду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збираются гражданами России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начаются президент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елегируются субъектами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6. С какого возраста гражданину РФ принадлежат основные права и свободы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7 лет;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18 лет;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рождения;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16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7. Как называется Российский парла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осударственная Д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нституционный су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рховный Сов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циональное собр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вет Фед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едерально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619280" y="1052640"/>
            <a:ext cx="629604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просы на размышления</a:t>
            </a:r>
            <a:endParaRPr b="1" lang="en-US" sz="4000" spc="1" strike="noStrike">
              <a:ln w="9360">
                <a:solidFill>
                  <a:srgbClr val="99ff66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2852640"/>
            <a:ext cx="7127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Согласны ли вы с утверждением: «Конституцию страны должен знать каждый гражданин этой страны»? Аргументируйте свое м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Какие качества личности необходимы, по вашему мнению, депутат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851440" cy="404964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250920" y="907920"/>
            <a:ext cx="7915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ссийская Федерация в 1991 - 2004 г.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2637000"/>
            <a:ext cx="777564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Россия состоит из равноправных субъектов (самостоятельно действующих частей) Федерации – республик, краев, областей, городов федерального зна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Каждая республика имеет свою конституцию, законодательство, а остальные субъекты – устав и законодатель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Россия имеет государственную целостность, т.е. она как государство едина и неделим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11280" y="549360"/>
            <a:ext cx="756108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то означает</a:t>
            </a:r>
            <a:endParaRPr b="1" lang="en-US" sz="32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Россия - федеративное государство"?</a:t>
            </a:r>
            <a:endParaRPr b="1" lang="en-US" sz="32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836640"/>
            <a:ext cx="8066160" cy="65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Sylfaen"/>
              </a:rPr>
              <a:t>Конституция </a:t>
            </a:r>
            <a:r>
              <a:rPr b="1" lang="en-US" sz="2000" spc="-1" strike="noStrike">
                <a:solidFill>
                  <a:srgbClr val="0066ff"/>
                </a:solidFill>
                <a:latin typeface="Sylfaen"/>
              </a:rPr>
              <a:t>– </a:t>
            </a: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это основной закон государства, определяющий, как устроено общество и государство, как образуются органы власти, каковы права и обязанности граждан, герб, гимн и флаг государства, его сто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2403360" cy="334476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19640" y="2492280"/>
            <a:ext cx="2511360" cy="273852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21058800">
            <a:off x="468000" y="980640"/>
            <a:ext cx="78008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чему конституцию называют основным законом?</a:t>
            </a:r>
            <a:endParaRPr b="1" lang="en-US" sz="28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068640"/>
            <a:ext cx="82090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Sylfaen"/>
              </a:rPr>
              <a:t>Ответ:</a:t>
            </a:r>
            <a:r>
              <a:rPr b="1" lang="en-US" sz="2800" spc="-1" strike="noStrike">
                <a:solidFill>
                  <a:srgbClr val="660033"/>
                </a:solidFill>
                <a:latin typeface="Sylfaen"/>
              </a:rPr>
              <a:t>  Все остальные законы должны ориентироваться на ее содержание, подчиняться ей, соответствовать ее положе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Sylfaen"/>
              </a:rPr>
              <a:t>Если какой – то закон противоречит конституции, он получает наиболее действие, идущее вразрез с «духом» и «буквой» конститу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Sylfaen"/>
              </a:rPr>
              <a:t>Конституция </a:t>
            </a:r>
            <a:r>
              <a:rPr b="1" lang="en-US" sz="3200" spc="-1" strike="noStrike">
                <a:solidFill>
                  <a:srgbClr val="660033"/>
                </a:solidFill>
                <a:latin typeface="Sylfaen"/>
              </a:rPr>
              <a:t>-</a:t>
            </a:r>
            <a:r>
              <a:rPr b="1" lang="en-US" sz="3200" spc="-1" strike="noStrike">
                <a:solidFill>
                  <a:srgbClr val="0066ff"/>
                </a:solidFill>
                <a:latin typeface="Sylfaen"/>
              </a:rPr>
              <a:t>  </a:t>
            </a:r>
            <a:r>
              <a:rPr b="1" lang="en-US" sz="3200" spc="-1" strike="noStrike">
                <a:solidFill>
                  <a:srgbClr val="660033"/>
                </a:solidFill>
                <a:latin typeface="Sylfaen"/>
              </a:rPr>
              <a:t>выступает как «общественный договор», заключаемый между гражданами и государ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Sylfaen"/>
              </a:rPr>
              <a:t>Принимаемая народом, она закрепляет общественное согласие, без которого невозможна совместная жизнь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Sylfaen"/>
              </a:rPr>
              <a:t>Конституция, выступает основой всего законодате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Sylfaen"/>
              </a:rPr>
              <a:t>Записанные в конституции законы – это крепкие сваи, на которых держится все общественное з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Sylfaen"/>
              </a:rPr>
              <a:t>Если конституционные нормы будут то и дело меняться, вся система правопорядка в стране зашат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060640"/>
            <a:ext cx="77770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Sylfaen"/>
              </a:rPr>
              <a:t>Для меня важно, что нынешняя Конституция обращена всеми своими статьями к личности, к человеку, к гражданину. В ней нет и намека на верховенство одних и даже косвенную подчиненность других. В ней черным по белому записано признание идеологического многообразия, политического  многообразия, многопартийности, равенства перед законом общественных организаций, то, что никакая религия не может признаваться государств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Sylfaen"/>
              </a:rPr>
              <a:t>Л. Корнешов, журна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71640" y="549360"/>
            <a:ext cx="712944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 бесспорном и спорном</a:t>
            </a:r>
            <a:endParaRPr b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1349640" cy="50734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3419640" y="155736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Конституция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– это письменный документ, который должен быть одобрен и принят парламентом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024000" cy="157824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24360" y="4508640"/>
            <a:ext cx="4038480" cy="210312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84360" y="2205000"/>
            <a:ext cx="7991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Принятие или изменение основного закона страны является очень ответственным дел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Над его подготовкой трудятся огромное количество специалистов. Предварительный вариант много раз обсуждается , проекты публикуются во всех газетах, и каждый гражданин может высказать свое пред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2:40:45Z</dcterms:created>
  <dc:creator>Станислав</dc:creator>
  <dc:description/>
  <dc:language>en-US</dc:language>
  <cp:lastModifiedBy>Станислав</cp:lastModifiedBy>
  <dcterms:modified xsi:type="dcterms:W3CDTF">2008-02-10T16:11:48Z</dcterms:modified>
  <cp:revision>13</cp:revision>
  <dc:subject/>
  <dc:title>Слайд 1</dc:title>
</cp:coreProperties>
</file>