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299-31B8-419F-9D63-FD8024C7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2E4-37F7-4010-B686-9F7AA66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243DD-63E0-4528-A3B8-B246955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F5BB6-3ED4-4AEC-BEAE-755143A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E5D37-A90A-40E1-AD63-0B054E39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9A3E3-ECB2-44FE-BED2-381A395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8F25C-7A97-491F-8709-2C77B66E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48D27-280B-49A8-8897-4939332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5114F-A97B-43D3-9F00-407CE8F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7399E-BBC7-4EF7-8315-B2D62F6D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A076B-4567-44E6-ACF0-5B6930E6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93D55-D471-4026-A3A8-3169576F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D30-83D2-4CE5-AD70-C2665FE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8F3CF-6B18-4EB9-BBD4-D25B34EE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7D1FB-C07D-43DE-AB2C-87A0522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89E16-85F2-4284-B84C-9BBBF98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41DED-1F63-4E53-8356-530D7A5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33C69-7E08-466F-9EC7-A5ED6596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8CD0B-7DD8-4AA0-AE9E-4B972504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FA0F3-B2B2-4C3B-B77E-4598AB6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94819-E004-45B7-B988-E437E3E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0D800-ED79-46E3-9E94-35D8F331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1012A-D7FF-4A13-AB01-EF8D491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97F-F23E-41EF-8147-B872A95C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F64E0-5719-46F2-8A5A-0FF3C95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2BBA-61AA-4BFA-9DFD-51FCCA8D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2362B-98A5-4DFE-ACB0-57CB1111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ABA1-FCC4-4EC8-95B5-ECDB9F0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0D4BC-775A-4F59-9191-980FBAD9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69786-6138-433E-A13B-B4374EB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2450-0FBC-4256-94FC-81A1E913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38D6-BC96-4750-AD76-123DB47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DF48-0722-47E3-9FBC-C5CADF9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4D4F7-2EB9-4EC5-85D9-7EBC0A1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20C5-52B2-451C-B7AD-21C79D09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828A3-3AEB-41CA-A8C5-7E362B09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C2BB7-C104-418C-882C-429CA197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7C354-0666-41DD-836B-36D4BF52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1F41E-0148-49F2-B7B0-6071AE85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3DEE6-B99A-4592-93C9-2DA3A913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C46E9-AFBB-46E7-A5D7-8D49D829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58EA5-C7BC-49E4-AB37-18922184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5B446-92C6-4C77-B6F9-DAD8EE3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967D0-3904-47BE-80EE-8212EB9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44D40-61FA-444A-B393-0E1403C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FAB-0CF9-4C24-8D04-20CE446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EC37F-F31E-4CA3-AA54-5BE4D59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C0295-5E39-40D1-9983-B1C1FDA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5C008-55E6-4C55-8FC8-D0264ED5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5AE77-B49B-4AA3-B13C-6F28D396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C3983-ED13-4F8A-A32A-9F9E022D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F90C-8835-484B-9DFE-9962A0E7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8775-0CB5-464A-9D8F-68B199F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4DF-B927-4A1C-BF61-7AB3AD12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5CF-FB79-4CFE-B01E-C88B1D46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DBC-B3C0-4329-830B-61804CD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765-B39D-46D8-AE43-9F6FEBCC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F35-B261-4A38-A344-9CE6921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67F-9A1E-46C1-80DD-C5A0C7F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FA6-1FEE-404C-9139-55A5A21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E427-79A5-414E-90C5-53499B71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AE46-1818-4758-8E5A-A20D3153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43B8-EFD3-414B-A102-E8C95371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7C8F-7233-49BA-9444-AF151C0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F8F2-7B58-492B-A2D0-E7490AF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8EC2-FB73-4322-868D-936C80E2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7A83-9289-46BD-81EF-5516BC5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EAA-766F-43AA-A7CC-EBFD034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1990-E6F8-42EA-9F74-46E239DE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9174-6D01-49B6-A399-5FFD8BA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6C92-0535-45AC-80BF-BE4FBDA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57CC-EB20-433C-AA9E-E931FEC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8CC2-586F-4B23-931A-C3FD2E0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2DFC-E0CE-48F1-BCF1-9B0717A7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8CB7-48BC-4A96-8E1D-6ED0A2A1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5698-2AFB-417E-98AE-9B073604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4A61-DFA5-46E8-B0F4-F6765610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1B02-AE36-4DEC-BC12-FE24533D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1D6-CE55-46F9-905B-D139D08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F64A-8B1C-489B-AADB-8B80796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2780-FC2B-4AF2-BD97-323CCF3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2AA4-8195-41A4-B745-4F39658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B6BD-6E92-400C-ACA3-1934FCF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E282-357E-46C1-92E9-73DDB2E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4C44-A797-406C-A1E5-DD50ABC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9F9C-D883-4992-BDC8-2F3681D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02DC-2904-4D3B-B76C-99E83876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16FF-2306-46DE-8F3F-F8EEB5EC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ACED-7728-4DEA-99A1-6A085C89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0EE-B3F7-4AF1-B63A-CB1CF88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BA3E-3845-4B1B-A7B4-260E0F8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F432-662C-4915-9E89-32400C77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2872-C33E-4CC3-8B88-474DD47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4B6F-0955-4E4F-965B-8490A22E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3D96-8A97-4E97-99D0-2DB14C32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F12D4-3A44-472A-A050-7FC336A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1D24-CE50-4ED9-8A07-1431864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BFCE-8621-4FFA-9C96-D174C7F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DCB7-E23B-45D5-A4DE-240483D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0D8C-574D-4875-8498-05946EEA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597-4FD1-4EE5-BBDC-E823A62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CA65-6C62-4339-8EB3-35B583EF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ED78-C1B2-4C36-AEB1-94ED45BF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D8C6-7A30-4830-A47C-C58DC42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2E32-5A00-444C-8DE9-2431E9A8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A1F5-F891-4F74-B08F-F269A159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5BFD-A86D-41DD-8D07-608721EB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635E-BF10-49D8-8371-94CECB22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7C81-BF9B-42C3-9997-39CF295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8652C-84FC-4642-A060-5DEF9CE1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D5E6-4DA8-45C7-976E-89E668A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1F7-A52E-4B5E-95E7-08DC1BB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E0A2-541A-45E2-878A-0F5ABCB1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1701-8F12-4CFE-B9BD-8122E27E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0A96-E07E-4A18-BACE-DF69980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6E3B-C1DD-44A2-A69E-93D35175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0D05-1796-4E6E-8D28-EF84391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4FE5-3C88-4371-AE1B-DDEBF66B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397CF-0D62-4D34-9B28-2D2EED0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E77F-0DA5-417A-8506-5992AF4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9ACA-789C-42FD-9AC1-178D2BE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D802-8A1A-426E-9B5B-DEFA132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12B-675B-4CCD-A7F6-2B56EEF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2986-2A08-4A33-9D38-CF4DAD6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9C20-8C8C-47AD-BE2A-A31E852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95A2-4091-4502-8BD4-8CEE7CF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433F-B9A6-42F0-A129-BF353EA6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B96B-9A09-401D-8608-FEEB1A7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DD96-95E4-4B2A-91A8-903CE1E1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81AD-AE78-47C2-ABFE-D06E7A14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FA92-FB3E-47DA-98AC-A212A7CF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6296-1F95-4F19-B425-921E71AE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ACE9-C036-41E7-B7D0-B74B3B37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D9E-277B-47EE-9210-B01AC9B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EBE06-9D3B-4821-B9B4-638F74B4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0712-BC33-486C-94E8-6644834D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FB98C-AB91-4D7D-960A-EBAFC4B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682E-A2BD-4077-AD3A-4360591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5612-603A-4B62-B4FE-64C3DE0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2DA5A-EFCF-43EC-8A64-D3D32A45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57F7-0271-4D8B-B880-01C3D3FE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8ADC1-BBF5-4193-819D-4005B4D8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0BEA5-4DE7-481A-8030-E1A5867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F0D5B-1CB3-404C-A3CA-761528AB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5EB-6927-4F30-A6B5-E0BF7465E3A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7FA-F2A2-4F93-B27C-118C8B9B868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9D9-CEE2-411F-AEDB-19E2881986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769-D41E-4C89-8301-FD36A15AB21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57C-ACEE-45B8-88A5-684ECC2077A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AD4-C9C9-417D-8F9C-1EE39C82DBE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CE6-ABB9-40C4-8BB4-5E46074B9E7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FFA-B94C-4770-BA47-86691555655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829-7FFF-4D7E-8D62-428EE477DB3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AD2A-5CC9-48B7-AE46-C5BDDBB6C13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9F8-45D8-4FEE-A397-EB759A7D098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619-06ED-4C6E-AC22-25F30E1D35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357720" y="3357360"/>
            <a:ext cx="53575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«МЕТОД РЕШЕНИЯ ХОРОШ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ЕСЛИ С САМОГО НАЧА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Ы МОЖЕМ ПРЕДВИДЕТЬ –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И ВПОСЛЕДСТВИИ ПОДТВЕРДИТЬ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ЧТО, СЛЕДУЯ ЭТОМУ МЕТОДУ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Ы ДОСТИГНЕМ ЦЕЛИ.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                                           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ЕЙБНИЦ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Различные методы решения неравенств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1. Исследование ОДЗ неизвестной. Примеры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3571920" cy="6429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9" descr=""/>
          <p:cNvPicPr/>
          <p:nvPr/>
        </p:nvPicPr>
        <p:blipFill>
          <a:blip r:embed="rId2"/>
          <a:stretch/>
        </p:blipFill>
        <p:spPr>
          <a:xfrm>
            <a:off x="928800" y="3571920"/>
            <a:ext cx="2428920" cy="10713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1" descr=""/>
          <p:cNvPicPr/>
          <p:nvPr/>
        </p:nvPicPr>
        <p:blipFill>
          <a:blip r:embed="rId3"/>
          <a:stretch/>
        </p:blipFill>
        <p:spPr>
          <a:xfrm>
            <a:off x="857160" y="2714760"/>
            <a:ext cx="61437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Georgia"/>
              </a:rPr>
              <a:t>4.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2. 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Использование ограниченности функции.</a:t>
            </a:r>
            <a:br>
              <a:rPr sz="28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Метод оценки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ногда неравенство                          устроено так, что на всей ОДЗ неизвестной       имеют место неравенства                      и                  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этом случае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решение неравенства                        сводится к нахождению тех значений    , для котор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решение неравенства                         сводится к нахождению ОДЗ неизвестной неравенств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1785960" cy="500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357200" cy="5004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1285920" cy="5716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4"/>
          <a:stretch/>
        </p:blipFill>
        <p:spPr>
          <a:xfrm>
            <a:off x="4643280" y="3286080"/>
            <a:ext cx="1714680" cy="5000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"/>
          <p:cNvPicPr/>
          <p:nvPr/>
        </p:nvPicPr>
        <p:blipFill>
          <a:blip r:embed="rId5"/>
          <a:stretch/>
        </p:blipFill>
        <p:spPr>
          <a:xfrm>
            <a:off x="7429680" y="3786120"/>
            <a:ext cx="128556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1" descr=""/>
          <p:cNvPicPr/>
          <p:nvPr/>
        </p:nvPicPr>
        <p:blipFill>
          <a:blip r:embed="rId6"/>
          <a:stretch/>
        </p:blipFill>
        <p:spPr>
          <a:xfrm>
            <a:off x="1071720" y="4286160"/>
            <a:ext cx="1571400" cy="4287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3" descr=""/>
          <p:cNvPicPr/>
          <p:nvPr/>
        </p:nvPicPr>
        <p:blipFill>
          <a:blip r:embed="rId7"/>
          <a:stretch/>
        </p:blipFill>
        <p:spPr>
          <a:xfrm>
            <a:off x="5500800" y="1928880"/>
            <a:ext cx="285480" cy="50004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5" descr=""/>
          <p:cNvPicPr/>
          <p:nvPr/>
        </p:nvPicPr>
        <p:blipFill>
          <a:blip r:embed="rId8"/>
          <a:stretch/>
        </p:blipFill>
        <p:spPr>
          <a:xfrm>
            <a:off x="5072040" y="3786120"/>
            <a:ext cx="214200" cy="446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17" descr=""/>
          <p:cNvPicPr/>
          <p:nvPr/>
        </p:nvPicPr>
        <p:blipFill>
          <a:blip r:embed="rId9"/>
          <a:stretch/>
        </p:blipFill>
        <p:spPr>
          <a:xfrm>
            <a:off x="4714920" y="4643280"/>
            <a:ext cx="1643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8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Метод оценки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мер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2714400" cy="57132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51436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9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Использование неотрицательности функций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усть левая часть неравенства                    есть сумма нескольких функций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становили, что каждая из этих функций неотрицательна на своей области определения. Тогда неравенство                  равносильно системе уравнени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 тех же условиях неравенство                    сводится к нахождению области определения функции           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1285920" cy="35712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4000680" y="1928880"/>
            <a:ext cx="4143240" cy="35712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3"/>
          <a:stretch/>
        </p:blipFill>
        <p:spPr>
          <a:xfrm>
            <a:off x="2571840" y="300024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"/>
          <p:cNvPicPr/>
          <p:nvPr/>
        </p:nvPicPr>
        <p:blipFill>
          <a:blip r:embed="rId4"/>
          <a:stretch/>
        </p:blipFill>
        <p:spPr>
          <a:xfrm>
            <a:off x="2643120" y="3643200"/>
            <a:ext cx="1928880" cy="114300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1" descr=""/>
          <p:cNvPicPr/>
          <p:nvPr/>
        </p:nvPicPr>
        <p:blipFill>
          <a:blip r:embed="rId5"/>
          <a:stretch/>
        </p:blipFill>
        <p:spPr>
          <a:xfrm>
            <a:off x="5929200" y="5072040"/>
            <a:ext cx="1285920" cy="42372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3" descr=""/>
          <p:cNvPicPr/>
          <p:nvPr/>
        </p:nvPicPr>
        <p:blipFill>
          <a:blip r:embed="rId6"/>
          <a:stretch/>
        </p:blipFill>
        <p:spPr>
          <a:xfrm>
            <a:off x="7715160" y="5429160"/>
            <a:ext cx="7146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500"/>
            </a:br>
            <a:r>
              <a:rPr b="0" lang="ru-RU" sz="2200" spc="-1" strike="noStrike">
                <a:solidFill>
                  <a:srgbClr val="7b9899"/>
                </a:solidFill>
                <a:latin typeface="Georgia"/>
              </a:rPr>
              <a:t>Использование неотрицательности функций.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мер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714240" y="2428920"/>
            <a:ext cx="6000840" cy="7142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5857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4.3. Использование монотонности функци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функция           возрастает на своей области определения, то неравенство                              на ОДЗ равносильно неравенству                 . 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функция           убывает на своей области определения, то неравенство                               на ОДЗ равносильно неравенству                    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785880" cy="4284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2214720" cy="35712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5" descr=""/>
          <p:cNvPicPr/>
          <p:nvPr/>
        </p:nvPicPr>
        <p:blipFill>
          <a:blip r:embed="rId3"/>
          <a:stretch/>
        </p:blipFill>
        <p:spPr>
          <a:xfrm>
            <a:off x="5572080" y="2357280"/>
            <a:ext cx="1643040" cy="5004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7" descr=""/>
          <p:cNvPicPr/>
          <p:nvPr/>
        </p:nvPicPr>
        <p:blipFill>
          <a:blip r:embed="rId4"/>
          <a:stretch/>
        </p:blipFill>
        <p:spPr>
          <a:xfrm>
            <a:off x="3065400" y="2857680"/>
            <a:ext cx="720720" cy="4284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"/>
          <p:cNvPicPr/>
          <p:nvPr/>
        </p:nvPicPr>
        <p:blipFill>
          <a:blip r:embed="rId5"/>
          <a:stretch/>
        </p:blipFill>
        <p:spPr>
          <a:xfrm>
            <a:off x="5500800" y="3286080"/>
            <a:ext cx="2286000" cy="42876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1" descr=""/>
          <p:cNvPicPr/>
          <p:nvPr/>
        </p:nvPicPr>
        <p:blipFill>
          <a:blip r:embed="rId6"/>
          <a:stretch/>
        </p:blipFill>
        <p:spPr>
          <a:xfrm>
            <a:off x="5715000" y="3714840"/>
            <a:ext cx="1571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спользование монотонности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2000160" cy="71460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857160" y="3286080"/>
            <a:ext cx="5429520" cy="7858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10" descr=""/>
          <p:cNvPicPr/>
          <p:nvPr/>
        </p:nvPicPr>
        <p:blipFill>
          <a:blip r:embed="rId3"/>
          <a:stretch/>
        </p:blipFill>
        <p:spPr>
          <a:xfrm>
            <a:off x="928800" y="1428840"/>
            <a:ext cx="3714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5. Метод рационализа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тод рационализации заключается в замене сложного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F(x) на б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е простое выражение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(x) (в конечном счете рациональ-но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), при которой неравенство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(x)      равносильно неравенству  F(x)         в области определения выраж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ия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F(x)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делим некоторые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F 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ответст-вующие им рационализирующие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6357960" y="2786040"/>
            <a:ext cx="571320" cy="5000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3" descr=""/>
          <p:cNvPicPr/>
          <p:nvPr/>
        </p:nvPicPr>
        <p:blipFill>
          <a:blip r:embed="rId2"/>
          <a:stretch/>
        </p:blipFill>
        <p:spPr>
          <a:xfrm>
            <a:off x="5784840" y="3143160"/>
            <a:ext cx="5018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етод  рационализа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01680" y="1527120"/>
          <a:ext cx="8504280" cy="45450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ражен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ражение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- 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h – 1)(f –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 - 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1)(g – 1)(h – 1)(g – 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h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h – 1)(f –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g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g)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g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g)(f +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· log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1)(g – 1)(h – 1)(p –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-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7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етод рационализации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2071800" cy="6429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2928960" cy="7858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3"/>
          <a:stretch/>
        </p:blipFill>
        <p:spPr>
          <a:xfrm>
            <a:off x="857160" y="3286080"/>
            <a:ext cx="4929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Общие методы решения неравенст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 Обобщенный метод интервало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Метод замены переменно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«Расщепление» неравенст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Использование свойств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1. Исследование области определения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2. Использование свойства ограниченности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3. Использование свойства монотонности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5. Метод рационализа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1384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4786560" cy="57132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2571840" cy="9288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5" descr=""/>
          <p:cNvPicPr/>
          <p:nvPr/>
        </p:nvPicPr>
        <p:blipFill>
          <a:blip r:embed="rId3"/>
          <a:stretch/>
        </p:blipFill>
        <p:spPr>
          <a:xfrm>
            <a:off x="1071720" y="3357720"/>
            <a:ext cx="4000320" cy="7142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7" descr=""/>
          <p:cNvPicPr/>
          <p:nvPr/>
        </p:nvPicPr>
        <p:blipFill>
          <a:blip r:embed="rId4"/>
          <a:stretch/>
        </p:blipFill>
        <p:spPr>
          <a:xfrm>
            <a:off x="1071720" y="4357800"/>
            <a:ext cx="5572080" cy="8571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9" descr=""/>
          <p:cNvPicPr/>
          <p:nvPr/>
        </p:nvPicPr>
        <p:blipFill>
          <a:blip r:embed="rId5"/>
          <a:stretch/>
        </p:blipFill>
        <p:spPr>
          <a:xfrm>
            <a:off x="1143000" y="5357880"/>
            <a:ext cx="3786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85480" y="1571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3571920" cy="50004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071720" y="2428920"/>
            <a:ext cx="4929120" cy="57132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1000080" y="3214800"/>
            <a:ext cx="3500640" cy="85716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7" descr=""/>
          <p:cNvPicPr/>
          <p:nvPr/>
        </p:nvPicPr>
        <p:blipFill>
          <a:blip r:embed="rId4"/>
          <a:stretch/>
        </p:blipFill>
        <p:spPr>
          <a:xfrm>
            <a:off x="1071720" y="4357800"/>
            <a:ext cx="407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1. Обобщенный метод интервал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6760"/>
            <a:ext cx="85042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менимость метода интервалов не ограничивается решением рациональных неравен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меняя метод интервалов к решению иррациональных, трансцендентных, комбинированных неравенств, говорят об обобщенном методе интерва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81c"/>
                </a:solidFill>
                <a:latin typeface="Palatino Linotype"/>
              </a:rPr>
              <a:t>Алгоритм обобщенного метода интервал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Привести неравенство к виду </a:t>
            </a:r>
            <a:r>
              <a:rPr b="0" lang="en-US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Найти область определения функции             (она же ОДЗ переменн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Найти нули функции 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   , решив уравнение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Изобразить на числовой прямой область определения и нули функ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Определить знаки функции на промежутках, входящих в область определения функ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Записать ответ, включив в него промежутки в соответствии со знаком неравенства (не забыть включить в ответ изолированные точки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1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1357560" cy="428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6786720" y="1857240"/>
            <a:ext cx="857160" cy="428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3"/>
          <a:stretch/>
        </p:blipFill>
        <p:spPr>
          <a:xfrm>
            <a:off x="4286160" y="257184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5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12859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Обобщенный метод интервалов. Приме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3643200" cy="92844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2"/>
          <a:stretch/>
        </p:blipFill>
        <p:spPr>
          <a:xfrm>
            <a:off x="500040" y="2857680"/>
            <a:ext cx="4429080" cy="5713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3"/>
          <a:stretch/>
        </p:blipFill>
        <p:spPr>
          <a:xfrm>
            <a:off x="928800" y="3929040"/>
            <a:ext cx="2000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2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.Метод замены переменной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0,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2500200" cy="100008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714240" y="3071880"/>
            <a:ext cx="5214960" cy="50004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3"/>
          <a:stretch/>
        </p:blipFill>
        <p:spPr>
          <a:xfrm>
            <a:off x="1643040" y="4000680"/>
            <a:ext cx="1500120" cy="5000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4"/>
          <a:stretch/>
        </p:blipFill>
        <p:spPr>
          <a:xfrm>
            <a:off x="4071960" y="4071960"/>
            <a:ext cx="2786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3.«Расщепление»  неравенств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левая часть неравенства представляет собой произведение двух выражений, а правая равна нулю, то схема решения неравенства опирается на правило знаков при умножении (делении) положительных и отрицательных чисел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мер 1.                                                 или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мер 2.                                        или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429240" y="3643200"/>
            <a:ext cx="1285920" cy="7146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2071800" y="3643200"/>
            <a:ext cx="3429000" cy="78588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7" descr=""/>
          <p:cNvPicPr/>
          <p:nvPr/>
        </p:nvPicPr>
        <p:blipFill>
          <a:blip r:embed="rId3"/>
          <a:stretch/>
        </p:blipFill>
        <p:spPr>
          <a:xfrm>
            <a:off x="2071800" y="4786200"/>
            <a:ext cx="2643120" cy="7858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4"/>
          <a:stretch/>
        </p:blipFill>
        <p:spPr>
          <a:xfrm>
            <a:off x="5857920" y="4786200"/>
            <a:ext cx="1285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«Расщепление»  неравенств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514368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" descr=""/>
          <p:cNvPicPr/>
          <p:nvPr/>
        </p:nvPicPr>
        <p:blipFill>
          <a:blip r:embed="rId2"/>
          <a:stretch/>
        </p:blipFill>
        <p:spPr>
          <a:xfrm>
            <a:off x="857160" y="2857680"/>
            <a:ext cx="4214880" cy="92844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"/>
          <p:cNvPicPr/>
          <p:nvPr/>
        </p:nvPicPr>
        <p:blipFill>
          <a:blip r:embed="rId3"/>
          <a:stretch/>
        </p:blipFill>
        <p:spPr>
          <a:xfrm>
            <a:off x="928800" y="3714840"/>
            <a:ext cx="32860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Использование свойств функции.</a:t>
            </a:r>
            <a:br>
              <a:rPr sz="2800"/>
            </a:b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1. Исследование области определения функции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дварительный анализ области определения функций, входящих в неравенство (ОДЗ неизвестной), иногда позволяет получить решение без преобразован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3:55:22Z</dcterms:created>
  <dc:creator>Женя</dc:creator>
  <dc:description/>
  <dc:language>en-US</dc:language>
  <cp:lastModifiedBy>Женя</cp:lastModifiedBy>
  <dcterms:modified xsi:type="dcterms:W3CDTF">2012-02-29T15:46:40Z</dcterms:modified>
  <cp:revision>85</cp:revision>
  <dc:subject/>
  <dc:title>Различные методы решения неравенств</dc:title>
</cp:coreProperties>
</file>