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CF4-B659-45F3-9487-65093356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A55-31F0-4099-A7B0-3644D931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676-47C9-4087-837B-5EB4F343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8AC-37F3-432C-83B1-DA4221B1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E1932-BC3F-445A-A859-5F7487AE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CB57F-A01C-42BA-B21D-D3620637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E33D6-EB17-4861-9B2E-74311C86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D751B-E8F4-443A-8F15-94134D9B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05B61-B857-4DA4-8F28-9D1B31F5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6A147-55E9-419B-962A-7AD7DB2F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E9056-5955-4DED-9338-07AE7FA8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582-AF91-4059-A607-4F31450D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8852E-9BEC-4E49-88BA-DE22BDF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0312E-EA44-4E63-950F-CECB7644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D4152-ADEF-4E3E-AAFB-3CB06959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5CA60-BA3E-45D0-AF36-47395E72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E0721-FBAA-4730-811A-27513576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DDB-9BA4-45F7-8308-1E5E8FA6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DEF-4301-4B7F-A68E-45157582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CE0-1194-48FA-82FB-A9A2797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26EB-66A1-4028-87FD-33D358CB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517-4BC2-404D-B68B-FAB4298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5BF-1F0A-4C05-8AB2-F2AD9C6C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BBB-1BD7-4B75-8D53-4B3D774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8E6E-6EE9-4724-BB4F-F759AD231C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24AC-A60C-4989-AB49-5D67E4D5F6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91960"/>
            <a:ext cx="821844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РЕКА НЕВА</a:t>
            </a:r>
            <a:br>
              <a:rPr sz="8000"/>
            </a:br>
            <a:r>
              <a:rPr b="0" lang="en-US" sz="4400" spc="-1" strike="noStrike">
                <a:solidFill>
                  <a:srgbClr val="ff66ff"/>
                </a:solidFill>
                <a:latin typeface="Tahoma"/>
              </a:rPr>
              <a:t>ПРЕЗЕНТАЦИЯ </a:t>
            </a:r>
            <a:br>
              <a:rPr sz="4400"/>
            </a:br>
            <a:r>
              <a:rPr b="0" lang="en-US" sz="4400" spc="-1" strike="noStrike">
                <a:solidFill>
                  <a:srgbClr val="ff66ff"/>
                </a:solidFill>
                <a:latin typeface="Tahoma"/>
              </a:rPr>
              <a:t>Викторович Ира 2 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9500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делаем Неву чистой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вода в Неве стала чистой, надо очищать канализационные стоки и стоки промышленных предприят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40360" y="2066760"/>
            <a:ext cx="475272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сток реки- Ладожское озеро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ева соединяет Ладожское озеро с Финским заливо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66960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лина реки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74 км, в черте города она течет на протяжении 28 к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Ширин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реки – от 600  до 1200 м (в дельте у Невских ворот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Глубин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от  8  до  24 метр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ротяженность укрепленных и одетых в гранит набережных составляет 143 км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89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еву впадает 26 небольших рек и речек. Основные притоки: слева - Мга, Тосна, Ижора, справа - Охта. Нева течет по широкой (30-50 км), плоской и заболоченной Приневской низмен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упнейшими островами в дельте Невы являются: Васильевский, Петроградский, Крестовский, Декабрис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27640" y="3789360"/>
            <a:ext cx="424800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248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Флора и фауна Нев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3164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тительности в Неве практически н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строе течение, холодная вода, отсутствие тихих заводей не благоприятствует жизни рыб. В Неве преобладают корюшка, ряпуш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гда попадаются крупные экземпляры рыбы: в 1956 году на Синопской набережной был выловлен сом весом 16.8 кг длиною 1,34 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2149560"/>
            <a:ext cx="403848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исхождение названия «Нев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сколько  гипотез происхождения названия ре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т финского слова «нёва» - болото, топь, тряси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От древнего финского названия Ладожского озера – «Нево» (морской залив, море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«Повести временных лет» название «Нево» относится и к реке и к Ладожскому озер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В шведских документах встречается название Невы «Ню» - нов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Наводн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воднения на реке Неве -стихийное бедствие для Санкт-Петербурга. Они влекут за собой затопление городских территорий и подтопление сооружений, расположенных на н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ремя наводнений – с сентября по декабр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чина: циклоны в Балтийском море с преобладанием западных ветров вызывают нагонную волну, двигающуюся в направлении устья Невы, где она сталкивается с естественным течением реки. Подъем воды усиливается из-за мелководья и пологости дна в Невской губ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88944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щё при Петре I для защиты города от наводнений старались поднять уровень застраиваемых земе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специально прорыт Обводный канал , который должен был защитить город от стих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крупнейшего наводнения в 1824 году инженером П. П. Базеном был разработан проект дамбы : поперек Финского залива, от Лисьего Носа через остров Котлин  до Ораниенбау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настоящий момент дамбу  достроили,  и она надежно защищает город от навод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460836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 Санкт-Петербург был основан, воду из Невы можно было пи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йчас в пределах Санкт-Петербурга Нева загрязнена промышленными стоками, в реку сливают отходы сотни промышленных предприятий. В реку ежегодно попадает более 80 тыс. тонн загрязняющих веще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е работники коммунального хозяйства придумали даже пословицу : «Петрокрепость пьет из Невы воду, Отрадное – чай, а Петербургу достается коф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ть воду из Невы уже нельз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1:26:19Z</dcterms:created>
  <dc:creator>ОЛЯ</dc:creator>
  <dc:description/>
  <dc:language>en-US</dc:language>
  <cp:lastModifiedBy>User</cp:lastModifiedBy>
  <dcterms:modified xsi:type="dcterms:W3CDTF">2012-07-08T08:09:08Z</dcterms:modified>
  <cp:revision>11</cp:revision>
  <dc:subject/>
  <dc:title>Река  НЕВА</dc:title>
</cp:coreProperties>
</file>