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0C0-1870-48F4-B8A2-2D787D1F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37A-0ADF-45A4-904F-1CF1E4AB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EE3-7DCC-44FC-A01F-B603D9B4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76B-D302-4F1D-BB44-7C574C22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1ECC0-C02C-45AA-BC07-7AB561AD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5C689-9259-4D66-AE5A-B4FF1935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68414-F1CB-4006-9966-ABCFAFF7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14F23-538A-4BBC-819C-FAD3084D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2AA5B-91BF-4A30-9EDB-729CAFC5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43323-4222-472E-B481-06DC0BFC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ACDC4-A065-4083-8498-290E1DEF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30B-34AE-48BA-AFA7-27242A87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10CC7-238D-4D92-8858-8844AAA1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5DE10-6303-4311-A1B4-ECC9970E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AAFF8-DBEC-4683-A3AF-744DC52C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689C8-FF4D-4D62-B11A-A1343DEE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E3AE0-4610-4604-AEA2-35E6C734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B49-ACF8-4D98-BC6A-CB19D202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5CA-C900-4457-AECB-BC992100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83C-AD38-493C-805A-985700BB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5BC-B365-413D-A624-CE38BD26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1D9-086F-4F18-B71A-C0C74FB5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EB3-E1BC-456C-B4EA-BF686261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00E-2E90-4130-885B-993D63BD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66D4-3CED-491A-B39E-69F9629F15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73A4-D2E7-4EB1-8CD4-55025A2946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91960"/>
            <a:ext cx="8218440" cy="55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РЕКА НЕВА</a:t>
            </a:r>
            <a:br>
              <a:rPr sz="8000"/>
            </a:br>
            <a:r>
              <a:rPr b="0" lang="en-US" sz="4400" spc="-1" strike="noStrike">
                <a:solidFill>
                  <a:srgbClr val="ff66ff"/>
                </a:solidFill>
                <a:latin typeface="Tahoma"/>
              </a:rPr>
              <a:t>ПРЕЗЕНТАЦИЯ </a:t>
            </a:r>
            <a:br>
              <a:rPr sz="4400"/>
            </a:br>
            <a:r>
              <a:rPr b="0" lang="en-US" sz="4400" spc="-1" strike="noStrike">
                <a:solidFill>
                  <a:srgbClr val="ff66ff"/>
                </a:solidFill>
                <a:latin typeface="Tahoma"/>
              </a:rPr>
              <a:t>Викторович Ира 2 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95008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делаем Неву чистой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ы вода в Неве стала чистой, надо очищать канализационные стоки и стоки промышленных предприят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140360" y="2066760"/>
            <a:ext cx="475272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сток реки- Ладожское озеро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ева соединяет Ладожское озеро с Финским залив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66960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Длина реки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74 км, в черте города она течет на протяжении 28 км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Ширин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реки – от 600  до 1200 м (в дельте у Невских ворот)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Глубин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от  8  до  24 метров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ротяженность укрепленных и одетых в гранит набережных составляет 143 км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89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еву впадает 26 небольших рек и речек. Основные притоки: слева - Мга, Тосна, Ижора, справа - Охта. Нева течет по широкой (30-50 км), плоской и заболоченной Приневской низмен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упнейшими островами в дельте Невы являются: Васильевский, Петроградский, Крестовский, Декабрис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424800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427640" y="765000"/>
            <a:ext cx="4248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Флора и фауна Нев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3164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тительности в Неве практически н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строе течение, холодная вода, отсутствие тихих заводей не благоприятствует жизни рыб. В Неве преобладают корюшка, ряпуш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гда попадаются крупные экземпляры рыбы: в 1956 году на Синопской набережной был выловлен сом весом 16.8 кг длиною 1,34 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2149560"/>
            <a:ext cx="403848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оисхождение названия «Нев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несколько  гипотез происхождения названия ре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От финского слова «нёва» - болото, топь, тряси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От древнего финского названия Ладожского озера – «Нево» (морской залив, море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«Повести временных лет» название «Нево» относится и к реке и к Ладожскому озер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В шведских документах встречается название Невы «Ню» - нов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Наводн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856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воднения на реке Неве -стихийное бедствие для Санкт-Петербурга. Они влекут за собой затопление городских территорий и подтопление сооружений, расположенных на н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емя наводнений – с сентября по декабр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чина: циклоны в Балтийском море с преобладанием западных ветров вызывают нагонную волну, двигающуюся в направлении устья Невы, где она сталкивается с естественным течением реки. Подъем воды усиливается из-за мелководья и пологости дна в Невской губ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388944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щё при Петре I для защиты города от наводнений старались поднять уровень застраиваемых земел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л специально прорыт Обводный канал , который должен был защитить город от стих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крупнейшего наводнения в 1824 году инженером П. П. Базеном был разработан проект дамбы : поперек Финского залива, от Лисьего Носа через остров Котлин  до Ораниенбау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стоящий момент дамбу  достроили,  и она надежно защищает город от навод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46083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 Санкт-Петербург был основан, воду из Невы можно было пи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йчас в пределах Санкт-Петербурга Нева загрязнена промышленными стоками, в реку сливают отходы сотни промышленных предприятий. В реку ежегодно попадает более 80 тыс. тонн загрязняющих веще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е работники коммунального хозяйства придумали даже пословицу : «Петрокрепость пьет из Невы воду, Отрадное – чай, а Петербургу достается коф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ть воду из Невы уже нельз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1:26:19Z</dcterms:created>
  <dc:creator>ОЛЯ</dc:creator>
  <dc:description/>
  <dc:language>en-US</dc:language>
  <cp:lastModifiedBy>User</cp:lastModifiedBy>
  <dcterms:modified xsi:type="dcterms:W3CDTF">2012-07-08T08:09:08Z</dcterms:modified>
  <cp:revision>11</cp:revision>
  <dc:subject/>
  <dc:title>Река  НЕВА</dc:title>
</cp:coreProperties>
</file>