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220-BDA6-4BE3-8F8C-9E5A1CB3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7CF-60CA-4540-8E33-28FB9AC6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2DC-3B36-4704-BCC0-FBF8B199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739-721F-4F4B-96D9-AC3C9F97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9EC-B216-499E-9A03-9418E12A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F952-10B4-4181-990A-55A30180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948-93A9-4BDB-82BB-213D19CA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ADB-CC24-4D65-9AAB-9E30053D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AF3-C5A0-4B07-8CFC-420BBD6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407-C1A1-4BEE-BE94-52CC4E68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F94-3AC0-4A13-9271-661F96DB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8FC-3EC6-49EB-8A8E-47C58F37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6BD3-BD19-47BE-BE21-E6E549531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90400" y="414360"/>
            <a:ext cx="7963200" cy="6029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4943520"/>
            <a:ext cx="587052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007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у выполнил: Пихтин Андр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 назовите ска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1897200" y="1600200"/>
            <a:ext cx="534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9646"/>
                </a:solidFill>
                <a:latin typeface="Calibri"/>
              </a:rPr>
              <a:t>Сказка о попе и работнике его Балде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назовите произ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3714840" y="1928880"/>
            <a:ext cx="5238720" cy="35431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Безымянный.JPG"/>
          <p:cNvPicPr/>
          <p:nvPr/>
        </p:nvPicPr>
        <p:blipFill>
          <a:blip r:embed="rId2"/>
          <a:stretch/>
        </p:blipFill>
        <p:spPr>
          <a:xfrm>
            <a:off x="214200" y="1285920"/>
            <a:ext cx="34005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9646"/>
                </a:solidFill>
                <a:latin typeface="Calibri"/>
              </a:rPr>
              <a:t>Руслан и Людми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 назовите ска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785880" y="1357200"/>
            <a:ext cx="35352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Безымянный.JPG"/>
          <p:cNvPicPr/>
          <p:nvPr/>
        </p:nvPicPr>
        <p:blipFill>
          <a:blip r:embed="rId2"/>
          <a:stretch/>
        </p:blipFill>
        <p:spPr>
          <a:xfrm>
            <a:off x="4786200" y="1357200"/>
            <a:ext cx="37720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2475000"/>
            <a:ext cx="82468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 назовите ска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2809800" y="1611360"/>
            <a:ext cx="35244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414360" y="2541600"/>
            <a:ext cx="87422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 Назовите произвед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4" descr="Безымянный.JPG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680" y="4928760"/>
            <a:ext cx="81151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e46c0a"/>
                </a:solidFill>
                <a:latin typeface="Calibri"/>
              </a:rPr>
              <a:t>Песнь о вещем Олеге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К какой сказке относится этот рисун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1571760" y="1714680"/>
            <a:ext cx="607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дание: </a:t>
            </a:r>
            <a:r>
              <a:rPr b="0" lang="ru-RU" sz="4400" spc="-1" strike="noStrike">
                <a:solidFill>
                  <a:srgbClr val="ff9900"/>
                </a:solidFill>
                <a:latin typeface="Calibri"/>
              </a:rPr>
              <a:t>Прочитайте отрывок к рисунк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928800" y="1857240"/>
            <a:ext cx="70768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1096920" y="2328840"/>
            <a:ext cx="7265880" cy="1932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Безымянный.JPG"/>
          <p:cNvPicPr/>
          <p:nvPr/>
        </p:nvPicPr>
        <p:blipFill>
          <a:blip r:embed="rId2"/>
          <a:stretch/>
        </p:blipFill>
        <p:spPr>
          <a:xfrm>
            <a:off x="4500720" y="3571920"/>
            <a:ext cx="4448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714560" y="1600200"/>
            <a:ext cx="39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 Как  называется сказ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500040" y="642960"/>
            <a:ext cx="42386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6" descr="Безымянный.JPG"/>
          <p:cNvPicPr/>
          <p:nvPr/>
        </p:nvPicPr>
        <p:blipFill>
          <a:blip r:embed="rId1"/>
          <a:stretch/>
        </p:blipFill>
        <p:spPr>
          <a:xfrm>
            <a:off x="714240" y="1571760"/>
            <a:ext cx="3429000" cy="433836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4035600" y="2352600"/>
            <a:ext cx="51148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К какой сказке относится эта картин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2460600" y="1600200"/>
            <a:ext cx="422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тв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4346640" y="1378080"/>
            <a:ext cx="4346640" cy="4754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Безымянный.JPG"/>
          <p:cNvPicPr/>
          <p:nvPr/>
        </p:nvPicPr>
        <p:blipFill>
          <a:blip r:embed="rId2"/>
          <a:stretch/>
        </p:blipFill>
        <p:spPr>
          <a:xfrm>
            <a:off x="687240" y="1643040"/>
            <a:ext cx="35989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 какой сказки эти слов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4857840" y="157176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ри девицы под окно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яли поздно вечерк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Безымянный.JPG"/>
          <p:cNvPicPr/>
          <p:nvPr/>
        </p:nvPicPr>
        <p:blipFill>
          <a:blip r:embed="rId1"/>
          <a:stretch/>
        </p:blipFill>
        <p:spPr>
          <a:xfrm>
            <a:off x="714240" y="1428840"/>
            <a:ext cx="33814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тве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2" descr=""/>
          <p:cNvPicPr/>
          <p:nvPr/>
        </p:nvPicPr>
        <p:blipFill>
          <a:blip r:embed="rId1"/>
          <a:stretch/>
        </p:blipFill>
        <p:spPr>
          <a:xfrm>
            <a:off x="19080" y="1378080"/>
            <a:ext cx="86742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4:33:48Z</dcterms:created>
  <dc:creator>Ученик-03</dc:creator>
  <dc:description/>
  <dc:language>en-US</dc:language>
  <cp:lastModifiedBy>сomp-00</cp:lastModifiedBy>
  <dcterms:modified xsi:type="dcterms:W3CDTF">2012-07-09T12:08:40Z</dcterms:modified>
  <cp:revision>58</cp:revision>
  <dc:subject/>
  <dc:title>Слайд 1</dc:title>
</cp:coreProperties>
</file>