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848A-2F53-4F72-9820-5F5D5527A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4AA9-80EA-4B86-A17C-45B940E81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2005-2560-4EE6-BAAC-8E58CEDD9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C58D-9928-4A86-AD33-7CB058D23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D09B-5F83-4885-8620-088A00EA8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E1F2-A99D-4D6E-BFB7-1A5A495EC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9D19-B3D1-43E1-B30E-E154C7DC0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5A46-CF59-456D-A5D9-AC18678C5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D32C-3258-4EA6-92B7-B0C89515F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A49F-272A-4365-9EF5-6C3B26EE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FE8B-6B8B-4DBA-AFEC-33121133F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D60B-FF0F-4E73-B4E7-3AD80731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7DFE3-190C-467D-B272-78170D0A58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320" y="571680"/>
            <a:ext cx="7786440" cy="242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ияние аграрной реформы П. А. Столыпина на становление производительных сил саратовской деревн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57840" y="4642920"/>
            <a:ext cx="391464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Объект 3"/>
          <p:cNvGraphicFramePr/>
          <p:nvPr/>
        </p:nvGraphicFramePr>
        <p:xfrm>
          <a:off x="0" y="0"/>
          <a:ext cx="9134640" cy="6848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34640" cy="684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Анализ обеспечения орудия труда клиентов банк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42960" y="2000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количеству инвентаря пашни клиентов банка превосходили в 2 раза общинные дворы, 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 плуг приходился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рно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озяйств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орона – на 3, 88 хозяйст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Этого явно недостаточ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Выделенцы без общин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Вывод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асть из них продали землю, ушли на заработки в город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ругая часть, землю купила, но не обрабатывала в достаточной степени – не мог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1680" y="428760"/>
            <a:ext cx="830088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000000"/>
                </a:solidFill>
                <a:latin typeface="Arial"/>
                <a:ea typeface="Arial"/>
              </a:rPr>
              <a:t>Конец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99680" y="2714400"/>
            <a:ext cx="8186760" cy="34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285840" y="428760"/>
            <a:ext cx="40384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дин из вопросов, который волнует российских реформаторов прошлого и настоящего, это та модель, которую следует взять за образец при проведении аграрных реформ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714920" y="428400"/>
            <a:ext cx="428616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еликий реформатор Пётр Аркадьевич Столыпин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C:\Documents and Settings\Администратор\Рабочий стол\d343d1e2d7a45624b588a190b72.jpg"/>
          <p:cNvPicPr/>
          <p:nvPr/>
        </p:nvPicPr>
        <p:blipFill>
          <a:blip r:embed="rId1"/>
          <a:stretch/>
        </p:blipFill>
        <p:spPr>
          <a:xfrm>
            <a:off x="5143680" y="2214720"/>
            <a:ext cx="3357360" cy="42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Из указа 9 ноября 1906 г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0" y="766800"/>
            <a:ext cx="9144000" cy="60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Каждый домохозяин, владеющий землей на общинном праве, может во всякое время требовать укрепления за собой в личную собственность причитающейся части из означенной земли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6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. Требования об укреплении в личную собственность части из общинной земли предъявляются через сельского старосту обществу, которое по приговору, постановленному простым большинством голосов, обязано в месячный со дня подачи заявления срок указать участки, поступающие в собственность домохозяина. Если в течение указанного срока общество такого приговора не поставит, то по ходатайству домохозямна все означенные действия исполняются на месте земским начальником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0" y="-360"/>
            <a:ext cx="9144000" cy="634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щина не охотно отпускала своих членов. Один хуторянин в сердцах подсчитывал, сколько водки ему пришлось поставить упрямым односельчанам: «когда просили о выходе ¼ ведра, при составлении договора – ½ ведра, домой пришли ¼ ведра, пошли землю обмерять ½ ведра, к земскому начальнику ½ ведра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http://www.stihi.ru/pics/2010/06/08/5766.jpg"/>
          <p:cNvPicPr/>
          <p:nvPr/>
        </p:nvPicPr>
        <p:blipFill>
          <a:blip r:embed="rId1"/>
          <a:stretch/>
        </p:blipFill>
        <p:spPr>
          <a:xfrm>
            <a:off x="0" y="2637000"/>
            <a:ext cx="914400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5357520" y="285840"/>
            <a:ext cx="332892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ас сожгли за то, что вы отруба взяли, пожалуйста, просим вас, откажитесь от отрубов, если не откажитесь от отрубов, то мы вас в сумку загоним и убьём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G:\01324d9e62.jpg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одействие крестьян реформ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99680" y="1714680"/>
            <a:ext cx="8372520" cy="46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бщинники оказывали моральное и физическое воздействие на выделенцев и членов их семей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ртили и уничтожали постройки и имущество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лечили скот и птицу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Жгли посевы выделенцев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етей не принимали в школу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олодожёнов не пускали венчаться в церковь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апрещали пользоваться дорогам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ак вы считаете, почему крестьяне противодействовали реформ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8000" y="1599840"/>
            <a:ext cx="82184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-за своей темноты и невеже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-за отсутствия государственной поддержки индивидуальных хозяйст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 воздействием революционной пропаганд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-за сложившихся психологических стереотип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-за боязни принятия самостоятельных реш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оги реформы в Саратовской губерни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Содержимое 3" descr=""/>
          <p:cNvPicPr/>
          <p:nvPr/>
        </p:nvPicPr>
        <p:blipFill>
          <a:blip r:embed="rId1"/>
          <a:stretch/>
        </p:blipFill>
        <p:spPr>
          <a:xfrm>
            <a:off x="500040" y="1857240"/>
            <a:ext cx="6615000" cy="3543480"/>
          </a:xfrm>
          <a:prstGeom prst="rect">
            <a:avLst/>
          </a:prstGeom>
          <a:ln w="0">
            <a:noFill/>
          </a:ln>
        </p:spPr>
      </p:pic>
      <p:sp>
        <p:nvSpPr>
          <p:cNvPr id="58" name="Скругленный прямоугольник 4"/>
          <p:cNvSpPr/>
          <p:nvPr/>
        </p:nvSpPr>
        <p:spPr>
          <a:xfrm>
            <a:off x="5929200" y="5214960"/>
            <a:ext cx="2928960" cy="1285920"/>
          </a:xfrm>
          <a:prstGeom prst="roundRect">
            <a:avLst>
              <a:gd name="adj" fmla="val 16667"/>
            </a:avLst>
          </a:prstGeom>
          <a:solidFill>
            <a:srgbClr val="ffcc99">
              <a:alpha val="12000"/>
            </a:srgbClr>
          </a:solidFill>
          <a:ln w="25560">
            <a:solidFill>
              <a:srgbClr val="ffffff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5% - составляла беднота, которая купила землю, чтобы ее продать и порвать с зем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авая фигурная скобка 5"/>
          <p:cNvSpPr/>
          <p:nvPr/>
        </p:nvSpPr>
        <p:spPr>
          <a:xfrm>
            <a:off x="6500880" y="2071800"/>
            <a:ext cx="714240" cy="2428920"/>
          </a:xfrm>
          <a:custGeom>
            <a:avLst/>
            <a:gdLst>
              <a:gd name="textAreaLeft" fmla="*/ 0 w 714240"/>
              <a:gd name="textAreaRight" fmla="*/ 257760 w 714240"/>
              <a:gd name="textAreaTop" fmla="*/ 18360 h 2428920"/>
              <a:gd name="textAreaBottom" fmla="*/ 2410560 h 242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5"/>
                  <a:pt x="10800" y="529"/>
                </a:cubicBezTo>
                <a:lnTo>
                  <a:pt x="10800" y="10271"/>
                </a:lnTo>
                <a:cubicBezTo>
                  <a:pt x="10800" y="10536"/>
                  <a:pt x="16200" y="10800"/>
                  <a:pt x="21600" y="10800"/>
                </a:cubicBezTo>
                <a:cubicBezTo>
                  <a:pt x="16200" y="10800"/>
                  <a:pt x="10800" y="11065"/>
                  <a:pt x="10800" y="11329"/>
                </a:cubicBezTo>
                <a:lnTo>
                  <a:pt x="10800" y="21071"/>
                </a:lnTo>
                <a:cubicBezTo>
                  <a:pt x="10800" y="21336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6"/>
          <p:cNvSpPr/>
          <p:nvPr/>
        </p:nvSpPr>
        <p:spPr>
          <a:xfrm>
            <a:off x="7286760" y="3000240"/>
            <a:ext cx="1500120" cy="7146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ffff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52% - Выделенц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Оставшиеся, которые не продали землю в 1912 г. из них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09:21:04Z</dcterms:created>
  <dc:creator>XTreme</dc:creator>
  <dc:description/>
  <dc:language>en-US</dc:language>
  <cp:lastModifiedBy>DNA7 X64</cp:lastModifiedBy>
  <dcterms:modified xsi:type="dcterms:W3CDTF">2012-06-24T12:04:44Z</dcterms:modified>
  <cp:revision>127</cp:revision>
  <dc:subject/>
  <dc:title>Влияние аграрной реформы П. А. Столыпина на становление производительных сил саратовской деревни.</dc:title>
</cp:coreProperties>
</file>