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B02-C13B-4CF6-B775-7CAA3BF8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6BA-AECC-456C-A9ED-EDBC2860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0EA-5D19-41B2-ACBC-A060B01C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325-D25F-4F5C-A9FE-864FB1D8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FA0-CE83-47A0-B2A0-B6DF84FC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B1E-F60E-455A-B49B-80F0D65D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4CC-34C2-49CA-85CE-BB49B78A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D81-8AAD-4958-B7C4-E5A8B55A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AEB-F44B-4860-809F-772A4959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805-EE06-4D1D-9C68-C5925799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4E4-EF1C-479D-8D55-1A8ABA06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F24-4BD3-4BCE-98A5-DF8B4367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496E-5282-4757-8068-D035D7FF9B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78644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аграрной реформы П. А. Столыпина на становление производительных сил саратовской дерев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57840" y="4642920"/>
            <a:ext cx="39146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Объект 3"/>
          <p:cNvGraphicFramePr/>
          <p:nvPr/>
        </p:nvGraphicFramePr>
        <p:xfrm>
          <a:off x="0" y="0"/>
          <a:ext cx="9134640" cy="684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34640" cy="68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нализ обеспечения орудия труда клиентов бан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429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количеству инвентаря пашни клиентов банка превосходили в 2 раза общинные дворы, 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плуг приходилс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зяйст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рона – на 3, 88 хозяй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того явно недостаточ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ыделенцы без общи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ь из них продали землю, ушли на заработки в горо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гая часть, землю купила, но не обрабатывала в достаточной степени – не мог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30088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Arial"/>
                <a:ea typeface="Arial"/>
              </a:rPr>
              <a:t>Конец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99680" y="2714400"/>
            <a:ext cx="818676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5840" y="428760"/>
            <a:ext cx="4038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дин из вопросов, который волнует российских реформаторов прошлого и настоящего, это та модель, которую следует взять за образец при проведении аграрных рефор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14920" y="428400"/>
            <a:ext cx="42861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ликий реформатор Пётр Аркадьевич Столыпи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Администратор\Рабочий стол\d343d1e2d7a45624b588a190b72.jpg"/>
          <p:cNvPicPr/>
          <p:nvPr/>
        </p:nvPicPr>
        <p:blipFill>
          <a:blip r:embed="rId1"/>
          <a:stretch/>
        </p:blipFill>
        <p:spPr>
          <a:xfrm>
            <a:off x="5143680" y="2214720"/>
            <a:ext cx="335736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з указа 9 ноября 1906 г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766800"/>
            <a:ext cx="914400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ждый домохозяин, владеющий землей на общинном праве, может во всякое время требовать укрепления за собой в личную собственность причитающейся части из означенной земл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 Требования об укреплении в личную собственность части из общинной земли предъявляются через сельского старосту обществу, которое по приговору, постановленному простым большинством голосов, обязано в месячный со дня подачи заявления срок указать участки, поступающие в собственность домохозяина. Если в течение указанного срока общество такого приговора не поставит, то по ходатайству домохозямна все означенные действия исполняются на месте земским начальник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-360"/>
            <a:ext cx="9144000" cy="63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ина не охотно отпускала своих членов. Один хуторянин в сердцах подсчитывал, сколько водки ему пришлось поставить упрямым односельчанам: «когда просили о выходе ¼ ведра, при составлении договора – ½ ведра, домой пришли ¼ ведра, пошли землю обмерять ½ ведра, к земскому начальнику ½ ведр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http://www.stihi.ru/pics/2010/06/08/5766.jpg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57520" y="285840"/>
            <a:ext cx="3328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ас сожгли за то, что вы отруба взяли, пожалуйста, просим вас, откажитесь от отрубов, если не откажитесь от отрубов, то мы вас в сумку загоним и убьём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G:\01324d9e6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действие крестьян реформ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9680" y="1714680"/>
            <a:ext cx="837252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щинники оказывали моральное и физическое воздействие на выделенцев и членов их семе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ртили и уничтожали постройки и имущество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лечили скот и птиц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гли посевы выделенце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тей не принимали в школ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лодожёнов не пускали венчаться в церков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прещали пользоваться дорог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 вы считаете, почему крестьяне противодействовали реформ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00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-за своей темноты и невеж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-за отсутствия государственной поддержки индивидуальных хозяйст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воздействием революционной пропаган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-за сложившихся психологических стереотип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-за боязни принятия самостоятельных реш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реформы в Саратовской губер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6615000" cy="3543480"/>
          </a:xfrm>
          <a:prstGeom prst="rect">
            <a:avLst/>
          </a:prstGeom>
          <a:ln w="0">
            <a:noFill/>
          </a:ln>
        </p:spPr>
      </p:pic>
      <p:sp>
        <p:nvSpPr>
          <p:cNvPr id="58" name="Скругленный прямоугольник 4"/>
          <p:cNvSpPr/>
          <p:nvPr/>
        </p:nvSpPr>
        <p:spPr>
          <a:xfrm>
            <a:off x="5929200" y="5214960"/>
            <a:ext cx="2928960" cy="1285920"/>
          </a:xfrm>
          <a:prstGeom prst="roundRect">
            <a:avLst>
              <a:gd name="adj" fmla="val 16667"/>
            </a:avLst>
          </a:prstGeom>
          <a:solidFill>
            <a:srgbClr val="ffcc99">
              <a:alpha val="12000"/>
            </a:srgbClr>
          </a:solidFill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5% - составляла беднота, которая купила землю, чтобы ее продать и порвать с зем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авая фигурная скобка 5"/>
          <p:cNvSpPr/>
          <p:nvPr/>
        </p:nvSpPr>
        <p:spPr>
          <a:xfrm>
            <a:off x="6500880" y="2071800"/>
            <a:ext cx="714240" cy="2428920"/>
          </a:xfrm>
          <a:custGeom>
            <a:avLst/>
            <a:gdLst>
              <a:gd name="textAreaLeft" fmla="*/ 0 w 714240"/>
              <a:gd name="textAreaRight" fmla="*/ 257760 w 714240"/>
              <a:gd name="textAreaTop" fmla="*/ 18360 h 2428920"/>
              <a:gd name="textAreaBottom" fmla="*/ 2410560 h 242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5"/>
                  <a:pt x="10800" y="529"/>
                </a:cubicBezTo>
                <a:lnTo>
                  <a:pt x="10800" y="10271"/>
                </a:lnTo>
                <a:cubicBezTo>
                  <a:pt x="10800" y="10536"/>
                  <a:pt x="16200" y="10800"/>
                  <a:pt x="21600" y="10800"/>
                </a:cubicBezTo>
                <a:cubicBezTo>
                  <a:pt x="16200" y="10800"/>
                  <a:pt x="10800" y="11065"/>
                  <a:pt x="10800" y="11329"/>
                </a:cubicBezTo>
                <a:lnTo>
                  <a:pt x="10800" y="21071"/>
                </a:lnTo>
                <a:cubicBezTo>
                  <a:pt x="10800" y="2133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6"/>
          <p:cNvSpPr/>
          <p:nvPr/>
        </p:nvSpPr>
        <p:spPr>
          <a:xfrm>
            <a:off x="7286760" y="3000240"/>
            <a:ext cx="1500120" cy="714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52% - Выделен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Оставшиеся, которые не продали землю в 1912 г. из ни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09:21:04Z</dcterms:created>
  <dc:creator>XTreme</dc:creator>
  <dc:description/>
  <dc:language>en-US</dc:language>
  <cp:lastModifiedBy>DNA7 X64</cp:lastModifiedBy>
  <dcterms:modified xsi:type="dcterms:W3CDTF">2012-06-24T12:04:44Z</dcterms:modified>
  <cp:revision>127</cp:revision>
  <dc:subject/>
  <dc:title>Влияние аграрной реформы П. А. Столыпина на становление производительных сил саратовской деревни.</dc:title>
</cp:coreProperties>
</file>