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79B2-89E6-44F2-BBDE-8BDB5D2CB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D48C-9949-4FE3-BB4F-4B3AA087C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8441-0C6B-4EED-B84B-74E1905B2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56A0-EE7D-42DD-9487-264F5836E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B9B83-4D89-4C7A-8521-9C1110F62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C21EB-9175-4A23-BA0A-90A81D10D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5ECE9-B2EB-419F-B936-22300CFF2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72D74-FBAC-427F-AFDB-8ABD22121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3F89A-DDE9-4625-84EB-7B0307596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0A9FB-1AAA-45AE-8E98-6BEF1A43B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32A1B-C305-4FA9-AE15-0DF0A5E4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9860-2A21-4CC5-909C-82668CB2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8DA9A-7569-4572-A850-C1B4797F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281D2-8605-4AF6-86F2-073F1503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ADA8F-A1D6-4B24-98E4-918054341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70298-C1A4-4CD5-98FB-D3B1A87CE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21779-857E-40F6-B26A-8006AE3F8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C09FF-6AAE-404F-8B4C-9D84ADEF3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32280-3ADB-4552-83E0-6E0F67F06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1BBB4-738F-4EFA-83E2-BB411AFEA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AA03F-E1DE-4638-9D91-21092C455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429D5-6187-45AB-A795-F950B01D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47D7-278F-4829-8676-AA47C0002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CDBCB-5D45-4D77-80F3-2814B618C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F688A-6A8D-4C3E-A4B2-D042C4BB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33143-4147-49AC-AB84-07C41634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AAFA1-1123-4F73-9EFA-89616C1F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0BBF1-D4F9-4815-9546-1FB1A981F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9DC34-618B-4992-833A-7622A012A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DBC39-5906-4DC9-B041-C662F0768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8C7B-98A7-4D5D-A485-4F91DA91A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EEC4-BE8E-4B8D-B1E0-D901353EF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37C7-655C-47DB-9CBD-372523944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2590-0ECA-4559-B2C2-C8D9AE6E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C3C5-2F2C-42F3-90BE-5DD29476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B245-0D0A-4D0E-BB5B-55BBD22B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E43DA-4C6B-4431-B58D-D54017882DD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1C00E-A3AA-4B83-8865-D6B4136AF73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EF5C3-36AE-4584-B767-9F98572D61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9.xml"/><Relationship Id="rId3" Type="http://schemas.openxmlformats.org/officeDocument/2006/relationships/slide" Target="slide13.xml"/><Relationship Id="rId4" Type="http://schemas.openxmlformats.org/officeDocument/2006/relationships/slide" Target="slide15.xml"/><Relationship Id="rId5" Type="http://schemas.openxmlformats.org/officeDocument/2006/relationships/slide" Target="slide15.xml"/><Relationship Id="rId6" Type="http://schemas.openxmlformats.org/officeDocument/2006/relationships/slide" Target="slide15.xml"/><Relationship Id="rId7" Type="http://schemas.openxmlformats.org/officeDocument/2006/relationships/slide" Target="slide20.xml"/><Relationship Id="rId8" Type="http://schemas.openxmlformats.org/officeDocument/2006/relationships/slide" Target="slide20.xml"/><Relationship Id="rId9" Type="http://schemas.openxmlformats.org/officeDocument/2006/relationships/slide" Target="slide20.xml"/><Relationship Id="rId10" Type="http://schemas.openxmlformats.org/officeDocument/2006/relationships/slide" Target="slide20.xml"/><Relationship Id="rId11" Type="http://schemas.openxmlformats.org/officeDocument/2006/relationships/slide" Target="slide20.xml"/><Relationship Id="rId12" Type="http://schemas.openxmlformats.org/officeDocument/2006/relationships/slide" Target="slide22.xml"/><Relationship Id="rId13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5280" y="1052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олотое сечение в поэз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042920" y="3213000"/>
            <a:ext cx="7121520" cy="21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втор: Новикова Дарь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еница 8з класса СОШ №6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Е. Ф. Рябинина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547640" y="1989000"/>
            <a:ext cx="56898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Е.Ф.Рябинина «Врем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49687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ремя, время, как бежишь ты быстр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 вода у горного ручь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росли уже мои артист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начит, с ними выросла и 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меня к вам больше нет претенз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за «двойки» некого руг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лько слов не выбросишь из песн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ыло всяко – нечего скрыват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ыли шаловливы, непослушн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Только это, право, не бед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 зато со мной единодуш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готовы к творчеству всег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 сейчас смотрю на вас с грустинк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сставаться жаль, но «се ля ви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усть от школы ровная тропи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ведёт вас к светлому пу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435640" y="5949720"/>
            <a:ext cx="34560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 строк, 4 столб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∙ 0,618=9,8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364000" y="1052640"/>
            <a:ext cx="3167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Стихотворение  написано в 2005 году когда Елена Федоровна выпускала своих любимых детей- 11а класс. Это были очень творческие ученики,  поэтому Елена Федоровна и говорила «мои артисты». А ещё они всегда были рядом в трудную минуту рядом с ней, Елена Федоровна ощущала в них своих единомышленников, друзей, а не просто учеников. Расставание с 11а классом было очень грустным, но светлым.      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                    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7092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Е.Ф. Рябинина  «Молодост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460836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Я знаю молодость прошл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стала зрелости расплат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о чаще нынче, чем когда-т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Я, забываю про д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 в юности лечу куда-т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Вдруг ощутив себя крылат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ываю яростно смел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и перед кем не винов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 без причины весела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о… всё же, молодость прош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755640" y="5589360"/>
            <a:ext cx="2951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стро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∙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,618=6,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932360" y="1197000"/>
            <a:ext cx="2806560" cy="54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Это стихотворение, как бы гимн моему возрасту, потому что я всегда верила и верю, что «есть в возрасте любом- хорошее».С годами к нам приходит мудрость и опыт, но иногда- ворчливость и занудство. Мне хочется, чтоб моя душа оставалась всегда молодой и «летящий» , а «старость меня дома не застала чтоб».Верю, что так и будет . Вернее, хочу, чтоб так было.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747400" y="623736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ahoma"/>
              </a:rPr>
              <a:t>Рябинина Е.Ф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«Учитель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Учитель! Учить! Учиться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лова, знакомые для всех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о этим званием гордит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е каждый может челове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едь учителем надо родит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с призванием этим жи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А ёще надо много трудитьс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Чтоб признание заслужи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е стареет учитель душо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с годами задор не теряе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А работа, что стала судьбо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ыть всегда молодым заставля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Мои соратники! Коллеги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рузья мои, учителя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егодня, в 21 век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ез нас прожить пока нельз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аш труд частично замени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омпьютеры и ЭВМ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о доброта и человеч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е подменяются нич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это, к счастью, ясно вс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42920" y="1268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тихотворение «Учитель» по содержанию золотым сечением делится на две смысловые ча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 первой части Елена Федоровна говорит  о своём призвании, о том какой человек, может быть учителем, и как нелёгок этот тру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торая часть является обращением к своим коллега, она уверена в том, что труд учителя, его доброта и человечность всегда будут востребова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 строка, 5 столбц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·0,618=12,9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>
            <a:hlinkClick r:id="" action="ppaction://hlinkshowjump?jump=previousslide"/>
          </p:cNvPr>
          <p:cNvSpPr/>
          <p:nvPr/>
        </p:nvSpPr>
        <p:spPr>
          <a:xfrm>
            <a:off x="6804000" y="5589720"/>
            <a:ext cx="936720" cy="360360"/>
          </a:xfrm>
          <a:custGeom>
            <a:avLst/>
            <a:gdLst>
              <a:gd name="textAreaLeft" fmla="*/ 23040 w 936720"/>
              <a:gd name="textAreaRight" fmla="*/ 913680 w 936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6113" h="21600">
                <a:moveTo>
                  <a:pt x="0" y="0"/>
                </a:moveTo>
                <a:lnTo>
                  <a:pt x="56113" y="0"/>
                </a:lnTo>
                <a:lnTo>
                  <a:pt x="56113" y="21600"/>
                </a:lnTo>
                <a:lnTo>
                  <a:pt x="0" y="21600"/>
                </a:lnTo>
                <a:close/>
              </a:path>
              <a:path fill="lightenLess" w="56113" h="21600">
                <a:moveTo>
                  <a:pt x="0" y="0"/>
                </a:moveTo>
                <a:lnTo>
                  <a:pt x="56113" y="0"/>
                </a:lnTo>
                <a:lnTo>
                  <a:pt x="54713" y="1400"/>
                </a:lnTo>
                <a:lnTo>
                  <a:pt x="1400" y="1400"/>
                </a:lnTo>
                <a:close/>
              </a:path>
              <a:path fill="darken" w="56113" h="21600">
                <a:moveTo>
                  <a:pt x="56113" y="0"/>
                </a:moveTo>
                <a:lnTo>
                  <a:pt x="56113" y="21600"/>
                </a:lnTo>
                <a:lnTo>
                  <a:pt x="54713" y="20200"/>
                </a:lnTo>
                <a:lnTo>
                  <a:pt x="54713" y="1400"/>
                </a:lnTo>
                <a:close/>
              </a:path>
              <a:path fill="darkenLess" w="56113" h="21600">
                <a:moveTo>
                  <a:pt x="561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13" y="20200"/>
                </a:lnTo>
                <a:close/>
              </a:path>
              <a:path fill="lighten" w="561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13" h="21600">
                <a:moveTo>
                  <a:pt x="21050" y="10800"/>
                </a:moveTo>
                <a:lnTo>
                  <a:pt x="35063" y="3794"/>
                </a:lnTo>
                <a:lnTo>
                  <a:pt x="35063" y="17806"/>
                </a:lnTo>
                <a:close/>
              </a:path>
            </a:pathLst>
          </a:custGeom>
          <a:solidFill>
            <a:srgbClr val="c49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зникова Валентина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ченица 10а класс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2787480" y="1805040"/>
            <a:ext cx="3569040" cy="41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8613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«Город родной».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39640" y="333360"/>
            <a:ext cx="439272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Verdana"/>
              </a:rPr>
              <a:t>Белой пеной, кипя и волнуясь,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Verdana"/>
              </a:rPr>
              <a:t>Колыхаясь под ветром суровым,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Verdana"/>
              </a:rPr>
              <a:t>Волны Каспия, гордо красуясь,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Verdana"/>
              </a:rPr>
              <a:t>Налетают грузом пудовым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Verdana"/>
              </a:rPr>
              <a:t>На брега, где из светлого камня,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Verdana"/>
              </a:rPr>
              <a:t>Белый Кремль легендой старинной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Verdana"/>
              </a:rPr>
              <a:t>Возрождает из красного пламя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Verdana"/>
              </a:rPr>
              <a:t>Прославленный город былинный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Verdana"/>
              </a:rPr>
              <a:t>Здесь, где цвет прикаспийской флоры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Verdana"/>
              </a:rPr>
              <a:t>Распускает великие листья,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Verdana"/>
              </a:rPr>
              <a:t>Где пот лебединые хоры,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Verdana"/>
              </a:rPr>
              <a:t>Виноград набирает кисти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Verdana"/>
              </a:rPr>
              <a:t>Где узоры чилима- ореха,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Verdana"/>
              </a:rPr>
              <a:t>И бакланов водные клинья,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Verdana"/>
              </a:rPr>
              <a:t>Где арбузам плестись не помеха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Verdana"/>
              </a:rPr>
              <a:t>Ветви ив, как паук паутиной,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Verdana"/>
              </a:rPr>
              <a:t>Волжский брег заплетают прекрасной…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Verdana"/>
              </a:rPr>
              <a:t>Где осётр, белуга, севрюга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Verdana"/>
              </a:rPr>
              <a:t>Рассекают старенький Каспий,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Verdana"/>
              </a:rPr>
              <a:t>Здесь дожди редки, да вьюга.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Verdana"/>
              </a:rPr>
              <a:t>Здесь жила я, живу, и жить буду,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Verdana"/>
              </a:rPr>
              <a:t>По стопам своих предков ступая,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Verdana"/>
              </a:rPr>
              <a:t>Здесь природа, подобная чуду,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Verdana"/>
              </a:rPr>
              <a:t>И поэзия льётся без края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5003640" y="5516640"/>
            <a:ext cx="2735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24 строки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24*0,382=9,168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003640" y="1413000"/>
            <a:ext cx="385128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Arial"/>
              </a:rPr>
              <a:t>Стихотворение делится  золотым сечением на две смысловые части. В первой из них говорится о самом Каспии , о Кремле. А во второй о его достоинствах, богатствах.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Arial"/>
              </a:rPr>
              <a:t>Мы с вами живем в удивительном городе Астрахани, окутанном легендами и преданиями. Старый седой Каспий дает ему животворную воду, а нам желание увидеть. Понять и воспеть красоту родного края. Словно былинный богатырь стоит Каспий на границе родного края. Валя видит эти образы и воплощаю их в стихотворении «Край родной». Ей как патриотке родного края хочется, чтобы все жители России знали о его природных богатствах, о его величии. 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4" name="">
            <a:hlinkClick r:id="" action="ppaction://hlinkshowjump?jump=previousslide"/>
          </p:cNvPr>
          <p:cNvSpPr/>
          <p:nvPr/>
        </p:nvSpPr>
        <p:spPr>
          <a:xfrm>
            <a:off x="7093080" y="6021360"/>
            <a:ext cx="647640" cy="287280"/>
          </a:xfrm>
          <a:custGeom>
            <a:avLst/>
            <a:gdLst>
              <a:gd name="textAreaLeft" fmla="*/ 18360 w 647640"/>
              <a:gd name="textAreaRight" fmla="*/ 629280 w 647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8661" h="21600">
                <a:moveTo>
                  <a:pt x="0" y="0"/>
                </a:moveTo>
                <a:lnTo>
                  <a:pt x="48661" y="0"/>
                </a:lnTo>
                <a:lnTo>
                  <a:pt x="48661" y="21600"/>
                </a:lnTo>
                <a:lnTo>
                  <a:pt x="0" y="21600"/>
                </a:lnTo>
                <a:close/>
              </a:path>
              <a:path fill="lightenLess" w="48661" h="21600">
                <a:moveTo>
                  <a:pt x="0" y="0"/>
                </a:moveTo>
                <a:lnTo>
                  <a:pt x="48661" y="0"/>
                </a:lnTo>
                <a:lnTo>
                  <a:pt x="47261" y="1400"/>
                </a:lnTo>
                <a:lnTo>
                  <a:pt x="1400" y="1400"/>
                </a:lnTo>
                <a:close/>
              </a:path>
              <a:path fill="darken" w="48661" h="21600">
                <a:moveTo>
                  <a:pt x="48661" y="0"/>
                </a:moveTo>
                <a:lnTo>
                  <a:pt x="48661" y="21600"/>
                </a:lnTo>
                <a:lnTo>
                  <a:pt x="47261" y="20200"/>
                </a:lnTo>
                <a:lnTo>
                  <a:pt x="47261" y="1400"/>
                </a:lnTo>
                <a:close/>
              </a:path>
              <a:path fill="darkenLess" w="48661" h="21600">
                <a:moveTo>
                  <a:pt x="48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61" y="20200"/>
                </a:lnTo>
                <a:close/>
              </a:path>
              <a:path fill="lighten" w="48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61" h="21600">
                <a:moveTo>
                  <a:pt x="17324" y="10800"/>
                </a:moveTo>
                <a:lnTo>
                  <a:pt x="31337" y="3794"/>
                </a:lnTo>
                <a:lnTo>
                  <a:pt x="31337" y="17806"/>
                </a:lnTo>
                <a:close/>
              </a:path>
            </a:pathLst>
          </a:custGeom>
          <a:solidFill>
            <a:srgbClr val="c49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ебя узнаю по глазам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0560" y="665280"/>
            <a:ext cx="346716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«Прохожий по асфальту мим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о мной соразмерит шаг…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ет, нет, не зовут меня Дин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ишу я совсем не та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Учу и читаю вновь смел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тихи ей свои без запино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шибки по ритму умел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справит без лишних ужимо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« Да нет же, читай, не стесняйся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округ не чужие- поэт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Лицо ты не прячь, не теряйс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едь это не жизнь кюве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 любви не кидайся ты ому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е веруй в фальшивые слёз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спьёшь неудач ещё рому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астигнут и вёсны, и грёзы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Ты знаешь, все здесь мы – поэ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т маленьких и до взрослых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вои кто-то пишет соне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о осень, дожди и про вёс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то просто и в рифму изложи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Любовь и извечный свой страх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ерлибром другой уничтожи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Тот мир, что является в снах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е знаешь, о чём вновь напишешь?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Я новую тему под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Здесь каждый- поэт, ты слышишь?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Тебя узнаю по глаза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859280" y="549360"/>
            <a:ext cx="3889440" cy="54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Поэзия- удивительный мир непостижимого, в котором живут весна и мечты о прекрасном. Очень хорошо, когда на пути начинающего поэта встречается человек, понимающий и готовый помочь направить творческие порывы в нужное русло. Таким человеком стала для меня талантливая астраханская поэтесса Дина Ленидовна Немировская. Именно она помогла мне ощутить полет творчества. Своё стихотворение «Тебя узнаю по глазам» я посветила ей, потому что только настоящий поэт может узнать другого поэта по взгляду»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Резникова Валя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51640" y="6078600"/>
            <a:ext cx="2303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28строк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28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  <a:ea typeface="Arial"/>
              </a:rPr>
              <a:t>·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  <a:ea typeface="Arial"/>
              </a:rPr>
              <a:t>0,618=17,304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-612720" y="18864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.С. Мищенко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94920" y="765000"/>
            <a:ext cx="40338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па снова сидит на крылечк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ма в доме печёт пиро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ам опять привело сердечк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болело оно от трево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бегу, в впопыхах поцелую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ирога отведаю вку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 простите, что убегаю я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оздать на работу бою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этом старом ветшающем до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Собиралась моя сем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десь до боле мне всё знаком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десь росла и влюбилась 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ас уже навещают вну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 их  любите больше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 сухие в морщинах рук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то гордость семьи мо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427640" y="5950080"/>
            <a:ext cx="330984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 строк, 4 столб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0,618=9,8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932360" y="982440"/>
            <a:ext cx="4032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Это стихотворение посвящено родителям Мищенко Светланы Сергеевны. В этом произведении автор говорит о возникающих в ее душе положительных эмоциях, которые  рождаются  при воссоздании картин детства, о безграничной любви к своей семье, о теплоте   в отношениях к своим родителям, к своему дому,  в котором она выросла.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Мне кажется, что строки,  на которые  падает «золотое сечение», указывают на то,  что дороже всего для любого человека – его семья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24000" y="259920"/>
            <a:ext cx="79200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ищенко С.С. «Мои стих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35272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не нравится писать стих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 совершенства дале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 не Ахматова, не Пушки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и стихи – мои игруш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 призывают в бой за прав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 воспевают героиз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 в детстве каждая игрушка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 чья-то маленькая жиз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Лежит зайчишка вислоух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Ему сын песенки по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ди ко мне, малыш, на ру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 время быстрое теч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грушки лечат и спаса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 одиночества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и стихи – мои игруш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не легче и тепл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3640" y="1413000"/>
            <a:ext cx="2519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16 строк, 4 столбц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16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  <a:ea typeface="Arial"/>
              </a:rPr>
              <a:t>·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  <a:ea typeface="Arial"/>
              </a:rPr>
              <a:t>0,618=9,888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076720" y="2492280"/>
            <a:ext cx="3598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азизова Люция ученица 10а класса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«Я спешу за облакам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403236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 спешу за облакам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 догнать их не мо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коснуться бы рука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ыстро-быстро я бе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тер волосы мне трепл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лнце спрятала ли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трава тихонько шеп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Непонятные сл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 одна среди природы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то редкий дар судьб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ь, простор, проснулись звёзды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йский уголок зем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796000" y="5661000"/>
            <a:ext cx="237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12 строк, 3 столбц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  <a:ea typeface="Arial"/>
              </a:rPr>
              <a:t>·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  <a:ea typeface="Arial"/>
              </a:rPr>
              <a:t>0,618=7,416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435640" y="1916280"/>
            <a:ext cx="338436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В этой строке, человеку, посвященному в поэзию может открыться глубокий смысл. Только настоящий поэт в состоянии понять шепот травы, уловить дыхание ветра потому что обычные люди находятся в пучине суетной будничной жизни, и нет времени остаться на едине с природой. И поэтому никому не понятны слова. Они открывают для Люции редкие ,но удивительные мгновения общения с природой.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36280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Lucida Console"/>
              </a:rPr>
              <a:t>Золотое сечение</a:t>
            </a:r>
            <a:r>
              <a:rPr b="0" lang="ru-RU" sz="2400" spc="-1" strike="noStrike">
                <a:solidFill>
                  <a:srgbClr val="000000"/>
                </a:solidFill>
                <a:latin typeface="Lucida Console"/>
              </a:rPr>
              <a:t> – это такое пропорциональное деление отрезка на неравные части, при котором весь отрезок так относится к большей части, как сама большая часть относится к меньшей; или другими словами, меньший отрезок так относится к большему, как больший ко вс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Lucida Console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Lucida Console"/>
              </a:rPr>
              <a:t> : </a:t>
            </a:r>
            <a:r>
              <a:rPr b="0" i="1" lang="ru-RU" sz="3200" spc="-1" strike="noStrike">
                <a:solidFill>
                  <a:srgbClr val="000000"/>
                </a:solidFill>
                <a:latin typeface="Lucida Console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Lucida Console"/>
              </a:rPr>
              <a:t> = </a:t>
            </a:r>
            <a:r>
              <a:rPr b="0" i="1" lang="ru-RU" sz="3200" spc="-1" strike="noStrike">
                <a:solidFill>
                  <a:srgbClr val="000000"/>
                </a:solidFill>
                <a:latin typeface="Lucida Console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Lucida Console"/>
              </a:rPr>
              <a:t> : </a:t>
            </a:r>
            <a:r>
              <a:rPr b="0" i="1" lang="ru-RU" sz="3200" spc="-1" strike="noStrike">
                <a:solidFill>
                  <a:srgbClr val="000000"/>
                </a:solidFill>
                <a:latin typeface="Lucida Console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Lucida Console"/>
              </a:rPr>
              <a:t> или </a:t>
            </a:r>
            <a:r>
              <a:rPr b="0" i="1" lang="ru-RU" sz="3200" spc="-1" strike="noStrike">
                <a:solidFill>
                  <a:srgbClr val="000000"/>
                </a:solidFill>
                <a:latin typeface="Lucida Console"/>
              </a:rPr>
              <a:t>с</a:t>
            </a:r>
            <a:r>
              <a:rPr b="0" lang="ru-RU" sz="3200" spc="-1" strike="noStrike">
                <a:solidFill>
                  <a:srgbClr val="000000"/>
                </a:solidFill>
                <a:latin typeface="Lucida Console"/>
              </a:rPr>
              <a:t> : </a:t>
            </a:r>
            <a:r>
              <a:rPr b="0" i="1" lang="ru-RU" sz="3200" spc="-1" strike="noStrike">
                <a:solidFill>
                  <a:srgbClr val="000000"/>
                </a:solidFill>
                <a:latin typeface="Lucida Console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Lucida Console"/>
              </a:rPr>
              <a:t> = </a:t>
            </a:r>
            <a:r>
              <a:rPr b="0" i="1" lang="ru-RU" sz="3200" spc="-1" strike="noStrike">
                <a:solidFill>
                  <a:srgbClr val="000000"/>
                </a:solidFill>
                <a:latin typeface="Lucida Console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Lucida Console"/>
              </a:rPr>
              <a:t> : </a:t>
            </a:r>
            <a:r>
              <a:rPr b="0" i="1" lang="ru-RU" sz="3200" spc="-1" strike="noStrike">
                <a:solidFill>
                  <a:srgbClr val="000000"/>
                </a:solidFill>
                <a:latin typeface="Lucida Console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Lucida Console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2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Console"/>
              </a:rPr>
              <a:t>Коэффициент золотого сечения: 0,618 или 1,61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826920" y="4797360"/>
            <a:ext cx="7770960" cy="15429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 txBox="1"/>
          <p:nvPr/>
        </p:nvSpPr>
        <p:spPr>
          <a:xfrm>
            <a:off x="1476360" y="189000"/>
            <a:ext cx="5695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нятие золотого сечения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азизова Люция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Пророчество Древнир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042920" y="148392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ревнее пророчество сбывае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д башней тучи сгущают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гонь полыхает в печ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кроют все двери клю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выйдет из ада 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видит её из ок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вчонка двенадцати лет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бийца того, кого 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лопнет верёвка тог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же не уйти в Нику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ремя несётся назад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круг расстилается а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иганты из жуткого с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Война! Мы готовы! Война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 теплится вера в душ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оть силы иссякли уж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асёт нас подросток опять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бро будет зло побежд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364000" y="1844640"/>
            <a:ext cx="1951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ahoma"/>
              </a:rPr>
              <a:t>18·0,618=11,124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339520" y="1413000"/>
            <a:ext cx="106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ahoma"/>
              </a:rPr>
              <a:t>18строк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219640" y="2349360"/>
            <a:ext cx="3456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Times New Roman"/>
              </a:rPr>
              <a:t>В данном произведении золотое сечение падает на строчку «Время несётся назад». Автор как бы подчёркивает , что все в нашем мире   повторяется с закономерной очередностью. Настоящий поэт –философ всегда найдет в настоящем связь прошлого и будущего.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6" name="">
            <a:hlinkClick r:id="" action="ppaction://hlinkshowjump?jump=previousslide"/>
          </p:cNvPr>
          <p:cNvSpPr/>
          <p:nvPr/>
        </p:nvSpPr>
        <p:spPr>
          <a:xfrm>
            <a:off x="6732720" y="5950080"/>
            <a:ext cx="934920" cy="358560"/>
          </a:xfrm>
          <a:custGeom>
            <a:avLst/>
            <a:gdLst>
              <a:gd name="textAreaLeft" fmla="*/ 23040 w 934920"/>
              <a:gd name="textAreaRight" fmla="*/ 911880 w 93492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56286" h="21600">
                <a:moveTo>
                  <a:pt x="0" y="0"/>
                </a:moveTo>
                <a:lnTo>
                  <a:pt x="56286" y="0"/>
                </a:lnTo>
                <a:lnTo>
                  <a:pt x="56286" y="21600"/>
                </a:lnTo>
                <a:lnTo>
                  <a:pt x="0" y="21600"/>
                </a:lnTo>
                <a:close/>
              </a:path>
              <a:path fill="lightenLess" w="56286" h="21600">
                <a:moveTo>
                  <a:pt x="0" y="0"/>
                </a:moveTo>
                <a:lnTo>
                  <a:pt x="56286" y="0"/>
                </a:lnTo>
                <a:lnTo>
                  <a:pt x="54886" y="1400"/>
                </a:lnTo>
                <a:lnTo>
                  <a:pt x="1400" y="1400"/>
                </a:lnTo>
                <a:close/>
              </a:path>
              <a:path fill="darken" w="56286" h="21600">
                <a:moveTo>
                  <a:pt x="56286" y="0"/>
                </a:moveTo>
                <a:lnTo>
                  <a:pt x="56286" y="21600"/>
                </a:lnTo>
                <a:lnTo>
                  <a:pt x="54886" y="20200"/>
                </a:lnTo>
                <a:lnTo>
                  <a:pt x="54886" y="1400"/>
                </a:lnTo>
                <a:close/>
              </a:path>
              <a:path fill="darkenLess" w="56286" h="21600">
                <a:moveTo>
                  <a:pt x="562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886" y="20200"/>
                </a:lnTo>
                <a:close/>
              </a:path>
              <a:path fill="lighten" w="562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286" h="21600">
                <a:moveTo>
                  <a:pt x="21136" y="10800"/>
                </a:moveTo>
                <a:lnTo>
                  <a:pt x="35149" y="3794"/>
                </a:lnTo>
                <a:lnTo>
                  <a:pt x="35149" y="17806"/>
                </a:lnTo>
                <a:close/>
              </a:path>
            </a:pathLst>
          </a:custGeom>
          <a:solidFill>
            <a:srgbClr val="c49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539280" y="836640"/>
            <a:ext cx="40388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днажды всё кончается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аков, увы, зак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 … Сказка начинаетс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с сердцем в унис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обро не прекращаетс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к жизнь или как с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ерь и ты тепер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то все преображае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дет магия. Вот дверь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мире добро всегда побеждает зло - таков закон жизни. И только чуткое и горячее сердце отзывается на любое проявление человечности и верит в сказку. Именно такими людьми являются сказочники, настоящие мастера слова. Они верят в торжество доб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9 стро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0,618=5,56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новной вывод можно   сформулировать так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Закон золотого сечения проявляется чаще всего в наиболее точных и логических формах у наиболее гениальных авторов и, главным образом, в наиболее одухотворенных творениях их». Конечно же учителя работающие в нашей школе и ученики обучающиеся в ней известны малому кругу людей и их стихотворения не достигли совершенства, но тем не менее я считаю, что золотое сечение можно найти и в их произведениях. Этот закон «в высшей степени характеризует самый процесс творчеств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так,  можно  признать,  что  золотая  пропорция  является  критерием гармонии композиции произвед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42920" y="549360"/>
            <a:ext cx="74167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.С.Пушкин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Не дорого ценю я громкие права…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482436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Не дорого ценю я громкие права,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От коих не одна кружится голова.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Я не ропщу о том, что отказали боги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Мне в сладкой участи оспаривать налоги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Или мешать царям друг с другом воевать;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И мало горя мне, свободно ли печать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Морочит олухов, иль чуткая цензура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В журнальных замыслах стесняет балагура.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Все это, видите ль, слова, слова, слова.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Иные, лучшие, мне дороги права: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Иная, лучшая, потребна мне свобода: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Зависеть от царя, зависеть от народа -</a:t>
            </a:r>
            <a:br>
              <a:rPr sz="1600"/>
            </a:b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Не все ли нам равно? Бог с ними.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Никому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Отчета не давать, себе лишь самому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Служить и угождать; для власти, для ливреи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Не гнуть ни совести, ни помыслов, ни шеи;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По прихоти своей скитаться здесь и там,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Дивясь божественным природы красотам,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И пред созданьями искусств и вдохновенья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Трепеща радостно в восторгах умиленья,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Вот счастье! Вот права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156360" y="155736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508720" y="1989000"/>
            <a:ext cx="3382920" cy="38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ahoma"/>
              </a:rPr>
              <a:t>Одно из последних стихотворений Пушкина "Не дорого ценю я громкие права..." состоит из 21 строки и в нем выделяется две смысловые части: в 13 и 8 строк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ahoma"/>
              </a:rPr>
              <a:t>Характерно, что и первая часть этого стиха (13 строк) по смысловому содержанию делится на 8 и 5 строк, то есть все стихотворение построено по законам золотой пропорции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347640" y="0"/>
            <a:ext cx="29624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з истор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79280" y="620280"/>
            <a:ext cx="87854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о «пропорция» ввел в употребление Цицерон в первом веке до нашей эры, переведя им на латынь платоновский термин «аналогия», который букваль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олотое сечение мы находим всюду: в изобразительном и прикладном искусстве, в архитектуре и музыке, в литературе, в предметах быта и машин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гочисленные исследования показали, что на точке золотого сечения обычно бывает кульминация в поэтических, драматургических и музыкальных произведениях. Золотое сечение мы находим в общей композиции произведения и в соответствии его част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менее и удивительно то, что золотое сечение мы находим всегда, в совершенно различных цивилизациях,  отделенных друг от друга тысячелетиями в усыпальнице Хеопса в Древнем Египте и в храме Парфенон в Древней Греции, в Баптистерии эпохи Возрождения  в Пизе и в храме Покрова на Нерли, в ленинградском Адмиралтействе и в ультрасовременных сооружениях Лэ Корбюзье. Золотое сечение мы обнаруживаем и в музыкальных шедеврах Баха, Моцарта, Вагнера, Шопена, Глинки, и в поэтических произведениях от Лермонтова до Вознесенск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42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гадка притягательной силы золотого сечения давно волнует человечеств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ыли и чисто математические «доказательства» эстетического предпочт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ловеком золотого сечения, были и физиологические, связанные, например, со спецификой сокращения глазных мыш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м представляется наиболее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авдоподобный наиболее простое объяснение: эстетическое превосход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олотого сечения является не врожденным, а благоприобретенным в процесс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торического развития человечества. Поскольку золотое сечение  да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ловеку самой природой в пропорциях его же тела, оно постепенно и стал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я него идеалом красоты. Эту мысль подтверждает и эстетическ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внодушие детей к золотому сечению, проверенное эксперименталь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метим, что золотое сечение было не единственным канон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порциональности в искусстве. Например, готическая архитектура основа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совершенно иной системе пропорций, а английский художник и эстет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семнадцатого века Уильям Хогарт (1697-1764) в своем трактире «Анали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меевидных» линий, позволяющий воспроизвести жизнь во всем е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ногообразии.  Хогарт нашел даже особую «линию красоты» - плавну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инусоидальную кривую, которая,  согласно его взглядам, выражала сущ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красног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нализ стихотворени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М.Ю. Лермонтов «Парус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С.А. Есенин «Молитва матери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Е.Ф. Рябинина, учитель МОУ «СОШ №61» «Учитель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В.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Резникова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, ученица 10а класса «Город родной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Л.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Газизова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, ученица 10а класса «Пророчество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Древнира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Выв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А.С.Пушкин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пример, проведенный Н. Васютинским анализ стихотворений А.С. Пушкина с этой точки зрения показал, что размеры стихов распределены весьма неравномерно; оказалось, что Пушкин явно предпочитает размеры в 5, 8, 13, 21 и 34 строк (числа Фибоначчи). Многими исследователями было замечено, что стихотворения подобны музыкальным произведениям; в них также существуют кульминационные пункты, которые делят стихотворение в пропорции золотого сечения. Рассмотрим, например, стихотворение А.С. Пушкина "Сапожник":Стихотворение состоит из 13 строк. В нем выделяется две смысловые части: первая в 8 строк и вторая (мораль притчи) в 5 строк (13, 8, 5 - числа Фибоначч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Картину раз высматривал сапожник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И в обуви ошибку указал;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Взяв тотчас кисть, исправился художник,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Вот, подбочась, сапожник продолжа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"Мне кажется, лицо немного криво ...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А эта грудь не слишком ли наг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Тут Апеллес прервал нетерпелив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"Суди, дружок, не выше сапога!"</a:t>
            </a:r>
            <a:br>
              <a:rPr sz="1600"/>
            </a:br>
            <a:br>
              <a:rPr sz="1600"/>
            </a:br>
            <a:r>
              <a:rPr b="0" i="1" lang="en-US" sz="1600" spc="-1" strike="noStrike">
                <a:solidFill>
                  <a:srgbClr val="ff3300"/>
                </a:solidFill>
                <a:latin typeface="Arial"/>
              </a:rPr>
              <a:t>Есть у меня приятель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на примете: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Не ведаю, в каком бы он предмете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Был знатоком, хоть строг он на словах,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Но черт его несет судить о свете: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Попробуй он судить о сапогах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А.С. Пушкин"/>
          <p:cNvPicPr/>
          <p:nvPr/>
        </p:nvPicPr>
        <p:blipFill>
          <a:blip r:embed="rId1"/>
          <a:stretch/>
        </p:blipFill>
        <p:spPr>
          <a:xfrm>
            <a:off x="6156360" y="3500280"/>
            <a:ext cx="2220840" cy="28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.Ю. Лермонтов «Бородин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наменитое стихотворение Лермонтова "Бородино" делится на две части: вступление, обращенное к рассказчику и занимающее лишь одну строфу ("Скажите, дядя, ведь недаром..."), и главную часть, представляющее самостоятельное целое, которое распадается на две равносильные части. В первой из них описывается с нарастающим напряжением ожидание боя, во второй - сам с постепенным снижением напряжения к концу стихотворения. Граница между этими частями является кульминационной точкой произведения и приходится как раз на точку деления его золотым сеч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лавная часть стихотворения состоит из 13 семистиший, то есть из 91 строки. Разделив ее золотым сечением (91:1,618 = 56,238), убеждаемся, что точка деления находится в начале 57-го стиха, где стоит короткая фраза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Ну ж был денек!"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Именно эта фраза представляет собой "кульминационный пункт возбужденного ожидания", завершающей первую часть стихотворения (ожидание боя) и открывающий вторую его часть (описание бо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.Ю. Лермонтов «Парус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9280" y="907560"/>
            <a:ext cx="4535640" cy="45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елеет парус одинокий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тумане моря голубом!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то ищет он в стране далекой?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то кинул он в краю родном?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грают волны – ветер свищет,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 мачта гнётся и скрипит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Увы – он счастия не ищ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 не от счастия бежит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д ним струя светлей лазур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д ним луч солнца золотой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 он, мятежный, просит бур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 будто в бурях есть поко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076720" y="4581360"/>
            <a:ext cx="244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12 строк, 3 столбц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12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  <a:ea typeface="Arial"/>
              </a:rPr>
              <a:t>∙0,618=7,416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859280" y="1276560"/>
            <a:ext cx="3960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ahoma"/>
              </a:rPr>
              <a:t>Стихотворение Лермонтова «Парус».состоит из 12 строк Золотое сечение падает на строку где указана главная мысль поэта. «Увы- он счастия не ищет».В этом произведение автор рассказывает о том, как одинокий парус скитается по волнам жизни  и не знает что его ждет впереди, и где он  найдёт утешение, и счастье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6" name="">
            <a:hlinkClick r:id="" action="ppaction://hlinkshowjump?jump=previousslide"/>
          </p:cNvPr>
          <p:cNvSpPr/>
          <p:nvPr/>
        </p:nvSpPr>
        <p:spPr>
          <a:xfrm>
            <a:off x="6877080" y="566100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358" h="21600">
                <a:moveTo>
                  <a:pt x="17173" y="10800"/>
                </a:moveTo>
                <a:lnTo>
                  <a:pt x="31186" y="3794"/>
                </a:lnTo>
                <a:lnTo>
                  <a:pt x="31186" y="17806"/>
                </a:lnTo>
                <a:close/>
              </a:path>
            </a:pathLst>
          </a:custGeom>
          <a:solidFill>
            <a:srgbClr val="c49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.А. Есенин «Молитва матер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11640" y="5516640"/>
            <a:ext cx="288108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 строк, 7 столбц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∙0,618=8,6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178920" y="1196640"/>
            <a:ext cx="5256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краю деревни старая избуш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ам перед иконой молится старуш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литва старушки сына поминае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ын в краю далёком родину спас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лится старушка, утирает слёз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 в глазах усталых расцветают грёз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идит она поле, поле перед бое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Где лежит убитым сын её геро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груди широкой брызжет кровь, что плам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 в руках застывших вражеское знам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от счастья с горем вся она застыл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лову седую на руки склони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закрыли брови редкие седин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 из глаз как бисер, сыплются слезин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292720" y="1414080"/>
            <a:ext cx="3502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ahoma"/>
              </a:rPr>
              <a:t>Золотое сечение попадает на 8 строку стихотворения: Где лежит убитым сын ее героем. Автор понимает что материнское горе нельзя никому постичь. Бедную, несчастную старушку может утешить теперь в жизни только одно, что сын пал героем, и не будет забыт его подвиг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1" name="">
            <a:hlinkClick r:id="" action="ppaction://hlinkshowjump?jump=previousslide"/>
          </p:cNvPr>
          <p:cNvSpPr/>
          <p:nvPr/>
        </p:nvSpPr>
        <p:spPr>
          <a:xfrm>
            <a:off x="6877080" y="6237360"/>
            <a:ext cx="863640" cy="287280"/>
          </a:xfrm>
          <a:custGeom>
            <a:avLst/>
            <a:gdLst>
              <a:gd name="textAreaLeft" fmla="*/ 18360 w 863640"/>
              <a:gd name="textAreaRight" fmla="*/ 845280 w 863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64881" h="21600">
                <a:moveTo>
                  <a:pt x="0" y="0"/>
                </a:moveTo>
                <a:lnTo>
                  <a:pt x="64881" y="0"/>
                </a:lnTo>
                <a:lnTo>
                  <a:pt x="64881" y="21600"/>
                </a:lnTo>
                <a:lnTo>
                  <a:pt x="0" y="21600"/>
                </a:lnTo>
                <a:close/>
              </a:path>
              <a:path fill="lightenLess" w="64881" h="21600">
                <a:moveTo>
                  <a:pt x="0" y="0"/>
                </a:moveTo>
                <a:lnTo>
                  <a:pt x="64881" y="0"/>
                </a:lnTo>
                <a:lnTo>
                  <a:pt x="63481" y="1400"/>
                </a:lnTo>
                <a:lnTo>
                  <a:pt x="1400" y="1400"/>
                </a:lnTo>
                <a:close/>
              </a:path>
              <a:path fill="darken" w="64881" h="21600">
                <a:moveTo>
                  <a:pt x="64881" y="0"/>
                </a:moveTo>
                <a:lnTo>
                  <a:pt x="64881" y="21600"/>
                </a:lnTo>
                <a:lnTo>
                  <a:pt x="63481" y="20200"/>
                </a:lnTo>
                <a:lnTo>
                  <a:pt x="63481" y="1400"/>
                </a:lnTo>
                <a:close/>
              </a:path>
              <a:path fill="darkenLess" w="64881" h="21600">
                <a:moveTo>
                  <a:pt x="64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81" y="20200"/>
                </a:lnTo>
                <a:close/>
              </a:path>
              <a:path fill="lighten" w="64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881" h="21600">
                <a:moveTo>
                  <a:pt x="25434" y="10800"/>
                </a:moveTo>
                <a:lnTo>
                  <a:pt x="39447" y="3794"/>
                </a:lnTo>
                <a:lnTo>
                  <a:pt x="39447" y="17806"/>
                </a:lnTo>
                <a:close/>
              </a:path>
            </a:pathLst>
          </a:custGeom>
          <a:solidFill>
            <a:srgbClr val="c49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0T10:05:25Z</dcterms:created>
  <dc:creator>Олег Александрович</dc:creator>
  <dc:description/>
  <dc:language>en-US</dc:language>
  <cp:lastModifiedBy>1</cp:lastModifiedBy>
  <dcterms:modified xsi:type="dcterms:W3CDTF">2007-02-26T08:04:57Z</dcterms:modified>
  <cp:revision>23</cp:revision>
  <dc:subject/>
  <dc:title>Золотое сечение в поэз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