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D670-5FA7-4462-B48A-FCE44B7F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B874-DB16-4D22-8396-2D1DF5F9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AC28-D9F3-40A5-A54B-0333C2F8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27CC-00F7-4249-98AA-457D7675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89C2-DEDB-47B9-BFF8-BFA904BD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202E-6B23-4979-9DDA-1D779490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E847-5742-4ECD-AC8F-717CEEC7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599B-AE22-4601-97DE-027A9332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389C-EC43-478A-B708-D4411A3E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D192-FFCB-45DC-9F96-21648A09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23DD-B1DA-4A3D-A761-493F705F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395C-29F2-48CD-9E95-E1367256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E8DD-E211-4535-914B-27C31C04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255B-6804-4A55-967A-95DF9F10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60FE-895C-432B-B6DB-25215FBF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9057-D4BF-4D2B-82E3-93078388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D6FC-C438-4485-9289-CA724E6E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0BCC3-784C-42DE-AEB7-6A574ED9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F8501-976A-4104-A2D9-2BC52357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5FF00-A2D5-43EA-BD2A-BC08259B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8236A-A3B4-45A0-AD3C-D93F9694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1EB6A-A305-4FAB-973A-33DBD1D7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F99A-106D-4116-8DCE-4359D197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2EAE1-279D-4A2A-B947-485E7425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7D685-9315-48E9-B035-CC07CA96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4ECD6-4862-42EF-A69A-446B755F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56D23-B1DC-4641-AC60-6E124064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64852-4BEF-46C3-B68C-D57025C2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2F47A-2181-4B8D-B8BA-788DA959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8D561-7140-46D9-9FE4-93E742E2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D0F5-7D28-4B41-A1E6-B28667CD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4C29-AF77-498B-BB40-94E9BA29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5F30-2273-4B7B-913B-3C415072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F294-4EAD-4B61-ABC4-DAE9686A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8142-4DA7-47C7-9ECF-B26CABEF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2B1E-85BA-4639-B262-5F39F67F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E72C-4196-4A26-9EB1-67227DDC5DC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4D9E-10F3-4021-ADF9-145E0C08799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E999-93E8-486E-82A3-D83BC844A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3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20.xml"/><Relationship Id="rId8" Type="http://schemas.openxmlformats.org/officeDocument/2006/relationships/slide" Target="slide20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2.xml"/><Relationship Id="rId1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олотое сечение в поэ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042920" y="3213000"/>
            <a:ext cx="7121520" cy="21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втор: Новикова Дар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ница 8з класса СОШ №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. Ф. Рябинина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5689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.Ф.Рябинина «Врем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4968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, время, как бежишь ты быстр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вода у горного ручь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росли уже мои артис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чит, с ними выросла и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меня к вам больше нет претенз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за «двойки» некого руг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лько слов не выбросишь из пес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ло всяко – нечего скрыв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ли шаловливы, непослуш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Только это, право, не бе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зато со мной единодуш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готовы к творчеству всег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сейчас смотрю на вас с грустинк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ставаться жаль, но «се ля ви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усть от школы ровная троп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ведёт вас к светлому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435640" y="5949720"/>
            <a:ext cx="34560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строк, 4 столб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∙ 0,618=9,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64000" y="1052640"/>
            <a:ext cx="3167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Стихотворение  написано в 2005 году когда Елена Федоровна выпускала своих любимых детей- 11а класс. Это были очень творческие ученики,  поэтому Елена Федоровна и говорила «мои артисты». А ещё они всегда были рядом в трудную минуту рядом с ней, Елена Федоровна ощущала в них своих единомышленников, друзей, а не просто учеников. Расставание с 11а классом было очень грустным, но светлым.      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092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.Ф. Рябинина  «Молодос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6083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 знаю молодость прош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стала зрелости распла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 чаще нынче, чем когда-т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, забываю про д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в юности лечу куда-т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друг ощутив себя крыла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ываю яростно сме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и перед кем не винов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без причины весел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… всё же, молодость прош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755640" y="5589360"/>
            <a:ext cx="2951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стр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∙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,618=6,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1197000"/>
            <a:ext cx="280656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Это стихотворение, как бы гимн моему возрасту, потому что я всегда верила и верю, что «есть в возрасте любом- хорошее».С годами к нам приходит мудрость и опыт, но иногда- ворчливость и занудство. Мне хочется, чтоб моя душа оставалась всегда молодой и «летящий» , а «старость меня дома не застала чтоб».Верю, что так и будет . Вернее, хочу, чтоб так было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47400" y="62373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Рябинина Е.Ф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Учител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читель! Учить! Учитьс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лова, знакомые для всех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о этим званием горди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е каждый может чело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дь учителем надо роди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 призванием этим ж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 ёще надо много трудить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тоб признание заслуж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е стареет учитель душ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 годами задор не теря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 работа, что стала судьб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ыть всегда молодым заставля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ои соратники! Коллег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рузья мои, учител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егодня, в 21 век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нас прожить пока нельз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ш труд частично замени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мпьютеры и ЭВ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о доброта и челове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е подменяются нич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это, к счастью, ясно вс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2920" y="1268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тихотворение «Учитель» по содержанию золотым сечением делится на две смысловые ча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первой части Елена Федоровна говорит  о своём призвании, о том какой человек, может быть учителем, и как нелёгок этот тру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торая часть является обращением к своим коллега, она уверена в том, что труд учителя, его доброта и человечность всегда будут востребова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 строка, 5 столбц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·0,618=12,9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6804000" y="5589720"/>
            <a:ext cx="936720" cy="3603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113" h="21600">
                <a:moveTo>
                  <a:pt x="0" y="0"/>
                </a:moveTo>
                <a:lnTo>
                  <a:pt x="56113" y="0"/>
                </a:lnTo>
                <a:lnTo>
                  <a:pt x="56113" y="21600"/>
                </a:lnTo>
                <a:lnTo>
                  <a:pt x="0" y="21600"/>
                </a:lnTo>
                <a:close/>
              </a:path>
              <a:path fill="lightenLess" w="56113" h="21600">
                <a:moveTo>
                  <a:pt x="0" y="0"/>
                </a:moveTo>
                <a:lnTo>
                  <a:pt x="56113" y="0"/>
                </a:lnTo>
                <a:lnTo>
                  <a:pt x="54713" y="1400"/>
                </a:lnTo>
                <a:lnTo>
                  <a:pt x="1400" y="1400"/>
                </a:lnTo>
                <a:close/>
              </a:path>
              <a:path fill="darken" w="56113" h="21600">
                <a:moveTo>
                  <a:pt x="56113" y="0"/>
                </a:moveTo>
                <a:lnTo>
                  <a:pt x="56113" y="21600"/>
                </a:lnTo>
                <a:lnTo>
                  <a:pt x="54713" y="20200"/>
                </a:lnTo>
                <a:lnTo>
                  <a:pt x="54713" y="1400"/>
                </a:lnTo>
                <a:close/>
              </a:path>
              <a:path fill="darkenLess" w="56113" h="21600">
                <a:moveTo>
                  <a:pt x="56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3" y="20200"/>
                </a:lnTo>
                <a:close/>
              </a:path>
              <a:path fill="lighten" w="56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13" h="21600">
                <a:moveTo>
                  <a:pt x="21050" y="10800"/>
                </a:moveTo>
                <a:lnTo>
                  <a:pt x="35063" y="3794"/>
                </a:lnTo>
                <a:lnTo>
                  <a:pt x="35063" y="17806"/>
                </a:lnTo>
                <a:close/>
              </a:path>
            </a:pathLst>
          </a:custGeom>
          <a:solidFill>
            <a:srgbClr val="c49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зникова Валентин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еница 10а клас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787480" y="1805040"/>
            <a:ext cx="356904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8613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«Город родной»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39640" y="333360"/>
            <a:ext cx="439272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Белой пеной, кипя и волнуясь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Колыхаясь под ветром суровым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Волны Каспия, гордо красуясь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Налетают грузом пудовым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На брега, где из светлого камня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Белый Кремль легендой старинной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Возрождает из красного пламя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Прославленный город былинный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Verdana"/>
              </a:rPr>
              <a:t>Здесь, где цвет прикаспийской флоры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Распускает великие листья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Где пот лебединые хоры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Виноград набирает кисти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Где узоры чилима- ореха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И бакланов водные клинья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Где арбузам плестись не помеха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Ветви ив, как паук паутиной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Волжский брег заплетают прекрасной…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Где осётр, белуга, севрюг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Рассекают старенький Каспий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Здесь дожди редки, да вьюга.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Здесь жила я, живу, и жить буду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По стопам своих предков ступая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Здесь природа, подобная чуду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И поэзия льётся без края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5003640" y="5516640"/>
            <a:ext cx="273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4 строки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4*0,382=9,16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03640" y="1413000"/>
            <a:ext cx="38512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Стихотворение делится  золотым сечением на две смысловые части. В первой из них говорится о самом Каспии , о Кремле. А во второй о его достоинствах, богатствах.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Мы с вами живем в удивительном городе Астрахани, окутанном легендами и преданиями. Старый седой Каспий дает ему животворную воду, а нам желание увидеть. Понять и воспеть красоту родного края. Словно былинный богатырь стоит Каспий на границе родного края. Валя видит эти образы и воплощаю их в стихотворении «Край родной». Ей как патриотке родного края хочется, чтобы все жители России знали о его природных богатствах, о его величии.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7093080" y="602136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10800"/>
                </a:moveTo>
                <a:lnTo>
                  <a:pt x="31337" y="3794"/>
                </a:lnTo>
                <a:lnTo>
                  <a:pt x="31337" y="17806"/>
                </a:lnTo>
                <a:close/>
              </a:path>
            </a:pathLst>
          </a:custGeom>
          <a:solidFill>
            <a:srgbClr val="c49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бя узнаю по глаза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560" y="665280"/>
            <a:ext cx="34671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«Прохожий по асфальту ми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 мной соразмерит шаг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ет, нет, не зовут меня Ди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ишу я совсем не та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чу и читаю вновь сме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тихи ей свои без запин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шибки по ритму уме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справит без лишних ужим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« Да нет же, читай, не стесняйся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округ не чужие- поэт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Лицо ты не прячь, не теряй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дь это не жизнь кюве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любви не кидайся ты ому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е веруй в фальшивые слёз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спьёшь неудач ещё ром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стигнут и вёсны, и грёзы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Ты знаешь, все здесь мы – поэ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 маленьких и до взрослы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вои кто-то пишет сон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 осень, дожди и про вёс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то просто и в рифму излож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Любовь и извечный свой страх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рлибром другой уничтож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от мир, что является в снах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е знаешь, о чём вновь напишешь?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Я новую тему под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десь каждый- поэт, ты слышишь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ебя узнаю по глаза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59280" y="549360"/>
            <a:ext cx="388944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Поэзия- удивительный мир непостижимого, в котором живут весна и мечты о прекрасном. Очень хорошо, когда на пути начинающего поэта встречается человек, понимающий и готовый помочь направить творческие порывы в нужное русло. Таким человеком стала для меня талантливая астраханская поэтесса Дина Ленидовна Немировская. Именно она помогла мне ощутить полет творчества. Своё стихотворение «Тебя узнаю по глазам» я посветила ей, потому что только настоящий поэт может узнать другого поэта по взгляду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Резникова Валя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51640" y="6078600"/>
            <a:ext cx="230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28строк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28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Arial"/>
              </a:rPr>
              <a:t>·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  <a:ea typeface="Arial"/>
              </a:rPr>
              <a:t>0,618=17,30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612720" y="18864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.С. Мищенк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4920" y="765000"/>
            <a:ext cx="40338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па снова сидит на крылеч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ма в доме печёт пир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м опять привело сердечк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болело оно от трев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бегу, в впопыхах поцелу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рога отведаю вку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 простите, что убегаю я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оздать на работу бою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этом старом ветшающем до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Собиралась моя 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десь до боле мне всё знаком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десь росла и влюбилась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с уже навещают вну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 их  любите больше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сухие в морщинах рук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гордость семьи мо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427640" y="5950080"/>
            <a:ext cx="330984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строк, 4 столб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0,618=9,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932360" y="982440"/>
            <a:ext cx="403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Это стихотворение посвящено родителям Мищенко Светланы Сергеевны. В этом произведении автор говорит о возникающих в ее душе положительных эмоциях, которые  рождаются  при воссоздании картин детства, о безграничной любви к своей семье, о теплоте   в отношениях к своим родителям, к своему дому,  в котором она выросла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Мне кажется, что строки,  на которые  падает «золотое сечение», указывают на то,  что дороже всего для любого человека – его семья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0" y="259920"/>
            <a:ext cx="79200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ищенко С.С. «Мои стих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35272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е нравится писать стих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 совершенства дале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 не Ахматова, не Пушки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и стихи – мои игр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призывают в бой за прав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воспевают геро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в детстве каждая игрушк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чья-то маленькая жи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Лежит зайчишка вислоух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Ему сын песенки по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и ко мне, малыш, на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время быстрое теч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рушки лечат и спас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 одиночества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и стихи – мои игру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е легче и теп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3640" y="1413000"/>
            <a:ext cx="251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6 строк, 4 столбц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6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Arial"/>
              </a:rPr>
              <a:t>·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  <a:ea typeface="Arial"/>
              </a:rPr>
              <a:t>0,618=9,88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076720" y="2492280"/>
            <a:ext cx="3598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азизова Люция ученица 10а класса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Я спешу за облак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4032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 спешу за облак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догнать их не мо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коснуться бы рук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стро-быстро я бе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тер волосы мне трепл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лнце спрятала ли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трава тихонько шеп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епонятные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 одна среди природы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редкий дар судь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, простор, проснулись звёзды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йский уголок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96000" y="566100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2 строк, 3 столбц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Arial"/>
              </a:rPr>
              <a:t>·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  <a:ea typeface="Arial"/>
              </a:rPr>
              <a:t>0,618=7,41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35640" y="1916280"/>
            <a:ext cx="33843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В этой строке, человеку, посвященному в поэзию может открыться глубокий смысл. Только настоящий поэт в состоянии понять шепот травы, уловить дыхание ветра потому что обычные люди находятся в пучине суетной будничной жизни, и нет времени остаться на едине с природой. И поэтому никому не понятны слова. Они открывают для Люции редкие ,но удивительные мгновения общения с природой.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3628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Lucida Console"/>
              </a:rPr>
              <a:t>Золотое сечение</a:t>
            </a:r>
            <a:r>
              <a:rPr b="0" lang="ru-RU" sz="2400" spc="-1" strike="noStrike">
                <a:solidFill>
                  <a:srgbClr val="000000"/>
                </a:solidFill>
                <a:latin typeface="Lucida Console"/>
              </a:rPr>
              <a:t> – это такое пропорциональное деление отрезка на неравные части, при котором весь отрезок так относится к большей части, как сама большая часть относится к меньшей; или другими словами, меньший отрезок так относится к большему, как больший ко вс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Lucida Console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Lucida Console"/>
              </a:rPr>
              <a:t> : </a:t>
            </a:r>
            <a:r>
              <a:rPr b="0" i="1" lang="ru-RU" sz="3200" spc="-1" strike="noStrike">
                <a:solidFill>
                  <a:srgbClr val="000000"/>
                </a:solidFill>
                <a:latin typeface="Lucida Console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Lucida Console"/>
              </a:rPr>
              <a:t> = </a:t>
            </a:r>
            <a:r>
              <a:rPr b="0" i="1" lang="ru-RU" sz="3200" spc="-1" strike="noStrike">
                <a:solidFill>
                  <a:srgbClr val="000000"/>
                </a:solidFill>
                <a:latin typeface="Lucida Console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Lucida Console"/>
              </a:rPr>
              <a:t> : </a:t>
            </a:r>
            <a:r>
              <a:rPr b="0" i="1" lang="ru-RU" sz="3200" spc="-1" strike="noStrike">
                <a:solidFill>
                  <a:srgbClr val="000000"/>
                </a:solidFill>
                <a:latin typeface="Lucida Console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Lucida Console"/>
              </a:rPr>
              <a:t> или </a:t>
            </a:r>
            <a:r>
              <a:rPr b="0" i="1" lang="ru-RU" sz="3200" spc="-1" strike="noStrike">
                <a:solidFill>
                  <a:srgbClr val="000000"/>
                </a:solidFill>
                <a:latin typeface="Lucida Console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Lucida Console"/>
              </a:rPr>
              <a:t> : </a:t>
            </a:r>
            <a:r>
              <a:rPr b="0" i="1" lang="ru-RU" sz="3200" spc="-1" strike="noStrike">
                <a:solidFill>
                  <a:srgbClr val="000000"/>
                </a:solidFill>
                <a:latin typeface="Lucida Console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Lucida Console"/>
              </a:rPr>
              <a:t> = </a:t>
            </a:r>
            <a:r>
              <a:rPr b="0" i="1" lang="ru-RU" sz="3200" spc="-1" strike="noStrike">
                <a:solidFill>
                  <a:srgbClr val="000000"/>
                </a:solidFill>
                <a:latin typeface="Lucida Console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Lucida Console"/>
              </a:rPr>
              <a:t> : </a:t>
            </a:r>
            <a:r>
              <a:rPr b="0" i="1" lang="ru-RU" sz="3200" spc="-1" strike="noStrike">
                <a:solidFill>
                  <a:srgbClr val="000000"/>
                </a:solidFill>
                <a:latin typeface="Lucida Console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Lucida Consol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Console"/>
              </a:rPr>
              <a:t>Коэффициент золотого сечения: 0,618 или 1,61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826920" y="4797360"/>
            <a:ext cx="7770960" cy="1542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1476360" y="189000"/>
            <a:ext cx="5695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нятие золотого сечен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азизова Люция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Пророчество Древнир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42920" y="148392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ревнее пророчество сбыв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д башней тучи сгущаю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гонь полыхает в пе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роют все двери клю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выйдет из ада 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идит её из ок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вчонка двенадцати ле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бийца того, кого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лопнет верёвка тог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же не уйти в Ник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ремя несётся наза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круг расстилается 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ганты из жуткого с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Война! Мы готовы! Война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теплится вера в душ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ть силы иссякли у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асёт нас подросток опят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ро будет зло побежд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64000" y="1844640"/>
            <a:ext cx="1951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18·0,618=11,12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39520" y="141300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18строк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219640" y="2349360"/>
            <a:ext cx="3456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Times New Roman"/>
              </a:rPr>
              <a:t>В данном произведении золотое сечение падает на строчку «Время несётся назад». Автор как бы подчёркивает , что все в нашем мире   повторяется с закономерной очередностью. Настоящий поэт –философ всегда найдет в настоящем связь прошлого и будущего.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6732720" y="5950080"/>
            <a:ext cx="934920" cy="358560"/>
          </a:xfrm>
          <a:custGeom>
            <a:avLst/>
            <a:gdLst>
              <a:gd name="textAreaLeft" fmla="*/ 23040 w 934920"/>
              <a:gd name="textAreaRight" fmla="*/ 911880 w 934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6286" h="21600">
                <a:moveTo>
                  <a:pt x="0" y="0"/>
                </a:moveTo>
                <a:lnTo>
                  <a:pt x="56286" y="0"/>
                </a:lnTo>
                <a:lnTo>
                  <a:pt x="56286" y="21600"/>
                </a:lnTo>
                <a:lnTo>
                  <a:pt x="0" y="21600"/>
                </a:lnTo>
                <a:close/>
              </a:path>
              <a:path fill="lightenLess" w="56286" h="21600">
                <a:moveTo>
                  <a:pt x="0" y="0"/>
                </a:moveTo>
                <a:lnTo>
                  <a:pt x="56286" y="0"/>
                </a:lnTo>
                <a:lnTo>
                  <a:pt x="54886" y="1400"/>
                </a:lnTo>
                <a:lnTo>
                  <a:pt x="1400" y="1400"/>
                </a:lnTo>
                <a:close/>
              </a:path>
              <a:path fill="darken" w="56286" h="21600">
                <a:moveTo>
                  <a:pt x="56286" y="0"/>
                </a:moveTo>
                <a:lnTo>
                  <a:pt x="56286" y="21600"/>
                </a:lnTo>
                <a:lnTo>
                  <a:pt x="54886" y="20200"/>
                </a:lnTo>
                <a:lnTo>
                  <a:pt x="54886" y="1400"/>
                </a:lnTo>
                <a:close/>
              </a:path>
              <a:path fill="darkenLess" w="56286" h="21600">
                <a:moveTo>
                  <a:pt x="56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886" y="20200"/>
                </a:lnTo>
                <a:close/>
              </a:path>
              <a:path fill="lighten" w="56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286" h="21600">
                <a:moveTo>
                  <a:pt x="21136" y="10800"/>
                </a:moveTo>
                <a:lnTo>
                  <a:pt x="35149" y="3794"/>
                </a:lnTo>
                <a:lnTo>
                  <a:pt x="35149" y="17806"/>
                </a:lnTo>
                <a:close/>
              </a:path>
            </a:pathLst>
          </a:custGeom>
          <a:solidFill>
            <a:srgbClr val="c49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539280" y="836640"/>
            <a:ext cx="40388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ажды всё кончается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ов, увы, зак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… Сказка начинае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с сердцем в уни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бро не прекращае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жизнь или как с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рь и ты тепер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все преображ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дет магия. Вот двер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ире добро всегда побеждает зло - таков закон жизни. И только чуткое и горячее сердце отзывается на любое проявление человечности и верит в сказку. Именно такими людьми являются сказочники, настоящие мастера слова. Они верят в торжество доб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 стр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0,618=5,5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ой вывод можно   сформулировать т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Закон золотого сечения проявляется чаще всего в наиболее точных и логических формах у наиболее гениальных авторов и, главным образом, в наиболее одухотворенных творениях их». Конечно же учителя работающие в нашей школе и ученики обучающиеся в ней известны малому кругу людей и их стихотворения не достигли совершенства, но тем не менее я считаю, что золотое сечение можно найти и в их произведениях. Этот закон «в высшей степени характеризует самый процесс творчеств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так,  можно  признать,  что  золотая  пропорция  является  критерием гармонии композиции произве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4167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С.Пушкин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Не дорого ценю я громкие права…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48243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е дорого ценю я громкие права,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От коих не одна кружится голова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Я не ропщу о том, что отказали боги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Мне в сладкой участи оспаривать налоги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Или мешать царям друг с другом воевать;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И мало горя мне, свободно ли печать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Морочит олухов, иль чуткая цензура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 журнальных замыслах стесняет балагура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се это, видите ль, слова, слова, слова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Иные, лучшие, мне дороги права: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Иная, лучшая, потребна мне свобода: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Зависеть от царя, зависеть от народа -</a:t>
            </a:r>
            <a:br>
              <a:rPr sz="1600"/>
            </a:b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Не все ли нам равно? Бог с ними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икому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Отчета не давать, себе лишь самому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Служить и угождать; для власти, для ливреи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е гнуть ни совести, ни помыслов, ни шеи;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По прихоти своей скитаться здесь и там,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Дивясь божественным природы красотам,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И пред созданьями искусств и вдохновенья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Трепеща радостно в восторгах умиленья,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от счастье! Вот права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56360" y="1557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08720" y="1989000"/>
            <a:ext cx="3382920" cy="38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Одно из последних стихотворений Пушкина "Не дорого ценю я громкие права..." состоит из 21 строки и в нем выделяется две смысловые части: в 13 и 8 строк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Характерно, что и первая часть этого стиха (13 строк) по смысловому содержанию делится на 8 и 5 строк, то есть все стихотворение построено по законам золотой пропорции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347640" y="0"/>
            <a:ext cx="2962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 исто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«пропорция» ввел в употребление Цицерон в первом веке до нашей эры, переведя им на латынь платоновский термин «аналогия», который буква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лотое сечение мы находим всюду: в изобразительном и прикладном искусстве, в архитектуре и музыке, в литературе, в предметах быта и машин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численные исследования показали, что на точке золотого сечения обычно бывает кульминация в поэтических, драматургических и музыкальных произведениях. Золотое сечение мы находим в общей композиции произведения и в соответствии его ча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енее и удивительно то, что золотое сечение мы находим всегда, в совершенно различных цивилизациях,  отделенных друг от друга тысячелетиями в усыпальнице Хеопса в Древнем Египте и в храме Парфенон в Древней Греции, в Баптистерии эпохи Возрождения  в Пизе и в храме Покрова на Нерли, в ленинградском Адмиралтействе и в ультрасовременных сооружениях Лэ Корбюзье. Золотое сечение мы обнаруживаем и в музыкальных шедеврах Баха, Моцарта, Вагнера, Шопена, Глинки, и в поэтических произведениях от Лермонтова до Вознесенск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гадка притягательной силы золотого сечения давно волнует человече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ли и чисто математические «доказательства» эстетического предпочт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ом золотого сечения, были и физиологические, связанные, например, со спецификой сокращения глазных мыш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м представляется наиболее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доподобный наиболее простое объяснение: эстетическое превосход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олотого сечения является не врожденным, а благоприобретенным в процес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торического развития человечества. Поскольку золотое сечение  да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у самой природой в пропорциях его же тела, оно постепенно и ста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него идеалом красоты. Эту мысль подтверждает и эстет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одушие детей к золотому сечению, проверенное эксперимента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метим, что золотое сечение было не единственным кано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порциональности в искусстве. Например, готическая архитектура основа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совершенно иной системе пропорций, а английский художник и эсте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емнадцатого века Уильям Хогарт (1697-1764) в своем трактире «Анал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меевидных» линий, позволяющий воспроизвести жизнь во всем 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ообразии.  Хогарт нашел даже особую «линию красоты» - плав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нусоидальную кривую, которая,  согласно его взглядам, выражала сущ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красн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ализ стихотворе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М.Ю. Лермонтов «Парус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.А. Есенин «Молитва матери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Е.Ф. Рябинина, учитель МОУ «СОШ №61» «Учитель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Резникова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, ученица 10а класса «Город родной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Л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Газизова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, ученица 10а класса «Пророчество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Древнира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Выв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ример, проведенный Н. Васютинским анализ стихотворений А.С. Пушкина с этой точки зрения показал, что размеры стихов распределены весьма неравномерно; оказалось, что Пушкин явно предпочитает размеры в 5, 8, 13, 21 и 34 строк (числа Фибоначчи). Многими исследователями было замечено, что стихотворения подобны музыкальным произведениям; в них также существуют кульминационные пункты, которые делят стихотворение в пропорции золотого сечения. Рассмотрим, например, стихотворение А.С. Пушкина "Сапожник":Стихотворение состоит из 13 строк. В нем выделяется две смысловые части: первая в 8 строк и вторая (мораль притчи) в 5 строк (13, 8, 5 - числа Фибоначч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Картину раз высматривал сапожник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И в обуви ошибку указал;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зяв тотчас кисть, исправился художник,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от, подбочась, сапожник продолж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"Мне кажется, лицо немного криво ..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А эта грудь не слишком ли наг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Тут Апеллес прервал нетерпелив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"Суди, дружок, не выше сапога!"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ff3300"/>
                </a:solidFill>
                <a:latin typeface="Arial"/>
              </a:rPr>
              <a:t>Есть у меня приятель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на примете: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е ведаю, в каком бы он предмете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Был знатоком, хоть строг он на словах,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о черт его несет судить о свете: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Попробуй он судить о сапогах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А.С. Пушкин"/>
          <p:cNvPicPr/>
          <p:nvPr/>
        </p:nvPicPr>
        <p:blipFill>
          <a:blip r:embed="rId1"/>
          <a:stretch/>
        </p:blipFill>
        <p:spPr>
          <a:xfrm>
            <a:off x="6156360" y="3500280"/>
            <a:ext cx="222084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.Ю. Лермонтов «Бородин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менитое стихотворение Лермонтова "Бородино" делится на две части: вступление, обращенное к рассказчику и занимающее лишь одну строфу ("Скажите, дядя, ведь недаром..."), и главную часть, представляющее самостоятельное целое, которое распадается на две равносильные части. В первой из них описывается с нарастающим напряжением ожидание боя, во второй - сам с постепенным снижением напряжения к концу стихотворения. Граница между этими частями является кульминационной точкой произведения и приходится как раз на точку деления его золотым сеч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лавная часть стихотворения состоит из 13 семистиший, то есть из 91 строки. Разделив ее золотым сечением (91:1,618 = 56,238), убеждаемся, что точка деления находится в начале 57-го стиха, где стоит короткая фраза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Ну ж был денек!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Именно эта фраза представляет собой "кульминационный пункт возбужденного ожидания", завершающей первую часть стихотворения (ожидание боя) и открывающий вторую его часть (описание бо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.Ю. Лермонтов «Пару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907560"/>
            <a:ext cx="453564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елеет парус одинокий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тумане моря голубом!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 ищет он в стране далекой?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 кинул он в краю родном?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грают волны – ветер свищет,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мачта гнётся и скрипи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Увы – он счастия не ищ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не от счастия бежи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 ним струя светлей лазур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д ним луч солнца золото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он, мятежный, просит бур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будто в бурях есть пок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76720" y="4581360"/>
            <a:ext cx="24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12 строк, 3 столбц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12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Arial"/>
              </a:rPr>
              <a:t>∙0,618=7,41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1276560"/>
            <a:ext cx="3960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Стихотворение Лермонтова «Парус».состоит из 12 строк Золотое сечение падает на строку где указана главная мысль поэта. «Увы- он счастия не ищет».В этом произведение автор рассказывает о том, как одинокий парус скитается по волнам жизни  и не знает что его ждет впереди, и где он  найдёт утешение, и счастье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6877080" y="566100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17173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</a:pathLst>
          </a:custGeom>
          <a:solidFill>
            <a:srgbClr val="c49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.А. Есенин «Молитва матер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11640" y="5516640"/>
            <a:ext cx="28810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строк, 7 столб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∙0,618=8,6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78920" y="1196640"/>
            <a:ext cx="525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краю деревни старая избуш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м перед иконой молится стару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литва старушки сына помина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ын в краю далёком родину спас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лится старушка, утирает слёз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в глазах усталых расцветают грё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ит она поле, поле перед бо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Где лежит убитым сын её геро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груди широкой брызжет кровь, что плам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в руках застывших вражеское зна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от счастья с горем вся она засты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лову седую на руки склон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закрыли брови редкие седин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из глаз как бисер, сыплются слези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292720" y="1414080"/>
            <a:ext cx="3502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Золотое сечение попадает на 8 строку стихотворения: Где лежит убитым сын ее героем. Автор понимает что материнское горе нельзя никому постичь. Бедную, несчастную старушку может утешить теперь в жизни только одно, что сын пал героем, и не будет забыт его подвиг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6877080" y="6237360"/>
            <a:ext cx="863640" cy="287280"/>
          </a:xfrm>
          <a:custGeom>
            <a:avLst/>
            <a:gdLst>
              <a:gd name="textAreaLeft" fmla="*/ 18360 w 863640"/>
              <a:gd name="textAreaRight" fmla="*/ 845280 w 863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64881" h="21600">
                <a:moveTo>
                  <a:pt x="0" y="0"/>
                </a:moveTo>
                <a:lnTo>
                  <a:pt x="64881" y="0"/>
                </a:lnTo>
                <a:lnTo>
                  <a:pt x="64881" y="21600"/>
                </a:lnTo>
                <a:lnTo>
                  <a:pt x="0" y="21600"/>
                </a:lnTo>
                <a:close/>
              </a:path>
              <a:path fill="lightenLess" w="64881" h="21600">
                <a:moveTo>
                  <a:pt x="0" y="0"/>
                </a:moveTo>
                <a:lnTo>
                  <a:pt x="64881" y="0"/>
                </a:lnTo>
                <a:lnTo>
                  <a:pt x="63481" y="1400"/>
                </a:lnTo>
                <a:lnTo>
                  <a:pt x="1400" y="1400"/>
                </a:lnTo>
                <a:close/>
              </a:path>
              <a:path fill="darken" w="64881" h="21600">
                <a:moveTo>
                  <a:pt x="64881" y="0"/>
                </a:moveTo>
                <a:lnTo>
                  <a:pt x="64881" y="21600"/>
                </a:lnTo>
                <a:lnTo>
                  <a:pt x="63481" y="20200"/>
                </a:lnTo>
                <a:lnTo>
                  <a:pt x="63481" y="1400"/>
                </a:lnTo>
                <a:close/>
              </a:path>
              <a:path fill="darkenLess" w="64881" h="21600">
                <a:moveTo>
                  <a:pt x="64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81" y="20200"/>
                </a:lnTo>
                <a:close/>
              </a:path>
              <a:path fill="lighten" w="64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81" h="21600">
                <a:moveTo>
                  <a:pt x="25434" y="10800"/>
                </a:moveTo>
                <a:lnTo>
                  <a:pt x="39447" y="3794"/>
                </a:lnTo>
                <a:lnTo>
                  <a:pt x="39447" y="17806"/>
                </a:lnTo>
                <a:close/>
              </a:path>
            </a:pathLst>
          </a:custGeom>
          <a:solidFill>
            <a:srgbClr val="c49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0:05:25Z</dcterms:created>
  <dc:creator>Олег Александрович</dc:creator>
  <dc:description/>
  <dc:language>en-US</dc:language>
  <cp:lastModifiedBy>1</cp:lastModifiedBy>
  <dcterms:modified xsi:type="dcterms:W3CDTF">2007-02-26T08:04:57Z</dcterms:modified>
  <cp:revision>23</cp:revision>
  <dc:subject/>
  <dc:title>Золотое сечение в поэз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