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954-2E67-4378-8D95-71EDA3F5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916-D924-402B-A1C3-F504DA5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8EF-B28C-4D16-8383-C3307F58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B5F-27B4-4E40-844A-522C060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717B-2DBF-4D5F-8E24-3BA73E5D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D94-360B-403F-8FFF-D40F5007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586-BBBD-484F-A061-17B1DB3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3F7-E9BD-4369-9D6B-316E495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567-D1E9-4D6D-9F9F-C6F4A80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A47-FA6C-4DC9-927E-C4C2842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0960-6BEA-4F1B-8522-6FE55CC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F91-F178-4B6A-922F-D8E3FBF2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D65B-BF54-46FE-9431-64757BA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A8CC-4E10-44D8-91CE-F6B50FF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B49-00E4-4CF8-8574-D7878605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1C7-F3E2-426A-B173-DE850B5E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8A8-F60B-4E79-AC88-DEEE9469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BA5A-3750-4857-802D-44259132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6DAA-C1B7-4471-83F0-E6B15B3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5B3E-3472-4680-94C5-DA6BF39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1B2C-480C-49E7-8B34-E64250C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127F-3602-4671-962D-DF8D132A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A25-9C62-4119-9C6B-0FA3ECC7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2647-1CA1-44FF-A746-55183497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C98E-93A9-41E0-AC63-90908C90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55C3-2B10-4F2B-886A-CD94FE4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8298-A66C-4D10-84A9-B825C70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52DF-7FAF-4BF3-91A7-E21433B4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CC61-DB2C-455F-A43D-27E1F316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9ED9-35F4-4CD4-B931-0D09C23D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D121-40D3-4CB8-982F-3978781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D725-266E-4ED4-A34B-436CB77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B2DB-701B-4EC3-966E-56D466D6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47D-2BF2-4C4F-89FE-1AAADF0D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4574-D7CD-4CC2-9BD1-D65D4440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8D10-4C62-44B7-8F76-583E9DCC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AD29-A3FC-4375-8DB8-533C0FB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6373-A6D1-4A29-B893-DF629BE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5D33-66D2-4CD2-8A1E-CB03B58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9F3D-6B36-42A2-BFAC-0ECA7F4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8031-FC71-474D-86A8-29BD3A9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461E-60B2-4D70-A8A3-8D51D573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46E6-2FB1-46A9-89BA-22BB9E8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ABA-E9CF-4CF9-8BA8-F8B4040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AFA-68F5-46E6-8572-65D253F3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C8-7FA9-43CD-AA8F-D71314B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FFF-FEF5-4CC7-B940-70543B3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4A5-BD87-47F3-BDD8-C007F4C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079B-C7D3-433E-B537-36CDC0ADBD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8f7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f1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e8f7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e8f7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e8f7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ab6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2FF-AA62-4FC7-A5D5-F41CF6735B36}" type="slidenum">
              <a:rPr b="0" lang="ru-RU" sz="1200" spc="-1" strike="noStrike">
                <a:solidFill>
                  <a:srgbClr val="aab6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262-3716-4C0D-9BAE-B1D581FD03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8f7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f1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e8f7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e8f7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e8f7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ab6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79D-6D3D-4811-BE13-A10B2FEF44E3}" type="slidenum">
              <a:rPr b="0" lang="ru-RU" sz="1200" spc="-1" strike="noStrike">
                <a:solidFill>
                  <a:srgbClr val="aab6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b475"/>
            </a:gs>
            <a:gs pos="50000">
              <a:srgbClr val="33cccc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Овал 17"/>
          <p:cNvGrpSpPr/>
          <p:nvPr/>
        </p:nvGrpSpPr>
        <p:grpSpPr>
          <a:xfrm>
            <a:off x="6035760" y="3902040"/>
            <a:ext cx="3211560" cy="3071880"/>
            <a:chOff x="6035760" y="3902040"/>
            <a:chExt cx="3211560" cy="3071880"/>
          </a:xfrm>
        </p:grpSpPr>
        <p:pic>
          <p:nvPicPr>
            <p:cNvPr id="197" name="Овал 17" descr=""/>
            <p:cNvPicPr/>
            <p:nvPr/>
          </p:nvPicPr>
          <p:blipFill>
            <a:blip r:embed="rId1"/>
            <a:stretch/>
          </p:blipFill>
          <p:spPr>
            <a:xfrm>
              <a:off x="6035760" y="3902040"/>
              <a:ext cx="321156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83400" y="4533840"/>
              <a:ext cx="191124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9" name="Прямоугольник 8" descr=""/>
          <p:cNvPicPr/>
          <p:nvPr/>
        </p:nvPicPr>
        <p:blipFill>
          <a:blip r:embed="rId2"/>
          <a:stretch/>
        </p:blipFill>
        <p:spPr>
          <a:xfrm>
            <a:off x="841320" y="695160"/>
            <a:ext cx="7937640" cy="2846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6"/>
          <p:cNvSpPr/>
          <p:nvPr/>
        </p:nvSpPr>
        <p:spPr>
          <a:xfrm>
            <a:off x="6586920" y="4560840"/>
            <a:ext cx="22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боту выполнил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ченица 8 Б кл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Школы №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Бочкова Светл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едведева В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8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СОБЫЙ ИНТЕРЕС И  УВЛЕЧЕНИЕ ВЫЗЫВАЮТ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 ИЗГОТОВЛЕНИЮ ПАН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З РАЗНОЦВЕТНЫХ ПУГОВ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2" descr="img099"/>
          <p:cNvPicPr/>
          <p:nvPr/>
        </p:nvPicPr>
        <p:blipFill>
          <a:blip r:embed="rId1"/>
          <a:stretch/>
        </p:blipFill>
        <p:spPr>
          <a:xfrm>
            <a:off x="287280" y="2673360"/>
            <a:ext cx="400680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3" name="WordArt 2"/>
          <p:cNvSpPr txBox="1"/>
          <p:nvPr/>
        </p:nvSpPr>
        <p:spPr>
          <a:xfrm>
            <a:off x="1212840" y="1268280"/>
            <a:ext cx="649908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622423"/>
                  </a:solidFill>
                  <a:miter/>
                </a:ln>
                <a:gradFill rotWithShape="0">
                  <a:gsLst>
                    <a:gs pos="0">
                      <a:srgbClr val="ffc000"/>
                    </a:gs>
                    <a:gs pos="50000">
                      <a:srgbClr val="c00000"/>
                    </a:gs>
                    <a:gs pos="100000">
                      <a:srgbClr val="ffc000"/>
                    </a:gs>
                  </a:gsLst>
                  <a:lin ang="2700000"/>
                </a:gradFill>
                <a:latin typeface="Bookman Old Style"/>
              </a:rPr>
              <a:t>«зимний вечер»</a:t>
            </a:r>
            <a:endParaRPr b="1" lang="en-US" sz="1200" spc="1" strike="noStrike">
              <a:ln w="9360">
                <a:solidFill>
                  <a:srgbClr val="622423"/>
                </a:solidFill>
                <a:miter/>
              </a:ln>
              <a:gradFill rotWithShape="0">
                <a:gsLst>
                  <a:gs pos="0">
                    <a:srgbClr val="ffc000"/>
                  </a:gs>
                  <a:gs pos="50000">
                    <a:srgbClr val="c00000"/>
                  </a:gs>
                  <a:gs pos="100000">
                    <a:srgbClr val="ffc000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4824360" y="2673360"/>
            <a:ext cx="404352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4:46:16Z</dcterms:created>
  <dc:creator>Денис Чиндилов</dc:creator>
  <dc:description/>
  <dc:language>en-US</dc:language>
  <cp:lastModifiedBy>Admin</cp:lastModifiedBy>
  <dcterms:modified xsi:type="dcterms:W3CDTF">2012-07-11T16:59:44Z</dcterms:modified>
  <cp:revision>449</cp:revision>
  <dc:subject/>
  <dc:title>Принципы непрерывного образования в «Школе 2100»</dc:title>
</cp:coreProperties>
</file>