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413C-1E78-4D26-99D6-BC1DA97DC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8f7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4E01-6A0F-4703-8A46-848052494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8f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E2A3-95BD-45D6-BCA1-30F0D7DAA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8f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570F-9C82-45B6-BC0C-161A50E31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B8B7B-5563-4BED-B2A7-111D0B7AD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8f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CE78D-E95F-4695-80E3-689390884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8f7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EE1E8-F189-4B46-AD6F-037731E82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8f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F2831-85C2-4E2B-8F4A-D31FE8EA6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8f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BFE0D-F5D9-4653-A191-5DBE32FB7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8C7F1-7B75-4A54-ABE8-959BE371B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8f7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8CDC9-0906-4244-AA5C-2FA19767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8f7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C31E-42A3-44A6-95D2-B9A8D664C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8f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CB695-B27D-41F2-970E-0585FC5E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8f7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4828F-5435-460A-9F81-8F7A8B9A3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8f7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3C87E-D5FF-47A6-BE5D-685D422C4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8f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DBE82-4510-4F26-8212-F1DA56FD0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8f7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16836-1ADA-48F6-8640-522C703C9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E63FF-8589-4D36-A0E8-BD5482187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8f7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83CC4-D00A-4AA0-BE2F-EFEE3564C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8f7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4ED56-FFBF-434D-8CD0-BC42EA345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8f7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417B9-930B-4FE8-B00C-A5F61C446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8f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A9D7F-A7F9-4AC5-B908-9D8547712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8f7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15F0-9109-446A-8FEC-4E3446D29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1A5D5-DE19-4959-9F1C-60736C99F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8f7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2B1C9-B55A-4BF1-83EA-5002EFFC6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8f7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E2CFA-B8DF-4FB5-8B2F-7C54D340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8f7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B8AB0-4948-4041-9BFB-C777AB3B5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8f7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38ECE-67EC-4A11-8404-F3729D633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8f7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05609-962E-45B5-8237-D3848D7C0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8f7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AFB71-EF3C-41E3-A32A-91FE31FEA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4E868-BD7A-46E1-91A6-27437191C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8f7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F6D76-D9B9-469B-B14E-C2F994995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8f7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9F197-42EF-4405-958F-BBC125707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8f7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8B99-5047-452E-A2DD-3E9EDF8FE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8f7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A714F-D504-4DB9-A762-4C7A08453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8f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3738C-69A1-4A1C-963B-5B426694C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1A763-0CA0-495D-AEDE-1DA4FFC12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8f7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73545-ED84-4616-AB7C-CAF7BDCA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8f7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407C1-B743-4D12-8761-1695AC7D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8f7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47C4C-4600-4EE9-BBEC-E684FB4D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8f7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76D4D-391F-4613-8F94-0851A8B2F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8f7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8048F-2702-4CF1-9810-0E18AD0FE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8f7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76B64-05B0-47C5-AFCD-DCB6ABD76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8f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E0EE-39DC-4508-B344-D18D074E3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99A3-0477-4EE6-8BD1-78B45855D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8f7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935E-303E-4DA2-9ED9-2FB56DB5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8f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94C8-BA94-4796-A5C2-D569FA7EA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8f7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9EF7-8975-415A-92B0-88F08745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550D3-C7EC-4730-ADAD-48EE7D86C46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8f7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e8f7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e3f1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8f7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e8f7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8f7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e8f7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8f7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e8f7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8f7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e8f7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8f7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e8f7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8f7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e8f7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8f7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ab6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29EB1-7548-4AF2-9158-594D34586FFF}" type="slidenum">
              <a:rPr b="0" lang="ru-RU" sz="1200" spc="-1" strike="noStrike">
                <a:solidFill>
                  <a:srgbClr val="aab6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99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0A60E-ECD1-4F85-AB8E-D39BE269E03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8f7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e8f7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e3f1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8f7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e8f7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8f7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e8f7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8f7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e8f7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8f7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e8f7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8f7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e8f7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8f7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e8f7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8f7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e8f7ff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10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11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12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ab6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9B603-66DC-4DFB-861A-3402C0D33C6F}" type="slidenum">
              <a:rPr b="0" lang="ru-RU" sz="1200" spc="-1" strike="noStrike">
                <a:solidFill>
                  <a:srgbClr val="aab6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ab475"/>
            </a:gs>
            <a:gs pos="50000">
              <a:srgbClr val="33cccc"/>
            </a:gs>
            <a:gs pos="100000">
              <a:srgbClr val="6ab4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Овал 17"/>
          <p:cNvGrpSpPr/>
          <p:nvPr/>
        </p:nvGrpSpPr>
        <p:grpSpPr>
          <a:xfrm>
            <a:off x="6035760" y="3902040"/>
            <a:ext cx="3211560" cy="3071880"/>
            <a:chOff x="6035760" y="3902040"/>
            <a:chExt cx="3211560" cy="3071880"/>
          </a:xfrm>
        </p:grpSpPr>
        <p:pic>
          <p:nvPicPr>
            <p:cNvPr id="197" name="Овал 17" descr=""/>
            <p:cNvPicPr/>
            <p:nvPr/>
          </p:nvPicPr>
          <p:blipFill>
            <a:blip r:embed="rId1"/>
            <a:stretch/>
          </p:blipFill>
          <p:spPr>
            <a:xfrm>
              <a:off x="6035760" y="3902040"/>
              <a:ext cx="3211560" cy="30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6683400" y="4533840"/>
              <a:ext cx="1911240" cy="180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99" name="Прямоугольник 8" descr=""/>
          <p:cNvPicPr/>
          <p:nvPr/>
        </p:nvPicPr>
        <p:blipFill>
          <a:blip r:embed="rId2"/>
          <a:stretch/>
        </p:blipFill>
        <p:spPr>
          <a:xfrm>
            <a:off x="841320" y="695160"/>
            <a:ext cx="7937640" cy="2846520"/>
          </a:xfrm>
          <a:prstGeom prst="rect">
            <a:avLst/>
          </a:prstGeom>
          <a:ln w="0">
            <a:noFill/>
          </a:ln>
        </p:spPr>
      </p:pic>
      <p:sp>
        <p:nvSpPr>
          <p:cNvPr id="200" name="TextBox 16"/>
          <p:cNvSpPr/>
          <p:nvPr/>
        </p:nvSpPr>
        <p:spPr>
          <a:xfrm>
            <a:off x="6586920" y="4560840"/>
            <a:ext cx="2262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Работу выполнила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ученица 8 Б класс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Школы №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Бочкова Светла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Учитель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Медведева В.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1"/>
          <p:cNvSpPr/>
          <p:nvPr/>
        </p:nvSpPr>
        <p:spPr>
          <a:xfrm>
            <a:off x="0" y="80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ОСОБЫЙ ИНТЕРЕС И  УВЛЕЧЕНИЕ ВЫЗЫВАЮТ РАБОТ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ПО ИЗГОТОВЛЕНИЮ ПАНН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ИЗ РАЗНОЦВЕТНЫХ ПУГОВИ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Picture 2" descr="img099"/>
          <p:cNvPicPr/>
          <p:nvPr/>
        </p:nvPicPr>
        <p:blipFill>
          <a:blip r:embed="rId1"/>
          <a:stretch/>
        </p:blipFill>
        <p:spPr>
          <a:xfrm>
            <a:off x="287280" y="2673360"/>
            <a:ext cx="4006800" cy="35812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203" name="WordArt 2"/>
          <p:cNvSpPr txBox="1"/>
          <p:nvPr/>
        </p:nvSpPr>
        <p:spPr>
          <a:xfrm>
            <a:off x="1212840" y="1268280"/>
            <a:ext cx="6499080" cy="123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51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622423"/>
                  </a:solidFill>
                  <a:miter/>
                </a:ln>
                <a:gradFill rotWithShape="0">
                  <a:gsLst>
                    <a:gs pos="0">
                      <a:srgbClr val="ffc000"/>
                    </a:gs>
                    <a:gs pos="50000">
                      <a:srgbClr val="c00000"/>
                    </a:gs>
                    <a:gs pos="100000">
                      <a:srgbClr val="ffc000"/>
                    </a:gs>
                  </a:gsLst>
                  <a:lin ang="2700000"/>
                </a:gradFill>
                <a:latin typeface="Bookman Old Style"/>
              </a:rPr>
              <a:t>«зимний вечер»</a:t>
            </a:r>
            <a:endParaRPr b="1" lang="en-US" sz="1200" spc="1" strike="noStrike">
              <a:ln w="9360">
                <a:solidFill>
                  <a:srgbClr val="622423"/>
                </a:solidFill>
                <a:miter/>
              </a:ln>
              <a:gradFill rotWithShape="0">
                <a:gsLst>
                  <a:gs pos="0">
                    <a:srgbClr val="ffc000"/>
                  </a:gs>
                  <a:gs pos="50000">
                    <a:srgbClr val="c00000"/>
                  </a:gs>
                  <a:gs pos="100000">
                    <a:srgbClr val="ffc000"/>
                  </a:gs>
                </a:gsLst>
                <a:lin ang="2700000"/>
              </a:gradFill>
              <a:latin typeface="Bookman Old Style"/>
              <a:ea typeface="Bookman Old Style"/>
            </a:endParaRPr>
          </a:p>
        </p:txBody>
      </p:sp>
      <p:pic>
        <p:nvPicPr>
          <p:cNvPr id="204" name="Picture 6" descr=""/>
          <p:cNvPicPr/>
          <p:nvPr/>
        </p:nvPicPr>
        <p:blipFill>
          <a:blip r:embed="rId2"/>
          <a:stretch/>
        </p:blipFill>
        <p:spPr>
          <a:xfrm>
            <a:off x="4824360" y="2673360"/>
            <a:ext cx="4043520" cy="35812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9T14:46:16Z</dcterms:created>
  <dc:creator>Денис Чиндилов</dc:creator>
  <dc:description/>
  <dc:language>en-US</dc:language>
  <cp:lastModifiedBy>Admin</cp:lastModifiedBy>
  <dcterms:modified xsi:type="dcterms:W3CDTF">2012-07-11T16:59:44Z</dcterms:modified>
  <cp:revision>449</cp:revision>
  <dc:subject/>
  <dc:title>Принципы непрерывного образования в «Школе 2100»</dc:title>
</cp:coreProperties>
</file>