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726-CC19-42EC-8273-A5517014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01F-4DCD-473F-A282-E30C2982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E78-4FAF-4391-9D73-E0D3EF3E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C69-AAC5-402D-A962-8FFA674A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9C55-DCC6-4254-A3BB-8688A770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EFEB-3521-4620-8559-E02921FA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3655-E789-4A39-A63C-34D9A03B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E31F-EEE5-4436-9C68-10E04804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75C7-FB62-4A43-ADD8-F5399ABB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0311-83BB-4CD9-A02A-A3B11B52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DBBB-12EB-4932-AE9B-481ABB3B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2E99-334D-4001-8CA2-66831889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F083-CA7C-4212-AD61-41BA4EB6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0069-A538-431C-BA4F-32A1B36B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4039-8384-4E55-A76F-C8159711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F098-D9EF-409F-8641-E70FCB65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14C2-7628-4E7F-A97F-02594873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223E6-B3B8-4438-A082-99DA4B4B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8295F-A744-4730-944B-56C3FDED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F1CAC-CDA7-4F9B-BDB3-8321F024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7B67C-66C0-4E16-8A52-3A90E42D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985D3-71D3-45E9-8AFD-92A43373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069-0955-4BAA-B0A8-FC5B11CC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8ED55-2D7C-4978-8765-7B2A400E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5B0DD-E4F2-41CF-A050-6BCAE247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5521B-68F7-4CCA-AF77-B003074B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BFFDF-6720-438A-9BE7-1068B7A6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B1507-6D38-4EF1-B3EC-598B4809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A7244-74B3-487C-898C-A522ED97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9DB34-3BF3-4B66-8513-FFB0D0D4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86CC2-1638-49E3-BF45-90F972C0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D4C1A-CC79-4B20-808C-AD0D0087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723EC-8A9A-429C-829A-5B9BE02F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09C-3FFE-4745-AED9-CBFFB27A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4547E-50E8-40BA-A00B-9EF25ACF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AC47E-20A2-4783-AC82-58C3069A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A893F-380B-4CD2-A900-839F3FCB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D6019-7A21-4EEF-84CA-A1399523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79667-7C87-43FF-B717-F04DDF53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FE70-8BFE-4024-B84B-83A6CADF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63793-D1E2-485B-86C1-5CF91654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E723-27EC-4102-A247-70034C3D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11B85-D0DF-4A60-BD44-8FC4BCF4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F35BC-57C7-4124-860D-AE7DFE46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415-1F1F-48C5-BAE4-4D2D6CBE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7EF12-72E7-474C-AAD0-E61DEF8A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551FF-5504-4F5B-B441-2825930F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EAE5D-9F72-41D0-9265-BF22F39A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E0A61-D4FB-4A9E-A538-4A4B0555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38F66-9F0C-4782-8E2B-0C769638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C5BCF-6D86-41D4-9855-9F33A7F8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A2FCF-37D2-4CEB-A01A-713036BA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80311-EB3B-47D9-A57D-FD0CF53E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7F612-C3D1-4698-8078-E42A902F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7BF97-C4D4-482A-8F27-0C50A136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0F2-C232-4E80-9612-FB43CB39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0A910-9A46-4B5E-B624-7551F01C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690-0E18-486F-974C-DC355FB4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956-B90B-4750-917D-BC4F4827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FA3-7ED1-41A7-9532-2F2526E7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4D9D-1BA2-43E6-AD4B-DA0279D7F48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9201-738A-4A7F-95C4-5A2F53C645C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017D-2367-4BA0-B5AC-3653AF5A7D4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6B1E-71B7-4798-AD14-2CFA9CF59092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CBC0-DDA4-4898-B958-35E04615AF3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76760" cy="3286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48000" y="349992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Impact"/>
              </a:rPr>
              <a:t>«Подготовка и проведение открытого урока</a:t>
            </a:r>
            <a:r>
              <a:rPr b="0" lang="ru-RU" sz="3400" spc="-1" strike="noStrike">
                <a:solidFill>
                  <a:srgbClr val="990099"/>
                </a:solidFill>
                <a:latin typeface="Impact"/>
              </a:rPr>
              <a:t>»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358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Педагог дает характеристику группы, где будет проводиться открытый урок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Особенности урока, цели урок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Совершенствование своего прежнего опыт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Применение в новых условиях кем-то созданного опыт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Использование экспериментальных методи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7242120" cy="1225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196640"/>
            <a:ext cx="72388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rebuchet MS"/>
              </a:rPr>
              <a:t>Учитель проектирует и демонстрирует те или иные педагогические действия, но никак не обосновывает, что существенно снижает эффективность обучения приглашенных</a:t>
            </a: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rebuchet MS"/>
              </a:rPr>
              <a:t>Учитель для большего впечатления вставляет в урок какие-то эффектные элементы, необходимость которых на данном уроке сомнительн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rebuchet MS"/>
              </a:rPr>
              <a:t>Забывание об учениках. Педагог демонстрирует свою эрудицию, при почти полном отсутствии обратной связ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rebuchet MS"/>
              </a:rPr>
              <a:t>Недопустимы терминологические ошибки в выступлении учител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25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Trebuchet MS"/>
              </a:rPr>
              <a:t>Виды познавательной деятель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rebuchet MS"/>
              </a:rPr>
              <a:t>Репродуктивная (воспроизводящая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Trebuchet MS"/>
              </a:rPr>
              <a:t>Продуктивная (творческая самостоятельная работа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rebuchet MS"/>
              </a:rPr>
              <a:t>Метод «Мозгового штурма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rebuchet MS"/>
              </a:rPr>
              <a:t>Игра «Интеллектуальный бой»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rebuchet MS"/>
              </a:rPr>
              <a:t>Методы, в которых осуществляется и индивидуальная работа и групповая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539280" y="105228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90099"/>
                </a:solidFill>
                <a:latin typeface="Arial Black"/>
              </a:rPr>
              <a:t>СЛУШАЯ – ЗАБЫВАЕШЬ,</a:t>
            </a: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90099"/>
                </a:solidFill>
                <a:latin typeface="Arial Black"/>
              </a:rPr>
              <a:t>СМОТРЯ –</a:t>
            </a:r>
            <a:r>
              <a:rPr b="0" lang="ru-RU" sz="3300" spc="-1" strike="noStrike">
                <a:solidFill>
                  <a:srgbClr val="990099"/>
                </a:solidFill>
                <a:latin typeface="Lucida Console"/>
              </a:rPr>
              <a:t> </a:t>
            </a:r>
            <a:r>
              <a:rPr b="0" lang="ru-RU" sz="3300" spc="-1" strike="noStrike">
                <a:solidFill>
                  <a:srgbClr val="990099"/>
                </a:solidFill>
                <a:latin typeface="Arial Black"/>
              </a:rPr>
              <a:t>ЗАПОМИНАЕШЬ</a:t>
            </a:r>
            <a:r>
              <a:rPr b="0" lang="ru-RU" sz="3300" spc="-1" strike="noStrike">
                <a:solidFill>
                  <a:srgbClr val="990099"/>
                </a:solidFill>
                <a:latin typeface="Lucida Console"/>
              </a:rPr>
              <a:t>,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990099"/>
                </a:solidFill>
                <a:latin typeface="Arial Black"/>
              </a:rPr>
              <a:t>ДЕЙСТВУЯ - ПОНИМАЕШЬ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609480" y="444600"/>
            <a:ext cx="7242120" cy="1676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Impact"/>
              </a:rPr>
              <a:t>ЭТО ВСЕГДА ПУБЛИЧНОЕ ДЕЙСТВО, ЭТО ПОКАЗ, ДЕМОНСТРАЦИЯ, ПРЕЗЕНТАЦИЯ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225360" y="237960"/>
            <a:ext cx="7473960" cy="15051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Повышение квалификации тех, кто приходит на открытый урок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Экспертиза коллегами новшества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Саморазвитие учителя, стремление к собственному повышению квалификаци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588440" cy="1395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Четкость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Грамотность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Доступность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-30240" y="262080"/>
            <a:ext cx="8998200" cy="1195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rebuchet MS"/>
              </a:rPr>
              <a:t>Цель</a:t>
            </a:r>
            <a:r>
              <a:rPr b="0" lang="ru-RU" sz="3600" spc="-1" strike="noStrike">
                <a:solidFill>
                  <a:srgbClr val="ff33cc"/>
                </a:solidFill>
                <a:latin typeface="Trebuchet MS"/>
              </a:rPr>
              <a:t>  - зачем учить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rebuchet MS"/>
              </a:rPr>
              <a:t>Содержание</a:t>
            </a:r>
            <a:r>
              <a:rPr b="0" lang="ru-RU" sz="3600" spc="-1" strike="noStrike">
                <a:solidFill>
                  <a:srgbClr val="ff33cc"/>
                </a:solidFill>
                <a:latin typeface="Trebuchet MS"/>
              </a:rPr>
              <a:t> – чему учить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rebuchet MS"/>
              </a:rPr>
              <a:t>Средства</a:t>
            </a:r>
            <a:r>
              <a:rPr b="0" lang="ru-RU" sz="3600" spc="-1" strike="noStrike">
                <a:solidFill>
                  <a:srgbClr val="ff33cc"/>
                </a:solidFill>
                <a:latin typeface="Trebuchet MS"/>
              </a:rPr>
              <a:t> – как учить?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rebuchet MS"/>
              </a:rPr>
              <a:t>Результат</a:t>
            </a:r>
            <a:r>
              <a:rPr b="0" lang="ru-RU" sz="3600" spc="-1" strike="noStrike">
                <a:solidFill>
                  <a:srgbClr val="ff33cc"/>
                </a:solidFill>
                <a:latin typeface="Trebuchet MS"/>
              </a:rPr>
              <a:t> – реализованная цель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971640" y="10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3562200" y="11145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586728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660033"/>
                </a:solidFill>
                <a:uFillTx/>
                <a:latin typeface="Trebuchet MS"/>
              </a:rPr>
              <a:t>1. Введение в учебную деятельност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это не организационный момент, 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Создание учебной мотивации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Осознание и принятие учебной цел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99"/>
                </a:solidFill>
                <a:latin typeface="Trebuchet MS"/>
              </a:rPr>
              <a:t>Постановка учебных задач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255600" y="324000"/>
            <a:ext cx="7443720" cy="13824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rebuchet MS"/>
              </a:rPr>
              <a:t>Это не передача готовой информации. Рассказами не обучают, а решении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990099"/>
                </a:solidFill>
                <a:latin typeface="Trebuchet MS"/>
              </a:rPr>
              <a:t>учебных задач нацеленных на результат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55600" y="324000"/>
            <a:ext cx="7443720" cy="1382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Trebuchet MS"/>
              </a:rPr>
              <a:t>Это не тотальный контроль, а самоанализ (учащиеся должны понять причины ошибок и по возможности устранить их)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382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rebuchet MS"/>
              </a:rPr>
              <a:t>Это не выставление отметок, 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rebuchet MS"/>
              </a:rPr>
              <a:t>контроль складывается из несколько шагов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e66"/>
                </a:solidFill>
                <a:latin typeface="Trebuchet MS"/>
              </a:rPr>
              <a:t>-</a:t>
            </a:r>
            <a:r>
              <a:rPr b="0" lang="ru-RU" sz="2800" spc="-1" strike="noStrike">
                <a:solidFill>
                  <a:srgbClr val="990099"/>
                </a:solidFill>
                <a:latin typeface="Trebuchet MS"/>
              </a:rPr>
              <a:t> выявить то, что усвоено учащимися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rebuchet MS"/>
              </a:rPr>
              <a:t>Измерить усвоенное (по уровням усвоения, по осознанности, по полноте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990099"/>
                </a:solidFill>
                <a:latin typeface="Trebuchet MS"/>
              </a:rPr>
              <a:t>оценка результат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99"/>
                </a:solidFill>
                <a:latin typeface="Trebuchet MS"/>
              </a:rPr>
              <a:t>Оценка не мотивированная, не озвученная – МУСОР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4:24:04Z</dcterms:created>
  <dc:creator>Юра</dc:creator>
  <dc:description/>
  <dc:language>en-US</dc:language>
  <cp:lastModifiedBy>Юра</cp:lastModifiedBy>
  <dcterms:modified xsi:type="dcterms:W3CDTF">2012-07-11T12:46:33Z</dcterms:modified>
  <cp:revision>5</cp:revision>
  <dc:subject/>
  <dc:title>Открытый урок</dc:title>
</cp:coreProperties>
</file>