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6A8-FF12-44C3-A27B-F98A88F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140-DDE9-4F9A-AE78-788D2D2E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684-F68F-4839-B395-36563914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6C9-AD5C-4E0A-AA31-35BDDB0D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830-9E88-48B0-B9CB-5ED821AC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0810-BE15-4920-B82F-F4F4376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B5AB-63E2-43A9-BF2E-3609D66D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72F3-B8B0-4289-9A2E-31AF920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0478-0085-4609-BA2B-ECF06434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B349-8BE1-4C99-9DBE-14B6FA5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5253-73F2-4321-9FC3-D30B3A7C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C49-8CEA-4924-9306-628046C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C61-B534-4399-86E6-8D9F9CB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9C0-D113-4F49-910C-549E9BD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8094-021A-47AE-A280-1E12DD7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D5D1-E076-45D5-BF3A-4B843E32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49D-81FA-41A3-BF81-5AD49A3D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33FB-B424-40BF-B3DD-BDFA865F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A3C6-B10F-425E-8260-2FCA9876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7F4B-9710-48BE-BD47-84C9E684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6D5B-27C0-43CC-A508-6AB43A6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2E4E-EF4D-4B19-8F95-9D7B7B1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235-4180-45B6-8056-B68D4C4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A228-2E31-4237-AF5C-C91EC89D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0308-9226-4470-90AA-468FDF6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1D88-2F8C-4C00-B405-D52755E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0CF3-5501-4065-9E7A-F292BBD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FE9D-18D1-4C12-B25E-7B52004D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151C-DE98-4839-8E0E-B58DC3F4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1DB9-E185-4415-9F1E-C1FD60A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AE68-F066-4431-987E-DAB83B97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8193-7229-4631-992C-CDD1BDBE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9C14-C978-40E8-A79A-3B56E30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D77-BC30-499E-918D-CC648C6D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6B40-2B41-4B5D-B7B8-2B8C9402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D875-9262-4FCC-A99B-60F12AA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5CFD-533D-453F-A602-8CDB84BC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2FDF-49A4-4C8E-87E9-0F93A5F7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709F-6D59-49BC-A6A7-9B3E4F7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2F86-CFDF-4101-9055-A8ADE1C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AD82-0A4D-48D2-ACA3-3699A6EA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63A7-CB0C-47AA-B510-03A1DBCD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730E-E256-49AE-B748-843F5FE9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B3434-2C97-4010-A34A-B8BDD8BD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3AF-72CF-4B31-9CA4-E8A592A5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C116-9E22-49B6-BC65-9F313C36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18C9-CD1B-423B-94CF-27B585B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EE1AF-18FD-429E-AB5F-7994B06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048B-6C46-4B87-9C3C-40A59E2C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40B5-8A78-4381-B51D-0654460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CB80-29C7-4191-8133-7710AC3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FEA0-5D87-4C7C-B8CE-89D130F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7EAB-8D12-4435-A769-ACC6946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E89C-6A0D-487E-986F-A2C0E3CA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0459-C914-4611-BE26-591E8674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30F-AC2C-4F2F-A2E9-C178A10C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9345-FCD5-4E5B-B7B0-1AC021E9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AC6-26E9-49E3-B777-BC0DC66F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DEF-9590-444F-9C09-49CA91D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3AA-6077-4E6C-A3AA-9B8DC14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5AC-6198-41C4-95CF-927A57C16F9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D877-FCFE-4B3D-BB4C-168ED7179E7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25D-8FE3-4F6E-9C5D-1BA2A87FE61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4B3-1320-42D0-B89C-5F596EE15B1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75A6-B3B1-4CE7-82A9-86B643F91AF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76760" cy="3286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48000" y="3499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Impact"/>
              </a:rPr>
              <a:t>«Подготовка и проведение открытого урока</a:t>
            </a:r>
            <a:r>
              <a:rPr b="0" lang="ru-RU" sz="3400" spc="-1" strike="noStrike">
                <a:solidFill>
                  <a:srgbClr val="990099"/>
                </a:solidFill>
                <a:latin typeface="Impact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58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едагог дает характеристику группы, где будет проводиться открытый урок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Особенности урока, цели уро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Совершенствование своего прежнего опыт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рименение в новых условиях кем-то созданного опыт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Использование экспериментальных метод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22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Учитель проектирует и демонстрирует те или иные педагогические действия, но никак не обосновывает, что существенно снижает эффективность обучения приглашенных</a:t>
            </a: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Учитель для большего впечатления вставляет в урок какие-то эффектные элементы, необходимость которых на данном уроке сомнительн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Забывание об учениках. Педагог демонстрирует свою эрудицию, при почти полном отсутствии обратной связ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Недопустимы терминологические ошибки в выступлении учител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25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rebuchet MS"/>
              </a:rPr>
              <a:t>Виды познава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rebuchet MS"/>
              </a:rPr>
              <a:t>Репродуктивная (воспроизводяща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rebuchet MS"/>
              </a:rPr>
              <a:t>Продуктивная (творческая самостоятельная работ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rebuchet MS"/>
              </a:rPr>
              <a:t>Метод «Мозгового штурма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rebuchet MS"/>
              </a:rPr>
              <a:t>Игра «Интеллектуальный бой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rebuchet MS"/>
              </a:rPr>
              <a:t>Методы, в которых осуществляется и индивидуальная работа и группова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39280" y="1052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90099"/>
                </a:solidFill>
                <a:latin typeface="Arial Black"/>
              </a:rPr>
              <a:t>СЛУШАЯ – ЗАБЫВАЕШЬ,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90099"/>
                </a:solidFill>
                <a:latin typeface="Arial Black"/>
              </a:rPr>
              <a:t>СМОТРЯ –</a:t>
            </a:r>
            <a:r>
              <a:rPr b="0" lang="ru-RU" sz="3300" spc="-1" strike="noStrike">
                <a:solidFill>
                  <a:srgbClr val="990099"/>
                </a:solidFill>
                <a:latin typeface="Lucida Console"/>
              </a:rPr>
              <a:t> </a:t>
            </a:r>
            <a:r>
              <a:rPr b="0" lang="ru-RU" sz="3300" spc="-1" strike="noStrike">
                <a:solidFill>
                  <a:srgbClr val="990099"/>
                </a:solidFill>
                <a:latin typeface="Arial Black"/>
              </a:rPr>
              <a:t>ЗАПОМИНАЕШЬ</a:t>
            </a:r>
            <a:r>
              <a:rPr b="0" lang="ru-RU" sz="3300" spc="-1" strike="noStrike">
                <a:solidFill>
                  <a:srgbClr val="990099"/>
                </a:solidFill>
                <a:latin typeface="Lucida Console"/>
              </a:rPr>
              <a:t>,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990099"/>
                </a:solidFill>
                <a:latin typeface="Arial Black"/>
              </a:rPr>
              <a:t>ДЕЙСТВУЯ - ПОНИМАЕШЬ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609480" y="444600"/>
            <a:ext cx="7242120" cy="167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Impact"/>
              </a:rPr>
              <a:t>ЭТО ВСЕГДА ПУБЛИЧНОЕ ДЕЙСТВО, ЭТО ПОКАЗ, ДЕМОНСТРАЦИЯ, ПРЕЗЕНТАЦИЯ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овышение квалификации тех, кто приходит на открытый урок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Экспертиза коллегами новшеств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Саморазвитие учителя, стремление к собственному повышению квалификаци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88440" cy="1395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Четк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Грамотн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Доступнос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30240" y="262080"/>
            <a:ext cx="8998200" cy="119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Цель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 - зачем учи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Содержание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– чему учи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Средства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– как учи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Результат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– реализованная цел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971640" y="10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3562200" y="11145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586728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660033"/>
                </a:solidFill>
                <a:uFillTx/>
                <a:latin typeface="Trebuchet MS"/>
              </a:rPr>
              <a:t>1. Введение в учебную деятельн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это не организационный момент, 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Создание учебной мотивации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Осознание и принятие учебной цел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остановка учебных задач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Это не передача готовой информации. Рассказами не обучают, а решении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учебных задач нацеленных на результа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Это не тотальный контроль, а самоанализ (учащиеся должны понять причины ошибок и по возможности устранить их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82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Это не выставление отметок, 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контроль складывается из несколько шагов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 выявить то, что усвоено учащимис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Измерить усвоенное (по уровням усвоения, по осознанности, по полноте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оценка результат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rebuchet MS"/>
              </a:rPr>
              <a:t>Оценка не мотивированная, не озвученная – МУСОР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24:04Z</dcterms:created>
  <dc:creator>Юра</dc:creator>
  <dc:description/>
  <dc:language>en-US</dc:language>
  <cp:lastModifiedBy>Юра</cp:lastModifiedBy>
  <dcterms:modified xsi:type="dcterms:W3CDTF">2012-07-11T12:46:33Z</dcterms:modified>
  <cp:revision>5</cp:revision>
  <dc:subject/>
  <dc:title>Открытый урок</dc:title>
</cp:coreProperties>
</file>