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F33C-2EC2-4D30-8B62-79131FBC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237-3F7C-46D5-B8C6-20A3BB8C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45A-9E97-48E0-9E42-1FF80C76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28E-0AD9-4B1E-A978-D34CC9F9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D304-6DF6-4529-B249-AD78E7E7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738-6FA8-4326-BB5C-5763253C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D90-440C-4E09-80AD-98DEAC52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356-FC87-4D5A-A459-4E1D792A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F9F7-8746-4FB4-9966-8A366251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049-985B-44E9-BB2C-F0B99E1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8F58-F639-4C02-AD40-F732FAFC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538-1DAB-4B20-9E06-24A7B00C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EE68-6AAA-4407-A0E4-8BB1BFEFF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907920"/>
            <a:ext cx="6408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ЗЕЙ-ПАНОРАМ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СТАЛИНГРАДСКАЯ БИТВА"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3888000" cy="29242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5724360" y="4221000"/>
            <a:ext cx="34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Учащиеся 9 «В» кла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МОУ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Кадымова И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16000" y="333360"/>
            <a:ext cx="669600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V -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личные бои в Сталинград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519640" cy="18939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19640" y="2997360"/>
            <a:ext cx="2062080" cy="27432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1895760" cy="25210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2718000" y="2421000"/>
            <a:ext cx="30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Винтовка снайпера В. Зайц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8480" y="6165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Литографский кам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87880" y="5950080"/>
            <a:ext cx="297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Комплекс, посвяще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олжской военной флотил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63640" y="189000"/>
            <a:ext cx="54738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V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личные бои в Сталинграде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268280"/>
            <a:ext cx="8964720" cy="72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Экспозиция зала рассказывает об уличных боях в период с 13 сентября по 19 ноября 1942 г.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Свыше 140 дней войска 62-й и 64-й армий отражали натиск врага на фронте протяженностью 65 к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Центральное место в зале занимает 30-метровый макет разрушенного города. Он озвучен и освещен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Экспонаты зала относятся к боям в районе железнодорожного вокзала Сталинград I, на площади 9 Января, Мамаевом кургане (62-я армия), в районе балки Купоросной, за высоту 145,5 (Лысая гора) (64-я армия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В уцелевших зданиях защитники Сталинграда создавали узлы сопроти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Ярким примером героизма стал Дом Павлов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Фотографии и экспонаты музея рассказывают о героической обороне этого дом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В экспозиции также находятся реликвии музея: снайперская винтовка В. Зайцева, паспорт врача И. Пономаренко, орден Отечественной войны 1-й степени М. Паниках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Отдельный раздел экспозиции посвящается Волжской военной флотил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В этом зале также можно узнать о легендарной 138-й дивизии И. И. Людников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Отрезанная со всех сторон от наших частей и прижатая к Волге, она 42 дня отражала натиск четырех вражеских дивиз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Рядом можно видеть и вооружение штурмовых групп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Документы и фотографии рассказывают об этих уникальных, наиболее действенных в Сталинграде боевых формирования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Об угрозе, нависшей над городом, и тяжести боев этого периода свидетельствует интереснейший экспонат музея - литографский камень для печатания листовок, заранее изготовленный гитлеровц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На камне надпись: "Сталинград пал. Москва - голова Советского Союза, Сталинград - его сердце"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Но ни одна листовка такого содержания так и не была напечатан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                                                                 </a:t>
            </a:r>
            <a:r>
              <a:rPr b="1" lang="ru-RU" sz="1500" spc="-1" strike="noStrike">
                <a:solidFill>
                  <a:srgbClr val="ff3399"/>
                </a:solidFill>
                <a:latin typeface="Sylfaen"/>
              </a:rPr>
              <a:t>Гитлеровцы поторопилис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3399"/>
                </a:solidFill>
                <a:latin typeface="Sylfaen"/>
              </a:rPr>
              <a:t> </a:t>
            </a:r>
            <a:r>
              <a:rPr b="1" lang="ru-RU" sz="1500" spc="-1" strike="noStrike">
                <a:solidFill>
                  <a:srgbClr val="ff3399"/>
                </a:solidFill>
                <a:latin typeface="Sylfaen"/>
              </a:rPr>
              <a:t>Город продолжал сражатьс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32000" y="549360"/>
            <a:ext cx="7127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льнейшее укрепление советского тыл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372360" y="2565360"/>
            <a:ext cx="2279520" cy="30322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2232000" cy="19098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2592360" cy="23097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3202200" y="2205000"/>
            <a:ext cx="28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Хлеб военного Сталингр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240" y="623736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Бронированная каб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43280" y="5734080"/>
            <a:ext cx="374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Витрина с обмундированием воин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Красной Ар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332000" y="404640"/>
            <a:ext cx="7127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льнейшее укрепление советского тыла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125360"/>
            <a:ext cx="8532720" cy="66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К осени 1942 г. промышленность нашей страны перестроилась на военный л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В достаточном количестве наши войска были обеспечены стрелковым оружием, обмундированием, танками, самоле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Образцы стрелкового оружия представлены в витрине за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Благодаря самоотверженному труду работников тыла были созданы материально-технические предпосылки для разгрома противника под Сталингра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В экспозиции зала бронированная кабина, находившаяся на пульте управления Сталинградской районной электростанции (СТАЛГРЭ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Она предназначалась для защиты дежурного персонала во время бомбардировок и артобстре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СТАЛГРЭС работала до декабря 1942 г. и снабжала южные районы города электроэнерг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Рядом образцы военной продукции и рабочие инстр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О вкладе предприятий города и области в фонд обороны рассказывают экспонаты следующей витрины: обмундирование воинов Красной Армии, фотографии танка Т-34, который выпускали на тракторном зав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За выпуск этих танков сверх плана Сталинградскому тракторному в июле 1942 г. было вручено переходящее Красное знамя Государственного комитета обороны, которое также представлено в витр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Всего предприятия города выпускали более 80 видов военной продук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187280" y="189000"/>
            <a:ext cx="7056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 - 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коренного перелома в ходе Великой Отечественной. 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нтрнаступление советских войск под Сталинградом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19640" y="2924280"/>
            <a:ext cx="2171520" cy="28875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12000" y="3860640"/>
            <a:ext cx="2950920" cy="22194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2592360" cy="194940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054120" y="6308640"/>
            <a:ext cx="28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122-миллиметровая гауб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5120" y="5877000"/>
            <a:ext cx="232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Боевой мотоцикл М-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4320" y="2421000"/>
            <a:ext cx="24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Шинель И. Д. Бурма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16000" y="0"/>
            <a:ext cx="7056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- 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коренного перелома в ходе Великой Отечественной. 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нтрнаступление советских войск под Сталинградом</a:t>
            </a:r>
            <a:endParaRPr b="1" i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484280"/>
            <a:ext cx="8281800" cy="65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Экспозиция зала рассказывает о подготовке плана контрнаступления советских войск под Сталинградом и этапах его проведения 19 ноября 1942 года - начало операции контрнаступления "Уран" - стало Днем советской артиллер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зале представлена военная техника 122-миллиметровая гаубица, 85-миллиметровая зенитная пушка, боевой мотоцикл М-7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Рассказывается о воинских подразделениях и отдельных героях, принимавших участие в этих боях, о подвигах и массовом героизме советских вои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результате успешных действий советских войск в районе Сталинграда были окружены 22 дивизии противника общей численностью более 330 тысяч солдат и офице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Гитлеровским командованием была предпринята попытка деблокации окруженной группиров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Эта задача возлагалась на группу армий "Дон" благодаря нашим резервам, переброшенным под Сталинград, мужественно отражавшим атаки противника, планы немецкого командования были сорва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экспозиции зала представлен текст ультиматума о капитуляции, который был отвергнут Ф. Паулюс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10 января 1943 г начался заключительный этап по ликвидации окруженной вражеской группир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31 января 1943 г в Сталинграде перестала существовать южная группа войск против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экспозиции зала представлены личные вещи, награды, документы, фотографии участников пленения штаба 6-й полевой немецкой ар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2 февраля 1943 г северная группа немецких войск прекратила свое существ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33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99"/>
                </a:solidFill>
                <a:latin typeface="Sylfaen"/>
              </a:rPr>
              <a:t>Сталинградская битва победно завершила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4360" y="333360"/>
            <a:ext cx="75596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I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лководцы Великой Отечественной войны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3233880"/>
            <a:ext cx="3529080" cy="26542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384720" cy="2544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1095120" y="4508640"/>
            <a:ext cx="27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Личные вещи полковод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50720" y="6165720"/>
            <a:ext cx="206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Портретная галере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619280" y="260280"/>
            <a:ext cx="662472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I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лководцы Великой Отечественной войны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413000"/>
            <a:ext cx="845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Экспозиция этого зала посвящена советским военачальникам, командовавшим фронтами, армиями и дивизиями в Сталинграде, и тем, кто принимал участие в разработке планов операций, проводившихся в ходе бит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Это представители Ставки Верховного Главнокомандования и Генерального шта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В зале размещена парадная портретная галерея полководцев-участников Сталинградской битв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Галерея включает в себя 39 полотен и 4 сюжетные картины, отражающие эпизоды великого с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В большой настенной витрине - личные вещи Г. К. Жукова, А. М. Василевского, Н. Н. Воронова, А. И. Еременко, В. И. Чуйкова, М. С. Шумилова, И М Чистякова, С. И. Руденко, Ф. Н. Смехотворова мундиры с парадами, парадные шашки, личное оруж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Здесь же представлены воспоминания полководц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lfaen"/>
              </a:rPr>
              <a:t>В центре зала демонстрируется коллекция наград прославленных советских военачальников командующего 64-й армией М. С. Шумилова, командующего 21-й армией И М Чистякова, командира 13-и гвардейской стрелковой дивизии А. И. Родимцева и командира 138-й стрелковой дивизии И. И. Людни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404640"/>
            <a:ext cx="8505720" cy="13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II - 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ликая Победа под Сталинградом.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емирно-историческое значение Сталинградской битвы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76720" y="3019320"/>
            <a:ext cx="3527640" cy="2652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3456000" cy="25988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044000" y="5445000"/>
            <a:ext cx="269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Стол из штаба 64-й арм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генерала М. С. Шуми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57680" y="5950080"/>
            <a:ext cx="28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Вещи пленных гитлеровц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0"/>
            <a:ext cx="8505720" cy="13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VIII - 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ликая Победа под Сталинградом.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емирно-историческое значение Сталинградской битвы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5000"/>
            <a:ext cx="9144000" cy="75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Экспозиция зала отражает итоги разгрома немецко-фашистских войск под Сталинградом и рассказывает о дальнейшем ходе Великой Отечественной вой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При входе в зал с одной стороны размещена скульптурная группа "Победа", с другой - фотопанно, на котором запечатлен исторический митинг в Сталинграде на площади Павших Борцов 4 февраля 1943 г. - "митинг Победителей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Представлены трофеи противника: вещи из штаба 6-й полевой немецкой армии Ф. Паулюса, знамена и штандарты, личные вещи вражеских солдат и офице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Здесь же экспонируется стол с письменными принадлежностями, за которым проводился первый допрос Ф. Паулюса в штабе 64-й армии генерала М. С. Шуми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Контрнаступление под Сталинградом переросло в общее стратегическое наступление советских войс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От берегов Волги театр боевых действий переместился на зап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Соединения и части, героически сражавшиеся в Сталинграде, позже принимали участие во всех крупнейших операциях на территории нашей страны и европейских государств (Белоруссии, Польши, Чехословакии, Австрии, Герман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Накопленный в Сталинградских боях опыт был использован в течение последующих лет и передан воинским формированиям. Сталинградцы были активными участниками движения Сопротивления во Франции, Бельгии, Чехословак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На территории этих стран они сражались в партизанских формирован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В экспозиции победного зала можно увидеть все награды города-героя, а также подарки стран - участниц антигитлеровской коалиции, которые оценили победу под Сталинградом как величайшее событие, изменившее ход Второй мировой вой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35280" y="692280"/>
            <a:ext cx="583272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Голосок на левом флан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То ли девушка по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То ли лермонтовский анг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Продолжает свой пол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Вслед за песней выстрел треснет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Звук оборванной стру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Это выстрелят по пес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С той, с немецкой, сторо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Голосок на левом флан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Оборвется, смолкнет вдруг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Будто лермонтовский анг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Душу выронит из рук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168720" cy="234288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476360" y="476280"/>
            <a:ext cx="6408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иумфальный зал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657520" cy="35337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605320" cy="34639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73040" y="5445000"/>
            <a:ext cx="385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Боевые знамена в Триумфальном за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09840" y="1989000"/>
            <a:ext cx="327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lfaen"/>
              </a:rPr>
              <a:t>Орден Великой Отечественной вой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76360" y="476280"/>
            <a:ext cx="6408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иумфальный зал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358920" y="1989000"/>
            <a:ext cx="878508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Триумфальный зал оформлен торжествен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На мраморных стенах - 229 наименований соединений и объединений, принимавших участие в Сталинградской битве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Шесть общевойсковых армий за Сталинград получили наименование "гвардейских"' 63-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24-я, 66-я, 21-я, 64-я, 62-я. 65 дивизий были преобразованы в гвардейск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За высокое боевое мастерство 14 дивизий получили почетное наименование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«Сталинградские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Вверху по периметру зала мозаичные изображения наград нашей страны: ордена Отечественной войны, ордена Ленина, ордена Красного Знамени, медали "За оборону Сталинград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Sylfaen"/>
              </a:rPr>
              <a:t>Более 17,5 тысячи солдат, офицеров и трудящихся города были награждены орденами и медал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ff3399"/>
                </a:solidFill>
                <a:latin typeface="Sylfaen"/>
              </a:rPr>
              <a:t>Более 750 тысяч защитников города были награждены медалью "За оборону Сталинграда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lfaen"/>
              </a:rPr>
              <a:t>Потолок зала венчает мозаичное изображение высшего полководческого ордена - ордена Побе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411280" y="476280"/>
            <a:ext cx="5815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lfaen"/>
              </a:rPr>
              <a:t>Ты страна моя, моя Отчиз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lfaen"/>
              </a:rPr>
              <a:t>Часть того, что называют Ру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lfaen"/>
              </a:rPr>
              <a:t>Если нужно, не жалея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lfaen"/>
              </a:rPr>
              <a:t>За тебя в атаку поднимус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852640"/>
            <a:ext cx="8748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Родина высоко оценила подви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защитников Сталингр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Городу было присвоено звание города-гер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Награды - орден Ленина и меда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"Золотая Звезда" - экспонируются в муз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50920" y="765000"/>
            <a:ext cx="871380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зей-панорама "Сталинградская битва"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годня - это: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276640"/>
            <a:ext cx="792144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Свыше 120 тысяч бесценных музейных предметов и реликвий, хранящих в себе историческую память народа и бережно сохраняемых реставраторами, художниками и другими музейными специалистами для современников и потом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Созданная на уровне современных музейных требований, на глубоко научной основе музейная экспозиция, постоянно пополняемая новыми экспонатами и запоминающаяся своим необычным неповторимым облик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Панорама, являющаяся в наши дни самым крупным живописным полотном России, увековечившая подвиги сынов Отчиз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640" y="404640"/>
            <a:ext cx="779328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 -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амяти героев Сталинградской битвы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76720" cy="30877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006360" y="580536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lfaen"/>
              </a:rPr>
              <a:t>Символический кам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765000"/>
            <a:ext cx="4248000" cy="68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В центре вводного зала музея - символический, отлитый из металла на заводе "Красный Октябрь" камень с посвящением крепким как сталь защитникам нашего го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Экспонируется картина заслуженного художника России В. Я. Литвинова "Они вернулись в Сталинград" (1970 г.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lfaen"/>
              </a:rPr>
              <a:t>На полотне изображены Маршал Советского Союза А. И. Еременко, генерал-полковник М. С. Шумилов и Маршал Советского Союза В. И. Чуйков у памятной плиты-могилы неизвестного солд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404640"/>
            <a:ext cx="3303720" cy="43927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5580000" y="50846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 Я. Литв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Они вернулись в Сталинград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70. Холст,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11280" y="260280"/>
            <a:ext cx="8208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I -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Второй мировой, Великой Отечественной войн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Сталинградской битвы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2387520" cy="17953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2232000" cy="16779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55080" y="5445000"/>
            <a:ext cx="32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Обмундирование и воору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обер-ефрейтора вермах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4520" y="595008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Рукопись Ф. Паулю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19640" y="3789360"/>
            <a:ext cx="2881080" cy="216864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3220560" y="2924280"/>
            <a:ext cx="335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Плакат художн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М. И. Тоидзе "Родина-мать зовет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03280" y="260280"/>
            <a:ext cx="727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I - 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Второй мировой, Великой Отечественной войн.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чало Сталинградской битвы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700280"/>
            <a:ext cx="8353440" cy="68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1 сентября 1939 г. нападением на Польшу Германия начинает Вторую мировую вой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Первый раздел экспозиции зала рассказывает об агрессивной политике фашистской Герма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Экспонируется рукопись Ф. Паулюса, в которой дается описание военной игры, проведенной в 1940 году командованием вермахта в ходе подготовки плана "Барбаросса" - плана войны фашистской Германии с Советским Союз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22 июня 1941 г. началась Великая Отечественная вой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На улицах советских городов и сел появляется плакат художника И. М. Тоидзе "Родина-мать зовет", из репродукторов и со страниц газет звучат обращения руководителей страны к нар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Как и все советские люди, сталинградцы встают на защиту своей Роди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Самым высшим проявлением патриотического духа стало создание отрядов народного ополч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витринах экспонаты, рассказывающие о создании  ополченских формирова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17 июля 1942 г. началась Сталинградская бит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Экспонаты витрин рассказывают о тяжелых оборонительных боях в большой и малой излучинах Дона, о действиях передовых отрядов, которые первыми встретили вра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28 июля 1942 г. вышел приказ наркома обороны № 227, известный под названием "Ни шагу назад!"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В нем говорилось о требовании объединить все усилия для отпора врагу, не отступать ни на ша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23 августа 1942 г. - день начала массированных вражеских бомбардировок гор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25 июля 1942 г. Сталинград объявлен на осадном положе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Действия военных и гражданских организаций координировал городской комитет обороны во главе с А. С. Чуянов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Его деятельности посвящен заключительный раздел экспозиции за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76280"/>
            <a:ext cx="7921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II -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ойкость, мужество и героизм в боях на подступах к городу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48360" y="3357720"/>
            <a:ext cx="1762200" cy="256212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2374920" cy="17859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635280" y="3213000"/>
            <a:ext cx="2376720" cy="1787760"/>
          </a:xfrm>
          <a:prstGeom prst="rect">
            <a:avLst/>
          </a:prstGeom>
          <a:ln w="57240">
            <a:solidFill>
              <a:srgbClr val="cc66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-255240" y="6093000"/>
            <a:ext cx="521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Остатки вооружения и снаряжения советских солд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9080" y="2708280"/>
            <a:ext cx="416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Комсомольский билет Н. М. Федотов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96760" y="6093000"/>
            <a:ext cx="267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Шинель генерала-майо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lfaen"/>
              </a:rPr>
              <a:t>В. А. Глаз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42920" y="333360"/>
            <a:ext cx="900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л III -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ойкость, мужество и героизм в боях на подступах к городу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773360"/>
            <a:ext cx="8567640" cy="60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Экспозиция зала посвящена мужеству и стойкости защитников города в боях на дальних подступах к Сталинград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Об этом рассказывают фотографии, документы воинов под командованием лейтенанта В. Д. Кочеткова из 40-й гвардейской стрелковой диви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15 - 18 августа 1942 года в районе станицы Сиротинской они отражали атаки превосходящих сил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Гвардейцы отбили семь атак вражеской пехоты и тан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Примером героизма для рядовых служили команди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В экспозиции представлена шинель генерал-майора В. А. Глазкова, командира 35-й гвардейской стрелковой диви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8 сентября 1942 года командный пункт дивизии был обстрелян противни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В. А. Глазков был дважды ранен, но продолжал руководить бо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При попытке вывезти генерала в тыл, на левый берег Волги, он и четыре сопровождающих его бойца погиб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На шинели генерала насчитывается более 160 осколочных и пулевых пробои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Посмертно за личное мужество генерал-майор В. А. Глазков был награжден орденом Лен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В центре зала витрина с остатками вооружения и снаряжения советских бойцов, найденными на полях сраж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31:17Z</dcterms:created>
  <dc:creator>Станислав</dc:creator>
  <dc:description/>
  <dc:language>en-US</dc:language>
  <cp:lastModifiedBy>Станислав</cp:lastModifiedBy>
  <dcterms:modified xsi:type="dcterms:W3CDTF">2008-03-24T04:24:15Z</dcterms:modified>
  <cp:revision>53</cp:revision>
  <dc:subject/>
  <dc:title>Слайд 1</dc:title>
</cp:coreProperties>
</file>