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3E0-7E0D-4438-AED0-151C5C37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8B5-8B97-4107-BF64-5681BCF7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D00-9C98-4093-86AA-71F8E13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03E-5170-481B-95A8-10551CD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74F-4877-4C00-8086-BC0D36DB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824-B149-4D6D-839C-BB3EC6B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459-182D-4A17-8300-87DB916D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C6C-F879-46CF-8DA9-2D9C12C9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462-0C3A-484A-AE73-8A13C37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950-B454-47F0-A7CE-1E0E23E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F66-648D-4893-8115-6CA602A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303-1A14-499F-8A0B-A448A6A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9AD4-6BA1-45C0-B857-8553F5A4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90792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ЗЕЙ-ПАНОРА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СТАЛИНГРАДСКАЯ БИТВА"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3888000" cy="2924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724360" y="4221000"/>
            <a:ext cx="34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Учащиеся 9 «В»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Кадымова 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16000" y="333360"/>
            <a:ext cx="66960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V -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личные бои в Сталинград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519640" cy="1893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62080" cy="2743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1895760" cy="2521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718000" y="2421000"/>
            <a:ext cx="30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интовка снайпера В. Зайц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8480" y="61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Литографский ка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7880" y="5950080"/>
            <a:ext cx="297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омплекс, посвящ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олжской военной флотил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63640" y="189000"/>
            <a:ext cx="54738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личные бои в Сталинград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268280"/>
            <a:ext cx="8964720" cy="72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Экспозиция зала рассказывает об уличных боях в период с 13 сентября по 19 ноября 1942 г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Свыше 140 дней войска 62-й и 64-й армий отражали натиск врага на фронте протяженностью 65 к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Центральное место в зале занимает 30-метровый макет разрушенного города. Он озвучен и освещен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Экспонаты зала относятся к боям в районе железнодорожного вокзала Сталинград I, на площади 9 Января, Мамаевом кургане (62-я армия), в районе балки Купоросной, за высоту 145,5 (Лысая гора) (64-я арми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уцелевших зданиях защитники Сталинграда создавали узлы сопроти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Ярким примером героизма стал Дом Павло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Фотографии и экспонаты музея рассказывают о героической обороне этого дом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экспозиции также находятся реликвии музея: снайперская винтовка В. Зайцева, паспорт врача И. Пономаренко, орден Отечественной войны 1-й степени М. Паниках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тдельный раздел экспозиции посвящается Волжской военной флотил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этом зале также можно узнать о легендарной 138-й дивизии И. И. Людников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трезанная со всех сторон от наших частей и прижатая к Волге, она 42 дня отражала натиск четырех вражеских дивиз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Рядом можно видеть и вооружение штурмовых групп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Документы и фотографии рассказывают об этих уникальных, наиболее действенных в Сталинграде боевых формирования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б угрозе, нависшей над городом, и тяжести боев этого периода свидетельствует интереснейший экспонат музея - литографский камень для печатания листовок, заранее изготовленный гитлеровц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На камне надпись: "Сталинград пал. Москва - голова Советского Союза, Сталинград - его сердце"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Но ни одна листовка такого содержания так и не была напечата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                                                                 </a:t>
            </a: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Гитлеровцы поторопи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Город продолжал сражать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549360"/>
            <a:ext cx="71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льнейшее укрепление советского тыл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279520" cy="3032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232000" cy="19098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2592360" cy="2309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02200" y="220500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Хлеб военного Сталин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240" y="623736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ронированная каб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43280" y="5734080"/>
            <a:ext cx="374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итрина с обмундированием во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Красной Ар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7127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льнейшее укрепление советского тыл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25360"/>
            <a:ext cx="8532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К осени 1942 г. промышленность нашей страны перестроилась на военный л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 достаточном количестве наши войска были обеспечены стрелковым оружием, обмундированием, танками, самоле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бразцы стрелкового оружия представлены в витрине з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Благодаря самоотверженному труду работников тыла были созданы материально-технические предпосылки для разгрома противника под Сталингра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 экспозиции зала бронированная кабина, находившаяся на пульте управления Сталинградской районной электростанции (СТАЛГРЭ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на предназначалась для защиты дежурного персонала во время бомбардировок и артобстре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СТАЛГРЭС работала до декабря 1942 г. и снабжала южные районы города электроэнер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Рядом образцы военной продукции и рабочи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 вкладе предприятий города и области в фонд обороны рассказывают экспонаты следующей витрины: обмундирование воинов Красной Армии, фотографии танка Т-34, который выпускали на тракторном зав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За выпуск этих танков сверх плана Сталинградскому тракторному в июле 1942 г. было вручено переходящее Красное знамя Государственного комитета обороны, которое также представлено в витр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сего предприятия города выпускали более 80 видов военной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87280" y="189000"/>
            <a:ext cx="7056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 -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коренного перелома в ходе Великой Отечественной.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трнаступление советских войск под Сталинградом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2171520" cy="28875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2950920" cy="2219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592360" cy="1949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054120" y="6308640"/>
            <a:ext cx="28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122-миллиметровая гауб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5120" y="587700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оевой мотоцикл М-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4320" y="24210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Шинель И. Д. Бурма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0"/>
            <a:ext cx="705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-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коренного перелома в ходе Великой Отечественной.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трнаступление советских войск под Сталинградом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84280"/>
            <a:ext cx="8281800" cy="65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зиция зала рассказывает о подготовке плана контрнаступления советских войск под Сталинградом и этапах его проведения 19 ноября 1942 года - начало операции контрнаступления "Уран" - стало Днем советской артилле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зале представлена военная техника 122-миллиметровая гаубица, 85-миллиметровая зенитная пушка, боевой мотоцикл М-7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Рассказывается о воинских подразделениях и отдельных героях, принимавших участие в этих боях, о подвигах и массовом героизме советских вои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результате успешных действий советских войск в районе Сталинграда были окружены 22 дивизии противника общей численностью более 330 тысяч солдат и офице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Гитлеровским командованием была предпринята попытка деблокации окруженной группиров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та задача возлагалась на группу армий "Дон" благодаря нашим резервам, переброшенным под Сталинград, мужественно отражавшим атаки противника, планы немецкого командования были сорв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экспозиции зала представлен текст ультиматума о капитуляции, который был отвергнут Ф. Паулюс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0 января 1943 г начался заключительный этап по ликвидации окруженной вражеской группир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31 января 1943 г в Сталинграде перестала существовать южная группа войск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экспозиции зала представлены личные вещи, награды, документы, фотографии участников пленения штаба 6-й полевой немецкой ар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 февраля 1943 г северная группа немецких войск прекратила свое существ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99"/>
                </a:solidFill>
                <a:latin typeface="Sylfaen"/>
              </a:rPr>
              <a:t>Сталинградская битва победно завершила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4360" y="333360"/>
            <a:ext cx="7559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ководцы Великой Отечественной вой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3233880"/>
            <a:ext cx="3529080" cy="2654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84720" cy="2544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095120" y="4508640"/>
            <a:ext cx="27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Личные вещи полковод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50720" y="616572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Портретная галер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19280" y="260280"/>
            <a:ext cx="662472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ководцы Великой Отечественной вой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Экспозиция этого зала посвящена советским военачальникам, командовавшим фронтами, армиями и дивизиями в Сталинграде, и тем, кто принимал участие в разработке планов операций, проводившихся в ходе бит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Это представители Ставки Верховного Главнокомандования и Генерального шта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зале размещена парадная портретная галерея полководцев-участников Сталинградской бит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Галерея включает в себя 39 полотен и 4 сюжетные картины, отражающие эпизоды великого с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большой настенной витрине - личные вещи Г. К. Жукова, А. М. Василевского, Н. Н. Воронова, А. И. Еременко, В. И. Чуйкова, М. С. Шумилова, И М Чистякова, С. И. Руденко, Ф. Н. Смехотворова мундиры с парадами, парадные шашки, личное оруж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Здесь же представлены воспоминания полковод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центре зала демонстрируется коллекция наград прославленных советских военачальников командующего 64-й армией М. С. Шумилова, командующего 21-й армией И М Чистякова, командира 13-и гвардейской стрелковой дивизии А. И. Родимцева и командира 138-й стрелковой дивизии И. И. Людн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404640"/>
            <a:ext cx="850572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I -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ая Победа под Сталинградом.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ирно-историческое значение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6720" y="3019320"/>
            <a:ext cx="3527640" cy="2652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3456000" cy="259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044000" y="5445000"/>
            <a:ext cx="26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Стол из штаба 64-й ар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генерала М. С. Шуми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57680" y="5950080"/>
            <a:ext cx="28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ещи пленных гитлеров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0"/>
            <a:ext cx="850572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I -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ая Победа под Сталинградом.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ирно-историческое значение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9144000" cy="75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Экспозиция зала отражает итоги разгрома немецко-фашистских войск под Сталинградом и рассказывает о дальнейшем ходе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 входе в зал с одной стороны размещена скульптурная группа "Победа", с другой - фотопанно, на котором запечатлен исторический митинг в Сталинграде на площади Павших Борцов 4 февраля 1943 г. - "митинг Победителей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едставлены трофеи противника: вещи из штаба 6-й полевой немецкой армии Ф. Паулюса, знамена и штандарты, личные вещи вражеских солдат и офице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Здесь же экспонируется стол с письменными принадлежностями, за которым проводился первый допрос Ф. Паулюса в штабе 64-й армии генерала М. С. Шуми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Контрнаступление под Сталинградом переросло в общее стратегическое наступление советских вой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От берегов Волги театр боевых действий переместился на зап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Соединения и части, героически сражавшиеся в Сталинграде, позже принимали участие во всех крупнейших операциях на территории нашей страны и европейских государств (Белоруссии, Польши, Чехословакии, Австрии, Герман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копленный в Сталинградских боях опыт был использован в течение последующих лет и передан воинским формированиям. Сталинградцы были активными участниками движения Сопротивления во Франции, Бельгии, Чехословак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 территории этих стран они сражались в партизанских формирован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экспозиции победного зала можно увидеть все награды города-героя, а также подарки стран - участниц антигитлеровской коалиции, которые оценили победу под Сталинградом как величайшее событие, изменившее ход Второй мировой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692280"/>
            <a:ext cx="5832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Голосок на левом фл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То ли девушка по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То ли лермонтовский анг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Продолжает свой по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Вслед за песней выстрел тресн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Звук оборванной стр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Это выстрелят по пес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С той, с немецкой,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Голосок на левом фл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Оборвется, смолкнет вдруг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Будто лермонтовский анг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Душу выронит из рук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168720" cy="23428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76360" y="476280"/>
            <a:ext cx="6408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умфальный зал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657520" cy="3533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605320" cy="34639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73040" y="544500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оевые знамена в Триумфальном з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9840" y="1989000"/>
            <a:ext cx="32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Орден Великой Отечественной во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76360" y="476280"/>
            <a:ext cx="6408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умфальный зал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89000"/>
            <a:ext cx="878508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Триумфальный зал оформлен торжеств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На мраморных стенах - 229 наименований соединений и объединений, принимавших участие в Сталинградской битве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Шесть общевойсковых армий за Сталинград получили наименование "гвардейских"' 63-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24-я, 66-я, 21-я, 64-я, 62-я. 65 дивизий были преобразованы в гвардейск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За высокое боевое мастерство 14 дивизий получили почетное наименование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«Сталинградские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верху по периметру зала мозаичные изображения наград нашей страны: ордена Отечественной войны, ордена Ленина, ордена Красного Знамени, медали "За оборону Сталинград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Более 17,5 тысячи солдат, офицеров и трудящихся города были награждены орденами и медал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Более 750 тысяч защитников города были награждены медалью "За оборону Сталинграда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Потолок зала венчает мозаичное изображение высшего полководческого ордена - ордена Поб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11280" y="476280"/>
            <a:ext cx="5815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Ты страна моя, моя Отчиз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Часть того, что называют Ру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Если нужно, не жалея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За тебя в атаку подниму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52640"/>
            <a:ext cx="874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Родина высоко оценила подви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защитников Сталингр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Городу было присвоено звание города-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Награды - орден Ленина и мед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"Золотая Звезда" - экспонируются в муз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765000"/>
            <a:ext cx="87138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зей-панорама "Сталинградская битва"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годня - это: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276640"/>
            <a:ext cx="792144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выше 120 тысяч бесценных музейных предметов и реликвий, хранящих в себе историческую память народа и бережно сохраняемых реставраторами, художниками и другими музейными специалистами для современников и потом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озданная на уровне современных музейных требований, на глубоко научной основе музейная экспозиция, постоянно пополняемая новыми экспонатами и запоминающаяся своим необычным неповторимым облик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Панорама, являющаяся в наши дни самым крупным живописным полотном России, увековечившая подвиги сынов Отчиз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404640"/>
            <a:ext cx="77932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 -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мяти героев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76720" cy="3087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006360" y="580536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имволически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765000"/>
            <a:ext cx="424800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 центре вводного зала музея - символический, отлитый из металла на заводе "Красный Октябрь" камень с посвящением крепким как сталь защитникам нашего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Экспонируется картина заслуженного художника России В. Я. Литвинова "Они вернулись в Сталинград" (1970 г.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На полотне изображены Маршал Советского Союза А. И. Еременко, генерал-полковник М. С. Шумилов и Маршал Советского Союза В. И. Чуйков у памятной плиты-могилы неизвестного солд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303720" cy="4392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580000" y="508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Я. Литв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Они вернулись в Сталинград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70. Холст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11280" y="260280"/>
            <a:ext cx="8208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 -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Второй мировой, Великой Отечественной войн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2387520" cy="1795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232000" cy="1677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5080" y="5445000"/>
            <a:ext cx="32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Обмундирование и воору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обер-ефрейтора вермах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520" y="595008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Рукопись Ф. Паулю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19640" y="3789360"/>
            <a:ext cx="2881080" cy="2168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20560" y="2924280"/>
            <a:ext cx="335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Плакат худож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М. И. Тоидзе "Родина-мать зовет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3280" y="260280"/>
            <a:ext cx="727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 -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Второй мировой, Великой Отечественной войн.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Сталинградской битвы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700280"/>
            <a:ext cx="835344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 сентября 1939 г. нападением на Польшу Германия начинает Вторую мировую вой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Первый раздел экспозиции зала рассказывает об агрессивной политике фашистской Герма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нируется рукопись Ф. Паулюса, в которой дается описание военной игры, проведенной в 1940 году командованием вермахта в ходе подготовки плана "Барбаросса" - плана войны фашистской Германии с Советским Союз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2 июня 1941 г. началась Великая Отечественная вой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На улицах советских городов и сел появляется плакат художника И. М. Тоидзе "Родина-мать зовет", из репродукторов и со страниц газет звучат обращения руководителей страны к нар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ак и все советские люди, сталинградцы встают на защиту своей Род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Самым высшим проявлением патриотического духа стало создание отрядов народного опол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витринах экспонаты, рассказывающие о создании  ополченских формирова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7 июля 1942 г. началась Сталинградская би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наты витрин рассказывают о тяжелых оборонительных боях в большой и малой излучинах Дона, о действиях передовых отрядов, которые первыми встретили вра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8 июля 1942 г. вышел приказ наркома обороны № 227, известный под названием "Ни шагу назад!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нем говорилось о требовании объединить все усилия для отпора врагу, не отступать ни на ша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3 августа 1942 г. - день начала массированных вражеских бомбардировок гор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5 июля 1942 г. Сталинград объявлен на осадном полож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Действия военных и гражданских организаций координировал городской комитет обороны во главе с А. С. Чуяно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Его деятельности посвящен заключительный раздел экспозиции за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76280"/>
            <a:ext cx="792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I -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йкость, мужество и героизм в боях на подступах к городу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48360" y="3357720"/>
            <a:ext cx="1762200" cy="25621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2374920" cy="1785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635280" y="3213000"/>
            <a:ext cx="2376720" cy="1787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-255240" y="6093000"/>
            <a:ext cx="52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Остатки вооружения и снаряжения советских солд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080" y="2708280"/>
            <a:ext cx="41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омсомольский билет Н. М. Федото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6760" y="6093000"/>
            <a:ext cx="267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Шинель генерала-май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. А. Глаз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42920" y="333360"/>
            <a:ext cx="900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йкость, мужество и героизм в боях на подступах к городу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773360"/>
            <a:ext cx="856764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Экспозиция зала посвящена мужеству и стойкости защитников города в боях на дальних подступах к Сталингр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Об этом рассказывают фотографии, документы воинов под командованием лейтенанта В. Д. Кочеткова из 40-й гвардейской стрелковой диви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15 - 18 августа 1942 года в районе станицы Сиротинской они отражали атаки превосходящих сил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Гвардейцы отбили семь атак вражеской пехоты и та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мером героизма для рядовых служили команди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экспозиции представлена шинель генерал-майора В. А. Глазкова, командира 35-й гвардейской стрелковой диви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8 сентября 1942 года командный пункт дивизии был обстрелян противни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. А. Глазков был дважды ранен, но продолжал руководить бо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 попытке вывезти генерала в тыл, на левый берег Волги, он и четыре сопровождающих его бойца погиб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 шинели генерала насчитывается более 160 осколочных и пулевых пробо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осмертно за личное мужество генерал-майор В. А. Глазков был награжден орденом Лен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центре зала витрина с остатками вооружения и снаряжения советских бойцов, найденными на полях сраж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31:17Z</dcterms:created>
  <dc:creator>Станислав</dc:creator>
  <dc:description/>
  <dc:language>en-US</dc:language>
  <cp:lastModifiedBy>Станислав</cp:lastModifiedBy>
  <dcterms:modified xsi:type="dcterms:W3CDTF">2008-03-24T04:24:15Z</dcterms:modified>
  <cp:revision>53</cp:revision>
  <dc:subject/>
  <dc:title>Слайд 1</dc:title>
</cp:coreProperties>
</file>