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49E0-9E56-43AC-BB4D-2F24C6006B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одители и ученики проранжировали эти качества и на первое место постав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фессион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тлично владеть своим предметом, глубоко знать содержание преподаваемого курса, применять современные педагогические техн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ный руководитель – это педагог-профессионал, которы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важает права и интересы растущего человек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меет выполнять разные профессиональные роли – опекуна, защитника, помощника, поддерживателя, сопровождающего - в зависимости от ситуации, запроса ребёнка и степени его самосто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ыступает посредником между ребёнком и учителем-предметником, ребёнком и родителями, ребёнком и обществ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юбовь к детя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нания, ответственность, забота, 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временный имид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образ (костюм, причёска, пластика, мимик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образ (голос, темперамент, настроение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талитет (интеллект, духовная прак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ерантность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нравственная позиция и психологическая готовность к терп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пкое здоров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только физическое, но и психолог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ля сохранения псих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ческог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здоровья существует различные психотехники, которые включают в себя упражнения на расслабление, игры для релаксац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Я хочу предложить вам выполнить некоторые из н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еред уроком рекомендую выполнить упражнение “Дыхание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стройтесь в кресле или на стуле. Расслабьтесь и закройте глаза. По своей команде постарайтесь отключить свое внимание от внешней ситуации и сосредоточьтесь на своем дыхании. При этом не старайтесь специально управлять своим дыханием: не нужно нарушать его естественный ритм. Упражнение выполняется в течение 5-10 мину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на уроке возникла напряженная ситуация и вам сложно ее контролировать можно течение нескольких минут сконцентрируйте своё внимание на каком-нибудь нейтральном предмете. Напри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Медленно сосчитайте предметы, никак эмоционально окрашенные: листья на ветке, буквы на отпечатанной странице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2. Потренируйте свою память, вспоминая 20 осуществлённых вами вчера действи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ерез несколько минут позитивного отвлечения вы можете снова сосредоточиться на том, что вам следует делать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ома вы можете выполнить упражнение «Самомассаж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массируйте определённые точки тела. Надавливайте не сильно, закрыв глаза. Вот некоторые из этих точе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ежбровная область: потрите это место медленными круговыми движениям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адняя часть шеи: мягко сожмите несколько раз одной рукой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елюсть: потрите с обеих сторон место, где заканчиваются задние зубы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ечи: помассируйте верхнюю часть плеч всеми пятью пальца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74C2-6E64-47A5-9139-ABFE491A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Calibri"/>
              </a:rPr>
              <a:t>Притча об облезлом чёрном верблюде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Умирал старый дервиш. Позвал он к себе трёх своих сыновей и сказал, что оставил им в наследство 17 своих верблюдов. Старшему сыну он завещал одну вторую всех верблюдов, среднему – одну треть, и, наконец, младшему – одну девятую часть этих 17 верблюд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После смерти отца братья никак не могли поделить наслед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В то время мимо их селения ехал старец на облезлом чёрном верблюде. Узнав причину их спора, он сказал: “Я уже стар для путешествий. Возьмите себе моего облезлого верблюда, и вы сможете поделить наследство”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Братья так и поступили. Верблюдов стало 18. И старший брат отвёл в свой сарай 9 верблюдов, средний – 6, а младший – двоих. После этого в стороне остался стоять облезлый чёрный верблюд…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Вам уже не нужен мой верблюд? – спросил старец. – пожалуйста, верните мне его обратно, может, он послужит ещё и мне, и другим…” И старец поехал дальше…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Несомненно, эта притча – о сути деятельности классного руководителя: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присоединиться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помочь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вовремя отойти в сторону, позволяя детям идти своим путём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следовать дальше, чтобы помочь другим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бота классного руководителя не ограничивается только урочными занятиями, выполнением учебных программ и норм. Она значительно шире и сложней. Классный руководитель совместно с детьми проживает и переживает то, что происходит каждый день в школе, выстраивая свою деятельность в сотрудничестве с учащимися, их родителями, взаимодействуя со специалис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еникам 8-11 классов была предложена методика «Незаконченное предложение». Они должны были закончить фразу «Классный руководитель – это…» Ответы были разные. Некоторые из них я хочу озву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лагаю вам поработать в группах и составить портрет классного руководителя используя имена существительные, имена прилагательные и глаг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кую же работу выполняли и ученики. Вот что получи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лассный руководитель должен обладать следующими качествами: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E58-646A-40B9-822E-EC10AFF6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5C2-6335-4B42-8D40-E474099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E6258-49F1-423C-A2DE-819A60FB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367EF-3643-44F9-87D2-81CD78F3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2EB1A1-7C04-4926-BBE7-208D105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3BCFF-416A-42DE-82A2-BE13980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25052E-BDD5-4240-8269-D70A47C9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B98B5B-D9E5-4640-8DCD-529A2DE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81951-CB7C-49E7-B0F2-844F4927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2E5394-90D2-4AD9-B2B6-BABFD30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C06298-DB9A-4A63-A7E3-54D25ADB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B94-514D-4E9A-837E-1CCC699B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3A6-EE06-4BBB-8D27-1ACFDD5C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2C3C6-652C-489D-859F-BB473C9D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04290-AA62-4134-8036-CEBB33F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E301B-B5BE-4B1C-B570-F45FB8B8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09394-7072-4166-BB3B-B38B8D60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BEB69-23A0-4CC9-85C0-E8DF504C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D9A24-012B-4292-BAC5-4447321A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82DA-4645-4454-A1DA-A1BC256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806-1879-423B-9892-9F8F4179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470C4-5353-4682-81E9-94F44BE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AE11B-4D3E-4F72-992D-5B4DF273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227B-6C9A-43CB-9BEE-E836C3D4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20DC-35A0-4FF9-9EAA-E17B0F6E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A94AA-F55F-4AF5-B0C7-F84AF06C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74CC-00D7-4FC7-9A85-68A547F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C395-3BDB-45D6-BC90-63E99778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0D062-840F-4C42-B001-11AB6D2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7EC4-3A00-4F98-8BD0-BA4503BB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4251-D1A7-413E-88CD-D4299391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BFD-FD87-41C9-B7F9-3D263BA0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8BE0-EAF7-4D1D-9037-2FD6904E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5579-FF1E-43DD-A4EF-A8E9B3A5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9FE9F-36F6-4FE7-8EE8-AED555E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3D0E-B019-4B4A-A249-58A6B736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CC119-323B-45C3-8FD2-89CE8678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AAEC-C087-4BF9-B767-6AFA35F7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63E95-ACF9-4CA8-8A75-EC917A64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1C31D2-6655-4A95-A12F-ABD51D29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0AF32-C1B7-4420-B44D-6BF612F0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2F237-A696-41FD-9CF0-FAA60B43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5D3-E068-4F91-A621-D0961E01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FDAE6-BD26-499C-9811-0C6D4FAC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ADBED3-4B45-4C99-8532-B54B1481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DF0E3-4EF5-4B19-B0A2-3FEC8FE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113BC-C127-4474-BD76-BE2AA8B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16F4E-45EB-4652-BCED-8BF63B3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E7172-CAF6-49B8-8D2E-83C88D16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3AE42C-167B-4E2A-AEF9-FD9D7C2C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B3661-6DCC-4C07-BD8B-BEF3E5B8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DF380-EC3B-4EA4-9500-B7059AD4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F629D-6AA4-4080-99C0-9E0E9EAB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9CF-A732-4295-9C13-A91FDBB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12D92-2900-4CCD-9472-99DFBB74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C642B-1495-4552-A228-7006BBA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1E18D-14D9-4B53-8373-3DE4F31C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58CB-A347-45E6-94CD-1193415C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69D86-E315-49B5-A88E-68C8C141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745B1-21F6-4E8F-9801-D4E834BB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1FDAD-AECD-4FA8-807C-16EC52D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017F-7FF2-4C0A-900D-83DD946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D184-961D-4014-BCD6-A274D53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4F3AC-653B-4BCE-BF86-C5FFAFA3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1BC-F466-48AC-94EC-327DA6AF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F814-70C0-40A7-A7A7-B2F3246C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B0554-B100-48D1-B554-8F8F6765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2DD7-3D5E-40C4-A4CE-AFC57A15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2E78-FFCD-4ABD-8B56-0B06F4A3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F135A-4C90-4E6F-8C5B-6C23654C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37B33-B2E1-4F07-80A8-04E6EF8D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E035E-2C1B-49A8-A978-30BFC393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D5741-E72A-4B4C-8A09-01E32723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1C3B-D1B8-47BD-9648-FE3BA0A8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334C4-6E52-46CB-AD68-EC5A967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97D-C086-4D38-A48E-20F4B89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7F1E5-31BA-43D8-AC15-32AD119C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7E1A7-0E7F-43C3-AE6B-732B1904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7AA45-536A-4DB8-B5A0-43E3E8B5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4845F-CE7E-48E2-89A3-E4801DFE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949D-8717-4D7F-958C-44178B71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140C-8DDE-4DB4-8E1A-7432D2D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8B7E-692F-4BE0-82AA-69EA420A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6117-C7C7-445A-9C60-E07C771C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008CF-C0C7-4EAD-981C-DA4E2E37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340AB-F0FF-4F51-B03E-64BF0A2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B2A-6C20-47DD-8E19-CFEFA83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2332-0FC8-41E9-B298-D7D6BD47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836BC-4F90-4D65-9B2C-06D7B3D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60A3-168C-4F1E-BCA9-C7227EA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1310-CA74-49C1-91AF-4DB20D27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BC8E-151B-4C60-A725-F9621999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EF8362-4535-4BE3-9BEB-51A99A46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F7229-98C8-4AD1-BB38-E9624B2B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8C667-C121-4607-BAA6-89E3A351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E3349A-19D2-4BA5-87D5-28990CB4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63874-00D2-4700-A9A2-A76DCDD3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1ED-2182-4026-8EFD-2DE22EAA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E4ECF9-872A-408A-88DF-CB16A0D4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38B53D-3148-43B7-A083-2DD08A8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0A8F8-F1F8-4C3A-8147-6C0BEB3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E93BA1-CE5F-4782-B094-97AFF72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3CE31-79FC-4C30-8505-A1A65F37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CC589-B6C2-4A48-BBAC-995595C1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6B479-5D98-4C2C-8B1A-ECC9B779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180D93-1AD2-476A-A37E-4FB9B395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552F0-6E13-4E0A-B6AE-165282B7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A32E46-BE62-4D50-AC85-00E00530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4CD-F630-47A7-B0D0-D50B8DD0CFFB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A085-09F4-4024-AD1E-F7FE884AAE86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BE88-92B5-4E31-9F97-5D147989CF12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E2B4-E295-40C5-9E0B-151A9873D19E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FCE-9C07-4EC6-A0ED-5BDACE924660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B446-6BA8-4D18-9795-D3D545F95579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571-CB03-4468-9D81-E1A7381EB9FD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798B-D256-41AC-8E2D-B0A1DD4495AB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08cca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1187280" indent="-182520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e6fc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6fcff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45c75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BAC2-9EAD-45EF-9F38-F3C6CF485A5C}" type="slidenum">
              <a:rPr b="0" lang="en-US" sz="1600" spc="-1" strike="noStrike">
                <a:solidFill>
                  <a:srgbClr val="045c75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00720" y="4724280"/>
            <a:ext cx="41860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упление подготовлено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кяненко Э.А.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ем МОУ СОШ № 256 ЗАТО г.Фокино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орского кра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395280" y="0"/>
            <a:ext cx="8388360" cy="2527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3"/>
          <a:stretch/>
        </p:blipFill>
        <p:spPr>
          <a:xfrm>
            <a:off x="250920" y="2781360"/>
            <a:ext cx="40338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тимиз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Cambria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фессионализ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0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ый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имидж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1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рп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2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олерант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3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увство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долг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91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ambria"/>
              </a:rPr>
              <a:t>14.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Умени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бовать</a:t>
            </a: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 в сочетании с уважение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153040" y="1484280"/>
            <a:ext cx="2984400" cy="352908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6"/>
          <p:cNvGrpSpPr/>
          <p:nvPr/>
        </p:nvGrpSpPr>
        <p:grpSpPr>
          <a:xfrm>
            <a:off x="611280" y="260280"/>
            <a:ext cx="7991280" cy="1050840"/>
            <a:chOff x="611280" y="260280"/>
            <a:chExt cx="7991280" cy="1050840"/>
          </a:xfrm>
        </p:grpSpPr>
        <p:sp>
          <p:nvSpPr>
            <p:cNvPr id="450" name="AutoShape 7"/>
            <p:cNvSpPr/>
            <p:nvPr/>
          </p:nvSpPr>
          <p:spPr>
            <a:xfrm>
              <a:off x="611280" y="260280"/>
              <a:ext cx="7991280" cy="1050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755640" y="333360"/>
              <a:ext cx="770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ca"/>
                  </a:solidFill>
                  <a:latin typeface="Arial"/>
                </a:rPr>
                <a:t>Профессионально значимые качества современного классного руководител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фессионализ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бовь к детя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ременный имидж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ние требовать в сочетании с уважение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о долг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лание изменить мир к лучшему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брожелательно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тимизм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лерантнос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554400" indent="-554400">
              <a:lnSpc>
                <a:spcPct val="9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епкое здоровье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53" name="Group 4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54" name="AutoShape 5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"/>
            <p:cNvSpPr/>
            <p:nvPr/>
          </p:nvSpPr>
          <p:spPr>
            <a:xfrm>
              <a:off x="755280" y="476280"/>
              <a:ext cx="77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Arial"/>
                </a:rPr>
                <a:t>Современный классный 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2"/>
          <a:stretch/>
        </p:blipFill>
        <p:spPr>
          <a:xfrm>
            <a:off x="1258920" y="514440"/>
            <a:ext cx="65530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2"/>
          <a:stretch/>
        </p:blipFill>
        <p:spPr>
          <a:xfrm>
            <a:off x="463680" y="176040"/>
            <a:ext cx="8242200" cy="1311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645920"/>
            <a:ext cx="8362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зять на себя большую ответственность;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ть слушать и понимать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титься о каждом воспитаннике своего класса: о его психическом, физическом и нравственном состоянии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огать (в учении, в общении с классом и окружающим социумом, с родителями, в самоопределении и саморазвитии);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20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20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20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уководить и поддерживать дисциплину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мере необходимости заменить маму и папу, старшую подругу или друг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ть всегда на стороне справедливост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Заголовок 1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4000" indent="-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ЫТЬ КЛАССНЫМ РУКОВОДИТЕЛЕМ - ЗНАЧИТ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2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20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20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здание доверительных отношений с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чениками и их родителями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заимоуважение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заинтересованнос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омпетентность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хорошая организация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84360" y="333360"/>
            <a:ext cx="7848360" cy="934920"/>
          </a:xfrm>
          <a:prstGeom prst="roundRect">
            <a:avLst>
              <a:gd name="adj" fmla="val 16667"/>
            </a:avLst>
          </a:prstGeom>
          <a:solidFill>
            <a:srgbClr val="4777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54000" indent="-54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ee300"/>
                </a:solidFill>
                <a:latin typeface="Arial"/>
              </a:rPr>
              <a:t>Принципы работы</a:t>
            </a:r>
            <a:r>
              <a:rPr b="0" lang="en-US" sz="4600" spc="-1" strike="noStrike">
                <a:solidFill>
                  <a:srgbClr val="008cca"/>
                </a:solidFill>
                <a:latin typeface="Cambri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57120" y="1428840"/>
            <a:ext cx="84297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Cambria"/>
              </a:rPr>
              <a:t>Успехов в нелегком, но благородном труде! 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65" name="Picture 5" descr="12"/>
          <p:cNvPicPr/>
          <p:nvPr/>
        </p:nvPicPr>
        <p:blipFill>
          <a:blip r:embed="rId2"/>
          <a:stretch/>
        </p:blipFill>
        <p:spPr>
          <a:xfrm rot="20485200">
            <a:off x="6530760" y="3927600"/>
            <a:ext cx="18316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"/>
          <p:cNvPicPr/>
          <p:nvPr/>
        </p:nvPicPr>
        <p:blipFill>
          <a:blip r:embed="rId2"/>
          <a:stretch/>
        </p:blipFill>
        <p:spPr>
          <a:xfrm>
            <a:off x="2340000" y="549360"/>
            <a:ext cx="4437000" cy="28573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7"/>
          <p:cNvSpPr/>
          <p:nvPr/>
        </p:nvSpPr>
        <p:spPr>
          <a:xfrm>
            <a:off x="468360" y="3789360"/>
            <a:ext cx="8207280" cy="216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684360" y="3933720"/>
            <a:ext cx="7848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чем приспосабливать ребёнка к системе образования, не лучше ли приспособить эту систему к ребён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.-Ж. Рус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2"/>
          <a:stretch/>
        </p:blipFill>
        <p:spPr>
          <a:xfrm>
            <a:off x="463680" y="311040"/>
            <a:ext cx="8686800" cy="11764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присоединиться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помочь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вовремя отойти в сторону, позволяя детям идти своим путём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82960" indent="-282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mbria"/>
              </a:rPr>
              <a:t>следовать дальше, чтобы помочь другим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8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616720" cy="4776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 8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11" name="AutoShape 6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"/>
            <p:cNvSpPr/>
            <p:nvPr/>
          </p:nvSpPr>
          <p:spPr>
            <a:xfrm>
              <a:off x="755280" y="476280"/>
              <a:ext cx="77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dd9"/>
                  </a:solidFill>
                  <a:latin typeface="Arial"/>
                </a:rPr>
                <a:t>Классный руководитель – это 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3"/>
          <p:cNvGrpSpPr/>
          <p:nvPr/>
        </p:nvGrpSpPr>
        <p:grpSpPr>
          <a:xfrm>
            <a:off x="539640" y="333360"/>
            <a:ext cx="8208720" cy="934920"/>
            <a:chOff x="539640" y="333360"/>
            <a:chExt cx="8208720" cy="934920"/>
          </a:xfrm>
        </p:grpSpPr>
        <p:sp>
          <p:nvSpPr>
            <p:cNvPr id="414" name="AutoShape 14"/>
            <p:cNvSpPr/>
            <p:nvPr/>
          </p:nvSpPr>
          <p:spPr>
            <a:xfrm>
              <a:off x="539640" y="333360"/>
              <a:ext cx="820872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761040" y="476280"/>
              <a:ext cx="79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dd9"/>
                  </a:solidFill>
                  <a:latin typeface="Arial"/>
                </a:rPr>
                <a:t>Портрет классного руководител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6"/>
          <p:cNvSpPr/>
          <p:nvPr/>
        </p:nvSpPr>
        <p:spPr>
          <a:xfrm rot="8244000">
            <a:off x="1331640" y="1915920"/>
            <a:ext cx="1584360" cy="269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7"/>
          <p:cNvSpPr/>
          <p:nvPr/>
        </p:nvSpPr>
        <p:spPr>
          <a:xfrm rot="2844000">
            <a:off x="6146640" y="1925280"/>
            <a:ext cx="1584360" cy="270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8"/>
          <p:cNvSpPr/>
          <p:nvPr/>
        </p:nvSpPr>
        <p:spPr>
          <a:xfrm rot="5400000">
            <a:off x="4058280" y="1997640"/>
            <a:ext cx="1017720" cy="279360"/>
          </a:xfrm>
          <a:custGeom>
            <a:avLst/>
            <a:gdLst>
              <a:gd name="textAreaLeft" fmla="*/ 127080 w 1017720"/>
              <a:gd name="textAreaRight" fmla="*/ 890640 w 1017720"/>
              <a:gd name="textAreaTop" fmla="*/ 69840 h 279360"/>
              <a:gd name="textAreaBottom" fmla="*/ 2095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 rot="5400000">
            <a:off x="1366560" y="3681360"/>
            <a:ext cx="936360" cy="142920"/>
          </a:xfrm>
          <a:custGeom>
            <a:avLst/>
            <a:gdLst>
              <a:gd name="textAreaLeft" fmla="*/ 117000 w 936360"/>
              <a:gd name="textAreaRight" fmla="*/ 819360 w 936360"/>
              <a:gd name="textAreaTop" fmla="*/ 35640 h 142920"/>
              <a:gd name="textAreaBottom" fmla="*/ 107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 rot="5400000">
            <a:off x="3707640" y="4077720"/>
            <a:ext cx="1728720" cy="142560"/>
          </a:xfrm>
          <a:custGeom>
            <a:avLst/>
            <a:gdLst>
              <a:gd name="textAreaLeft" fmla="*/ 216000 w 1728720"/>
              <a:gd name="textAreaRight" fmla="*/ 1512720 w 1728720"/>
              <a:gd name="textAreaTop" fmla="*/ 35640 h 142560"/>
              <a:gd name="textAreaBottom" fmla="*/ 106920 h 142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 rot="5400000">
            <a:off x="6119640" y="4400640"/>
            <a:ext cx="2376360" cy="144360"/>
          </a:xfrm>
          <a:custGeom>
            <a:avLst/>
            <a:gdLst>
              <a:gd name="textAreaLeft" fmla="*/ 297000 w 2376360"/>
              <a:gd name="textAreaRight" fmla="*/ 2079360 w 237636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2"/>
          <p:cNvSpPr/>
          <p:nvPr/>
        </p:nvSpPr>
        <p:spPr>
          <a:xfrm>
            <a:off x="755640" y="2637000"/>
            <a:ext cx="2087640" cy="5760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3"/>
          <p:cNvSpPr/>
          <p:nvPr/>
        </p:nvSpPr>
        <p:spPr>
          <a:xfrm>
            <a:off x="3492360" y="270828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24"/>
          <p:cNvSpPr/>
          <p:nvPr/>
        </p:nvSpPr>
        <p:spPr>
          <a:xfrm>
            <a:off x="6156360" y="2708280"/>
            <a:ext cx="208764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5"/>
          <p:cNvSpPr/>
          <p:nvPr/>
        </p:nvSpPr>
        <p:spPr>
          <a:xfrm>
            <a:off x="539640" y="4365720"/>
            <a:ext cx="3816360" cy="57600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ществ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2411280" y="508464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лага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29"/>
          <p:cNvSpPr/>
          <p:nvPr/>
        </p:nvSpPr>
        <p:spPr>
          <a:xfrm>
            <a:off x="4859280" y="5805360"/>
            <a:ext cx="3816360" cy="576360"/>
          </a:xfrm>
          <a:prstGeom prst="roundRect">
            <a:avLst>
              <a:gd name="adj" fmla="val 16667"/>
            </a:avLst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Воспитатель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Профессионал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Друг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Психолог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Авторит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Оптимис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Помощник 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buNone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5003640" y="2565360"/>
            <a:ext cx="3384720" cy="263376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6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31" name="AutoShape 7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8"/>
            <p:cNvSpPr/>
            <p:nvPr/>
          </p:nvSpPr>
          <p:spPr>
            <a:xfrm>
              <a:off x="755280" y="476280"/>
              <a:ext cx="77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dd9"/>
                  </a:solidFill>
                  <a:latin typeface="Arial"/>
                </a:rPr>
                <a:t>Классный руководите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рпелив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ботлив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рудолюбив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олерантн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брый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есёлый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5076720" y="3103560"/>
            <a:ext cx="3741840" cy="34117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36" name="AutoShape 6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755280" y="476280"/>
              <a:ext cx="77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dd9"/>
                  </a:solidFill>
                  <a:latin typeface="Arial"/>
                </a:rPr>
                <a:t>Классный руководите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провожд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ним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мог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держив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вори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ыслушивает;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ветует</a:t>
            </a: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91960" indent="0">
              <a:buNone/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2"/>
          <a:stretch/>
        </p:blipFill>
        <p:spPr>
          <a:xfrm>
            <a:off x="4932360" y="2421000"/>
            <a:ext cx="3790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6"/>
          <p:cNvGrpSpPr/>
          <p:nvPr/>
        </p:nvGrpSpPr>
        <p:grpSpPr>
          <a:xfrm>
            <a:off x="539640" y="333360"/>
            <a:ext cx="7991280" cy="934920"/>
            <a:chOff x="539640" y="333360"/>
            <a:chExt cx="7991280" cy="934920"/>
          </a:xfrm>
        </p:grpSpPr>
        <p:sp>
          <p:nvSpPr>
            <p:cNvPr id="441" name="AutoShape 7"/>
            <p:cNvSpPr/>
            <p:nvPr/>
          </p:nvSpPr>
          <p:spPr>
            <a:xfrm>
              <a:off x="539640" y="333360"/>
              <a:ext cx="7991280" cy="93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8"/>
            <p:cNvSpPr/>
            <p:nvPr/>
          </p:nvSpPr>
          <p:spPr>
            <a:xfrm>
              <a:off x="755280" y="476280"/>
              <a:ext cx="770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9dd9"/>
                  </a:solidFill>
                  <a:latin typeface="Arial"/>
                </a:rPr>
                <a:t>Классный руководител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вторитет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ыстрота реакци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ладение педагогическими приёмам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брожелательност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лание изменить мир к лучшем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репкое здоровь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-603360">
              <a:lnSpc>
                <a:spcPct val="150000"/>
              </a:lnSpc>
              <a:buClr>
                <a:srgbClr val="0f6fc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юбовь к детям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4" name="Group 8"/>
          <p:cNvGrpSpPr/>
          <p:nvPr/>
        </p:nvGrpSpPr>
        <p:grpSpPr>
          <a:xfrm>
            <a:off x="684360" y="260280"/>
            <a:ext cx="7991280" cy="1050840"/>
            <a:chOff x="684360" y="260280"/>
            <a:chExt cx="7991280" cy="1050840"/>
          </a:xfrm>
        </p:grpSpPr>
        <p:sp>
          <p:nvSpPr>
            <p:cNvPr id="445" name="AutoShape 6"/>
            <p:cNvSpPr/>
            <p:nvPr/>
          </p:nvSpPr>
          <p:spPr>
            <a:xfrm>
              <a:off x="684360" y="260280"/>
              <a:ext cx="7991280" cy="1050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828720" y="333360"/>
              <a:ext cx="770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cca"/>
                  </a:solidFill>
                  <a:latin typeface="Arial"/>
                </a:rPr>
                <a:t>Профессионально значимые качества современного классного руководителя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23:39:15Z</dcterms:created>
  <dc:creator>111</dc:creator>
  <dc:description/>
  <dc:language>en-US</dc:language>
  <cp:lastModifiedBy>alex</cp:lastModifiedBy>
  <dcterms:modified xsi:type="dcterms:W3CDTF">2003-02-07T14:38:06Z</dcterms:modified>
  <cp:revision>21</cp:revision>
  <dc:subject/>
  <dc:title>Слайд 1</dc:title>
</cp:coreProperties>
</file>