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F665-DB3A-48E9-A77F-2CD7F82F0B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дители и ученики проранжировали эти качества и на первое место постав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фессион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тлично владеть своим предметом, глубоко знать содержание преподаваемого курса, применять современные педагогические техн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 – это педагог-профессионал, который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важает права и интересы растущего человек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меет выполнять разные профессиональные роли – опекуна, защитника, помощника, поддерживателя, сопровождающего - в зависимости от ситуации, запроса ребёнка и степени его самосто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ступает посредником между ребёнком и учителем-предметником, ребёнком и родителями, ребёнком и обществ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юбовь к детя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нания, ответственность, забота, ув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ременный имид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образ (костюм, причёска, пластика, мими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образ (голос, темперамент, настроение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талитет (интеллект, духовная прак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олерантность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нравственная позиция и психологическая готовность к терп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епкое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физическое, но и психолог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ля сохранения пси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ческог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здоровья существует различные психотехники, которые включают в себя упражнения на расслабление, игры для релаксаци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Я хочу предложить вам выполнить некоторые из ни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еред уроком рекомендую выполнить упражнение “Дыхание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стройтесь в кресле или на стуле. Расслабьтесь и закройте глаза. По своей команде постарайтесь отключить свое внимание от внешней ситуации и сосредоточьтесь на своем дыхании. При этом не старайтесь специально управлять своим дыханием: не нужно нарушать его естественный ритм. Упражнение выполняется в течение 5-10 мину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а уроке возникла напряженная ситуация и вам сложно ее контролировать можно течение нескольких минут сконцентрируйте своё внимание на каком-нибудь нейтральном предмете. Например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Медленно сосчитайте предметы, никак эмоционально окрашенные: листья на ветке, буквы на отпечатанной странице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. Потренируйте свою память, вспоминая 20 осуществлённых вами вчера действи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ерез несколько минут позитивного отвлечения вы можете снова сосредоточиться на том, что вам следует делат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ома вы можете выполнить упражнение «Самомассаж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массируйте определённые точки тела. Надавливайте не сильно, закрыв глаза. Вот некоторые из этих точе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ежбровная область: потрите это место медленными круговыми движениям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няя часть шеи: мягко сожмите несколько раз одной рукой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елюсть: потрите с обеих сторон место, где заканчиваются задние зубы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ечи: помассируйте верхнюю часть плеч всеми пятью пальца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E6EC-3F1D-47EE-A401-B0358C21A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Притча об облезлом чёрном верблюде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Умирал старый дервиш. Позвал он к себе трёх своих сыновей и сказал, что оставил им в наследство 17 своих верблюдов. Старшему сыну он завещал одну вторую всех верблюдов, среднему – одну треть, и, наконец, младшему – одну девятую часть этих 17 верблюд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После смерти отца братья никак не могли поделить наслед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В то время мимо их селения ехал старец на облезлом чёрном верблюде. Узнав причину их спора, он сказал: “Я уже стар для путешествий. Возьмите себе моего облезлого верблюда, и вы сможете поделить наследство”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Братья так и поступили. Верблюдов стало 18. И старший брат отвёл в свой сарай 9 верблюдов, средний – 6, а младший – двоих. После этого в стороне остался стоять облезлый чёрный верблюд…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Вам уже не нужен мой верблюд? – спросил старец. – пожалуйста, верните мне его обратно, может, он послужит ещё и мне, и другим…” И старец поехал дальше…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Несомненно, эта притча – о сути деятельности классного руководителя: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присоединиться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помочь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вовремя отойти в сторону, позволяя детям идти своим путём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следовать дальше, чтобы помочь другим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бота классного руководителя не ограничивается только урочными занятиями, выполнением учебных программ и норм. Она значительно шире и сложней. Классный руководитель совместно с детьми проживает и переживает то, что происходит каждый день в школе, выстраивая свою деятельность в сотрудничестве с учащимися, их родителями, взаимодействуя со специалис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еникам 8-11 классов была предложена методика «Незаконченное предложение». Они должны были закончить фразу «Классный руководитель – это…» Ответы были разные. Некоторые из них я хочу озву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лагаю вам поработать в группах и составить портрет классного руководителя используя имена существительные, имена прилагательные и глаг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ую же работу выполняли и ученики. Вот что получило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лассный руководитель должен обладать следующими качествами: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5D6-13AC-4F1F-AA30-43F5B072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2EE-2CCD-4C66-8D2A-15D9E966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0779C5-756D-4583-959E-63079C31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64A6A-4C3A-4821-A0B9-754334EE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BE6AF4-AE10-41CF-B324-9F351D2C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0D65C7-020F-4291-839E-0EBF32AF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689669-25F0-4235-8C68-6EAFAE02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D1738B-1261-46F0-A836-3F8D737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B4DEB7-727F-4F66-AB49-185D9830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D42CD-D56B-47BB-BD7E-5A81BF8D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7FBE7E-7CE3-4B1F-A633-F5CE050D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09A-6C08-4A62-83C9-C5F24CAA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F05-EF76-4889-A4D4-0FDA27EA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BCC1A-5168-49AC-BDA8-1B288E25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5AABC-D476-452E-9C78-7BE5B581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2A756-723D-4560-B325-26622C71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D5E72-AF2B-4975-8C41-E72A5A7F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6BAC0-4E49-4BBF-B080-C3CE8009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2B830-6F7D-4373-B796-0D89963D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56A95-11B8-40AC-A001-C74715A7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CF0-114D-4865-900E-CD93B725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1B7A9-3E69-4AA9-B213-A1CAAA52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E3827-2E16-4703-9B84-7EEFC7FE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1B9F9-C38B-4DB4-BE5A-1B8CCCCE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656EF-ACC2-4418-BE6C-A59640AC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5665E-4946-4001-873B-C4E20260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017E-CED9-457F-BE1F-24952BDE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0369-2FAA-459E-93BC-9B957ABF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9201-9DF8-4D92-8374-E207E0BE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BB00-E6D3-405F-BC80-7C5C597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FD55-B566-4C17-91C5-A551D47C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715-0049-4E76-9A56-24ED3657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F97E-A3E4-4D3E-80AD-02BC1254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082B-9E4E-4AF9-AA9A-72FB145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1904-29A9-48D1-87ED-BD1EEDFA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CD0A-7E93-497A-8C98-E4E3F353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7591-EED7-49DF-8FBE-4A44E20C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C424-CFDB-42AA-B98D-52CFA7A6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8010-129E-4B38-B5E2-CFF37255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375BF-1E02-4E6C-9A06-806514B7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005F3-339A-4365-A808-DFC5CDBE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555C8-6119-42A4-BAA5-535199C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E6A-73EA-4C63-9E5D-1F453C64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877E66-1A14-40F4-8C29-FD53B06D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A7142-CD3A-47BB-9BD5-1988C373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E2146-213B-43A3-8390-169B1A62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B1244-692D-4E8D-A35F-171B6CC2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7465A-9CD1-4EE6-A1EA-35005C81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1071C-482B-4A0A-90AF-9C78867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4445D-B6C4-4430-8EF3-90E2CEFC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35AAC-CB9A-4507-BAC3-2B07E3AB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E3DC5-6CEB-4AF9-B7F8-384F34D5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05B36-8BC9-4504-A03D-F6B7C842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9F2-99DA-413A-8CCA-2202A1F6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9AEC1-2F45-48E5-897A-C60188CE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78F04-B29D-45E3-8058-105A573A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67969-A3AE-4BA7-B849-5912621F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E7F32-30D2-4319-952D-C8324F48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D5B9-6D55-4BDA-9418-AE00C3D4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E824-709D-4A9A-AFCC-A8F4653B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A78FE-04CC-4625-9C59-EF8FA6F1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8922F-8E09-422A-9E9B-897FBEB2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61AC9-B7B3-44A5-BBAD-4B943E6E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B674C-5877-4D80-8C84-9AA31B69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087-68A6-4515-B660-7B61C641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6C8E-1080-42E0-A01C-CF95AD42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1C77C-9255-4319-91C8-7B18154A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9404E-F170-4EED-B37B-E580DA8E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1C007-A312-4A5F-BF9E-6F85D656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17228-A343-44C6-9F86-5B7A9EA5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79E0-F018-4594-8C5D-A8AE6AF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5128-AE3B-4922-8957-CA83D2A3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D6BC-3F45-4F2B-84C6-D6B6E90D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CEA66-67E0-4812-9BC8-350A20E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E808F-FDF6-44B1-8BB1-E54E6E1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5D7-C46F-4ACE-AA19-D247E32C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0BBE2-914B-4677-8796-7FEEBE59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0ED0-4B4F-4EE6-93C6-9F041A62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B410-02A4-4D9C-A95A-B0615624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BE378-E8EB-49E4-8954-3F1DC4C3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4A278-9289-4F6C-8BED-5EBFEC47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3C757-65F3-43AE-999D-76AF657B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6D14E-0C80-4F13-B3DE-C7B914E3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B353B-DD84-43D5-8624-3B28C093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B273A-9B83-4239-AB24-11332D24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48824-E10A-4287-BE9F-E4C3554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CAF-4287-4802-A02D-A3FDA3BE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19A4-CCD6-4BB0-8675-60E10B7D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13302-2540-4830-8097-AA367641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30271-5D27-4742-95C0-2F72B6E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D560C-6C3E-4EBD-9840-9E316968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1C20B-C4F3-42AA-B658-0354CC3E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7167E5-F1D4-4D66-B3A9-C011790B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B1834-2E66-457A-8DF0-5C984022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CE83FE-8DCC-49F1-863F-0C1C35C9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7ED323-59C6-4719-A5D9-DCCA4C5B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7800CD-9FF9-4750-84C3-D6850C90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B59-A0E6-44A4-B0D9-903FCBB1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A3831-996F-42F8-A08D-87F961C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5583A1-3B37-439C-BF00-AA3D0502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35663-2480-434F-A54A-C881BED5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0A3457-377D-45A3-9568-E53933C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58BA7F-46FE-4E89-A9C8-754E1CA7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F91BE2-33A8-4088-829D-6D1F83FF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B0DD5A-F7C0-40EF-90F0-76987B06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603B4E-8964-4C6D-BE10-58481E4F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DF0399-5E87-485A-8FDC-0566844F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C92ED-136D-4163-8D68-99C20F48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6343-47AD-48A8-A220-62FF999B9053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D512-6E98-4067-A2ED-153F155C9C6E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D1E8-2A15-41A7-979D-BE19C2E0BBE5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ED7C-DA8C-47C7-BF4B-DDB624297B11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18EB-CB2C-4F45-AE4E-C14EE8B3496D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C405-17AD-43E8-876D-90A410848C80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314C-C336-4410-8D31-79DA8B1F8F50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D611-8D72-4AD4-AD0D-909E8CD697DA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7346-7B85-49F5-813A-C2AA5E8A6EB7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00720" y="4724280"/>
            <a:ext cx="418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упление подготовлен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кяненко Э.А.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ем МОУ СОШ № 256 ЗАТО г.Фокино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орского кра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395280" y="0"/>
            <a:ext cx="8388360" cy="2527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40338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тимиз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ambria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ессионализ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0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временный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имидж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1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рпе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2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олерантнос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3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увство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долг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4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Умени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ебовать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в сочетании с уважение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5153040" y="1484280"/>
            <a:ext cx="2984400" cy="352908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6"/>
          <p:cNvGrpSpPr/>
          <p:nvPr/>
        </p:nvGrpSpPr>
        <p:grpSpPr>
          <a:xfrm>
            <a:off x="611280" y="260280"/>
            <a:ext cx="7991280" cy="1050840"/>
            <a:chOff x="611280" y="260280"/>
            <a:chExt cx="7991280" cy="1050840"/>
          </a:xfrm>
        </p:grpSpPr>
        <p:sp>
          <p:nvSpPr>
            <p:cNvPr id="450" name="AutoShape 7"/>
            <p:cNvSpPr/>
            <p:nvPr/>
          </p:nvSpPr>
          <p:spPr>
            <a:xfrm>
              <a:off x="611280" y="260280"/>
              <a:ext cx="7991280" cy="1050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755640" y="333360"/>
              <a:ext cx="770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ca"/>
                  </a:solidFill>
                  <a:latin typeface="Arial"/>
                </a:rPr>
                <a:t>Профессионально значимые качества современного классного руководител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фессионализ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бовь к детя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ременный имидж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ние требовать в сочетании с уважение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увство долг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ание изменить мир к лучшему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рожелательност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тимиз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лерантност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пкое здоровье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54" name="AutoShape 5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"/>
            <p:cNvSpPr/>
            <p:nvPr/>
          </p:nvSpPr>
          <p:spPr>
            <a:xfrm>
              <a:off x="755280" y="476280"/>
              <a:ext cx="77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Arial"/>
                </a:rPr>
                <a:t>Современный классный руковод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2"/>
          <a:stretch/>
        </p:blipFill>
        <p:spPr>
          <a:xfrm>
            <a:off x="1258920" y="514440"/>
            <a:ext cx="65530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2"/>
          <a:stretch/>
        </p:blipFill>
        <p:spPr>
          <a:xfrm>
            <a:off x="463680" y="176040"/>
            <a:ext cx="8242200" cy="1311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645920"/>
            <a:ext cx="8362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ять на себя большую ответственность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ть слушать и понимать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титься о каждом воспитаннике своего класса: о его психическом, физическом и нравственном состоянии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ать (в учении, в общении с классом и окружающим социумом, с родителями, в самоопределении и саморазвитии);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2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2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2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2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ить и поддерживать дисциплину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мере необходимости заменить маму и папу, старшую подругу или друга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ть всегда на стороне справедливост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Заголовок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54000" indent="-54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ЫТЬ КЛАССНЫМ РУКОВОДИТЕЛЕМ - ЗНАЧИ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20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20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здание доверительных отношений с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ками и их родителями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заимоуважение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заинтересованнос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етентнос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хорошая организаци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84360" y="333360"/>
            <a:ext cx="7848360" cy="934920"/>
          </a:xfrm>
          <a:prstGeom prst="roundRect">
            <a:avLst>
              <a:gd name="adj" fmla="val 16667"/>
            </a:avLst>
          </a:prstGeom>
          <a:solidFill>
            <a:srgbClr val="477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54000" indent="-54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ee300"/>
                </a:solidFill>
                <a:latin typeface="Arial"/>
              </a:rPr>
              <a:t>Принципы работы</a:t>
            </a: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57120" y="1428840"/>
            <a:ext cx="842976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Cambria"/>
              </a:rPr>
              <a:t>Успехов в нелегком, но благородном труде! 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65" name="Picture 5" descr="12"/>
          <p:cNvPicPr/>
          <p:nvPr/>
        </p:nvPicPr>
        <p:blipFill>
          <a:blip r:embed="rId2"/>
          <a:stretch/>
        </p:blipFill>
        <p:spPr>
          <a:xfrm rot="20485200">
            <a:off x="6530760" y="3927600"/>
            <a:ext cx="18316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2340000" y="549360"/>
            <a:ext cx="4437000" cy="28573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7"/>
          <p:cNvSpPr/>
          <p:nvPr/>
        </p:nvSpPr>
        <p:spPr>
          <a:xfrm>
            <a:off x="468360" y="3789360"/>
            <a:ext cx="8207280" cy="216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684360" y="3933720"/>
            <a:ext cx="7848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чем приспосабливать ребёнка к системе образования, не лучше ли приспособить эту систему к ребён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.-Ж. Ру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463680" y="311040"/>
            <a:ext cx="8686800" cy="11764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присоединиться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82960" indent="-282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помочь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82960" indent="-282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овремя отойти в сторону, позволяя детям идти своим путём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82960" indent="-282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следовать дальше, чтобы помочь другим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8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616720" cy="4776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8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11" name="AutoShape 6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"/>
            <p:cNvSpPr/>
            <p:nvPr/>
          </p:nvSpPr>
          <p:spPr>
            <a:xfrm>
              <a:off x="755280" y="476280"/>
              <a:ext cx="77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dd9"/>
                  </a:solidFill>
                  <a:latin typeface="Arial"/>
                </a:rPr>
                <a:t>Классный руководитель – это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13"/>
          <p:cNvGrpSpPr/>
          <p:nvPr/>
        </p:nvGrpSpPr>
        <p:grpSpPr>
          <a:xfrm>
            <a:off x="539640" y="333360"/>
            <a:ext cx="8208720" cy="934920"/>
            <a:chOff x="539640" y="333360"/>
            <a:chExt cx="8208720" cy="934920"/>
          </a:xfrm>
        </p:grpSpPr>
        <p:sp>
          <p:nvSpPr>
            <p:cNvPr id="414" name="AutoShape 14"/>
            <p:cNvSpPr/>
            <p:nvPr/>
          </p:nvSpPr>
          <p:spPr>
            <a:xfrm>
              <a:off x="539640" y="333360"/>
              <a:ext cx="820872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761040" y="476280"/>
              <a:ext cx="79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dd9"/>
                  </a:solidFill>
                  <a:latin typeface="Arial"/>
                </a:rPr>
                <a:t>Портрет классного руководител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6"/>
          <p:cNvSpPr/>
          <p:nvPr/>
        </p:nvSpPr>
        <p:spPr>
          <a:xfrm rot="8244000">
            <a:off x="1331640" y="1915920"/>
            <a:ext cx="1584360" cy="269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7"/>
          <p:cNvSpPr/>
          <p:nvPr/>
        </p:nvSpPr>
        <p:spPr>
          <a:xfrm rot="2844000">
            <a:off x="6146640" y="1925280"/>
            <a:ext cx="1584360" cy="270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/>
          <p:cNvSpPr/>
          <p:nvPr/>
        </p:nvSpPr>
        <p:spPr>
          <a:xfrm rot="5400000">
            <a:off x="4058280" y="1997640"/>
            <a:ext cx="1017720" cy="279360"/>
          </a:xfrm>
          <a:custGeom>
            <a:avLst/>
            <a:gdLst>
              <a:gd name="textAreaLeft" fmla="*/ 127080 w 1017720"/>
              <a:gd name="textAreaRight" fmla="*/ 890640 w 1017720"/>
              <a:gd name="textAreaTop" fmla="*/ 69840 h 279360"/>
              <a:gd name="textAreaBottom" fmla="*/ 2095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 rot="5400000">
            <a:off x="1366560" y="3681360"/>
            <a:ext cx="936360" cy="142920"/>
          </a:xfrm>
          <a:custGeom>
            <a:avLst/>
            <a:gdLst>
              <a:gd name="textAreaLeft" fmla="*/ 117000 w 936360"/>
              <a:gd name="textAreaRight" fmla="*/ 819360 w 9363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 rot="5400000">
            <a:off x="3707640" y="4077720"/>
            <a:ext cx="1728720" cy="142560"/>
          </a:xfrm>
          <a:custGeom>
            <a:avLst/>
            <a:gdLst>
              <a:gd name="textAreaLeft" fmla="*/ 216000 w 1728720"/>
              <a:gd name="textAreaRight" fmla="*/ 1512720 w 172872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 rot="5400000">
            <a:off x="6119640" y="4400640"/>
            <a:ext cx="2376360" cy="14436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2"/>
          <p:cNvSpPr/>
          <p:nvPr/>
        </p:nvSpPr>
        <p:spPr>
          <a:xfrm>
            <a:off x="755640" y="2637000"/>
            <a:ext cx="2087640" cy="57600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3"/>
          <p:cNvSpPr/>
          <p:nvPr/>
        </p:nvSpPr>
        <p:spPr>
          <a:xfrm>
            <a:off x="3492360" y="270828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4"/>
          <p:cNvSpPr/>
          <p:nvPr/>
        </p:nvSpPr>
        <p:spPr>
          <a:xfrm>
            <a:off x="6156360" y="270828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5"/>
          <p:cNvSpPr/>
          <p:nvPr/>
        </p:nvSpPr>
        <p:spPr>
          <a:xfrm>
            <a:off x="539640" y="4365720"/>
            <a:ext cx="3816360" cy="57600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уществ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2411280" y="508464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лаг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9"/>
          <p:cNvSpPr/>
          <p:nvPr/>
        </p:nvSpPr>
        <p:spPr>
          <a:xfrm>
            <a:off x="4859280" y="580536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Воспитатель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Профессионал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Друг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Психолог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Авторит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Оптимис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Помощник …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buNone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3384720" cy="263376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6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31" name="AutoShape 7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8"/>
            <p:cNvSpPr/>
            <p:nvPr/>
          </p:nvSpPr>
          <p:spPr>
            <a:xfrm>
              <a:off x="755280" y="476280"/>
              <a:ext cx="770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dd9"/>
                  </a:solidFill>
                  <a:latin typeface="Arial"/>
                </a:rPr>
                <a:t>Классный руководител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рпелив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ботлив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рудолюбив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лерантн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бр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есёлый…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5076720" y="3103560"/>
            <a:ext cx="3741840" cy="34117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5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36" name="AutoShape 6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755280" y="476280"/>
              <a:ext cx="770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dd9"/>
                  </a:solidFill>
                  <a:latin typeface="Arial"/>
                </a:rPr>
                <a:t>Классный руководител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провожд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ним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мог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держив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вори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ыслушив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ветует</a:t>
            </a: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2"/>
          <a:stretch/>
        </p:blipFill>
        <p:spPr>
          <a:xfrm>
            <a:off x="4932360" y="2421000"/>
            <a:ext cx="3790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6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41" name="AutoShape 7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8"/>
            <p:cNvSpPr/>
            <p:nvPr/>
          </p:nvSpPr>
          <p:spPr>
            <a:xfrm>
              <a:off x="755280" y="476280"/>
              <a:ext cx="770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dd9"/>
                  </a:solidFill>
                  <a:latin typeface="Arial"/>
                </a:rPr>
                <a:t>Классный руководител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вторитетнос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ыстрота реакци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ладение педагогическими приёмам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брожелательнос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лание изменить мир к лучшем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епкое здоровь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юбовь к детя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4" name="Group 8"/>
          <p:cNvGrpSpPr/>
          <p:nvPr/>
        </p:nvGrpSpPr>
        <p:grpSpPr>
          <a:xfrm>
            <a:off x="684360" y="260280"/>
            <a:ext cx="7991280" cy="1050840"/>
            <a:chOff x="684360" y="260280"/>
            <a:chExt cx="7991280" cy="1050840"/>
          </a:xfrm>
        </p:grpSpPr>
        <p:sp>
          <p:nvSpPr>
            <p:cNvPr id="445" name="AutoShape 6"/>
            <p:cNvSpPr/>
            <p:nvPr/>
          </p:nvSpPr>
          <p:spPr>
            <a:xfrm>
              <a:off x="684360" y="260280"/>
              <a:ext cx="7991280" cy="1050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7"/>
            <p:cNvSpPr/>
            <p:nvPr/>
          </p:nvSpPr>
          <p:spPr>
            <a:xfrm>
              <a:off x="828720" y="333360"/>
              <a:ext cx="770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ca"/>
                  </a:solidFill>
                  <a:latin typeface="Arial"/>
                </a:rPr>
                <a:t>Профессионально значимые качества современного классного руководител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23:39:15Z</dcterms:created>
  <dc:creator>111</dc:creator>
  <dc:description/>
  <dc:language>en-US</dc:language>
  <cp:lastModifiedBy>alex</cp:lastModifiedBy>
  <dcterms:modified xsi:type="dcterms:W3CDTF">2003-02-07T14:38:06Z</dcterms:modified>
  <cp:revision>21</cp:revision>
  <dc:subject/>
  <dc:title>Слайд 1</dc:title>
</cp:coreProperties>
</file>