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40.jpeg" ContentType="image/jpeg"/>
  <Override PartName="/ppt/media/image37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14.jpeg" ContentType="image/jpeg"/>
  <Override PartName="/ppt/media/image19.jpeg" ContentType="image/jpeg"/>
  <Override PartName="/ppt/media/image21.jpeg" ContentType="image/jpeg"/>
  <Override PartName="/ppt/media/image24.jpeg" ContentType="image/jpeg"/>
  <Override PartName="/ppt/media/image27.png" ContentType="image/png"/>
  <Override PartName="/ppt/media/image16.jpeg" ContentType="image/jpeg"/>
  <Override PartName="/ppt/media/image67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22.jpeg" ContentType="image/jpeg"/>
  <Override PartName="/ppt/media/image69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5.jpeg" ContentType="image/jpeg"/>
  <Override PartName="/ppt/media/image61.jpeg" ContentType="image/jpeg"/>
  <Override PartName="/ppt/media/image78.jpeg" ContentType="image/jpeg"/>
  <Override PartName="/ppt/media/image3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3.png" ContentType="image/pn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2.jpeg" ContentType="image/jpeg"/>
  <Override PartName="/ppt/media/image32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940-9908-4FD3-8454-AE575A85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3C6-2540-4D18-871C-09C57AAA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548-1E81-4C0B-A380-ECE168D8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5A5-0669-47D1-9831-74457C7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3F5-AF5F-47D3-BF13-7321D9E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2362-D5C6-4828-A49C-DDAE522D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8172-F5D1-407A-A2DC-701745A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5D9-912E-475D-8A8D-D93C363A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9BB-40F4-42DA-9B41-C083CEA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AD6-9FC2-496A-960C-55E3F857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392F-9328-4A83-BEAC-F1C8B6E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60E-1DAB-446D-9804-C04A996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A0E1-1E29-4000-A9CB-2B6B65C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32D-2804-44EA-9512-CF9143E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AAD9-9388-41FA-9E3D-B4CED09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5DA2-082B-4B54-9A73-FABB694C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805E-808B-43B6-9547-B3D8167A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EAC-FDD4-4A2A-AE6E-9EFEA65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BE1-B4BA-457A-82FB-F61C187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0FC-F80C-4B94-8670-89E9FBB1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F25-8E4D-4C1B-A7A3-64366118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DE6-0170-49D2-80BF-3F7D10B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B24-87FF-4C1B-8AE3-4BEF090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6BD-C3E4-47F6-BBFB-E5F0D08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6DB-910E-4EDF-B2CA-E495CD23E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86B-C00E-4D27-8D72-6864FB547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18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Истор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древних русских гор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47640" y="1773360"/>
            <a:ext cx="784872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 Росси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869000"/>
            <a:ext cx="40352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МАОУ «Гимназия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Харьковская Ольг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Гориц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843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Преображ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94240" cy="3370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Ростов Великий</a:t>
            </a:r>
            <a:r>
              <a:rPr b="1" lang="en-US" sz="60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rostov_gerb"/>
          <p:cNvPicPr/>
          <p:nvPr/>
        </p:nvPicPr>
        <p:blipFill>
          <a:blip r:embed="rId1"/>
          <a:stretch/>
        </p:blipFill>
        <p:spPr>
          <a:xfrm>
            <a:off x="539640" y="260280"/>
            <a:ext cx="1486080" cy="173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tov_kremlin"/>
          <p:cNvPicPr/>
          <p:nvPr/>
        </p:nvPicPr>
        <p:blipFill>
          <a:blip r:embed="rId2"/>
          <a:stretch/>
        </p:blipFill>
        <p:spPr>
          <a:xfrm>
            <a:off x="1692360" y="2060640"/>
            <a:ext cx="5718240" cy="42894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Ростовский 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573800" cy="3430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45781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Свято-Троицкий</a:t>
            </a:r>
            <a:br>
              <a:rPr sz="4000"/>
            </a:b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 Варницкий монастырь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726080" cy="354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810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Ростовская финифт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000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Калязин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kalyazin_gerb"/>
          <p:cNvPicPr/>
          <p:nvPr/>
        </p:nvPicPr>
        <p:blipFill>
          <a:blip r:embed="rId1"/>
          <a:stretch/>
        </p:blipFill>
        <p:spPr>
          <a:xfrm>
            <a:off x="395280" y="260280"/>
            <a:ext cx="1474920" cy="1770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Богоявленская и Свято-Введенская церкви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8280" y="2205000"/>
            <a:ext cx="4843440" cy="363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807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Углич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uglich_gerb"/>
          <p:cNvPicPr/>
          <p:nvPr/>
        </p:nvPicPr>
        <p:blipFill>
          <a:blip r:embed="rId1"/>
          <a:stretch/>
        </p:blipFill>
        <p:spPr>
          <a:xfrm>
            <a:off x="611280" y="549360"/>
            <a:ext cx="114300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754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Рыбинск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ryybinsk_gerb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770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rybinsk_main"/>
          <p:cNvPicPr/>
          <p:nvPr/>
        </p:nvPicPr>
        <p:blipFill>
          <a:blip r:embed="rId2"/>
          <a:stretch/>
        </p:blipFill>
        <p:spPr>
          <a:xfrm>
            <a:off x="1908000" y="1628640"/>
            <a:ext cx="6553440" cy="4915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724280"/>
            <a:ext cx="8075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Около 30 лет назад несколько древних городов России к северо-востоку от Москвы были объединены в туристический маршрут, получивший название "Золотое кольцо России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sxema_regiona_400"/>
          <p:cNvPicPr/>
          <p:nvPr/>
        </p:nvPicPr>
        <p:blipFill>
          <a:blip r:embed="rId1"/>
          <a:stretch/>
        </p:blipFill>
        <p:spPr>
          <a:xfrm>
            <a:off x="250920" y="189000"/>
            <a:ext cx="4321080" cy="432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zk"/>
          <p:cNvPicPr/>
          <p:nvPr/>
        </p:nvPicPr>
        <p:blipFill>
          <a:blip r:embed="rId2"/>
          <a:stretch/>
        </p:blipFill>
        <p:spPr>
          <a:xfrm>
            <a:off x="5268960" y="260280"/>
            <a:ext cx="3595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преображ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032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Ярославль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4" descr="yar_gerb"/>
          <p:cNvPicPr/>
          <p:nvPr/>
        </p:nvPicPr>
        <p:blipFill>
          <a:blip r:embed="rId1"/>
          <a:stretch/>
        </p:blipFill>
        <p:spPr>
          <a:xfrm>
            <a:off x="611280" y="476280"/>
            <a:ext cx="1144440" cy="1382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4818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Театр Федора Волкова – первый русский театр 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8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Кострома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kostroma_gerb"/>
          <p:cNvPicPr/>
          <p:nvPr/>
        </p:nvPicPr>
        <p:blipFill>
          <a:blip r:embed="rId1"/>
          <a:stretch/>
        </p:blipFill>
        <p:spPr>
          <a:xfrm>
            <a:off x="684360" y="333360"/>
            <a:ext cx="1519200" cy="182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kostroma_kalancha"/>
          <p:cNvPicPr/>
          <p:nvPr/>
        </p:nvPicPr>
        <p:blipFill>
          <a:blip r:embed="rId2"/>
          <a:stretch/>
        </p:blipFill>
        <p:spPr>
          <a:xfrm>
            <a:off x="2627280" y="2060640"/>
            <a:ext cx="5348160" cy="4159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Ипатье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2136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Ипатье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644640" cy="4854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941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Иван Сусанин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8573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Плёс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6" descr="ples_gerb"/>
          <p:cNvPicPr/>
          <p:nvPr/>
        </p:nvPicPr>
        <p:blipFill>
          <a:blip r:embed="rId1"/>
          <a:stretch/>
        </p:blipFill>
        <p:spPr>
          <a:xfrm>
            <a:off x="826920" y="333360"/>
            <a:ext cx="1486080" cy="178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ples_1"/>
          <p:cNvPicPr/>
          <p:nvPr/>
        </p:nvPicPr>
        <p:blipFill>
          <a:blip r:embed="rId1"/>
          <a:stretch/>
        </p:blipFill>
        <p:spPr>
          <a:xfrm>
            <a:off x="2411280" y="907920"/>
            <a:ext cx="4214880" cy="4772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Торговые ряды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13" name="Picture 5" descr="ples_torgovie_ryady"/>
          <p:cNvPicPr/>
          <p:nvPr/>
        </p:nvPicPr>
        <p:blipFill>
          <a:blip r:embed="rId1"/>
          <a:stretch/>
        </p:blipFill>
        <p:spPr>
          <a:xfrm>
            <a:off x="1547640" y="1484280"/>
            <a:ext cx="6248520" cy="46864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Сергиев Посад</a:t>
            </a:r>
            <a:r>
              <a:rPr b="1" lang="en-US" sz="66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g1200_sergievposad_city"/>
          <p:cNvPicPr/>
          <p:nvPr/>
        </p:nvPicPr>
        <p:blipFill>
          <a:blip r:embed="rId1"/>
          <a:stretch/>
        </p:blipFill>
        <p:spPr>
          <a:xfrm>
            <a:off x="250920" y="189000"/>
            <a:ext cx="1658880" cy="216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sp_vid_s_blinki"/>
          <p:cNvPicPr/>
          <p:nvPr/>
        </p:nvPicPr>
        <p:blipFill>
          <a:blip r:embed="rId2"/>
          <a:stretch/>
        </p:blipFill>
        <p:spPr>
          <a:xfrm>
            <a:off x="2050920" y="1700280"/>
            <a:ext cx="6507360" cy="487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Иваново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ivanovo_gerb"/>
          <p:cNvPicPr/>
          <p:nvPr/>
        </p:nvPicPr>
        <p:blipFill>
          <a:blip r:embed="rId1"/>
          <a:stretch/>
        </p:blipFill>
        <p:spPr>
          <a:xfrm>
            <a:off x="826920" y="333360"/>
            <a:ext cx="1374840" cy="1603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vanovo_main2"/>
          <p:cNvPicPr/>
          <p:nvPr/>
        </p:nvPicPr>
        <p:blipFill>
          <a:blip r:embed="rId2"/>
          <a:stretch/>
        </p:blipFill>
        <p:spPr>
          <a:xfrm>
            <a:off x="1763640" y="2133720"/>
            <a:ext cx="5729400" cy="4297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Палех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28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Суздаль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5" descr="suzdal_gerb"/>
          <p:cNvPicPr/>
          <p:nvPr/>
        </p:nvPicPr>
        <p:blipFill>
          <a:blip r:embed="rId1"/>
          <a:stretch/>
        </p:blipFill>
        <p:spPr>
          <a:xfrm>
            <a:off x="826920" y="476280"/>
            <a:ext cx="1144800" cy="137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Суздаль"/>
          <p:cNvPicPr/>
          <p:nvPr/>
        </p:nvPicPr>
        <p:blipFill>
          <a:blip r:embed="rId2"/>
          <a:stretch/>
        </p:blipFill>
        <p:spPr>
          <a:xfrm>
            <a:off x="1116000" y="2133720"/>
            <a:ext cx="7129440" cy="4483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573800" cy="3430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257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Евфимиев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0036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Покро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570560" cy="342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Покровский монастырь"/>
          <p:cNvPicPr/>
          <p:nvPr/>
        </p:nvPicPr>
        <p:blipFill>
          <a:blip r:embed="rId2"/>
          <a:stretch/>
        </p:blipFill>
        <p:spPr>
          <a:xfrm>
            <a:off x="179280" y="1268280"/>
            <a:ext cx="4959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Юрьев-Польский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urievpolsk_gerb"/>
          <p:cNvPicPr/>
          <p:nvPr/>
        </p:nvPicPr>
        <p:blipFill>
          <a:blip r:embed="rId1"/>
          <a:stretch/>
        </p:blipFill>
        <p:spPr>
          <a:xfrm>
            <a:off x="179280" y="404640"/>
            <a:ext cx="1143000" cy="1343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dd1"/>
                </a:solidFill>
                <a:latin typeface="Times New Roman"/>
              </a:rPr>
              <a:t>Михайло-Архангельский монастырь</a:t>
            </a:r>
            <a:br>
              <a:rPr sz="3600"/>
            </a:b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40" name="Picture 3" descr="yp_mixailo-arxangelskiy"/>
          <p:cNvPicPr/>
          <p:nvPr/>
        </p:nvPicPr>
        <p:blipFill>
          <a:blip r:embed="rId1"/>
          <a:srcRect l="0" t="0" r="0" b="10300"/>
          <a:stretch/>
        </p:blipFill>
        <p:spPr>
          <a:xfrm>
            <a:off x="1116000" y="1268280"/>
            <a:ext cx="6718320" cy="5038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Георгиев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24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Троице-Сергиева лавр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951440" cy="371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57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Владимир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11280" y="1844640"/>
            <a:ext cx="84978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74840" cy="1671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56754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Усп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3800" y="324576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пен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uspenskaya_kolokolnya"/>
          <p:cNvPicPr/>
          <p:nvPr/>
        </p:nvPicPr>
        <p:blipFill>
          <a:blip r:embed="rId1"/>
          <a:stretch/>
        </p:blipFill>
        <p:spPr>
          <a:xfrm>
            <a:off x="1692360" y="1773360"/>
            <a:ext cx="5743440" cy="43084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Дмитров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52" name="Picture 8" descr="vlad_sights_dmitrovskiy"/>
          <p:cNvPicPr/>
          <p:nvPr/>
        </p:nvPicPr>
        <p:blipFill>
          <a:blip r:embed="rId1"/>
          <a:stretch/>
        </p:blipFill>
        <p:spPr>
          <a:xfrm>
            <a:off x="684360" y="1773360"/>
            <a:ext cx="3243240" cy="4321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3809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337440" cy="4256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Церковь Покрова на Нерли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Гусь-Хрустальный</a:t>
            </a: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57" name="Picture 4" descr="герб Гусь-Хрустального"/>
          <p:cNvPicPr/>
          <p:nvPr/>
        </p:nvPicPr>
        <p:blipFill>
          <a:blip r:embed="rId1"/>
          <a:stretch/>
        </p:blipFill>
        <p:spPr>
          <a:xfrm>
            <a:off x="684360" y="333360"/>
            <a:ext cx="1136520" cy="1373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56037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Мальцовские дом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578120" cy="3435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573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Собор Святого Георг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3" name="Picture 4" descr="gus_georg"/>
          <p:cNvPicPr/>
          <p:nvPr/>
        </p:nvPicPr>
        <p:blipFill>
          <a:blip r:embed="rId1"/>
          <a:stretch/>
        </p:blipFill>
        <p:spPr>
          <a:xfrm>
            <a:off x="1042920" y="1628640"/>
            <a:ext cx="6821640" cy="4552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Торговые ряды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718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724680"/>
            <a:ext cx="856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Лучш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один раз увидеть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чем семь раз прочитат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о них в учебнике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оиц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пенс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192560" cy="419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4290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Александров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Герб города Александров (1781 г.)"/>
          <p:cNvPicPr/>
          <p:nvPr/>
        </p:nvPicPr>
        <p:blipFill>
          <a:blip r:embed="rId1"/>
          <a:stretch/>
        </p:blipFill>
        <p:spPr>
          <a:xfrm>
            <a:off x="250920" y="115920"/>
            <a:ext cx="1652400" cy="20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lex_main_uspenskaya"/>
          <p:cNvPicPr/>
          <p:nvPr/>
        </p:nvPicPr>
        <p:blipFill>
          <a:blip r:embed="rId2"/>
          <a:stretch/>
        </p:blipFill>
        <p:spPr>
          <a:xfrm>
            <a:off x="2700360" y="2133720"/>
            <a:ext cx="5286240" cy="39654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Александровский 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оиц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ятская церк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854440" cy="3811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Распятская церковь-колокольня"/>
          <p:cNvPicPr/>
          <p:nvPr/>
        </p:nvPicPr>
        <p:blipFill>
          <a:blip r:embed="rId2"/>
          <a:stretch/>
        </p:blipFill>
        <p:spPr>
          <a:xfrm>
            <a:off x="5435640" y="2276640"/>
            <a:ext cx="24764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Переславль-Залесски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21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pereslavl_gerb"/>
          <p:cNvPicPr/>
          <p:nvPr/>
        </p:nvPicPr>
        <p:blipFill>
          <a:blip r:embed="rId1"/>
          <a:stretch/>
        </p:blipFill>
        <p:spPr>
          <a:xfrm>
            <a:off x="611280" y="1557360"/>
            <a:ext cx="1382760" cy="167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55245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Никит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23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03:50Z</dcterms:created>
  <dc:creator>Vera</dc:creator>
  <dc:description/>
  <dc:language>en-US</dc:language>
  <cp:lastModifiedBy>SamLab.ws</cp:lastModifiedBy>
  <dcterms:modified xsi:type="dcterms:W3CDTF">2012-07-11T14:29:10Z</dcterms:modified>
  <cp:revision>24</cp:revision>
  <dc:subject/>
  <dc:title>Слайд 1</dc:title>
</cp:coreProperties>
</file>