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3490-2449-4D43-B2CB-51833198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EDD-A6BF-4FD1-A097-6329990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DB0-D10E-459D-80F0-D38AC377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1EE-F50B-456B-8887-700D7008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575-3781-42F4-BA90-62F6E804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61D-DB3D-45DD-83DB-768082D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1C1-7931-4488-9852-D673C887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93E-265F-4E33-B86C-B9DCFC1E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6E6-D435-47AB-B95F-A8FD246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31DB-9B1C-4E0F-BA70-1232BD4C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535-F2AA-47B7-9034-36E15221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D75-6833-4776-94EB-0B79275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95A-1C95-4F93-90C7-61C7ACBCF9F3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695160" y="822240"/>
            <a:ext cx="7802640" cy="1158840"/>
            <a:chOff x="695160" y="822240"/>
            <a:chExt cx="7802640" cy="115884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695160" y="822240"/>
              <a:ext cx="78026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85880" y="928800"/>
              <a:ext cx="76438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254061"/>
                  </a:solidFill>
                  <a:latin typeface="Constantia"/>
                </a:rPr>
                <a:t>Математика</a:t>
              </a:r>
              <a:endParaRPr b="0" lang="en-US" sz="4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143320" y="5714640"/>
            <a:ext cx="3571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onstantia"/>
              </a:rPr>
              <a:t>Приготовила:  Клейман Дарь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061"/>
                </a:solidFill>
                <a:latin typeface="Constantia"/>
              </a:rPr>
              <a:t>5 А класс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5" name="Рисунок 7" descr="RCM8CAJQYXI4CAOWVC15CAA5NZMLCAZXXL0QCAIX85WRCAXCXWW5CA9IGPJBCA1A2ELICASP9O1TCA2H1YD0CALX5ZGNCACCYQSPCAPGMO0RCARD9JSOCAFK2JGVCAQNZ24ZCAQDXV9CCAAO64EECAFDGG8L.jpg"/>
          <p:cNvPicPr/>
          <p:nvPr/>
        </p:nvPicPr>
        <p:blipFill>
          <a:blip r:embed="rId2"/>
          <a:stretch/>
        </p:blipFill>
        <p:spPr>
          <a:xfrm>
            <a:off x="428760" y="3500280"/>
            <a:ext cx="3841560" cy="2643480"/>
          </a:xfrm>
          <a:prstGeom prst="rect">
            <a:avLst/>
          </a:prstGeom>
          <a:ln w="0">
            <a:noFill/>
          </a:ln>
        </p:spPr>
      </p:pic>
      <p:sp>
        <p:nvSpPr>
          <p:cNvPr id="46" name="Содержимое 3"/>
          <p:cNvSpPr/>
          <p:nvPr/>
        </p:nvSpPr>
        <p:spPr>
          <a:xfrm>
            <a:off x="1428840" y="2428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3152"/>
                </a:solidFill>
                <a:latin typeface="Constantia"/>
              </a:rPr>
              <a:t>Степень числа. Квадрат и куб числа.</a:t>
            </a:r>
            <a:r>
              <a:rPr b="0" lang="ru-RU" sz="3200" spc="-1" strike="noStrike">
                <a:solidFill>
                  <a:srgbClr val="898989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809880" y="1143000"/>
                <a:ext cx="1219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" name="Line 18"/>
          <p:cNvSpPr/>
          <p:nvPr/>
        </p:nvSpPr>
        <p:spPr>
          <a:xfrm flipH="1">
            <a:off x="3276720" y="23623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228600" y="3048120"/>
            <a:ext cx="358128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Основан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4724280" y="16765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ectangle 22"/>
          <p:cNvSpPr/>
          <p:nvPr/>
        </p:nvSpPr>
        <p:spPr>
          <a:xfrm>
            <a:off x="4648320" y="3048120"/>
            <a:ext cx="358128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Показатель степен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0" y="35712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епень числа имеет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00040" y="49291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пись читают: «три в седьмой степени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944640"/>
          </a:xfrm>
          <a:prstGeom prst="rect">
            <a:avLst/>
          </a:prstGeom>
          <a:solidFill>
            <a:srgbClr val="fac090"/>
          </a:solidFill>
          <a:ln w="38160">
            <a:solidFill>
              <a:srgbClr val="66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торая степень числа называется квадратом числа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8560" y="1294920"/>
            <a:ext cx="563760" cy="60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357200" y="2000160"/>
            <a:ext cx="376200" cy="3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4680" y="1295280"/>
            <a:ext cx="563400" cy="60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071720" y="1428840"/>
            <a:ext cx="376200" cy="4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362320" y="1828800"/>
            <a:ext cx="5257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Arial"/>
                <a:ea typeface="Arial"/>
              </a:rPr>
              <a:t>Три в квадрат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20560" y="1828800"/>
            <a:ext cx="47016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Line 11"/>
          <p:cNvSpPr/>
          <p:nvPr/>
        </p:nvSpPr>
        <p:spPr>
          <a:xfrm flipH="1">
            <a:off x="1611000" y="1828800"/>
            <a:ext cx="446040" cy="48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857160" y="2357280"/>
            <a:ext cx="470160" cy="51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2362320" y="1447920"/>
            <a:ext cx="152280" cy="144756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TextBox 29"/>
          <p:cNvSpPr/>
          <p:nvPr/>
        </p:nvSpPr>
        <p:spPr>
          <a:xfrm>
            <a:off x="1857240" y="3571920"/>
            <a:ext cx="55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лица квадратов первых 10 натуральных чисе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85840" y="4500720"/>
          <a:ext cx="8275680" cy="16430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320"/>
                <a:gridCol w="901800"/>
                <a:gridCol w="617400"/>
                <a:gridCol w="758880"/>
                <a:gridCol w="760680"/>
                <a:gridCol w="760320"/>
                <a:gridCol w="676080"/>
                <a:gridCol w="76068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" name="TextBox 31"/>
          <p:cNvSpPr/>
          <p:nvPr/>
        </p:nvSpPr>
        <p:spPr>
          <a:xfrm>
            <a:off x="428760" y="5214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304920" y="357120"/>
            <a:ext cx="8839080" cy="944640"/>
          </a:xfrm>
          <a:prstGeom prst="rect">
            <a:avLst/>
          </a:prstGeom>
          <a:solidFill>
            <a:srgbClr val="fac090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Третья степень числа называется кубом числа!!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69" name="Группа 3"/>
          <p:cNvGrpSpPr/>
          <p:nvPr/>
        </p:nvGrpSpPr>
        <p:grpSpPr>
          <a:xfrm>
            <a:off x="500040" y="2000160"/>
            <a:ext cx="2133720" cy="1752840"/>
            <a:chOff x="500040" y="2000160"/>
            <a:chExt cx="2133720" cy="1752840"/>
          </a:xfrm>
        </p:grpSpPr>
        <p:sp>
          <p:nvSpPr>
            <p:cNvPr id="70" name="Rectangle 15"/>
            <p:cNvSpPr/>
            <p:nvPr/>
          </p:nvSpPr>
          <p:spPr>
            <a:xfrm>
              <a:off x="500040" y="200016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1" name="Rectangle 16"/>
            <p:cNvSpPr/>
            <p:nvPr/>
          </p:nvSpPr>
          <p:spPr>
            <a:xfrm>
              <a:off x="1338120" y="2000160"/>
              <a:ext cx="30456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2176560" y="200016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904680" y="2176200"/>
              <a:ext cx="38088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4" name="Rectangle 19"/>
            <p:cNvSpPr/>
            <p:nvPr/>
          </p:nvSpPr>
          <p:spPr>
            <a:xfrm>
              <a:off x="1762200" y="2176200"/>
              <a:ext cx="304560" cy="38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*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5" name="Rectangle 20"/>
            <p:cNvSpPr/>
            <p:nvPr/>
          </p:nvSpPr>
          <p:spPr>
            <a:xfrm>
              <a:off x="1262160" y="3219480"/>
              <a:ext cx="457200" cy="533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Constanti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1566720" y="3143520"/>
              <a:ext cx="3045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Constanti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7" name="Line 22"/>
            <p:cNvSpPr/>
            <p:nvPr/>
          </p:nvSpPr>
          <p:spPr>
            <a:xfrm>
              <a:off x="728640" y="253368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8" name="Line 23"/>
            <p:cNvSpPr/>
            <p:nvPr/>
          </p:nvSpPr>
          <p:spPr>
            <a:xfrm>
              <a:off x="1490760" y="253368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79" name="Line 24"/>
            <p:cNvSpPr/>
            <p:nvPr/>
          </p:nvSpPr>
          <p:spPr>
            <a:xfrm flipH="1">
              <a:off x="1795320" y="2533680"/>
              <a:ext cx="5331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0" name="AutoShape 26"/>
          <p:cNvSpPr/>
          <p:nvPr/>
        </p:nvSpPr>
        <p:spPr>
          <a:xfrm>
            <a:off x="2714760" y="200016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Rectangle 25"/>
          <p:cNvSpPr/>
          <p:nvPr/>
        </p:nvSpPr>
        <p:spPr>
          <a:xfrm>
            <a:off x="3357720" y="2214720"/>
            <a:ext cx="5257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7375e"/>
                </a:solidFill>
                <a:latin typeface="Arial"/>
                <a:ea typeface="Arial"/>
              </a:rPr>
              <a:t>Три в куб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00040" y="4714920"/>
          <a:ext cx="8275680" cy="1643040"/>
        </p:xfrm>
        <a:graphic>
          <a:graphicData uri="http://schemas.openxmlformats.org/drawingml/2006/table">
            <a:tbl>
              <a:tblPr/>
              <a:tblGrid>
                <a:gridCol w="760320"/>
                <a:gridCol w="758880"/>
                <a:gridCol w="760320"/>
                <a:gridCol w="760680"/>
                <a:gridCol w="901440"/>
                <a:gridCol w="617760"/>
                <a:gridCol w="758880"/>
                <a:gridCol w="760320"/>
                <a:gridCol w="760320"/>
                <a:gridCol w="676440"/>
                <a:gridCol w="760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3" name="TextBox 17"/>
          <p:cNvSpPr/>
          <p:nvPr/>
        </p:nvSpPr>
        <p:spPr>
          <a:xfrm>
            <a:off x="1928880" y="414324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блица кубов первых 10 натуральных чисе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714240" y="54673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Содержимое 28"/>
          <p:cNvGrpSpPr/>
          <p:nvPr/>
        </p:nvGrpSpPr>
        <p:grpSpPr>
          <a:xfrm>
            <a:off x="281160" y="1060560"/>
            <a:ext cx="8545320" cy="5279760"/>
            <a:chOff x="281160" y="1060560"/>
            <a:chExt cx="8545320" cy="5279760"/>
          </a:xfrm>
        </p:grpSpPr>
        <p:pic>
          <p:nvPicPr>
            <p:cNvPr id="86" name="Содержимое 28" descr=""/>
            <p:cNvPicPr/>
            <p:nvPr/>
          </p:nvPicPr>
          <p:blipFill>
            <a:blip r:embed="rId1"/>
            <a:stretch/>
          </p:blipFill>
          <p:spPr>
            <a:xfrm>
              <a:off x="281160" y="1060560"/>
              <a:ext cx="8545320" cy="52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00040" y="1214280"/>
              <a:ext cx="8258040" cy="50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d0d0d"/>
                  </a:solidFill>
                  <a:latin typeface="Constantia"/>
                  <a:ea typeface="Arial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42680" y="1588680"/>
            <a:ext cx="42876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819520" y="1447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048120" y="1523880"/>
            <a:ext cx="304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29080" y="15890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809880" y="144792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3836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852640" y="2354400"/>
            <a:ext cx="5000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3005280" y="242712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345276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3753000" y="2354400"/>
            <a:ext cx="28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4067280" y="1589040"/>
            <a:ext cx="428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291280" y="341784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824360" y="3497400"/>
            <a:ext cx="3571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248000" y="4330800"/>
            <a:ext cx="8575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2467080" y="3338640"/>
            <a:ext cx="1571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(2+3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3747960" y="3268800"/>
            <a:ext cx="214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3909960" y="33415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4305240" y="3416400"/>
            <a:ext cx="5716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4586400" y="3268800"/>
            <a:ext cx="21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4672080" y="15890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4071960" y="2428920"/>
            <a:ext cx="500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4672080" y="24271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4748040" y="1589040"/>
            <a:ext cx="357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4633920" y="2427120"/>
            <a:ext cx="928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Rectangle 32"/>
          <p:cNvSpPr/>
          <p:nvPr/>
        </p:nvSpPr>
        <p:spPr>
          <a:xfrm>
            <a:off x="5295960" y="3417840"/>
            <a:ext cx="5713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2543040" y="4330800"/>
            <a:ext cx="4287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2833560" y="4259160"/>
            <a:ext cx="2145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2995560" y="4413240"/>
            <a:ext cx="3571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3300480" y="433224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Rectangle 43"/>
          <p:cNvSpPr/>
          <p:nvPr/>
        </p:nvSpPr>
        <p:spPr>
          <a:xfrm>
            <a:off x="3838680" y="4332240"/>
            <a:ext cx="428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Rectangle 44"/>
          <p:cNvSpPr/>
          <p:nvPr/>
        </p:nvSpPr>
        <p:spPr>
          <a:xfrm>
            <a:off x="4300560" y="4330800"/>
            <a:ext cx="5000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209680" y="51055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(50:5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Rectangle 46"/>
          <p:cNvSpPr/>
          <p:nvPr/>
        </p:nvSpPr>
        <p:spPr>
          <a:xfrm>
            <a:off x="3747960" y="5021280"/>
            <a:ext cx="214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3986280" y="5094360"/>
            <a:ext cx="3571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300560" y="5170320"/>
            <a:ext cx="500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586400" y="5021280"/>
            <a:ext cx="2142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4824360" y="5170320"/>
            <a:ext cx="3571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66"/>
                </a:solidFill>
                <a:latin typeface="Constantia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205240" y="5170320"/>
            <a:ext cx="3574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Rectangle 52"/>
          <p:cNvSpPr/>
          <p:nvPr/>
        </p:nvSpPr>
        <p:spPr>
          <a:xfrm>
            <a:off x="5238720" y="5170320"/>
            <a:ext cx="8571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Рисунок 42" descr="1.gif"/>
          <p:cNvPicPr/>
          <p:nvPr/>
        </p:nvPicPr>
        <p:blipFill>
          <a:blip r:embed="rId2"/>
          <a:stretch/>
        </p:blipFill>
        <p:spPr>
          <a:xfrm>
            <a:off x="6500880" y="642960"/>
            <a:ext cx="137304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0" y="1425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Спасиб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6" descr="star13.gif"/>
          <p:cNvPicPr/>
          <p:nvPr/>
        </p:nvPicPr>
        <p:blipFill>
          <a:blip r:embed="rId2"/>
          <a:stretch/>
        </p:blipFill>
        <p:spPr>
          <a:xfrm>
            <a:off x="6929280" y="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K:\Мои рисунки\рисунки\Мои рисунки\рис.Эумк\0d7bfbb42edcbbc148491e5164e3ef67.gif"/>
          <p:cNvPicPr/>
          <p:nvPr/>
        </p:nvPicPr>
        <p:blipFill>
          <a:blip r:embed="rId3"/>
          <a:stretch/>
        </p:blipFill>
        <p:spPr>
          <a:xfrm>
            <a:off x="3214800" y="3929040"/>
            <a:ext cx="2786040" cy="26193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1.gif"/>
          <p:cNvPicPr/>
          <p:nvPr/>
        </p:nvPicPr>
        <p:blipFill>
          <a:blip r:embed="rId4"/>
          <a:stretch/>
        </p:blipFill>
        <p:spPr>
          <a:xfrm>
            <a:off x="4000680" y="1285920"/>
            <a:ext cx="1373040" cy="16524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3_md_wht.gif"/>
          <p:cNvPicPr/>
          <p:nvPr/>
        </p:nvPicPr>
        <p:blipFill>
          <a:blip r:embed="rId5"/>
          <a:stretch/>
        </p:blipFill>
        <p:spPr>
          <a:xfrm rot="19979400">
            <a:off x="1000080" y="571320"/>
            <a:ext cx="743040" cy="928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linehjert.gif"/>
          <p:cNvPicPr/>
          <p:nvPr/>
        </p:nvPicPr>
        <p:blipFill>
          <a:blip r:embed="rId6"/>
          <a:stretch/>
        </p:blipFill>
        <p:spPr>
          <a:xfrm>
            <a:off x="428760" y="3214800"/>
            <a:ext cx="84294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06T19:30:58Z</dcterms:modified>
  <cp:revision>19</cp:revision>
  <dc:subject/>
  <dc:title>Математика</dc:title>
</cp:coreProperties>
</file>