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DF8-2E90-4229-BD42-955D59B8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BE9-98A2-426C-AE39-BF4ADDB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CF12-C656-489A-A9BD-2541919B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EAD-6FFC-41CF-B21E-E107C034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3FA9-F37A-4850-89EB-ED7C98AB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FBA3-0979-4EF7-A421-974E8BB7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097C-B620-4017-B00B-164C5562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CCD8-4B00-4EDF-8746-7AA90D04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D3C6-B50D-4254-8B6D-F983F289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7733-122E-48CC-98CF-6CC30994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5BA9-6C4E-4144-B6DF-BF7C1588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5B0-A893-4AB7-8E05-019975D5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7D50-34B9-4E7D-BD45-0F1B439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E12A-8EAD-4888-B9A8-B0763072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348C-E675-409D-A0C8-3FBC6C02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2C74-AC5E-4FB0-A42E-FDDE4BE6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ACF5-4B46-41C9-A79F-058B0C41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A93-5156-46BE-B7BD-A66F2A09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6D4-22D1-4E54-8B98-9362D610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C6C-0396-4F9E-917E-627A34F9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8E5-FF8B-4722-8EB9-6690034D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868-7F8F-4561-9082-01A10A0B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30B-F2A8-4656-8BA4-925CA2C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DA86-CBB7-4B50-A499-69ABD211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1A46-4801-4B8F-9252-407EFD7C7E51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C34C-A44D-42A0-88C9-C741D588DEE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47640" y="1700280"/>
            <a:ext cx="5545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Georgia"/>
              </a:rPr>
              <a:t>Тест по теме: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f1311"/>
                </a:solidFill>
                <a:latin typeface="Georgia"/>
              </a:rPr>
              <a:t>«БЫЛИНЫ»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476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9. Прочитать фрагмент и определить, из какой былины он взя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24000" y="1484280"/>
            <a:ext cx="4392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 тут ли оратай – оратаюшк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ужики шелковые повыстегнул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былу из сошки повыверну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ни сели на добрых коней, поехали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к хвост-то у ней расстилается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А грива-то у неё да завиваетс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 оратая кобыла ступью пошла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4797360"/>
            <a:ext cx="504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Добрыня и Змей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Волх Всеславьевич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«Вольга и Микула Селянович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58920" y="969840"/>
            <a:ext cx="53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10. Какой город не мог упоминаться в былинах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2708280"/>
            <a:ext cx="237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Кие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Черниго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ур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оскв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54936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11. Соотнести существительные и прилагательные, чтобы получились «постоянные эпитеты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00000" y="2205000"/>
          <a:ext cx="6096240" cy="4063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Чисто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брый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уйная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ружинушка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Храбрая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оловушка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24000" y="1341360"/>
            <a:ext cx="69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К какому роду литератур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относятся былин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3213000"/>
            <a:ext cx="172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Лири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Дра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Эпос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68360" y="60948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2. Выбрать определение жанра былин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844640"/>
            <a:ext cx="6840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жанр русского фольклора; эпическая песня героико-патриотического содержания, повествующая о богатырях и исторических событиях средневековой Рус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Жанр фольклора, близкий к народной балладе, в котором содержится лирическая оценка какого-либо исторического события или исторической личност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Жанр русской средневековой литературы, содержащий описание легендарных и реальных событий и мифологических представлени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55640" y="83664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3. Соотнести название былин с цикла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4360" y="2349360"/>
          <a:ext cx="6095880" cy="2487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Садко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иевский цик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Три поездки Ильи Муромца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овгородский цикл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55640" y="76500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4.Каким стихотворным размером написаны былины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34936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вусложный (ямб, хорей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Трёхсложный (дактиль, амфибрахий, анапест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Былинный сти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87280" y="404640"/>
            <a:ext cx="532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5. Выбрать определение гипербол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700280"/>
            <a:ext cx="7416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дин из тропов, чрезмерное преувеличение свойств изображаемого предмет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дин из тропов, сопоставление предметов и явлений по их внешнему сходству, присущим им качества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Один из тропов, перенесение свойств одного предмета или явления на другой на основании общего для обоих призна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6094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6.Какой из перечисленных признаков былин не соответствует истине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2349360"/>
            <a:ext cx="720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Былина – исконно русский жан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Былина – правдивый исторический рассказ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Былина  родственна миф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Былина рисует картину мирозда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280" y="476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7. Соотнесите имена русских богатырей и черты,  наиболее для них характерны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060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4653000"/>
            <a:ext cx="676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2492280"/>
          <a:ext cx="6696360" cy="3265560"/>
        </p:xfrm>
        <a:graphic>
          <a:graphicData uri="http://schemas.openxmlformats.org/drawingml/2006/table">
            <a:tbl>
              <a:tblPr/>
              <a:tblGrid>
                <a:gridCol w="3348000"/>
                <a:gridCol w="334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лья Муромец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удалой, буйный, азартны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ёша Попович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удрый, степенный,                                                        уверенный в себ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Микула Селянинович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рудолюбивый, неторопливый, хозяйственный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b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0920" y="54936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8. С какой целью Вольга Святославович отправляется в путь-дорогу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32000" y="2565360"/>
            <a:ext cx="54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ир посмотре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На войн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За дань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В гости к князю Владимир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4:41:32Z</dcterms:created>
  <dc:creator>User1</dc:creator>
  <dc:description/>
  <dc:language>en-US</dc:language>
  <cp:lastModifiedBy>Customer</cp:lastModifiedBy>
  <dcterms:modified xsi:type="dcterms:W3CDTF">2011-09-29T17:27:29Z</dcterms:modified>
  <cp:revision>6</cp:revision>
  <dc:subject/>
  <dc:title>Слайд 1</dc:title>
</cp:coreProperties>
</file>