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6E4-DAAA-4EC6-9AAE-ED62333B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1D0-2E5B-4888-B883-BBFBC5EB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02E-A661-474F-8C69-4C508DBD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825-B915-4C6D-A4A7-10E664EF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7421-EF52-4963-9533-D329AB47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640E-1C8C-4FA6-905B-6632E37B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8366-6D46-40D9-8FD4-67BF5E8D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DFA-EC25-4AD7-B328-C80BBDE1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978B-B67C-4C6E-B944-BA0FC0CF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AE4F-A98B-44C8-B2B8-A67BFC4F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20DF-A88F-43AD-9E7F-DC93D3D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7D0-9381-4BE7-901D-44D5194B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4D95-F77A-4D67-B6A7-B8334DB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791F-178C-4F8C-BA39-CB6BB338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A524-070E-485F-BAE0-5E4DE881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143C-7B2D-427E-B661-FE2F9FD2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CF63-4CA7-4242-99AF-C970F7F1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8B4-E95D-4ADF-882A-1B373615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3A4-2D0D-490B-9A80-1F34D24D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C6C-0427-4414-B53E-4A8A579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55B-F00D-487B-ADB0-951EE00D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8BD-86FC-4F21-B533-10C2D57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62C-2693-4699-8FA5-3207438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452-E6F3-494E-A5EF-89FABC03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2783-994E-4060-A857-5433CF2D4A0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8576-BD53-47D9-8AEA-FA1B6F344CA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47640" y="1700280"/>
            <a:ext cx="554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Georgia"/>
              </a:rPr>
              <a:t>Тест по теме: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Georgia"/>
              </a:rPr>
              <a:t>«БЫЛИНЫ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476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9. Прочитать фрагмент и определить, из какой былины он взя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1484280"/>
            <a:ext cx="4392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 тут ли оратай – оратаюшк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ужики шелковые повыстегнул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былу из сошки повыверну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и сели на добрых коней, поехали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к хвост-то у ней расстилается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 грива-то у неё да завиваетс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оратая кобыла ступью пошла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4797360"/>
            <a:ext cx="504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Добрыня и Змей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Волх Всеславьевич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Вольга и Микула Селянович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58920" y="96984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10. Какой город не мог упоминаться в былинах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2708280"/>
            <a:ext cx="237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Кие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Черниг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ур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54936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11. Соотнести существительные и прилагательные, чтобы получились «постоянные эпитеты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00000" y="220500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исто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л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брый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л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уйная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ружинушк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Храбрая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оловушка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1341360"/>
            <a:ext cx="69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К какому роду литератур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относятся былин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3213000"/>
            <a:ext cx="172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Лири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Дра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Эпо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60948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2. Выбрать определение жанра были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844640"/>
            <a:ext cx="6840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жанр русского фольклора; эпическая песня героико-патриотического содержания, повествующая о богатырях и исторических событиях средневековой Рус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Жанр фольклора, близкий к народной балладе, в котором содержится лирическая оценка какого-либо исторического события или исторической личност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Жанр русской средневековой литературы, содержащий описание легендарных и реальных событий и мифологических представлени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55640" y="836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3. Соотнести название былин с цикла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4360" y="2349360"/>
          <a:ext cx="6095880" cy="2487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Садко»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иевский цикл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Три поездки Ильи Муромца»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овгородский цикл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55640" y="76500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4.Каким стихотворным размером написаны былин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34936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вусложный (ямб, хорей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рёхсложный (дактиль, амфибрахий, анапес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ылинный ст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87280" y="404640"/>
            <a:ext cx="53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5. Выбрать определение гипербол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700280"/>
            <a:ext cx="7416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дин из тропов, чрезмерное преувеличение свойств изображаемого предме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дин из тропов, сопоставление предметов и явлений по их внешнему сходству, присущим им качеств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дин из тропов, перенесение свойств одного предмета или явления на другой на основании общего для обоих призна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6094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6.Какой из перечисленных признаков былин не соответствует истине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2349360"/>
            <a:ext cx="720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Былина – исконно русский жан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Былина – правдивый исторический рассказ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Былина  родственна миф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Былина рисует картину мирозд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5280" y="476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7. Соотнесите имена русских богатырей и черты,  наиболее для них характерны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060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4653000"/>
            <a:ext cx="676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2492280"/>
          <a:ext cx="6696360" cy="3265560"/>
        </p:xfrm>
        <a:graphic>
          <a:graphicData uri="http://schemas.openxmlformats.org/drawingml/2006/table">
            <a:tbl>
              <a:tblPr/>
              <a:tblGrid>
                <a:gridCol w="3348000"/>
                <a:gridCol w="334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лья Муромец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удалой, буйный, азартный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ёша Попович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удрый, степенный,                                                        уверенный в себ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икула Селянинович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рудолюбивый, неторопливый, хозяйственный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0920" y="54936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8. С какой целью Вольга Святославович отправляется в путь-дорогу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2565360"/>
            <a:ext cx="54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ир посмотре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На войн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За дань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В гости к князю Владимир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41:32Z</dcterms:created>
  <dc:creator>User1</dc:creator>
  <dc:description/>
  <dc:language>en-US</dc:language>
  <cp:lastModifiedBy>Customer</cp:lastModifiedBy>
  <dcterms:modified xsi:type="dcterms:W3CDTF">2011-09-29T17:27:29Z</dcterms:modified>
  <cp:revision>6</cp:revision>
  <dc:subject/>
  <dc:title>Слайд 1</dc:title>
</cp:coreProperties>
</file>