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433-FAF6-4093-885D-5EFEA501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984D-2E50-42EB-A7CF-72A6AD44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96CC-7A7D-448E-A6D3-639E1F73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1CF1-24B3-4FC5-BFE0-BEDC8E58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99D4-D21A-4C23-81AE-2799B48E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B55F-D6E9-41BF-A943-6431DD70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D585-97BB-4B31-8F5E-3F782C15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A806-3797-4429-B663-B4E0096B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0AFE-47D8-45AC-97C8-BF156E8F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9765-C5DB-4091-B79B-0E855191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9B68-CEF4-478F-8519-4FBC935A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9D1A-7CAA-4C50-86EC-9A8FDE46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F684-B18F-4096-A12C-320A4B78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70BB-A275-4875-835F-51B0A38E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29D4-FFF1-4070-A765-057052F9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7BE9-E813-4D93-8342-A3B7A813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5CCE-E25D-4F4E-AC28-43493112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CBAD-FE63-4C54-9FC6-8A194841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A6C5-1366-4A1D-BA75-C25F7858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EF48-3B65-4FFE-9C94-CB6F23B6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875-6B13-483B-8D29-74F8B3C6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F161-4A53-4D05-ABB1-7B401788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9CB0-3545-4F45-9ED8-C6E8BBE1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DCBF-2C4B-4924-B353-C2DE0962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3468-5BBF-4CCB-A3E5-BA317DEDBA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5999-C66D-4305-826D-2B4911EB62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c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Умножение натуральных чисе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68360" y="3887280"/>
            <a:ext cx="640872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одготовил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рестель Андр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ченик 5 а клас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2428920" cy="3573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18440" y="3429000"/>
            <a:ext cx="2725560" cy="3141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3284640"/>
            <a:ext cx="2428920" cy="3573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0" y="3284640"/>
            <a:ext cx="2428920" cy="3573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22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ff"/>
                </a:solidFill>
                <a:latin typeface="Times New Roman"/>
              </a:rPr>
              <a:t>конец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а всю историю человечества было придумано много способов умно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12000" y="3068640"/>
            <a:ext cx="2725560" cy="3213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12000" y="3068640"/>
            <a:ext cx="27255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1692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b76a0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90792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Умножение можно представить с помощью сложения. Например, я живу в трёхкомнатной квартире. В каждой комнате у меня лежит по два яблока. Сколько всего ябл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346760" y="3287520"/>
            <a:ext cx="1247040" cy="962640"/>
            <a:chOff x="1346760" y="3287520"/>
            <a:chExt cx="1247040" cy="962640"/>
          </a:xfrm>
        </p:grpSpPr>
        <p:sp>
          <p:nvSpPr>
            <p:cNvPr id="134" name=""/>
            <p:cNvSpPr/>
            <p:nvPr/>
          </p:nvSpPr>
          <p:spPr>
            <a:xfrm rot="3003000">
              <a:off x="1482480" y="3432960"/>
              <a:ext cx="685800" cy="67500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rot="3003600">
              <a:off x="1756440" y="3583800"/>
              <a:ext cx="399240" cy="41868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3003000">
              <a:off x="1635120" y="3951000"/>
              <a:ext cx="4860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840320" y="3287520"/>
              <a:ext cx="753480" cy="425160"/>
              <a:chOff x="1840320" y="3287520"/>
              <a:chExt cx="753480" cy="425160"/>
            </a:xfrm>
          </p:grpSpPr>
          <p:sp>
            <p:nvSpPr>
              <p:cNvPr id="138" name=""/>
              <p:cNvSpPr/>
              <p:nvPr/>
            </p:nvSpPr>
            <p:spPr>
              <a:xfrm flipH="1" rot="3003600">
                <a:off x="1924560" y="3306240"/>
                <a:ext cx="194400" cy="311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1973160" y="3293280"/>
                <a:ext cx="620640" cy="419400"/>
                <a:chOff x="1973160" y="3293280"/>
                <a:chExt cx="620640" cy="419400"/>
              </a:xfrm>
            </p:grpSpPr>
            <p:grpSp>
              <p:nvGrpSpPr>
                <p:cNvPr id="140" name=""/>
                <p:cNvGrpSpPr/>
                <p:nvPr/>
              </p:nvGrpSpPr>
              <p:grpSpPr>
                <a:xfrm>
                  <a:off x="1973160" y="3293280"/>
                  <a:ext cx="620640" cy="419400"/>
                  <a:chOff x="1973160" y="3293280"/>
                  <a:chExt cx="620640" cy="41940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flipH="1" rot="1206000">
                    <a:off x="2029680" y="3385800"/>
                    <a:ext cx="56052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flipH="1" rot="1206000">
                    <a:off x="1982160" y="3461040"/>
                    <a:ext cx="57276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3" name=""/>
                <p:cNvSpPr/>
                <p:nvPr/>
              </p:nvSpPr>
              <p:spPr>
                <a:xfrm flipH="1" rot="1206000">
                  <a:off x="2075760" y="3407040"/>
                  <a:ext cx="57240" cy="1116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 rot="1206000">
                  <a:off x="2150280" y="3434400"/>
                  <a:ext cx="57240" cy="1116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rot="1206000">
                  <a:off x="2235960" y="3479400"/>
                  <a:ext cx="47160" cy="7128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 rot="1206000">
                  <a:off x="2184840" y="3382200"/>
                  <a:ext cx="73800" cy="5544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rot="1206000">
                  <a:off x="2121120" y="3353400"/>
                  <a:ext cx="79560" cy="6192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8" name=""/>
          <p:cNvSpPr txBox="1"/>
          <p:nvPr/>
        </p:nvSpPr>
        <p:spPr>
          <a:xfrm rot="5400000">
            <a:off x="2448720" y="3393360"/>
            <a:ext cx="5745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46720" y="2983680"/>
            <a:ext cx="941040" cy="1278720"/>
            <a:chOff x="846720" y="2983680"/>
            <a:chExt cx="941040" cy="1278720"/>
          </a:xfrm>
        </p:grpSpPr>
        <p:sp>
          <p:nvSpPr>
            <p:cNvPr id="150" name=""/>
            <p:cNvSpPr/>
            <p:nvPr/>
          </p:nvSpPr>
          <p:spPr>
            <a:xfrm flipH="1" rot="1546800">
              <a:off x="957600" y="3464280"/>
              <a:ext cx="718920" cy="67536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546800">
              <a:off x="1050480" y="3470040"/>
              <a:ext cx="418680" cy="41904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rot="1546800">
              <a:off x="1137240" y="3994920"/>
              <a:ext cx="5076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207080" y="2983680"/>
              <a:ext cx="532440" cy="736560"/>
              <a:chOff x="1207080" y="2983680"/>
              <a:chExt cx="532440" cy="736560"/>
            </a:xfrm>
          </p:grpSpPr>
          <p:sp>
            <p:nvSpPr>
              <p:cNvPr id="154" name=""/>
              <p:cNvSpPr/>
              <p:nvPr/>
            </p:nvSpPr>
            <p:spPr>
              <a:xfrm rot="1546800">
                <a:off x="1478160" y="3379680"/>
                <a:ext cx="203400" cy="311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1207080" y="2983680"/>
                <a:ext cx="524520" cy="615600"/>
                <a:chOff x="1207080" y="2983680"/>
                <a:chExt cx="524520" cy="61560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1207080" y="2983680"/>
                  <a:ext cx="524520" cy="615600"/>
                  <a:chOff x="1207080" y="2983680"/>
                  <a:chExt cx="524520" cy="6156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rot="3344400">
                    <a:off x="1241640" y="3187800"/>
                    <a:ext cx="56052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3344400">
                    <a:off x="1149840" y="3233520"/>
                    <a:ext cx="5727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"/>
                <p:cNvSpPr/>
                <p:nvPr/>
              </p:nvSpPr>
              <p:spPr>
                <a:xfrm rot="3344400">
                  <a:off x="1522800" y="3397680"/>
                  <a:ext cx="57240" cy="1166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rot="3344400">
                  <a:off x="1478160" y="3332160"/>
                  <a:ext cx="57240" cy="1166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rot="3344400">
                  <a:off x="1439640" y="3281040"/>
                  <a:ext cx="47160" cy="7452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rot="3344400">
                  <a:off x="1540800" y="3297960"/>
                  <a:ext cx="73800" cy="5832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rot="3344400">
                  <a:off x="1577880" y="3347280"/>
                  <a:ext cx="79200" cy="648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4" name=""/>
          <p:cNvGrpSpPr/>
          <p:nvPr/>
        </p:nvGrpSpPr>
        <p:grpSpPr>
          <a:xfrm>
            <a:off x="2838240" y="3195360"/>
            <a:ext cx="1280880" cy="961560"/>
            <a:chOff x="2838240" y="3195360"/>
            <a:chExt cx="1280880" cy="961560"/>
          </a:xfrm>
        </p:grpSpPr>
        <p:sp>
          <p:nvSpPr>
            <p:cNvPr id="165" name=""/>
            <p:cNvSpPr/>
            <p:nvPr/>
          </p:nvSpPr>
          <p:spPr>
            <a:xfrm flipH="1" rot="18020400">
              <a:off x="3286440" y="3338280"/>
              <a:ext cx="718920" cy="67536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8020400">
              <a:off x="3310560" y="3513960"/>
              <a:ext cx="418680" cy="41904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rot="18020400">
              <a:off x="3814920" y="3831840"/>
              <a:ext cx="5076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2838240" y="3226320"/>
              <a:ext cx="748800" cy="506160"/>
              <a:chOff x="2838240" y="3226320"/>
              <a:chExt cx="748800" cy="506160"/>
            </a:xfrm>
          </p:grpSpPr>
          <p:sp>
            <p:nvSpPr>
              <p:cNvPr id="169" name=""/>
              <p:cNvSpPr/>
              <p:nvPr/>
            </p:nvSpPr>
            <p:spPr>
              <a:xfrm rot="18020400">
                <a:off x="3299400" y="3237120"/>
                <a:ext cx="203400" cy="311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2838240" y="3234960"/>
                <a:ext cx="622440" cy="497520"/>
                <a:chOff x="2838240" y="3234960"/>
                <a:chExt cx="622440" cy="497520"/>
              </a:xfrm>
            </p:grpSpPr>
            <p:grpSp>
              <p:nvGrpSpPr>
                <p:cNvPr id="171" name=""/>
                <p:cNvGrpSpPr/>
                <p:nvPr/>
              </p:nvGrpSpPr>
              <p:grpSpPr>
                <a:xfrm>
                  <a:off x="2838240" y="3234960"/>
                  <a:ext cx="622440" cy="497520"/>
                  <a:chOff x="2838240" y="3234960"/>
                  <a:chExt cx="622440" cy="4975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19818000">
                    <a:off x="2832120" y="3365280"/>
                    <a:ext cx="56052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19818000">
                    <a:off x="2884680" y="3435840"/>
                    <a:ext cx="5727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 rot="19818000">
                  <a:off x="3291480" y="3356640"/>
                  <a:ext cx="57240" cy="1166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19818000">
                  <a:off x="3222360" y="3395880"/>
                  <a:ext cx="57240" cy="1166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19818000">
                  <a:off x="3151800" y="3454200"/>
                  <a:ext cx="47160" cy="7452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9818000">
                  <a:off x="3156480" y="3349440"/>
                  <a:ext cx="73800" cy="5832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19818000">
                  <a:off x="3209760" y="3310200"/>
                  <a:ext cx="79200" cy="648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9" name=""/>
          <p:cNvGrpSpPr/>
          <p:nvPr/>
        </p:nvGrpSpPr>
        <p:grpSpPr>
          <a:xfrm>
            <a:off x="3578040" y="3142800"/>
            <a:ext cx="1248840" cy="961560"/>
            <a:chOff x="3578040" y="3142800"/>
            <a:chExt cx="1248840" cy="961560"/>
          </a:xfrm>
        </p:grpSpPr>
        <p:sp>
          <p:nvSpPr>
            <p:cNvPr id="180" name=""/>
            <p:cNvSpPr/>
            <p:nvPr/>
          </p:nvSpPr>
          <p:spPr>
            <a:xfrm rot="3018600">
              <a:off x="3713760" y="3287520"/>
              <a:ext cx="685800" cy="67500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rot="3018600">
              <a:off x="3987360" y="3438360"/>
              <a:ext cx="399240" cy="41940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3018600">
              <a:off x="3866040" y="3804120"/>
              <a:ext cx="4860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4073040" y="3142800"/>
              <a:ext cx="753840" cy="426960"/>
              <a:chOff x="4073040" y="3142800"/>
              <a:chExt cx="753840" cy="426960"/>
            </a:xfrm>
          </p:grpSpPr>
          <p:sp>
            <p:nvSpPr>
              <p:cNvPr id="184" name=""/>
              <p:cNvSpPr/>
              <p:nvPr/>
            </p:nvSpPr>
            <p:spPr>
              <a:xfrm flipH="1" rot="3018600">
                <a:off x="4157640" y="3161160"/>
                <a:ext cx="194400" cy="311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4205880" y="3148560"/>
                <a:ext cx="621000" cy="421200"/>
                <a:chOff x="4205880" y="3148560"/>
                <a:chExt cx="621000" cy="42120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4205880" y="3148560"/>
                  <a:ext cx="621000" cy="421200"/>
                  <a:chOff x="4205880" y="3148560"/>
                  <a:chExt cx="621000" cy="42120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1221600">
                    <a:off x="4262760" y="3242160"/>
                    <a:ext cx="56052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1221600">
                    <a:off x="4215240" y="3317040"/>
                    <a:ext cx="573120" cy="1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9" name=""/>
                <p:cNvSpPr/>
                <p:nvPr/>
              </p:nvSpPr>
              <p:spPr>
                <a:xfrm flipH="1" rot="1221600">
                  <a:off x="4309200" y="3263040"/>
                  <a:ext cx="57240" cy="1112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 rot="1221600">
                  <a:off x="4383360" y="3290400"/>
                  <a:ext cx="57240" cy="1112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 rot="1221600">
                  <a:off x="4469040" y="3335400"/>
                  <a:ext cx="47160" cy="7128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 rot="1221600">
                  <a:off x="4418280" y="3238200"/>
                  <a:ext cx="73800" cy="5580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rot="1221600">
                  <a:off x="4354200" y="3209400"/>
                  <a:ext cx="79200" cy="6228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4" name=""/>
          <p:cNvSpPr txBox="1"/>
          <p:nvPr/>
        </p:nvSpPr>
        <p:spPr>
          <a:xfrm rot="5400000">
            <a:off x="4823640" y="3393360"/>
            <a:ext cx="5745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599800" y="2910600"/>
            <a:ext cx="941400" cy="1278360"/>
            <a:chOff x="5599800" y="2910600"/>
            <a:chExt cx="941400" cy="1278360"/>
          </a:xfrm>
        </p:grpSpPr>
        <p:sp>
          <p:nvSpPr>
            <p:cNvPr id="196" name=""/>
            <p:cNvSpPr/>
            <p:nvPr/>
          </p:nvSpPr>
          <p:spPr>
            <a:xfrm flipH="1" rot="1546800">
              <a:off x="5710320" y="3390480"/>
              <a:ext cx="719280" cy="67500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546800">
              <a:off x="5802840" y="3397320"/>
              <a:ext cx="419040" cy="41904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rot="1546800">
              <a:off x="5890320" y="3921840"/>
              <a:ext cx="5076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5960520" y="2910600"/>
              <a:ext cx="532080" cy="736560"/>
              <a:chOff x="5960520" y="2910600"/>
              <a:chExt cx="532080" cy="736560"/>
            </a:xfrm>
          </p:grpSpPr>
          <p:sp>
            <p:nvSpPr>
              <p:cNvPr id="200" name=""/>
              <p:cNvSpPr/>
              <p:nvPr/>
            </p:nvSpPr>
            <p:spPr>
              <a:xfrm rot="1546800">
                <a:off x="6230880" y="3306960"/>
                <a:ext cx="203760" cy="311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5960520" y="2910600"/>
                <a:ext cx="524520" cy="615600"/>
                <a:chOff x="5960520" y="2910600"/>
                <a:chExt cx="524520" cy="61560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5960520" y="2910600"/>
                  <a:ext cx="524520" cy="615600"/>
                  <a:chOff x="5960520" y="2910600"/>
                  <a:chExt cx="524520" cy="6156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rot="3344400">
                    <a:off x="5995080" y="3114720"/>
                    <a:ext cx="56052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3344400">
                    <a:off x="5903280" y="3160440"/>
                    <a:ext cx="5727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5" name=""/>
                <p:cNvSpPr/>
                <p:nvPr/>
              </p:nvSpPr>
              <p:spPr>
                <a:xfrm rot="3344400">
                  <a:off x="6275880" y="3324600"/>
                  <a:ext cx="57240" cy="1170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3344400">
                  <a:off x="6231240" y="3259080"/>
                  <a:ext cx="57240" cy="1170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3344400">
                  <a:off x="6193080" y="3207960"/>
                  <a:ext cx="47160" cy="7452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3344400">
                  <a:off x="6294240" y="3225240"/>
                  <a:ext cx="73800" cy="5832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3344400">
                  <a:off x="6331320" y="3274200"/>
                  <a:ext cx="79200" cy="648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0" name=""/>
          <p:cNvGrpSpPr/>
          <p:nvPr/>
        </p:nvGrpSpPr>
        <p:grpSpPr>
          <a:xfrm>
            <a:off x="6031800" y="2983680"/>
            <a:ext cx="941400" cy="1278360"/>
            <a:chOff x="6031800" y="2983680"/>
            <a:chExt cx="941400" cy="1278360"/>
          </a:xfrm>
        </p:grpSpPr>
        <p:sp>
          <p:nvSpPr>
            <p:cNvPr id="211" name=""/>
            <p:cNvSpPr/>
            <p:nvPr/>
          </p:nvSpPr>
          <p:spPr>
            <a:xfrm flipH="1" rot="1546800">
              <a:off x="6142320" y="3463560"/>
              <a:ext cx="719280" cy="67500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546800">
              <a:off x="6234840" y="3470400"/>
              <a:ext cx="419040" cy="41904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rot="1546800">
              <a:off x="6322320" y="3994920"/>
              <a:ext cx="5076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92520" y="2983680"/>
              <a:ext cx="532080" cy="736560"/>
              <a:chOff x="6392520" y="2983680"/>
              <a:chExt cx="532080" cy="736560"/>
            </a:xfrm>
          </p:grpSpPr>
          <p:sp>
            <p:nvSpPr>
              <p:cNvPr id="215" name=""/>
              <p:cNvSpPr/>
              <p:nvPr/>
            </p:nvSpPr>
            <p:spPr>
              <a:xfrm rot="1546800">
                <a:off x="6662880" y="3380040"/>
                <a:ext cx="203760" cy="311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6392520" y="2983680"/>
                <a:ext cx="524520" cy="615600"/>
                <a:chOff x="6392520" y="2983680"/>
                <a:chExt cx="524520" cy="615600"/>
              </a:xfrm>
            </p:grpSpPr>
            <p:grpSp>
              <p:nvGrpSpPr>
                <p:cNvPr id="217" name=""/>
                <p:cNvGrpSpPr/>
                <p:nvPr/>
              </p:nvGrpSpPr>
              <p:grpSpPr>
                <a:xfrm>
                  <a:off x="6392520" y="2983680"/>
                  <a:ext cx="524520" cy="615600"/>
                  <a:chOff x="6392520" y="2983680"/>
                  <a:chExt cx="524520" cy="61560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3344400">
                    <a:off x="6427080" y="3187800"/>
                    <a:ext cx="56052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3344400">
                    <a:off x="6335280" y="3233520"/>
                    <a:ext cx="5727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0" name=""/>
                <p:cNvSpPr/>
                <p:nvPr/>
              </p:nvSpPr>
              <p:spPr>
                <a:xfrm rot="3344400">
                  <a:off x="6707880" y="3397680"/>
                  <a:ext cx="57240" cy="1170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3344400">
                  <a:off x="6663240" y="3332160"/>
                  <a:ext cx="57240" cy="11700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3344400">
                  <a:off x="6625080" y="3281040"/>
                  <a:ext cx="47160" cy="7452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3344400">
                  <a:off x="6726240" y="3298320"/>
                  <a:ext cx="73800" cy="5832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rot="3344400">
                  <a:off x="6763320" y="3347280"/>
                  <a:ext cx="79200" cy="648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5" name=""/>
          <p:cNvGrpSpPr/>
          <p:nvPr/>
        </p:nvGrpSpPr>
        <p:grpSpPr>
          <a:xfrm>
            <a:off x="606240" y="4419360"/>
            <a:ext cx="1280880" cy="961560"/>
            <a:chOff x="606240" y="4419360"/>
            <a:chExt cx="1280880" cy="961560"/>
          </a:xfrm>
        </p:grpSpPr>
        <p:sp>
          <p:nvSpPr>
            <p:cNvPr id="226" name=""/>
            <p:cNvSpPr/>
            <p:nvPr/>
          </p:nvSpPr>
          <p:spPr>
            <a:xfrm flipH="1" rot="18020400">
              <a:off x="1054440" y="4562280"/>
              <a:ext cx="718920" cy="67536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8020400">
              <a:off x="1078560" y="4737960"/>
              <a:ext cx="418680" cy="41904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rot="18020400">
              <a:off x="1582920" y="5055840"/>
              <a:ext cx="5076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606240" y="4450320"/>
              <a:ext cx="748800" cy="506160"/>
              <a:chOff x="606240" y="4450320"/>
              <a:chExt cx="748800" cy="506160"/>
            </a:xfrm>
          </p:grpSpPr>
          <p:sp>
            <p:nvSpPr>
              <p:cNvPr id="230" name=""/>
              <p:cNvSpPr/>
              <p:nvPr/>
            </p:nvSpPr>
            <p:spPr>
              <a:xfrm rot="18020400">
                <a:off x="1067400" y="4461120"/>
                <a:ext cx="203400" cy="31140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606240" y="4458960"/>
                <a:ext cx="622440" cy="497520"/>
                <a:chOff x="606240" y="4458960"/>
                <a:chExt cx="622440" cy="49752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606240" y="4458960"/>
                  <a:ext cx="622440" cy="497520"/>
                  <a:chOff x="606240" y="4458960"/>
                  <a:chExt cx="622440" cy="49752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19818000">
                    <a:off x="600120" y="4589280"/>
                    <a:ext cx="56052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19818000">
                    <a:off x="652680" y="4659840"/>
                    <a:ext cx="5727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5" name=""/>
                <p:cNvSpPr/>
                <p:nvPr/>
              </p:nvSpPr>
              <p:spPr>
                <a:xfrm rot="19818000">
                  <a:off x="1059480" y="4580640"/>
                  <a:ext cx="57240" cy="1166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19818000">
                  <a:off x="990360" y="4619880"/>
                  <a:ext cx="57240" cy="1166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rot="19818000">
                  <a:off x="919800" y="4678200"/>
                  <a:ext cx="47160" cy="7452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19818000">
                  <a:off x="924480" y="4573440"/>
                  <a:ext cx="73800" cy="5832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19818000">
                  <a:off x="977760" y="4534200"/>
                  <a:ext cx="79200" cy="6480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0" name=""/>
          <p:cNvGrpSpPr/>
          <p:nvPr/>
        </p:nvGrpSpPr>
        <p:grpSpPr>
          <a:xfrm>
            <a:off x="1417320" y="4438440"/>
            <a:ext cx="1248840" cy="961560"/>
            <a:chOff x="1417320" y="4438440"/>
            <a:chExt cx="1248840" cy="961560"/>
          </a:xfrm>
        </p:grpSpPr>
        <p:sp>
          <p:nvSpPr>
            <p:cNvPr id="241" name=""/>
            <p:cNvSpPr/>
            <p:nvPr/>
          </p:nvSpPr>
          <p:spPr>
            <a:xfrm rot="3018600">
              <a:off x="1553040" y="4583160"/>
              <a:ext cx="685800" cy="675000"/>
            </a:xfrm>
            <a:custGeom>
              <a:avLst/>
              <a:gdLst/>
              <a:ahLst/>
              <a:rect l="l" t="t" r="r" b="b"/>
              <a:pathLst>
                <a:path w="508" h="416">
                  <a:moveTo>
                    <a:pt x="17" y="112"/>
                  </a:moveTo>
                  <a:cubicBezTo>
                    <a:pt x="5" y="153"/>
                    <a:pt x="0" y="217"/>
                    <a:pt x="35" y="265"/>
                  </a:cubicBezTo>
                  <a:cubicBezTo>
                    <a:pt x="70" y="313"/>
                    <a:pt x="184" y="384"/>
                    <a:pt x="227" y="400"/>
                  </a:cubicBezTo>
                  <a:cubicBezTo>
                    <a:pt x="270" y="416"/>
                    <a:pt x="264" y="368"/>
                    <a:pt x="293" y="361"/>
                  </a:cubicBezTo>
                  <a:cubicBezTo>
                    <a:pt x="322" y="354"/>
                    <a:pt x="368" y="395"/>
                    <a:pt x="404" y="358"/>
                  </a:cubicBezTo>
                  <a:cubicBezTo>
                    <a:pt x="440" y="321"/>
                    <a:pt x="508" y="196"/>
                    <a:pt x="508" y="140"/>
                  </a:cubicBezTo>
                  <a:cubicBezTo>
                    <a:pt x="508" y="84"/>
                    <a:pt x="445" y="44"/>
                    <a:pt x="407" y="22"/>
                  </a:cubicBezTo>
                  <a:cubicBezTo>
                    <a:pt x="369" y="0"/>
                    <a:pt x="314" y="7"/>
                    <a:pt x="281" y="10"/>
                  </a:cubicBezTo>
                  <a:cubicBezTo>
                    <a:pt x="248" y="13"/>
                    <a:pt x="234" y="42"/>
                    <a:pt x="206" y="43"/>
                  </a:cubicBezTo>
                  <a:cubicBezTo>
                    <a:pt x="178" y="44"/>
                    <a:pt x="142" y="7"/>
                    <a:pt x="110" y="19"/>
                  </a:cubicBezTo>
                  <a:cubicBezTo>
                    <a:pt x="78" y="31"/>
                    <a:pt x="31" y="70"/>
                    <a:pt x="17" y="112"/>
                  </a:cubicBez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rot="3018600">
              <a:off x="1826640" y="4734000"/>
              <a:ext cx="399240" cy="419400"/>
            </a:xfrm>
            <a:custGeom>
              <a:avLst/>
              <a:gdLst/>
              <a:ahLst/>
              <a:rect l="l" t="t" r="r" b="b"/>
              <a:pathLst>
                <a:path w="288" h="218">
                  <a:moveTo>
                    <a:pt x="188" y="41"/>
                  </a:moveTo>
                  <a:cubicBezTo>
                    <a:pt x="148" y="20"/>
                    <a:pt x="75" y="0"/>
                    <a:pt x="44" y="9"/>
                  </a:cubicBezTo>
                  <a:cubicBezTo>
                    <a:pt x="13" y="18"/>
                    <a:pt x="0" y="66"/>
                    <a:pt x="4" y="97"/>
                  </a:cubicBezTo>
                  <a:cubicBezTo>
                    <a:pt x="8" y="128"/>
                    <a:pt x="27" y="174"/>
                    <a:pt x="68" y="193"/>
                  </a:cubicBezTo>
                  <a:cubicBezTo>
                    <a:pt x="109" y="212"/>
                    <a:pt x="216" y="218"/>
                    <a:pt x="252" y="209"/>
                  </a:cubicBezTo>
                  <a:cubicBezTo>
                    <a:pt x="288" y="200"/>
                    <a:pt x="288" y="162"/>
                    <a:pt x="284" y="137"/>
                  </a:cubicBezTo>
                  <a:cubicBezTo>
                    <a:pt x="280" y="112"/>
                    <a:pt x="228" y="62"/>
                    <a:pt x="188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3018600">
              <a:off x="1705320" y="5099760"/>
              <a:ext cx="4860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9"/>
                  </a:moveTo>
                  <a:lnTo>
                    <a:pt x="21" y="18"/>
                  </a:lnTo>
                  <a:lnTo>
                    <a:pt x="3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1912320" y="4438440"/>
              <a:ext cx="753840" cy="426960"/>
              <a:chOff x="1912320" y="4438440"/>
              <a:chExt cx="753840" cy="426960"/>
            </a:xfrm>
          </p:grpSpPr>
          <p:sp>
            <p:nvSpPr>
              <p:cNvPr id="245" name=""/>
              <p:cNvSpPr/>
              <p:nvPr/>
            </p:nvSpPr>
            <p:spPr>
              <a:xfrm flipH="1" rot="3018600">
                <a:off x="1996920" y="4456800"/>
                <a:ext cx="194400" cy="311760"/>
              </a:xfrm>
              <a:custGeom>
                <a:avLst/>
                <a:gdLst/>
                <a:ahLst/>
                <a:rect l="l" t="t" r="r" b="b"/>
                <a:pathLst>
                  <a:path w="144" h="192">
                    <a:moveTo>
                      <a:pt x="0" y="192"/>
                    </a:moveTo>
                    <a:cubicBezTo>
                      <a:pt x="12" y="136"/>
                      <a:pt x="24" y="80"/>
                      <a:pt x="48" y="48"/>
                    </a:cubicBezTo>
                    <a:cubicBezTo>
                      <a:pt x="72" y="16"/>
                      <a:pt x="108" y="8"/>
                      <a:pt x="144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2045160" y="4444200"/>
                <a:ext cx="621000" cy="421200"/>
                <a:chOff x="2045160" y="4444200"/>
                <a:chExt cx="621000" cy="42120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2045160" y="4444200"/>
                  <a:ext cx="621000" cy="421200"/>
                  <a:chOff x="2045160" y="4444200"/>
                  <a:chExt cx="621000" cy="4212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flipH="1" rot="1221600">
                    <a:off x="2102040" y="4537800"/>
                    <a:ext cx="56052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48" h="308">
                        <a:moveTo>
                          <a:pt x="848" y="300"/>
                        </a:moveTo>
                        <a:cubicBezTo>
                          <a:pt x="824" y="263"/>
                          <a:pt x="749" y="125"/>
                          <a:pt x="704" y="76"/>
                        </a:cubicBezTo>
                        <a:cubicBezTo>
                          <a:pt x="659" y="27"/>
                          <a:pt x="631" y="8"/>
                          <a:pt x="576" y="4"/>
                        </a:cubicBezTo>
                        <a:cubicBezTo>
                          <a:pt x="521" y="0"/>
                          <a:pt x="472" y="1"/>
                          <a:pt x="376" y="52"/>
                        </a:cubicBezTo>
                        <a:cubicBezTo>
                          <a:pt x="280" y="103"/>
                          <a:pt x="78" y="255"/>
                          <a:pt x="0" y="308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 rot="1221600">
                    <a:off x="2054520" y="4612680"/>
                    <a:ext cx="573120" cy="1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07">
                        <a:moveTo>
                          <a:pt x="0" y="92"/>
                        </a:moveTo>
                        <a:cubicBezTo>
                          <a:pt x="206" y="222"/>
                          <a:pt x="413" y="353"/>
                          <a:pt x="552" y="380"/>
                        </a:cubicBezTo>
                        <a:cubicBezTo>
                          <a:pt x="691" y="407"/>
                          <a:pt x="797" y="311"/>
                          <a:pt x="832" y="252"/>
                        </a:cubicBezTo>
                        <a:cubicBezTo>
                          <a:pt x="867" y="193"/>
                          <a:pt x="860" y="56"/>
                          <a:pt x="760" y="28"/>
                        </a:cubicBezTo>
                        <a:cubicBezTo>
                          <a:pt x="660" y="0"/>
                          <a:pt x="446" y="42"/>
                          <a:pt x="232" y="84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66ff66"/>
                      </a:gs>
                      <a:gs pos="100000">
                        <a:srgbClr val="008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0" name=""/>
                <p:cNvSpPr/>
                <p:nvPr/>
              </p:nvSpPr>
              <p:spPr>
                <a:xfrm flipH="1" rot="1221600">
                  <a:off x="2148480" y="4558680"/>
                  <a:ext cx="57240" cy="1112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 rot="1221600">
                  <a:off x="2222640" y="4586040"/>
                  <a:ext cx="57240" cy="111240"/>
                </a:xfrm>
                <a:custGeom>
                  <a:avLst/>
                  <a:gdLst/>
                  <a:ahLst/>
                  <a:rect l="l" t="t" r="r" b="b"/>
                  <a:pathLst>
                    <a:path w="87" h="288">
                      <a:moveTo>
                        <a:pt x="40" y="0"/>
                      </a:moveTo>
                      <a:cubicBezTo>
                        <a:pt x="63" y="56"/>
                        <a:pt x="87" y="112"/>
                        <a:pt x="80" y="160"/>
                      </a:cubicBezTo>
                      <a:cubicBezTo>
                        <a:pt x="73" y="208"/>
                        <a:pt x="36" y="248"/>
                        <a:pt x="0" y="288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rot="1221600">
                  <a:off x="2308320" y="4631040"/>
                  <a:ext cx="47160" cy="71280"/>
                </a:xfrm>
                <a:custGeom>
                  <a:avLst/>
                  <a:gdLst/>
                  <a:ahLst/>
                  <a:rect l="l" t="t" r="r" b="b"/>
                  <a:pathLst>
                    <a:path w="72" h="184">
                      <a:moveTo>
                        <a:pt x="48" y="0"/>
                      </a:moveTo>
                      <a:cubicBezTo>
                        <a:pt x="51" y="17"/>
                        <a:pt x="72" y="89"/>
                        <a:pt x="64" y="120"/>
                      </a:cubicBezTo>
                      <a:cubicBezTo>
                        <a:pt x="56" y="151"/>
                        <a:pt x="13" y="171"/>
                        <a:pt x="0" y="18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 rot="1221600">
                  <a:off x="2257560" y="4533840"/>
                  <a:ext cx="73800" cy="55800"/>
                </a:xfrm>
                <a:custGeom>
                  <a:avLst/>
                  <a:gdLst/>
                  <a:ahLst/>
                  <a:rect l="l" t="t" r="r" b="b"/>
                  <a:pathLst>
                    <a:path w="112" h="144">
                      <a:moveTo>
                        <a:pt x="0" y="0"/>
                      </a:moveTo>
                      <a:cubicBezTo>
                        <a:pt x="9" y="8"/>
                        <a:pt x="37" y="24"/>
                        <a:pt x="56" y="48"/>
                      </a:cubicBezTo>
                      <a:cubicBezTo>
                        <a:pt x="75" y="72"/>
                        <a:pt x="100" y="124"/>
                        <a:pt x="112" y="144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 rot="1221600">
                  <a:off x="2193480" y="4505040"/>
                  <a:ext cx="79200" cy="62280"/>
                </a:xfrm>
                <a:custGeom>
                  <a:avLst/>
                  <a:gdLst/>
                  <a:ahLst/>
                  <a:rect l="l" t="t" r="r" b="b"/>
                  <a:pathLst>
                    <a:path w="120" h="160">
                      <a:moveTo>
                        <a:pt x="0" y="0"/>
                      </a:moveTo>
                      <a:cubicBezTo>
                        <a:pt x="12" y="12"/>
                        <a:pt x="52" y="45"/>
                        <a:pt x="72" y="72"/>
                      </a:cubicBezTo>
                      <a:cubicBezTo>
                        <a:pt x="92" y="99"/>
                        <a:pt x="110" y="142"/>
                        <a:pt x="120" y="160"/>
                      </a:cubicBezTo>
                    </a:path>
                  </a:pathLst>
                </a:cu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5" name=""/>
          <p:cNvSpPr txBox="1"/>
          <p:nvPr/>
        </p:nvSpPr>
        <p:spPr>
          <a:xfrm>
            <a:off x="2700360" y="4797360"/>
            <a:ext cx="21600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132000" y="4508640"/>
            <a:ext cx="7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300720" y="3284640"/>
            <a:ext cx="2509920" cy="3384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300720" y="3284640"/>
            <a:ext cx="25099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Умножить число </a:t>
            </a: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на число </a:t>
            </a:r>
            <a:r>
              <a:rPr b="1" i="1" lang="en-US" sz="3200" spc="-1" strike="noStrike">
                <a:solidFill>
                  <a:srgbClr val="feec94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– это значит найти сумму </a:t>
            </a:r>
            <a:r>
              <a:rPr b="1" i="1" lang="en-US" sz="3200" spc="-1" strike="noStrike">
                <a:solidFill>
                  <a:srgbClr val="feec94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слагаемых, каждое из которых равно </a:t>
            </a:r>
            <a:r>
              <a:rPr b="1" i="1" lang="ru-RU" sz="3200" spc="-1" strike="noStrike">
                <a:solidFill>
                  <a:srgbClr val="feec94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4351320" y="3434040"/>
            <a:ext cx="441360" cy="2590560"/>
          </a:xfrm>
          <a:custGeom>
            <a:avLst/>
            <a:gdLst>
              <a:gd name="textAreaLeft" fmla="*/ 281880 w 441360"/>
              <a:gd name="textAreaRight" fmla="*/ 441720 w 44136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284720" y="5157720"/>
            <a:ext cx="863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b </a:t>
            </a:r>
            <a:endParaRPr b="1" i="1" lang="en-US" sz="3200" spc="1" strike="noStrike">
              <a:ln w="19080">
                <a:solidFill>
                  <a:srgbClr val="ffcc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332000" y="3860640"/>
            <a:ext cx="5473440" cy="649080"/>
            <a:chOff x="1332000" y="3860640"/>
            <a:chExt cx="5473440" cy="649080"/>
          </a:xfrm>
        </p:grpSpPr>
        <p:sp>
          <p:nvSpPr>
            <p:cNvPr id="264" name=""/>
            <p:cNvSpPr txBox="1"/>
            <p:nvPr/>
          </p:nvSpPr>
          <p:spPr>
            <a:xfrm>
              <a:off x="1332000" y="3860640"/>
              <a:ext cx="5473440" cy="64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а   b = a + a + ...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52720" y="4292280"/>
              <a:ext cx="73080" cy="856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516720" y="3284640"/>
            <a:ext cx="26272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4149720"/>
            <a:ext cx="5473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5 + 35 + 35 + 35 =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508720" y="4149720"/>
            <a:ext cx="2158920" cy="738000"/>
            <a:chOff x="5508720" y="4149720"/>
            <a:chExt cx="2158920" cy="738000"/>
          </a:xfrm>
        </p:grpSpPr>
        <p:sp>
          <p:nvSpPr>
            <p:cNvPr id="270" name=""/>
            <p:cNvSpPr/>
            <p:nvPr/>
          </p:nvSpPr>
          <p:spPr>
            <a:xfrm>
              <a:off x="5508720" y="4168440"/>
              <a:ext cx="215892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5683320" y="4149720"/>
                  <a:ext cx="173664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t xml:space="preserve">⋅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2" name=""/>
          <p:cNvSpPr txBox="1"/>
          <p:nvPr/>
        </p:nvSpPr>
        <p:spPr>
          <a:xfrm>
            <a:off x="0" y="2421000"/>
            <a:ext cx="5473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х + х + х + х + х =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580000" y="2276640"/>
            <a:ext cx="2158920" cy="738000"/>
            <a:chOff x="5580000" y="2276640"/>
            <a:chExt cx="2158920" cy="738000"/>
          </a:xfrm>
        </p:grpSpPr>
        <p:sp>
          <p:nvSpPr>
            <p:cNvPr id="274" name=""/>
            <p:cNvSpPr/>
            <p:nvPr/>
          </p:nvSpPr>
          <p:spPr>
            <a:xfrm>
              <a:off x="5580000" y="2295360"/>
              <a:ext cx="215892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5946480" y="2276640"/>
                  <a:ext cx="135108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⋅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6" name=""/>
          <p:cNvSpPr txBox="1"/>
          <p:nvPr/>
        </p:nvSpPr>
        <p:spPr>
          <a:xfrm>
            <a:off x="0" y="3284640"/>
            <a:ext cx="504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05 + 105 + 105 =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148360" y="3284640"/>
            <a:ext cx="2158920" cy="738000"/>
            <a:chOff x="5148360" y="3284640"/>
            <a:chExt cx="2158920" cy="738000"/>
          </a:xfrm>
        </p:grpSpPr>
        <p:sp>
          <p:nvSpPr>
            <p:cNvPr id="278" name=""/>
            <p:cNvSpPr/>
            <p:nvPr/>
          </p:nvSpPr>
          <p:spPr>
            <a:xfrm>
              <a:off x="5148360" y="3303360"/>
              <a:ext cx="215892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5194440" y="3284640"/>
                  <a:ext cx="1993680" cy="70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5</m:t>
                      </m:r>
                      <m:r>
                        <m:t xml:space="preserve">⋅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0" name=""/>
          <p:cNvSpPr txBox="1"/>
          <p:nvPr/>
        </p:nvSpPr>
        <p:spPr>
          <a:xfrm>
            <a:off x="179280" y="1557360"/>
            <a:ext cx="45388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(c+d) + (c+d)=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716360" y="1413000"/>
            <a:ext cx="3022560" cy="803160"/>
            <a:chOff x="4716360" y="1413000"/>
            <a:chExt cx="3022560" cy="803160"/>
          </a:xfrm>
        </p:grpSpPr>
        <p:sp>
          <p:nvSpPr>
            <p:cNvPr id="282" name=""/>
            <p:cNvSpPr/>
            <p:nvPr/>
          </p:nvSpPr>
          <p:spPr>
            <a:xfrm>
              <a:off x="4751280" y="1431720"/>
              <a:ext cx="298764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4716360" y="1413000"/>
                  <a:ext cx="302256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с</m:t>
                      </m:r>
                      <m:r>
                        <m:t xml:space="preserve">+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Представь сумму в виде произведения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210440" y="3716280"/>
            <a:ext cx="19335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При умножении любого числа на единицу всегда получаем это числ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124000" y="3357720"/>
            <a:ext cx="5040360" cy="1223640"/>
            <a:chOff x="2124000" y="3357720"/>
            <a:chExt cx="5040360" cy="1223640"/>
          </a:xfrm>
        </p:grpSpPr>
        <p:sp>
          <p:nvSpPr>
            <p:cNvPr id="289" name=""/>
            <p:cNvSpPr/>
            <p:nvPr/>
          </p:nvSpPr>
          <p:spPr>
            <a:xfrm>
              <a:off x="3419640" y="4005000"/>
              <a:ext cx="142920" cy="144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2124000" y="3357720"/>
              <a:ext cx="5040360" cy="12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cc99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a   1 = а</a:t>
              </a:r>
              <a:endParaRPr b="1" i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ри умножении любого числа на ноль будет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39640" y="2565360"/>
            <a:ext cx="5473800" cy="576000"/>
            <a:chOff x="539640" y="2565360"/>
            <a:chExt cx="5473800" cy="576000"/>
          </a:xfrm>
        </p:grpSpPr>
        <p:sp>
          <p:nvSpPr>
            <p:cNvPr id="293" name=""/>
            <p:cNvSpPr txBox="1"/>
            <p:nvPr/>
          </p:nvSpPr>
          <p:spPr>
            <a:xfrm>
              <a:off x="539640" y="2565360"/>
              <a:ext cx="547380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cc99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a   0   b   a   0 =</a:t>
              </a:r>
              <a:endParaRPr b="1" i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60360" y="285408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39640" y="285408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20720" y="285408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73440" y="285408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39640" y="4149720"/>
            <a:ext cx="4392360" cy="649440"/>
            <a:chOff x="539640" y="4149720"/>
            <a:chExt cx="4392360" cy="649440"/>
          </a:xfrm>
        </p:grpSpPr>
        <p:sp>
          <p:nvSpPr>
            <p:cNvPr id="299" name=""/>
            <p:cNvSpPr/>
            <p:nvPr/>
          </p:nvSpPr>
          <p:spPr>
            <a:xfrm>
              <a:off x="3420720" y="443880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539640" y="4149720"/>
              <a:ext cx="4392360" cy="649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cc99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0   b   b   0 =</a:t>
              </a:r>
              <a:endParaRPr b="1" i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39640" y="443880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87280" y="443880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187280" y="5516640"/>
            <a:ext cx="2592360" cy="576360"/>
            <a:chOff x="1187280" y="5516640"/>
            <a:chExt cx="2592360" cy="576360"/>
          </a:xfrm>
        </p:grpSpPr>
        <p:sp>
          <p:nvSpPr>
            <p:cNvPr id="304" name=""/>
            <p:cNvSpPr/>
            <p:nvPr/>
          </p:nvSpPr>
          <p:spPr>
            <a:xfrm>
              <a:off x="1979640" y="580392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1187280" y="5516640"/>
              <a:ext cx="259236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cc99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a   0 = </a:t>
              </a:r>
              <a:endParaRPr b="1" i="1" lang="en-US" sz="32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5435640" y="1628640"/>
            <a:ext cx="3708360" cy="4896000"/>
          </a:xfrm>
          <a:custGeom>
            <a:avLst/>
            <a:gdLst>
              <a:gd name="textAreaLeft" fmla="*/ 846360 w 3708360"/>
              <a:gd name="textAreaRight" fmla="*/ 2862000 w 3708360"/>
              <a:gd name="textAreaTop" fmla="*/ 1117440 h 4896000"/>
              <a:gd name="textAreaBottom" fmla="*/ 377856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ed2f2"/>
              </a:gs>
            </a:gsLst>
            <a:path path="rect">
              <a:fillToRect l="50000" t="50000" r="50000" b="50000"/>
            </a:path>
          </a:gradFill>
          <a:ln w="414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6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16720" y="836640"/>
            <a:ext cx="1440000" cy="12650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265040"/>
              <a:gd name="textAreaBottom" fmla="*/ 1265400 h 12650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78080" y="226080"/>
            <a:ext cx="7486920" cy="933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Реши задачу, составляя выражение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95280" y="3068640"/>
            <a:ext cx="2158920" cy="35226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635280" y="1735200"/>
            <a:ext cx="54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В нашей школе 125 девоче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которых мальчишки дёргают за косички в среднем 3 раза в день кажду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66"/>
                </a:solidFill>
                <a:latin typeface="Times New Roman"/>
              </a:rPr>
              <a:t>             </a:t>
            </a:r>
            <a:r>
              <a:rPr b="1" i="1" lang="en-US" sz="2000" spc="-1" strike="noStrike" u="sng">
                <a:solidFill>
                  <a:srgbClr val="66ff66"/>
                </a:solidFill>
                <a:uFillTx/>
                <a:latin typeface="Times New Roman"/>
              </a:rPr>
              <a:t>Сколько раз были дёрнуты косички з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66ff66"/>
                </a:solidFill>
                <a:uFillTx/>
                <a:latin typeface="Times New Roman"/>
              </a:rPr>
              <a:t>             </a:t>
            </a:r>
            <a:r>
              <a:rPr b="1" i="1" lang="en-US" sz="2000" spc="-1" strike="noStrike" u="sng">
                <a:solidFill>
                  <a:srgbClr val="66ff66"/>
                </a:solidFill>
                <a:uFillTx/>
                <a:latin typeface="Times New Roman"/>
              </a:rPr>
              <a:t>сентябрь у всех девочек</a:t>
            </a:r>
            <a:r>
              <a:rPr b="1" i="1" lang="en-US" sz="1800" spc="-1" strike="noStrike" u="sng">
                <a:solidFill>
                  <a:srgbClr val="66ff66"/>
                </a:solidFill>
                <a:uFillTx/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284720" y="3754800"/>
            <a:ext cx="4532400" cy="2939760"/>
            <a:chOff x="4284720" y="3754800"/>
            <a:chExt cx="4532400" cy="2939760"/>
          </a:xfrm>
        </p:grpSpPr>
        <p:grpSp>
          <p:nvGrpSpPr>
            <p:cNvPr id="312" name=""/>
            <p:cNvGrpSpPr/>
            <p:nvPr/>
          </p:nvGrpSpPr>
          <p:grpSpPr>
            <a:xfrm>
              <a:off x="6013440" y="3861000"/>
              <a:ext cx="1219320" cy="1762200"/>
              <a:chOff x="6013440" y="3861000"/>
              <a:chExt cx="1219320" cy="1762200"/>
            </a:xfrm>
          </p:grpSpPr>
          <p:pic>
            <p:nvPicPr>
              <p:cNvPr id="31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13440" y="3861000"/>
                <a:ext cx="121932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4" name=""/>
              <p:cNvGrpSpPr/>
              <p:nvPr/>
            </p:nvGrpSpPr>
            <p:grpSpPr>
              <a:xfrm>
                <a:off x="6231960" y="4522320"/>
                <a:ext cx="840240" cy="984600"/>
                <a:chOff x="6231960" y="4522320"/>
                <a:chExt cx="840240" cy="9846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6302160" y="4549680"/>
                  <a:ext cx="66960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646680" y="497664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416640" y="4852800"/>
                  <a:ext cx="470520" cy="658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618600" y="485280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685920" y="4852800"/>
                  <a:ext cx="0" cy="658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338160" y="4919040"/>
                  <a:ext cx="14580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820200" y="491904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483960" y="472068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820200" y="455652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904440" y="487188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262560" y="454104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231960" y="487728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6551280" y="4563360"/>
                  <a:ext cx="22392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568200" y="452232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69000" y="453420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0" name=""/>
            <p:cNvGrpSpPr/>
            <p:nvPr/>
          </p:nvGrpSpPr>
          <p:grpSpPr>
            <a:xfrm>
              <a:off x="7669440" y="3828600"/>
              <a:ext cx="1143000" cy="1784880"/>
              <a:chOff x="7669440" y="3828600"/>
              <a:chExt cx="1143000" cy="1784880"/>
            </a:xfrm>
          </p:grpSpPr>
          <p:pic>
            <p:nvPicPr>
              <p:cNvPr id="33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69440" y="3861000"/>
                <a:ext cx="114300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>
                <a:off x="7853400" y="4924080"/>
                <a:ext cx="79704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055000" y="4876560"/>
                <a:ext cx="408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8255880" y="3828600"/>
                <a:ext cx="391680" cy="347400"/>
                <a:chOff x="8255880" y="3828600"/>
                <a:chExt cx="391680" cy="347400"/>
              </a:xfrm>
            </p:grpSpPr>
            <p:sp>
              <p:nvSpPr>
                <p:cNvPr id="335" name=""/>
                <p:cNvSpPr/>
                <p:nvPr/>
              </p:nvSpPr>
              <p:spPr>
                <a:xfrm rot="720600">
                  <a:off x="8281440" y="3860640"/>
                  <a:ext cx="340200" cy="2829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720600">
                  <a:off x="8422920" y="3967200"/>
                  <a:ext cx="56520" cy="705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7835400" y="3833640"/>
                <a:ext cx="348840" cy="408960"/>
                <a:chOff x="7835400" y="3833640"/>
                <a:chExt cx="348840" cy="408960"/>
              </a:xfrm>
            </p:grpSpPr>
            <p:sp>
              <p:nvSpPr>
                <p:cNvPr id="338" name=""/>
                <p:cNvSpPr/>
                <p:nvPr/>
              </p:nvSpPr>
              <p:spPr>
                <a:xfrm rot="17028000">
                  <a:off x="7832520" y="3902040"/>
                  <a:ext cx="354240" cy="272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17028000">
                  <a:off x="7979760" y="4003920"/>
                  <a:ext cx="586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0" name=""/>
            <p:cNvGrpSpPr/>
            <p:nvPr/>
          </p:nvGrpSpPr>
          <p:grpSpPr>
            <a:xfrm>
              <a:off x="6661080" y="3754800"/>
              <a:ext cx="1219320" cy="1787400"/>
              <a:chOff x="6661080" y="3754800"/>
              <a:chExt cx="1219320" cy="1787400"/>
            </a:xfrm>
          </p:grpSpPr>
          <p:pic>
            <p:nvPicPr>
              <p:cNvPr id="34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61080" y="3789360"/>
                <a:ext cx="1219320" cy="17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6857640" y="4852440"/>
                <a:ext cx="85032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333333"/>
                  </a:gs>
                  <a:gs pos="100000">
                    <a:srgbClr val="777777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072200" y="4805280"/>
                <a:ext cx="43560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50000">
                    <a:srgbClr val="ffffff"/>
                  </a:gs>
                  <a:gs pos="100000">
                    <a:srgbClr val="4d4d4d"/>
                  </a:gs>
                </a:gsLst>
                <a:lin ang="81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7288920" y="3754800"/>
                <a:ext cx="414000" cy="352800"/>
                <a:chOff x="7288920" y="3754800"/>
                <a:chExt cx="414000" cy="352800"/>
              </a:xfrm>
            </p:grpSpPr>
            <p:sp>
              <p:nvSpPr>
                <p:cNvPr id="345" name=""/>
                <p:cNvSpPr/>
                <p:nvPr/>
              </p:nvSpPr>
              <p:spPr>
                <a:xfrm rot="720600">
                  <a:off x="7314480" y="3789360"/>
                  <a:ext cx="362880" cy="2833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720600">
                  <a:off x="7465320" y="3895560"/>
                  <a:ext cx="60120" cy="705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6840720" y="3759840"/>
                <a:ext cx="366480" cy="413280"/>
                <a:chOff x="6840720" y="3759840"/>
                <a:chExt cx="366480" cy="413280"/>
              </a:xfrm>
            </p:grpSpPr>
            <p:sp>
              <p:nvSpPr>
                <p:cNvPr id="348" name=""/>
                <p:cNvSpPr/>
                <p:nvPr/>
              </p:nvSpPr>
              <p:spPr>
                <a:xfrm rot="17028000">
                  <a:off x="6846840" y="3821040"/>
                  <a:ext cx="354240" cy="2905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17028000">
                  <a:off x="6994080" y="3930480"/>
                  <a:ext cx="58680" cy="723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7237440" y="4188960"/>
              <a:ext cx="1143000" cy="1784880"/>
              <a:chOff x="7237440" y="4188960"/>
              <a:chExt cx="1143000" cy="1784880"/>
            </a:xfrm>
          </p:grpSpPr>
          <p:pic>
            <p:nvPicPr>
              <p:cNvPr id="35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237440" y="4221360"/>
                <a:ext cx="114300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>
                <a:off x="7421400" y="5284440"/>
                <a:ext cx="79704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623000" y="5236920"/>
                <a:ext cx="408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4" name=""/>
              <p:cNvGrpSpPr/>
              <p:nvPr/>
            </p:nvGrpSpPr>
            <p:grpSpPr>
              <a:xfrm>
                <a:off x="7823880" y="4188960"/>
                <a:ext cx="391680" cy="347400"/>
                <a:chOff x="7823880" y="4188960"/>
                <a:chExt cx="391680" cy="347400"/>
              </a:xfrm>
            </p:grpSpPr>
            <p:sp>
              <p:nvSpPr>
                <p:cNvPr id="355" name=""/>
                <p:cNvSpPr/>
                <p:nvPr/>
              </p:nvSpPr>
              <p:spPr>
                <a:xfrm rot="720600">
                  <a:off x="7849440" y="4221000"/>
                  <a:ext cx="340200" cy="2829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rot="720600">
                  <a:off x="7990920" y="4327560"/>
                  <a:ext cx="56520" cy="705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7403400" y="4194000"/>
                <a:ext cx="348840" cy="408960"/>
                <a:chOff x="7403400" y="4194000"/>
                <a:chExt cx="348840" cy="408960"/>
              </a:xfrm>
            </p:grpSpPr>
            <p:sp>
              <p:nvSpPr>
                <p:cNvPr id="358" name=""/>
                <p:cNvSpPr/>
                <p:nvPr/>
              </p:nvSpPr>
              <p:spPr>
                <a:xfrm rot="17028000">
                  <a:off x="7400520" y="4262400"/>
                  <a:ext cx="354240" cy="272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rot="17028000">
                  <a:off x="7547760" y="4364280"/>
                  <a:ext cx="586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0" name=""/>
            <p:cNvGrpSpPr/>
            <p:nvPr/>
          </p:nvGrpSpPr>
          <p:grpSpPr>
            <a:xfrm>
              <a:off x="6661080" y="4186800"/>
              <a:ext cx="1219320" cy="1787040"/>
              <a:chOff x="6661080" y="4186800"/>
              <a:chExt cx="1219320" cy="1787040"/>
            </a:xfrm>
          </p:grpSpPr>
          <p:pic>
            <p:nvPicPr>
              <p:cNvPr id="3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661080" y="4221360"/>
                <a:ext cx="121932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6857640" y="5284440"/>
                <a:ext cx="85032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333333"/>
                  </a:gs>
                  <a:gs pos="100000">
                    <a:srgbClr val="777777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072200" y="5236920"/>
                <a:ext cx="43560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50000">
                    <a:srgbClr val="ffffff"/>
                  </a:gs>
                  <a:gs pos="100000">
                    <a:srgbClr val="4d4d4d"/>
                  </a:gs>
                </a:gsLst>
                <a:lin ang="81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7288920" y="4186800"/>
                <a:ext cx="414000" cy="352440"/>
                <a:chOff x="7288920" y="4186800"/>
                <a:chExt cx="414000" cy="352440"/>
              </a:xfrm>
            </p:grpSpPr>
            <p:sp>
              <p:nvSpPr>
                <p:cNvPr id="365" name=""/>
                <p:cNvSpPr/>
                <p:nvPr/>
              </p:nvSpPr>
              <p:spPr>
                <a:xfrm rot="720600">
                  <a:off x="7314480" y="4221360"/>
                  <a:ext cx="362880" cy="2829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720600">
                  <a:off x="7465320" y="4327560"/>
                  <a:ext cx="60120" cy="705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6840720" y="4191840"/>
                <a:ext cx="366480" cy="413280"/>
                <a:chOff x="6840720" y="4191840"/>
                <a:chExt cx="366480" cy="413280"/>
              </a:xfrm>
            </p:grpSpPr>
            <p:sp>
              <p:nvSpPr>
                <p:cNvPr id="368" name=""/>
                <p:cNvSpPr/>
                <p:nvPr/>
              </p:nvSpPr>
              <p:spPr>
                <a:xfrm rot="17028000">
                  <a:off x="6846840" y="4253040"/>
                  <a:ext cx="354240" cy="2905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17028000">
                  <a:off x="6994080" y="4362480"/>
                  <a:ext cx="58680" cy="723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0" name=""/>
            <p:cNvGrpSpPr/>
            <p:nvPr/>
          </p:nvGrpSpPr>
          <p:grpSpPr>
            <a:xfrm>
              <a:off x="7597800" y="4292640"/>
              <a:ext cx="1219320" cy="1762200"/>
              <a:chOff x="7597800" y="4292640"/>
              <a:chExt cx="1219320" cy="1762200"/>
            </a:xfrm>
          </p:grpSpPr>
          <p:pic>
            <p:nvPicPr>
              <p:cNvPr id="37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597800" y="4292640"/>
                <a:ext cx="121932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2" name=""/>
              <p:cNvGrpSpPr/>
              <p:nvPr/>
            </p:nvGrpSpPr>
            <p:grpSpPr>
              <a:xfrm>
                <a:off x="7816320" y="4953960"/>
                <a:ext cx="840240" cy="984600"/>
                <a:chOff x="7816320" y="4953960"/>
                <a:chExt cx="840240" cy="9846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886520" y="4981320"/>
                  <a:ext cx="66960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231040" y="540828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001000" y="5284440"/>
                  <a:ext cx="470520" cy="658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202960" y="528444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270280" y="5284440"/>
                  <a:ext cx="0" cy="658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922520" y="5350680"/>
                  <a:ext cx="14580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404560" y="535068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068320" y="515232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8404560" y="498816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8488800" y="530352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846920" y="497268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816320" y="530892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135640" y="4995000"/>
                  <a:ext cx="22392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8152560" y="495396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8253360" y="496584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8" name=""/>
            <p:cNvGrpSpPr/>
            <p:nvPr/>
          </p:nvGrpSpPr>
          <p:grpSpPr>
            <a:xfrm>
              <a:off x="6229440" y="4292640"/>
              <a:ext cx="1219320" cy="1762200"/>
              <a:chOff x="6229440" y="4292640"/>
              <a:chExt cx="1219320" cy="1762200"/>
            </a:xfrm>
          </p:grpSpPr>
          <p:pic>
            <p:nvPicPr>
              <p:cNvPr id="38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229440" y="4292640"/>
                <a:ext cx="121932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90" name=""/>
              <p:cNvGrpSpPr/>
              <p:nvPr/>
            </p:nvGrpSpPr>
            <p:grpSpPr>
              <a:xfrm>
                <a:off x="6447960" y="4953960"/>
                <a:ext cx="840240" cy="984600"/>
                <a:chOff x="6447960" y="4953960"/>
                <a:chExt cx="840240" cy="98460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6518160" y="4981320"/>
                  <a:ext cx="66960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862680" y="540828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632640" y="5284440"/>
                  <a:ext cx="470520" cy="658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834600" y="528444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901920" y="5284440"/>
                  <a:ext cx="0" cy="658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554160" y="5350680"/>
                  <a:ext cx="14580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036200" y="535068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699960" y="515232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036200" y="498816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120440" y="530352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478560" y="497268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447960" y="530892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767280" y="4995000"/>
                  <a:ext cx="22392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784200" y="495396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885000" y="496584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6" name=""/>
            <p:cNvGrpSpPr/>
            <p:nvPr/>
          </p:nvGrpSpPr>
          <p:grpSpPr>
            <a:xfrm>
              <a:off x="5437080" y="4188960"/>
              <a:ext cx="1143000" cy="1784880"/>
              <a:chOff x="5437080" y="4188960"/>
              <a:chExt cx="1143000" cy="1784880"/>
            </a:xfrm>
          </p:grpSpPr>
          <p:pic>
            <p:nvPicPr>
              <p:cNvPr id="40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437080" y="4221360"/>
                <a:ext cx="114300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>
                <a:off x="5621040" y="5284440"/>
                <a:ext cx="79704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822640" y="5236920"/>
                <a:ext cx="408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0" name=""/>
              <p:cNvGrpSpPr/>
              <p:nvPr/>
            </p:nvGrpSpPr>
            <p:grpSpPr>
              <a:xfrm>
                <a:off x="6023520" y="4188960"/>
                <a:ext cx="391680" cy="347400"/>
                <a:chOff x="6023520" y="4188960"/>
                <a:chExt cx="391680" cy="347400"/>
              </a:xfrm>
            </p:grpSpPr>
            <p:sp>
              <p:nvSpPr>
                <p:cNvPr id="411" name=""/>
                <p:cNvSpPr/>
                <p:nvPr/>
              </p:nvSpPr>
              <p:spPr>
                <a:xfrm rot="720600">
                  <a:off x="6049080" y="4221000"/>
                  <a:ext cx="340200" cy="2829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rot="720600">
                  <a:off x="6190560" y="4327560"/>
                  <a:ext cx="56520" cy="705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5603040" y="4194000"/>
                <a:ext cx="348840" cy="408960"/>
                <a:chOff x="5603040" y="4194000"/>
                <a:chExt cx="348840" cy="408960"/>
              </a:xfrm>
            </p:grpSpPr>
            <p:sp>
              <p:nvSpPr>
                <p:cNvPr id="414" name=""/>
                <p:cNvSpPr/>
                <p:nvPr/>
              </p:nvSpPr>
              <p:spPr>
                <a:xfrm rot="17028000">
                  <a:off x="5600160" y="4262400"/>
                  <a:ext cx="354240" cy="272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rot="17028000">
                  <a:off x="5747400" y="4364280"/>
                  <a:ext cx="586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6" name=""/>
            <p:cNvGrpSpPr/>
            <p:nvPr/>
          </p:nvGrpSpPr>
          <p:grpSpPr>
            <a:xfrm>
              <a:off x="5724720" y="4292640"/>
              <a:ext cx="1218960" cy="1762200"/>
              <a:chOff x="5724720" y="4292640"/>
              <a:chExt cx="1218960" cy="1762200"/>
            </a:xfrm>
          </p:grpSpPr>
          <p:pic>
            <p:nvPicPr>
              <p:cNvPr id="41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724720" y="4292640"/>
                <a:ext cx="121896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8" name=""/>
              <p:cNvGrpSpPr/>
              <p:nvPr/>
            </p:nvGrpSpPr>
            <p:grpSpPr>
              <a:xfrm>
                <a:off x="5943240" y="4953960"/>
                <a:ext cx="840240" cy="984600"/>
                <a:chOff x="5943240" y="4953960"/>
                <a:chExt cx="840240" cy="98460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6013440" y="4981320"/>
                  <a:ext cx="66960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357960" y="540828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127920" y="5284440"/>
                  <a:ext cx="470520" cy="658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329880" y="528444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397200" y="5284440"/>
                  <a:ext cx="0" cy="658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049440" y="5350680"/>
                  <a:ext cx="14580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531480" y="535068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195240" y="515232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531480" y="498816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615720" y="530352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973840" y="497268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943240" y="530892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262560" y="4995000"/>
                  <a:ext cx="22392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6279480" y="495396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380280" y="496584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4" name=""/>
            <p:cNvGrpSpPr/>
            <p:nvPr/>
          </p:nvGrpSpPr>
          <p:grpSpPr>
            <a:xfrm>
              <a:off x="4357800" y="3934080"/>
              <a:ext cx="1219320" cy="1761840"/>
              <a:chOff x="4357800" y="3934080"/>
              <a:chExt cx="1219320" cy="1761840"/>
            </a:xfrm>
          </p:grpSpPr>
          <p:pic>
            <p:nvPicPr>
              <p:cNvPr id="43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357800" y="3934080"/>
                <a:ext cx="1219320" cy="1761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6" name=""/>
              <p:cNvGrpSpPr/>
              <p:nvPr/>
            </p:nvGrpSpPr>
            <p:grpSpPr>
              <a:xfrm>
                <a:off x="4576320" y="4595400"/>
                <a:ext cx="840240" cy="984600"/>
                <a:chOff x="4576320" y="4595400"/>
                <a:chExt cx="840240" cy="9846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646520" y="4622760"/>
                  <a:ext cx="66960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991040" y="504972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761000" y="4925880"/>
                  <a:ext cx="470520" cy="658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962960" y="492588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030280" y="4925880"/>
                  <a:ext cx="0" cy="658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682520" y="4992120"/>
                  <a:ext cx="14580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164560" y="499212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828320" y="479376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164560" y="462960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248800" y="494496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606920" y="461412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576320" y="495036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895640" y="4636440"/>
                  <a:ext cx="22392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912560" y="459540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013360" y="460728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2" name=""/>
            <p:cNvGrpSpPr/>
            <p:nvPr/>
          </p:nvGrpSpPr>
          <p:grpSpPr>
            <a:xfrm>
              <a:off x="4861080" y="4365720"/>
              <a:ext cx="1218960" cy="1762200"/>
              <a:chOff x="4861080" y="4365720"/>
              <a:chExt cx="1218960" cy="1762200"/>
            </a:xfrm>
          </p:grpSpPr>
          <p:pic>
            <p:nvPicPr>
              <p:cNvPr id="45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61080" y="4365720"/>
                <a:ext cx="121896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54" name=""/>
              <p:cNvGrpSpPr/>
              <p:nvPr/>
            </p:nvGrpSpPr>
            <p:grpSpPr>
              <a:xfrm>
                <a:off x="5079600" y="5027040"/>
                <a:ext cx="840240" cy="984600"/>
                <a:chOff x="5079600" y="5027040"/>
                <a:chExt cx="840240" cy="98460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5149800" y="5054400"/>
                  <a:ext cx="66960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494320" y="548136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264280" y="5357520"/>
                  <a:ext cx="470520" cy="658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466240" y="535752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533560" y="5357520"/>
                  <a:ext cx="0" cy="658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185800" y="5423760"/>
                  <a:ext cx="14580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667840" y="542376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331600" y="522540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667840" y="506124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752080" y="537660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110200" y="504576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079600" y="538200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398920" y="5068080"/>
                  <a:ext cx="22392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415840" y="502704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516640" y="503892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0" name=""/>
            <p:cNvGrpSpPr/>
            <p:nvPr/>
          </p:nvGrpSpPr>
          <p:grpSpPr>
            <a:xfrm>
              <a:off x="4284720" y="4402440"/>
              <a:ext cx="1219320" cy="1787400"/>
              <a:chOff x="4284720" y="4402440"/>
              <a:chExt cx="1219320" cy="1787400"/>
            </a:xfrm>
          </p:grpSpPr>
          <p:pic>
            <p:nvPicPr>
              <p:cNvPr id="47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84720" y="4437000"/>
                <a:ext cx="1219320" cy="17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"/>
              <p:cNvSpPr/>
              <p:nvPr/>
            </p:nvSpPr>
            <p:spPr>
              <a:xfrm>
                <a:off x="4481280" y="5500080"/>
                <a:ext cx="85032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333333"/>
                  </a:gs>
                  <a:gs pos="100000">
                    <a:srgbClr val="777777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695840" y="5452920"/>
                <a:ext cx="43560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50000">
                    <a:srgbClr val="ffffff"/>
                  </a:gs>
                  <a:gs pos="100000">
                    <a:srgbClr val="4d4d4d"/>
                  </a:gs>
                </a:gsLst>
                <a:lin ang="81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4912560" y="4402440"/>
                <a:ext cx="414000" cy="352800"/>
                <a:chOff x="4912560" y="4402440"/>
                <a:chExt cx="414000" cy="352800"/>
              </a:xfrm>
            </p:grpSpPr>
            <p:sp>
              <p:nvSpPr>
                <p:cNvPr id="475" name=""/>
                <p:cNvSpPr/>
                <p:nvPr/>
              </p:nvSpPr>
              <p:spPr>
                <a:xfrm rot="720600">
                  <a:off x="4938120" y="4437000"/>
                  <a:ext cx="362880" cy="2833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rot="720600">
                  <a:off x="5088960" y="4543200"/>
                  <a:ext cx="60120" cy="705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4464360" y="4407480"/>
                <a:ext cx="366480" cy="413280"/>
                <a:chOff x="4464360" y="4407480"/>
                <a:chExt cx="366480" cy="413280"/>
              </a:xfrm>
            </p:grpSpPr>
            <p:sp>
              <p:nvSpPr>
                <p:cNvPr id="478" name=""/>
                <p:cNvSpPr/>
                <p:nvPr/>
              </p:nvSpPr>
              <p:spPr>
                <a:xfrm rot="17028000">
                  <a:off x="4470480" y="4468680"/>
                  <a:ext cx="354240" cy="2905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rot="17028000">
                  <a:off x="4617720" y="4578120"/>
                  <a:ext cx="58680" cy="723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"/>
            <p:cNvGrpSpPr/>
            <p:nvPr/>
          </p:nvGrpSpPr>
          <p:grpSpPr>
            <a:xfrm>
              <a:off x="5292720" y="4762800"/>
              <a:ext cx="1219320" cy="1787400"/>
              <a:chOff x="5292720" y="4762800"/>
              <a:chExt cx="1219320" cy="1787400"/>
            </a:xfrm>
          </p:grpSpPr>
          <p:pic>
            <p:nvPicPr>
              <p:cNvPr id="48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292720" y="4797360"/>
                <a:ext cx="1219320" cy="17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2" name=""/>
              <p:cNvSpPr/>
              <p:nvPr/>
            </p:nvSpPr>
            <p:spPr>
              <a:xfrm>
                <a:off x="5489280" y="5860440"/>
                <a:ext cx="85032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333333"/>
                  </a:gs>
                  <a:gs pos="100000">
                    <a:srgbClr val="777777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703840" y="5813280"/>
                <a:ext cx="43560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50000">
                    <a:srgbClr val="ffffff"/>
                  </a:gs>
                  <a:gs pos="100000">
                    <a:srgbClr val="4d4d4d"/>
                  </a:gs>
                </a:gsLst>
                <a:lin ang="81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5920560" y="4762800"/>
                <a:ext cx="414000" cy="352800"/>
                <a:chOff x="5920560" y="4762800"/>
                <a:chExt cx="414000" cy="352800"/>
              </a:xfrm>
            </p:grpSpPr>
            <p:sp>
              <p:nvSpPr>
                <p:cNvPr id="485" name=""/>
                <p:cNvSpPr/>
                <p:nvPr/>
              </p:nvSpPr>
              <p:spPr>
                <a:xfrm rot="720600">
                  <a:off x="5946120" y="4797360"/>
                  <a:ext cx="362880" cy="2833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rot="720600">
                  <a:off x="6096960" y="4903560"/>
                  <a:ext cx="60120" cy="705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5472360" y="4767840"/>
                <a:ext cx="366480" cy="413280"/>
                <a:chOff x="5472360" y="4767840"/>
                <a:chExt cx="366480" cy="413280"/>
              </a:xfrm>
            </p:grpSpPr>
            <p:sp>
              <p:nvSpPr>
                <p:cNvPr id="488" name=""/>
                <p:cNvSpPr/>
                <p:nvPr/>
              </p:nvSpPr>
              <p:spPr>
                <a:xfrm rot="17028000">
                  <a:off x="5478480" y="4829040"/>
                  <a:ext cx="354240" cy="2905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7028000">
                  <a:off x="5625720" y="4938480"/>
                  <a:ext cx="58680" cy="723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0" name=""/>
            <p:cNvGrpSpPr/>
            <p:nvPr/>
          </p:nvGrpSpPr>
          <p:grpSpPr>
            <a:xfrm>
              <a:off x="6877080" y="4620600"/>
              <a:ext cx="1143000" cy="1785240"/>
              <a:chOff x="6877080" y="4620600"/>
              <a:chExt cx="1143000" cy="1785240"/>
            </a:xfrm>
          </p:grpSpPr>
          <p:pic>
            <p:nvPicPr>
              <p:cNvPr id="49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877080" y="4653000"/>
                <a:ext cx="1143000" cy="17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7061040" y="5716080"/>
                <a:ext cx="79704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262640" y="5668920"/>
                <a:ext cx="408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7463520" y="4620600"/>
                <a:ext cx="391680" cy="347760"/>
                <a:chOff x="7463520" y="4620600"/>
                <a:chExt cx="391680" cy="347760"/>
              </a:xfrm>
            </p:grpSpPr>
            <p:sp>
              <p:nvSpPr>
                <p:cNvPr id="495" name=""/>
                <p:cNvSpPr/>
                <p:nvPr/>
              </p:nvSpPr>
              <p:spPr>
                <a:xfrm rot="720600">
                  <a:off x="7489080" y="4652640"/>
                  <a:ext cx="340200" cy="2833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rot="720600">
                  <a:off x="7630560" y="4759200"/>
                  <a:ext cx="56520" cy="705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7043040" y="4625640"/>
                <a:ext cx="348840" cy="408960"/>
                <a:chOff x="7043040" y="4625640"/>
                <a:chExt cx="348840" cy="408960"/>
              </a:xfrm>
            </p:grpSpPr>
            <p:sp>
              <p:nvSpPr>
                <p:cNvPr id="498" name=""/>
                <p:cNvSpPr/>
                <p:nvPr/>
              </p:nvSpPr>
              <p:spPr>
                <a:xfrm rot="17028000">
                  <a:off x="7040160" y="4694040"/>
                  <a:ext cx="354240" cy="272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7028000">
                  <a:off x="7187400" y="4795920"/>
                  <a:ext cx="586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0" name=""/>
            <p:cNvGrpSpPr/>
            <p:nvPr/>
          </p:nvGrpSpPr>
          <p:grpSpPr>
            <a:xfrm>
              <a:off x="4789440" y="4909680"/>
              <a:ext cx="1143000" cy="1784880"/>
              <a:chOff x="4789440" y="4909680"/>
              <a:chExt cx="1143000" cy="1784880"/>
            </a:xfrm>
          </p:grpSpPr>
          <p:pic>
            <p:nvPicPr>
              <p:cNvPr id="50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89440" y="4942080"/>
                <a:ext cx="1143000" cy="17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>
                <a:off x="4973400" y="6005160"/>
                <a:ext cx="79704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175000" y="5957640"/>
                <a:ext cx="408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5375880" y="4909680"/>
                <a:ext cx="391680" cy="347400"/>
                <a:chOff x="5375880" y="4909680"/>
                <a:chExt cx="391680" cy="347400"/>
              </a:xfrm>
            </p:grpSpPr>
            <p:sp>
              <p:nvSpPr>
                <p:cNvPr id="505" name=""/>
                <p:cNvSpPr/>
                <p:nvPr/>
              </p:nvSpPr>
              <p:spPr>
                <a:xfrm rot="720600">
                  <a:off x="5401440" y="4941720"/>
                  <a:ext cx="340200" cy="2829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rot="720600">
                  <a:off x="5542920" y="5048280"/>
                  <a:ext cx="56520" cy="705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4955400" y="4914720"/>
                <a:ext cx="348840" cy="408960"/>
                <a:chOff x="4955400" y="4914720"/>
                <a:chExt cx="348840" cy="408960"/>
              </a:xfrm>
            </p:grpSpPr>
            <p:sp>
              <p:nvSpPr>
                <p:cNvPr id="508" name=""/>
                <p:cNvSpPr/>
                <p:nvPr/>
              </p:nvSpPr>
              <p:spPr>
                <a:xfrm rot="17028000">
                  <a:off x="4952520" y="4983120"/>
                  <a:ext cx="354240" cy="272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rot="17028000">
                  <a:off x="5099760" y="5085000"/>
                  <a:ext cx="586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0" name=""/>
            <p:cNvGrpSpPr/>
            <p:nvPr/>
          </p:nvGrpSpPr>
          <p:grpSpPr>
            <a:xfrm>
              <a:off x="6085080" y="4477680"/>
              <a:ext cx="1143000" cy="1785240"/>
              <a:chOff x="6085080" y="4477680"/>
              <a:chExt cx="1143000" cy="1785240"/>
            </a:xfrm>
          </p:grpSpPr>
          <p:pic>
            <p:nvPicPr>
              <p:cNvPr id="51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085080" y="4510080"/>
                <a:ext cx="1143000" cy="17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>
                <a:off x="6269040" y="5573160"/>
                <a:ext cx="797040" cy="37188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470640" y="5526000"/>
                <a:ext cx="408240" cy="5256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4" name=""/>
              <p:cNvGrpSpPr/>
              <p:nvPr/>
            </p:nvGrpSpPr>
            <p:grpSpPr>
              <a:xfrm>
                <a:off x="6671520" y="4477680"/>
                <a:ext cx="391680" cy="347760"/>
                <a:chOff x="6671520" y="4477680"/>
                <a:chExt cx="391680" cy="347760"/>
              </a:xfrm>
            </p:grpSpPr>
            <p:sp>
              <p:nvSpPr>
                <p:cNvPr id="515" name=""/>
                <p:cNvSpPr/>
                <p:nvPr/>
              </p:nvSpPr>
              <p:spPr>
                <a:xfrm rot="720600">
                  <a:off x="6697080" y="4509720"/>
                  <a:ext cx="340200" cy="2833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rot="720600">
                  <a:off x="6838560" y="4616280"/>
                  <a:ext cx="56520" cy="705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6251040" y="4482720"/>
                <a:ext cx="348840" cy="408960"/>
                <a:chOff x="6251040" y="4482720"/>
                <a:chExt cx="348840" cy="408960"/>
              </a:xfrm>
            </p:grpSpPr>
            <p:sp>
              <p:nvSpPr>
                <p:cNvPr id="518" name=""/>
                <p:cNvSpPr/>
                <p:nvPr/>
              </p:nvSpPr>
              <p:spPr>
                <a:xfrm rot="17028000">
                  <a:off x="6248160" y="4551120"/>
                  <a:ext cx="354240" cy="2721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rot="17028000">
                  <a:off x="6395400" y="4653000"/>
                  <a:ext cx="58680" cy="6804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0" name=""/>
            <p:cNvGrpSpPr/>
            <p:nvPr/>
          </p:nvGrpSpPr>
          <p:grpSpPr>
            <a:xfrm>
              <a:off x="6300720" y="4869000"/>
              <a:ext cx="1219320" cy="1762200"/>
              <a:chOff x="6300720" y="4869000"/>
              <a:chExt cx="1219320" cy="1762200"/>
            </a:xfrm>
          </p:grpSpPr>
          <p:pic>
            <p:nvPicPr>
              <p:cNvPr id="521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6300720" y="4869000"/>
                <a:ext cx="121932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22" name=""/>
              <p:cNvGrpSpPr/>
              <p:nvPr/>
            </p:nvGrpSpPr>
            <p:grpSpPr>
              <a:xfrm>
                <a:off x="6519240" y="5530320"/>
                <a:ext cx="840240" cy="984600"/>
                <a:chOff x="6519240" y="5530320"/>
                <a:chExt cx="840240" cy="98460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6589440" y="5557680"/>
                  <a:ext cx="66960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933960" y="598464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703920" y="5860800"/>
                  <a:ext cx="470520" cy="658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905880" y="586080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973200" y="5860800"/>
                  <a:ext cx="0" cy="658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625440" y="5927040"/>
                  <a:ext cx="14580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107480" y="592704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771240" y="572868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107480" y="556452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7191720" y="587988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549840" y="554904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519240" y="588528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838560" y="5571360"/>
                  <a:ext cx="22392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855480" y="553032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956280" y="554220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7309080" y="4726080"/>
              <a:ext cx="1218960" cy="1762200"/>
              <a:chOff x="7309080" y="4726080"/>
              <a:chExt cx="1218960" cy="1762200"/>
            </a:xfrm>
          </p:grpSpPr>
          <p:pic>
            <p:nvPicPr>
              <p:cNvPr id="539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7309080" y="4726080"/>
                <a:ext cx="1218960" cy="1762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7527600" y="5387400"/>
                <a:ext cx="840240" cy="984600"/>
                <a:chOff x="7527600" y="5387400"/>
                <a:chExt cx="840240" cy="98460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7597800" y="5414760"/>
                  <a:ext cx="669600" cy="95724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942320" y="5841720"/>
                  <a:ext cx="21960" cy="49572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7712280" y="5717880"/>
                  <a:ext cx="470520" cy="658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914240" y="5717880"/>
                  <a:ext cx="134640" cy="658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7981560" y="5717880"/>
                  <a:ext cx="0" cy="658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7633800" y="5784120"/>
                  <a:ext cx="145800" cy="1789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8115840" y="5784120"/>
                  <a:ext cx="134640" cy="18432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779600" y="5585760"/>
                  <a:ext cx="67320" cy="6588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115840" y="5421600"/>
                  <a:ext cx="222480" cy="43380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200080" y="5736960"/>
                  <a:ext cx="167760" cy="11556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58200" y="5406120"/>
                  <a:ext cx="237960" cy="44352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527600" y="5742360"/>
                  <a:ext cx="156600" cy="13212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846920" y="5428440"/>
                  <a:ext cx="223920" cy="13212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7863840" y="5387400"/>
                  <a:ext cx="87840" cy="12924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964640" y="5399280"/>
                  <a:ext cx="78120" cy="11160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4000" y="277560"/>
            <a:ext cx="45356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реше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24000" y="881640"/>
            <a:ext cx="930240" cy="1491840"/>
            <a:chOff x="324000" y="881640"/>
            <a:chExt cx="930240" cy="1491840"/>
          </a:xfrm>
        </p:grpSpPr>
        <p:pic>
          <p:nvPicPr>
            <p:cNvPr id="558" name="" descr=""/>
            <p:cNvPicPr/>
            <p:nvPr/>
          </p:nvPicPr>
          <p:blipFill>
            <a:blip r:embed="rId1"/>
            <a:stretch/>
          </p:blipFill>
          <p:spPr>
            <a:xfrm>
              <a:off x="324000" y="907920"/>
              <a:ext cx="930240" cy="14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473760" y="1796760"/>
              <a:ext cx="648720" cy="31104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333333"/>
                </a:gs>
                <a:gs pos="100000">
                  <a:srgbClr val="777777"/>
                </a:gs>
              </a:gsLst>
              <a:lin ang="108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7560" y="1757160"/>
              <a:ext cx="332280" cy="439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d4d4d"/>
                </a:gs>
                <a:gs pos="50000">
                  <a:srgbClr val="ffffff"/>
                </a:gs>
                <a:gs pos="100000">
                  <a:srgbClr val="4d4d4d"/>
                </a:gs>
              </a:gsLst>
              <a:lin ang="81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801000" y="881640"/>
              <a:ext cx="320040" cy="289440"/>
              <a:chOff x="801000" y="881640"/>
              <a:chExt cx="320040" cy="289440"/>
            </a:xfrm>
          </p:grpSpPr>
          <p:sp>
            <p:nvSpPr>
              <p:cNvPr id="562" name=""/>
              <p:cNvSpPr/>
              <p:nvPr/>
            </p:nvSpPr>
            <p:spPr>
              <a:xfrm rot="720600">
                <a:off x="822600" y="907560"/>
                <a:ext cx="276840" cy="23688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720600">
                <a:off x="937440" y="996480"/>
                <a:ext cx="46080" cy="59040"/>
              </a:xfrm>
              <a:prstGeom prst="ellipse">
                <a:avLst/>
              </a:pr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457920" y="885960"/>
              <a:ext cx="285480" cy="340200"/>
              <a:chOff x="457920" y="885960"/>
              <a:chExt cx="285480" cy="340200"/>
            </a:xfrm>
          </p:grpSpPr>
          <p:sp>
            <p:nvSpPr>
              <p:cNvPr id="565" name=""/>
              <p:cNvSpPr/>
              <p:nvPr/>
            </p:nvSpPr>
            <p:spPr>
              <a:xfrm rot="17028000">
                <a:off x="452520" y="945000"/>
                <a:ext cx="295920" cy="22140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7028000">
                <a:off x="575640" y="1028520"/>
                <a:ext cx="49320" cy="55080"/>
              </a:xfrm>
              <a:prstGeom prst="ellipse">
                <a:avLst/>
              </a:pr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250920" y="2539080"/>
            <a:ext cx="930240" cy="1491480"/>
            <a:chOff x="250920" y="2539080"/>
            <a:chExt cx="930240" cy="1491480"/>
          </a:xfrm>
        </p:grpSpPr>
        <p:pic>
          <p:nvPicPr>
            <p:cNvPr id="568" name="" descr=""/>
            <p:cNvPicPr/>
            <p:nvPr/>
          </p:nvPicPr>
          <p:blipFill>
            <a:blip r:embed="rId2"/>
            <a:stretch/>
          </p:blipFill>
          <p:spPr>
            <a:xfrm>
              <a:off x="250920" y="2565360"/>
              <a:ext cx="930240" cy="14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400680" y="3454200"/>
              <a:ext cx="648720" cy="310680"/>
            </a:xfrm>
            <a:custGeom>
              <a:avLst/>
              <a:gdLst/>
              <a:ahLst/>
              <a:rect l="l" t="t" r="r" b="b"/>
              <a:pathLst>
                <a:path w="562" h="252">
                  <a:moveTo>
                    <a:pt x="138" y="0"/>
                  </a:moveTo>
                  <a:lnTo>
                    <a:pt x="438" y="8"/>
                  </a:lnTo>
                  <a:lnTo>
                    <a:pt x="562" y="224"/>
                  </a:lnTo>
                  <a:lnTo>
                    <a:pt x="470" y="248"/>
                  </a:lnTo>
                  <a:lnTo>
                    <a:pt x="400" y="96"/>
                  </a:lnTo>
                  <a:lnTo>
                    <a:pt x="454" y="252"/>
                  </a:lnTo>
                  <a:lnTo>
                    <a:pt x="322" y="248"/>
                  </a:lnTo>
                  <a:lnTo>
                    <a:pt x="304" y="96"/>
                  </a:lnTo>
                  <a:lnTo>
                    <a:pt x="304" y="240"/>
                  </a:lnTo>
                  <a:lnTo>
                    <a:pt x="112" y="240"/>
                  </a:lnTo>
                  <a:lnTo>
                    <a:pt x="208" y="96"/>
                  </a:lnTo>
                  <a:lnTo>
                    <a:pt x="90" y="240"/>
                  </a:lnTo>
                  <a:cubicBezTo>
                    <a:pt x="59" y="239"/>
                    <a:pt x="36" y="235"/>
                    <a:pt x="6" y="228"/>
                  </a:cubicBezTo>
                  <a:cubicBezTo>
                    <a:pt x="0" y="227"/>
                    <a:pt x="14" y="228"/>
                    <a:pt x="18" y="224"/>
                  </a:cubicBezTo>
                  <a:cubicBezTo>
                    <a:pt x="25" y="217"/>
                    <a:pt x="4" y="241"/>
                    <a:pt x="30" y="204"/>
                  </a:cubicBezTo>
                  <a:lnTo>
                    <a:pt x="138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333333"/>
                </a:gs>
                <a:gs pos="100000">
                  <a:srgbClr val="777777"/>
                </a:gs>
              </a:gsLst>
              <a:lin ang="108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4480" y="3414600"/>
              <a:ext cx="332280" cy="43920"/>
            </a:xfrm>
            <a:custGeom>
              <a:avLst/>
              <a:gdLst/>
              <a:ahLst/>
              <a:rect l="l" t="t" r="r" b="b"/>
              <a:pathLst>
                <a:path w="288" h="36">
                  <a:moveTo>
                    <a:pt x="4" y="0"/>
                  </a:moveTo>
                  <a:cubicBezTo>
                    <a:pt x="11" y="0"/>
                    <a:pt x="17" y="0"/>
                    <a:pt x="24" y="0"/>
                  </a:cubicBezTo>
                  <a:lnTo>
                    <a:pt x="284" y="4"/>
                  </a:lnTo>
                  <a:lnTo>
                    <a:pt x="288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d4d4d"/>
                </a:gs>
                <a:gs pos="50000">
                  <a:srgbClr val="ffffff"/>
                </a:gs>
                <a:gs pos="100000">
                  <a:srgbClr val="4d4d4d"/>
                </a:gs>
              </a:gsLst>
              <a:lin ang="81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727920" y="2539080"/>
              <a:ext cx="320040" cy="289080"/>
              <a:chOff x="727920" y="2539080"/>
              <a:chExt cx="320040" cy="289080"/>
            </a:xfrm>
          </p:grpSpPr>
          <p:sp>
            <p:nvSpPr>
              <p:cNvPr id="572" name=""/>
              <p:cNvSpPr/>
              <p:nvPr/>
            </p:nvSpPr>
            <p:spPr>
              <a:xfrm rot="720600">
                <a:off x="749520" y="2565000"/>
                <a:ext cx="276840" cy="23652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720600">
                <a:off x="864360" y="2653560"/>
                <a:ext cx="46080" cy="59040"/>
              </a:xfrm>
              <a:prstGeom prst="ellipse">
                <a:avLst/>
              </a:pr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384840" y="2543400"/>
              <a:ext cx="285480" cy="340200"/>
              <a:chOff x="384840" y="2543400"/>
              <a:chExt cx="285480" cy="340200"/>
            </a:xfrm>
          </p:grpSpPr>
          <p:sp>
            <p:nvSpPr>
              <p:cNvPr id="575" name=""/>
              <p:cNvSpPr/>
              <p:nvPr/>
            </p:nvSpPr>
            <p:spPr>
              <a:xfrm rot="17028000">
                <a:off x="379440" y="2602440"/>
                <a:ext cx="295920" cy="221400"/>
              </a:xfrm>
              <a:custGeom>
                <a:avLst/>
                <a:gdLst/>
                <a:ahLst/>
                <a:rect l="l" t="t" r="r" b="b"/>
                <a:pathLst>
                  <a:path w="576" h="384">
                    <a:moveTo>
                      <a:pt x="288" y="240"/>
                    </a:moveTo>
                    <a:lnTo>
                      <a:pt x="0" y="192"/>
                    </a:lnTo>
                    <a:lnTo>
                      <a:pt x="96" y="0"/>
                    </a:lnTo>
                    <a:lnTo>
                      <a:pt x="288" y="144"/>
                    </a:lnTo>
                    <a:lnTo>
                      <a:pt x="576" y="192"/>
                    </a:lnTo>
                    <a:lnTo>
                      <a:pt x="528" y="336"/>
                    </a:lnTo>
                    <a:lnTo>
                      <a:pt x="432" y="384"/>
                    </a:lnTo>
                    <a:lnTo>
                      <a:pt x="240" y="192"/>
                    </a:lnTo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7028000">
                <a:off x="502560" y="2685960"/>
                <a:ext cx="49320" cy="55080"/>
              </a:xfrm>
              <a:prstGeom prst="ellipse">
                <a:avLst/>
              </a:prstGeom>
              <a:solidFill>
                <a:srgbClr val="99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7" name=""/>
          <p:cNvSpPr txBox="1"/>
          <p:nvPr/>
        </p:nvSpPr>
        <p:spPr>
          <a:xfrm>
            <a:off x="1332000" y="1268280"/>
            <a:ext cx="5184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3 раза за 1 день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1403280" y="2924280"/>
            <a:ext cx="5832720" cy="649080"/>
            <a:chOff x="1403280" y="2924280"/>
            <a:chExt cx="5832720" cy="649080"/>
          </a:xfrm>
        </p:grpSpPr>
        <p:sp>
          <p:nvSpPr>
            <p:cNvPr id="579" name=""/>
            <p:cNvSpPr/>
            <p:nvPr/>
          </p:nvSpPr>
          <p:spPr>
            <a:xfrm>
              <a:off x="2556000" y="3141720"/>
              <a:ext cx="142920" cy="1443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 txBox="1"/>
            <p:nvPr/>
          </p:nvSpPr>
          <p:spPr>
            <a:xfrm>
              <a:off x="1403280" y="2924280"/>
              <a:ext cx="5832720" cy="64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(3   30) за сентябрь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2340000" y="3830760"/>
            <a:ext cx="3851280" cy="1974240"/>
            <a:chOff x="2340000" y="3830760"/>
            <a:chExt cx="3851280" cy="1974240"/>
          </a:xfrm>
        </p:grpSpPr>
        <p:grpSp>
          <p:nvGrpSpPr>
            <p:cNvPr id="582" name=""/>
            <p:cNvGrpSpPr/>
            <p:nvPr/>
          </p:nvGrpSpPr>
          <p:grpSpPr>
            <a:xfrm>
              <a:off x="3808800" y="3908520"/>
              <a:ext cx="1036080" cy="1179360"/>
              <a:chOff x="3808800" y="3908520"/>
              <a:chExt cx="1036080" cy="1179360"/>
            </a:xfrm>
          </p:grpSpPr>
          <p:pic>
            <p:nvPicPr>
              <p:cNvPr id="58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08800" y="3908520"/>
                <a:ext cx="1036080" cy="1179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4" name=""/>
              <p:cNvGrpSpPr/>
              <p:nvPr/>
            </p:nvGrpSpPr>
            <p:grpSpPr>
              <a:xfrm>
                <a:off x="3994560" y="4350960"/>
                <a:ext cx="713880" cy="659160"/>
                <a:chOff x="3994560" y="4350960"/>
                <a:chExt cx="713880" cy="659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4053960" y="4369320"/>
                  <a:ext cx="568800" cy="64080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4347000" y="4655160"/>
                  <a:ext cx="18720" cy="33156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151520" y="4572000"/>
                  <a:ext cx="399960" cy="442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322880" y="4572000"/>
                  <a:ext cx="114120" cy="442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380120" y="4572000"/>
                  <a:ext cx="0" cy="442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084920" y="4616280"/>
                  <a:ext cx="123840" cy="1195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494240" y="4616280"/>
                  <a:ext cx="114120" cy="12348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208760" y="4483440"/>
                  <a:ext cx="56880" cy="4392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4494240" y="4373640"/>
                  <a:ext cx="189000" cy="29016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4565880" y="4584960"/>
                  <a:ext cx="142560" cy="7704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020480" y="4363560"/>
                  <a:ext cx="202320" cy="29664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994560" y="4588560"/>
                  <a:ext cx="133200" cy="8856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4266000" y="4378320"/>
                  <a:ext cx="190080" cy="8820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4280400" y="4350960"/>
                  <a:ext cx="74520" cy="8640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365720" y="4358880"/>
                  <a:ext cx="66600" cy="7452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0" name=""/>
            <p:cNvGrpSpPr/>
            <p:nvPr/>
          </p:nvGrpSpPr>
          <p:grpSpPr>
            <a:xfrm>
              <a:off x="5216040" y="3880440"/>
              <a:ext cx="970920" cy="1200960"/>
              <a:chOff x="5216040" y="3880440"/>
              <a:chExt cx="970920" cy="1200960"/>
            </a:xfrm>
          </p:grpSpPr>
          <p:pic>
            <p:nvPicPr>
              <p:cNvPr id="60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16040" y="3908520"/>
                <a:ext cx="970920" cy="11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2" name=""/>
              <p:cNvSpPr/>
              <p:nvPr/>
            </p:nvSpPr>
            <p:spPr>
              <a:xfrm>
                <a:off x="5372280" y="4619880"/>
                <a:ext cx="677160" cy="24876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543280" y="4588200"/>
                <a:ext cx="346680" cy="352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4" name=""/>
              <p:cNvGrpSpPr/>
              <p:nvPr/>
            </p:nvGrpSpPr>
            <p:grpSpPr>
              <a:xfrm>
                <a:off x="5720040" y="3880440"/>
                <a:ext cx="321480" cy="245160"/>
                <a:chOff x="5720040" y="3880440"/>
                <a:chExt cx="321480" cy="245160"/>
              </a:xfrm>
            </p:grpSpPr>
            <p:sp>
              <p:nvSpPr>
                <p:cNvPr id="605" name=""/>
                <p:cNvSpPr/>
                <p:nvPr/>
              </p:nvSpPr>
              <p:spPr>
                <a:xfrm rot="720600">
                  <a:off x="5736240" y="3908160"/>
                  <a:ext cx="288720" cy="1893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rot="720600">
                  <a:off x="5856120" y="3979440"/>
                  <a:ext cx="47880" cy="471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5364360" y="3884400"/>
                <a:ext cx="280800" cy="285120"/>
                <a:chOff x="5364360" y="3884400"/>
                <a:chExt cx="280800" cy="285120"/>
              </a:xfrm>
            </p:grpSpPr>
            <p:sp>
              <p:nvSpPr>
                <p:cNvPr id="608" name=""/>
                <p:cNvSpPr/>
                <p:nvPr/>
              </p:nvSpPr>
              <p:spPr>
                <a:xfrm rot="17028000">
                  <a:off x="5386320" y="3911400"/>
                  <a:ext cx="236880" cy="2311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rot="17028000">
                  <a:off x="5484960" y="3998160"/>
                  <a:ext cx="39240" cy="5760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0" name=""/>
            <p:cNvGrpSpPr/>
            <p:nvPr/>
          </p:nvGrpSpPr>
          <p:grpSpPr>
            <a:xfrm>
              <a:off x="4359240" y="3830760"/>
              <a:ext cx="1036080" cy="1203120"/>
              <a:chOff x="4359240" y="3830760"/>
              <a:chExt cx="1036080" cy="1203120"/>
            </a:xfrm>
          </p:grpSpPr>
          <p:pic>
            <p:nvPicPr>
              <p:cNvPr id="61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359240" y="3860640"/>
                <a:ext cx="1036080" cy="117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>
                <a:off x="4526280" y="4572360"/>
                <a:ext cx="722520" cy="24876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333333"/>
                  </a:gs>
                  <a:gs pos="100000">
                    <a:srgbClr val="777777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708800" y="4540680"/>
                <a:ext cx="370080" cy="352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50000">
                    <a:srgbClr val="ffffff"/>
                  </a:gs>
                  <a:gs pos="100000">
                    <a:srgbClr val="4d4d4d"/>
                  </a:gs>
                </a:gsLst>
                <a:lin ang="81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4" name=""/>
              <p:cNvGrpSpPr/>
              <p:nvPr/>
            </p:nvGrpSpPr>
            <p:grpSpPr>
              <a:xfrm>
                <a:off x="4898160" y="3830760"/>
                <a:ext cx="340560" cy="249480"/>
                <a:chOff x="4898160" y="3830760"/>
                <a:chExt cx="340560" cy="249480"/>
              </a:xfrm>
            </p:grpSpPr>
            <p:sp>
              <p:nvSpPr>
                <p:cNvPr id="615" name=""/>
                <p:cNvSpPr/>
                <p:nvPr/>
              </p:nvSpPr>
              <p:spPr>
                <a:xfrm rot="720600">
                  <a:off x="4914000" y="3860640"/>
                  <a:ext cx="308160" cy="1893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rot="720600">
                  <a:off x="5042160" y="3931200"/>
                  <a:ext cx="51120" cy="471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4519440" y="3834720"/>
                <a:ext cx="295920" cy="288720"/>
                <a:chOff x="4519440" y="3834720"/>
                <a:chExt cx="295920" cy="288720"/>
              </a:xfrm>
            </p:grpSpPr>
            <p:sp>
              <p:nvSpPr>
                <p:cNvPr id="618" name=""/>
                <p:cNvSpPr/>
                <p:nvPr/>
              </p:nvSpPr>
              <p:spPr>
                <a:xfrm rot="17028000">
                  <a:off x="4548960" y="3855600"/>
                  <a:ext cx="236880" cy="24660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rot="17028000">
                  <a:off x="4647600" y="3948120"/>
                  <a:ext cx="39240" cy="615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0" name=""/>
            <p:cNvGrpSpPr/>
            <p:nvPr/>
          </p:nvGrpSpPr>
          <p:grpSpPr>
            <a:xfrm>
              <a:off x="4848840" y="4121640"/>
              <a:ext cx="970920" cy="1200960"/>
              <a:chOff x="4848840" y="4121640"/>
              <a:chExt cx="970920" cy="1200960"/>
            </a:xfrm>
          </p:grpSpPr>
          <p:pic>
            <p:nvPicPr>
              <p:cNvPr id="62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848840" y="4149720"/>
                <a:ext cx="970920" cy="11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2" name=""/>
              <p:cNvSpPr/>
              <p:nvPr/>
            </p:nvSpPr>
            <p:spPr>
              <a:xfrm>
                <a:off x="5005080" y="4861080"/>
                <a:ext cx="677160" cy="24876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176080" y="4829400"/>
                <a:ext cx="346680" cy="352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4" name=""/>
              <p:cNvGrpSpPr/>
              <p:nvPr/>
            </p:nvGrpSpPr>
            <p:grpSpPr>
              <a:xfrm>
                <a:off x="5352840" y="4121640"/>
                <a:ext cx="321480" cy="245160"/>
                <a:chOff x="5352840" y="4121640"/>
                <a:chExt cx="321480" cy="245160"/>
              </a:xfrm>
            </p:grpSpPr>
            <p:sp>
              <p:nvSpPr>
                <p:cNvPr id="625" name=""/>
                <p:cNvSpPr/>
                <p:nvPr/>
              </p:nvSpPr>
              <p:spPr>
                <a:xfrm rot="720600">
                  <a:off x="5369040" y="4149360"/>
                  <a:ext cx="288720" cy="1893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rot="720600">
                  <a:off x="5488920" y="4220640"/>
                  <a:ext cx="47880" cy="471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4997160" y="4125600"/>
                <a:ext cx="280800" cy="285120"/>
                <a:chOff x="4997160" y="4125600"/>
                <a:chExt cx="280800" cy="285120"/>
              </a:xfrm>
            </p:grpSpPr>
            <p:sp>
              <p:nvSpPr>
                <p:cNvPr id="628" name=""/>
                <p:cNvSpPr/>
                <p:nvPr/>
              </p:nvSpPr>
              <p:spPr>
                <a:xfrm rot="17028000">
                  <a:off x="5019120" y="4152600"/>
                  <a:ext cx="236880" cy="2311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rot="17028000">
                  <a:off x="5117760" y="4239360"/>
                  <a:ext cx="39240" cy="5760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0" name=""/>
            <p:cNvGrpSpPr/>
            <p:nvPr/>
          </p:nvGrpSpPr>
          <p:grpSpPr>
            <a:xfrm>
              <a:off x="4359240" y="4119840"/>
              <a:ext cx="1036080" cy="1202760"/>
              <a:chOff x="4359240" y="4119840"/>
              <a:chExt cx="1036080" cy="1202760"/>
            </a:xfrm>
          </p:grpSpPr>
          <p:pic>
            <p:nvPicPr>
              <p:cNvPr id="63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59240" y="4149720"/>
                <a:ext cx="1036080" cy="11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2" name=""/>
              <p:cNvSpPr/>
              <p:nvPr/>
            </p:nvSpPr>
            <p:spPr>
              <a:xfrm>
                <a:off x="4526280" y="4861080"/>
                <a:ext cx="722520" cy="24876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333333"/>
                  </a:gs>
                  <a:gs pos="100000">
                    <a:srgbClr val="777777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708800" y="4829400"/>
                <a:ext cx="370080" cy="352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50000">
                    <a:srgbClr val="ffffff"/>
                  </a:gs>
                  <a:gs pos="100000">
                    <a:srgbClr val="4d4d4d"/>
                  </a:gs>
                </a:gsLst>
                <a:lin ang="81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4898160" y="4119840"/>
                <a:ext cx="340560" cy="249480"/>
                <a:chOff x="4898160" y="4119840"/>
                <a:chExt cx="340560" cy="249480"/>
              </a:xfrm>
            </p:grpSpPr>
            <p:sp>
              <p:nvSpPr>
                <p:cNvPr id="635" name=""/>
                <p:cNvSpPr/>
                <p:nvPr/>
              </p:nvSpPr>
              <p:spPr>
                <a:xfrm rot="720600">
                  <a:off x="4914000" y="4149720"/>
                  <a:ext cx="308160" cy="1893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rot="720600">
                  <a:off x="5042160" y="4220280"/>
                  <a:ext cx="51120" cy="471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4519440" y="4123800"/>
                <a:ext cx="295920" cy="288720"/>
                <a:chOff x="4519440" y="4123800"/>
                <a:chExt cx="295920" cy="288720"/>
              </a:xfrm>
            </p:grpSpPr>
            <p:sp>
              <p:nvSpPr>
                <p:cNvPr id="638" name=""/>
                <p:cNvSpPr/>
                <p:nvPr/>
              </p:nvSpPr>
              <p:spPr>
                <a:xfrm rot="17028000">
                  <a:off x="4548960" y="4144680"/>
                  <a:ext cx="236880" cy="24660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 rot="17028000">
                  <a:off x="4647600" y="4237200"/>
                  <a:ext cx="39240" cy="615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0" name=""/>
            <p:cNvGrpSpPr/>
            <p:nvPr/>
          </p:nvGrpSpPr>
          <p:grpSpPr>
            <a:xfrm>
              <a:off x="5155200" y="4197240"/>
              <a:ext cx="1036080" cy="1179360"/>
              <a:chOff x="5155200" y="4197240"/>
              <a:chExt cx="1036080" cy="1179360"/>
            </a:xfrm>
          </p:grpSpPr>
          <p:pic>
            <p:nvPicPr>
              <p:cNvPr id="64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155200" y="4197240"/>
                <a:ext cx="1036080" cy="1179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2" name=""/>
              <p:cNvGrpSpPr/>
              <p:nvPr/>
            </p:nvGrpSpPr>
            <p:grpSpPr>
              <a:xfrm>
                <a:off x="5340960" y="4639680"/>
                <a:ext cx="713880" cy="659160"/>
                <a:chOff x="5340960" y="4639680"/>
                <a:chExt cx="713880" cy="65916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5400360" y="4658040"/>
                  <a:ext cx="568800" cy="64080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693400" y="4943880"/>
                  <a:ext cx="18720" cy="33156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5497920" y="4860720"/>
                  <a:ext cx="399960" cy="442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669280" y="4860720"/>
                  <a:ext cx="114120" cy="442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726520" y="4860720"/>
                  <a:ext cx="0" cy="442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5431320" y="4905000"/>
                  <a:ext cx="123840" cy="1195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840640" y="4905000"/>
                  <a:ext cx="114120" cy="12348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555160" y="4772160"/>
                  <a:ext cx="56880" cy="4392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840640" y="4662360"/>
                  <a:ext cx="189000" cy="29016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912280" y="4873680"/>
                  <a:ext cx="142560" cy="7704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366880" y="4652280"/>
                  <a:ext cx="202320" cy="29664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340960" y="4877280"/>
                  <a:ext cx="133200" cy="8856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612400" y="4667040"/>
                  <a:ext cx="190080" cy="8820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626800" y="4639680"/>
                  <a:ext cx="74520" cy="8640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712120" y="4647600"/>
                  <a:ext cx="66600" cy="7452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8" name=""/>
            <p:cNvGrpSpPr/>
            <p:nvPr/>
          </p:nvGrpSpPr>
          <p:grpSpPr>
            <a:xfrm>
              <a:off x="3992400" y="4197240"/>
              <a:ext cx="1036080" cy="1179360"/>
              <a:chOff x="3992400" y="4197240"/>
              <a:chExt cx="1036080" cy="1179360"/>
            </a:xfrm>
          </p:grpSpPr>
          <p:pic>
            <p:nvPicPr>
              <p:cNvPr id="65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992400" y="4197240"/>
                <a:ext cx="1036080" cy="1179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0" name=""/>
              <p:cNvGrpSpPr/>
              <p:nvPr/>
            </p:nvGrpSpPr>
            <p:grpSpPr>
              <a:xfrm>
                <a:off x="4178160" y="4639680"/>
                <a:ext cx="713880" cy="659160"/>
                <a:chOff x="4178160" y="4639680"/>
                <a:chExt cx="713880" cy="65916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4237560" y="4658040"/>
                  <a:ext cx="568800" cy="64080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530600" y="4943880"/>
                  <a:ext cx="18720" cy="33156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335120" y="4860720"/>
                  <a:ext cx="399960" cy="442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506480" y="4860720"/>
                  <a:ext cx="114120" cy="442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563720" y="4860720"/>
                  <a:ext cx="0" cy="442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268520" y="4905000"/>
                  <a:ext cx="123840" cy="1195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677840" y="4905000"/>
                  <a:ext cx="114120" cy="12348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392360" y="4772160"/>
                  <a:ext cx="56880" cy="4392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677840" y="4662360"/>
                  <a:ext cx="189000" cy="29016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749480" y="4873680"/>
                  <a:ext cx="142560" cy="7704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204080" y="4652280"/>
                  <a:ext cx="202320" cy="29664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178160" y="4877280"/>
                  <a:ext cx="133200" cy="8856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449600" y="4667040"/>
                  <a:ext cx="190080" cy="8820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464000" y="4639680"/>
                  <a:ext cx="74520" cy="8640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549320" y="4647600"/>
                  <a:ext cx="66600" cy="7452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6" name=""/>
            <p:cNvGrpSpPr/>
            <p:nvPr/>
          </p:nvGrpSpPr>
          <p:grpSpPr>
            <a:xfrm>
              <a:off x="3318840" y="4121640"/>
              <a:ext cx="970920" cy="1200960"/>
              <a:chOff x="3318840" y="4121640"/>
              <a:chExt cx="970920" cy="1200960"/>
            </a:xfrm>
          </p:grpSpPr>
          <p:pic>
            <p:nvPicPr>
              <p:cNvPr id="67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318840" y="4149720"/>
                <a:ext cx="970920" cy="11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8" name=""/>
              <p:cNvSpPr/>
              <p:nvPr/>
            </p:nvSpPr>
            <p:spPr>
              <a:xfrm>
                <a:off x="3475080" y="4861080"/>
                <a:ext cx="677160" cy="24876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646080" y="4829400"/>
                <a:ext cx="346680" cy="352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3822840" y="4121640"/>
                <a:ext cx="321480" cy="245160"/>
                <a:chOff x="3822840" y="4121640"/>
                <a:chExt cx="321480" cy="245160"/>
              </a:xfrm>
            </p:grpSpPr>
            <p:sp>
              <p:nvSpPr>
                <p:cNvPr id="681" name=""/>
                <p:cNvSpPr/>
                <p:nvPr/>
              </p:nvSpPr>
              <p:spPr>
                <a:xfrm rot="720600">
                  <a:off x="3839040" y="4149360"/>
                  <a:ext cx="288720" cy="1893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rot="720600">
                  <a:off x="3958920" y="4220640"/>
                  <a:ext cx="47880" cy="471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3467160" y="4125600"/>
                <a:ext cx="280800" cy="285120"/>
                <a:chOff x="3467160" y="4125600"/>
                <a:chExt cx="280800" cy="285120"/>
              </a:xfrm>
            </p:grpSpPr>
            <p:sp>
              <p:nvSpPr>
                <p:cNvPr id="684" name=""/>
                <p:cNvSpPr/>
                <p:nvPr/>
              </p:nvSpPr>
              <p:spPr>
                <a:xfrm rot="17028000">
                  <a:off x="3489120" y="4152600"/>
                  <a:ext cx="236880" cy="2311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rot="17028000">
                  <a:off x="3587760" y="4239360"/>
                  <a:ext cx="39240" cy="5760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6" name=""/>
            <p:cNvGrpSpPr/>
            <p:nvPr/>
          </p:nvGrpSpPr>
          <p:grpSpPr>
            <a:xfrm>
              <a:off x="3563280" y="4197240"/>
              <a:ext cx="1035720" cy="1179360"/>
              <a:chOff x="3563280" y="4197240"/>
              <a:chExt cx="1035720" cy="1179360"/>
            </a:xfrm>
          </p:grpSpPr>
          <p:pic>
            <p:nvPicPr>
              <p:cNvPr id="68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563280" y="4197240"/>
                <a:ext cx="1035720" cy="1179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8" name=""/>
              <p:cNvGrpSpPr/>
              <p:nvPr/>
            </p:nvGrpSpPr>
            <p:grpSpPr>
              <a:xfrm>
                <a:off x="3748680" y="4639680"/>
                <a:ext cx="713880" cy="659160"/>
                <a:chOff x="3748680" y="4639680"/>
                <a:chExt cx="713880" cy="65916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3808080" y="4658040"/>
                  <a:ext cx="568800" cy="64080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101120" y="4943880"/>
                  <a:ext cx="18720" cy="33156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3905640" y="4860720"/>
                  <a:ext cx="399960" cy="442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077000" y="4860720"/>
                  <a:ext cx="114120" cy="442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134240" y="4860720"/>
                  <a:ext cx="0" cy="442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3839040" y="4905000"/>
                  <a:ext cx="123840" cy="1195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248360" y="4905000"/>
                  <a:ext cx="114120" cy="12348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3962880" y="4772160"/>
                  <a:ext cx="56880" cy="4392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4248360" y="4662360"/>
                  <a:ext cx="189000" cy="29016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4320000" y="4873680"/>
                  <a:ext cx="142560" cy="7704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774600" y="4652280"/>
                  <a:ext cx="202320" cy="29664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748680" y="4877280"/>
                  <a:ext cx="133200" cy="8856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020120" y="4667040"/>
                  <a:ext cx="190080" cy="8820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034520" y="4639680"/>
                  <a:ext cx="74520" cy="8640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119840" y="4647600"/>
                  <a:ext cx="66600" cy="7452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4" name=""/>
            <p:cNvGrpSpPr/>
            <p:nvPr/>
          </p:nvGrpSpPr>
          <p:grpSpPr>
            <a:xfrm>
              <a:off x="2401920" y="3957480"/>
              <a:ext cx="1036080" cy="1179360"/>
              <a:chOff x="2401920" y="3957480"/>
              <a:chExt cx="1036080" cy="1179360"/>
            </a:xfrm>
          </p:grpSpPr>
          <p:pic>
            <p:nvPicPr>
              <p:cNvPr id="70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401920" y="3957480"/>
                <a:ext cx="1036080" cy="1179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6" name=""/>
              <p:cNvGrpSpPr/>
              <p:nvPr/>
            </p:nvGrpSpPr>
            <p:grpSpPr>
              <a:xfrm>
                <a:off x="2587680" y="4399920"/>
                <a:ext cx="713880" cy="659160"/>
                <a:chOff x="2587680" y="4399920"/>
                <a:chExt cx="713880" cy="65916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2647080" y="4418280"/>
                  <a:ext cx="568800" cy="64080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2940120" y="4704120"/>
                  <a:ext cx="18720" cy="33156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2744640" y="4620960"/>
                  <a:ext cx="399960" cy="442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2916000" y="4620960"/>
                  <a:ext cx="114120" cy="442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2973240" y="4620960"/>
                  <a:ext cx="0" cy="442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2678040" y="4665240"/>
                  <a:ext cx="123840" cy="1195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3087360" y="4665240"/>
                  <a:ext cx="114120" cy="12348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801880" y="4532400"/>
                  <a:ext cx="56880" cy="4392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3087360" y="4422600"/>
                  <a:ext cx="189000" cy="29016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3159000" y="4633920"/>
                  <a:ext cx="142560" cy="7704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613600" y="4412520"/>
                  <a:ext cx="202320" cy="29664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587680" y="4637520"/>
                  <a:ext cx="133200" cy="8856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2859120" y="4427280"/>
                  <a:ext cx="190080" cy="8820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2873520" y="4399920"/>
                  <a:ext cx="74520" cy="8640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958840" y="4407840"/>
                  <a:ext cx="66600" cy="7452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2" name=""/>
            <p:cNvGrpSpPr/>
            <p:nvPr/>
          </p:nvGrpSpPr>
          <p:grpSpPr>
            <a:xfrm>
              <a:off x="2829600" y="4246200"/>
              <a:ext cx="1035720" cy="1179360"/>
              <a:chOff x="2829600" y="4246200"/>
              <a:chExt cx="1035720" cy="1179360"/>
            </a:xfrm>
          </p:grpSpPr>
          <p:pic>
            <p:nvPicPr>
              <p:cNvPr id="72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829600" y="4246200"/>
                <a:ext cx="1035720" cy="1179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24" name=""/>
              <p:cNvGrpSpPr/>
              <p:nvPr/>
            </p:nvGrpSpPr>
            <p:grpSpPr>
              <a:xfrm>
                <a:off x="3015000" y="4688640"/>
                <a:ext cx="713880" cy="659160"/>
                <a:chOff x="3015000" y="4688640"/>
                <a:chExt cx="713880" cy="65916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3074400" y="4707000"/>
                  <a:ext cx="568800" cy="64080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3367440" y="4992840"/>
                  <a:ext cx="18720" cy="33156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171960" y="4909680"/>
                  <a:ext cx="399960" cy="442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343320" y="4909680"/>
                  <a:ext cx="114120" cy="442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400560" y="4909680"/>
                  <a:ext cx="0" cy="442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3105360" y="4953960"/>
                  <a:ext cx="123840" cy="1195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514680" y="4953960"/>
                  <a:ext cx="114120" cy="12348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3229200" y="4821120"/>
                  <a:ext cx="56880" cy="4392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3514680" y="4711320"/>
                  <a:ext cx="189000" cy="29016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586320" y="4922640"/>
                  <a:ext cx="142560" cy="7704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040920" y="4701240"/>
                  <a:ext cx="202320" cy="29664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3015000" y="4926240"/>
                  <a:ext cx="133200" cy="8856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286440" y="4716000"/>
                  <a:ext cx="190080" cy="8820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300840" y="4688640"/>
                  <a:ext cx="74520" cy="8640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386160" y="4696560"/>
                  <a:ext cx="66600" cy="7452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0" name=""/>
            <p:cNvGrpSpPr/>
            <p:nvPr/>
          </p:nvGrpSpPr>
          <p:grpSpPr>
            <a:xfrm>
              <a:off x="2340000" y="4264200"/>
              <a:ext cx="1036080" cy="1203120"/>
              <a:chOff x="2340000" y="4264200"/>
              <a:chExt cx="1036080" cy="1203120"/>
            </a:xfrm>
          </p:grpSpPr>
          <p:pic>
            <p:nvPicPr>
              <p:cNvPr id="74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340000" y="4294080"/>
                <a:ext cx="1036080" cy="117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2" name=""/>
              <p:cNvSpPr/>
              <p:nvPr/>
            </p:nvSpPr>
            <p:spPr>
              <a:xfrm>
                <a:off x="2507040" y="5005800"/>
                <a:ext cx="722520" cy="24876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333333"/>
                  </a:gs>
                  <a:gs pos="100000">
                    <a:srgbClr val="777777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689560" y="4974120"/>
                <a:ext cx="370080" cy="352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50000">
                    <a:srgbClr val="ffffff"/>
                  </a:gs>
                  <a:gs pos="100000">
                    <a:srgbClr val="4d4d4d"/>
                  </a:gs>
                </a:gsLst>
                <a:lin ang="81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44" name=""/>
              <p:cNvGrpSpPr/>
              <p:nvPr/>
            </p:nvGrpSpPr>
            <p:grpSpPr>
              <a:xfrm>
                <a:off x="2878920" y="4264200"/>
                <a:ext cx="340560" cy="249480"/>
                <a:chOff x="2878920" y="4264200"/>
                <a:chExt cx="340560" cy="249480"/>
              </a:xfrm>
            </p:grpSpPr>
            <p:sp>
              <p:nvSpPr>
                <p:cNvPr id="745" name=""/>
                <p:cNvSpPr/>
                <p:nvPr/>
              </p:nvSpPr>
              <p:spPr>
                <a:xfrm rot="720600">
                  <a:off x="2894760" y="4294080"/>
                  <a:ext cx="308160" cy="1893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rot="720600">
                  <a:off x="3022920" y="4364640"/>
                  <a:ext cx="51120" cy="471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2500200" y="4268160"/>
                <a:ext cx="295920" cy="288720"/>
                <a:chOff x="2500200" y="4268160"/>
                <a:chExt cx="295920" cy="288720"/>
              </a:xfrm>
            </p:grpSpPr>
            <p:sp>
              <p:nvSpPr>
                <p:cNvPr id="748" name=""/>
                <p:cNvSpPr/>
                <p:nvPr/>
              </p:nvSpPr>
              <p:spPr>
                <a:xfrm rot="17028000">
                  <a:off x="2529720" y="4289040"/>
                  <a:ext cx="236880" cy="24660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rot="17028000">
                  <a:off x="2628360" y="4381560"/>
                  <a:ext cx="39240" cy="615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0" name=""/>
            <p:cNvGrpSpPr/>
            <p:nvPr/>
          </p:nvGrpSpPr>
          <p:grpSpPr>
            <a:xfrm>
              <a:off x="3196440" y="4505400"/>
              <a:ext cx="1036080" cy="1203120"/>
              <a:chOff x="3196440" y="4505400"/>
              <a:chExt cx="1036080" cy="1203120"/>
            </a:xfrm>
          </p:grpSpPr>
          <p:pic>
            <p:nvPicPr>
              <p:cNvPr id="75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196440" y="4535280"/>
                <a:ext cx="1036080" cy="117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2" name=""/>
              <p:cNvSpPr/>
              <p:nvPr/>
            </p:nvSpPr>
            <p:spPr>
              <a:xfrm>
                <a:off x="3363480" y="5247000"/>
                <a:ext cx="722520" cy="24876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50000">
                    <a:srgbClr val="333333"/>
                  </a:gs>
                  <a:gs pos="100000">
                    <a:srgbClr val="777777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546000" y="5215320"/>
                <a:ext cx="370080" cy="352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50000">
                    <a:srgbClr val="ffffff"/>
                  </a:gs>
                  <a:gs pos="100000">
                    <a:srgbClr val="4d4d4d"/>
                  </a:gs>
                </a:gsLst>
                <a:lin ang="81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4" name=""/>
              <p:cNvGrpSpPr/>
              <p:nvPr/>
            </p:nvGrpSpPr>
            <p:grpSpPr>
              <a:xfrm>
                <a:off x="3735360" y="4505400"/>
                <a:ext cx="340560" cy="249480"/>
                <a:chOff x="3735360" y="4505400"/>
                <a:chExt cx="340560" cy="249480"/>
              </a:xfrm>
            </p:grpSpPr>
            <p:sp>
              <p:nvSpPr>
                <p:cNvPr id="755" name=""/>
                <p:cNvSpPr/>
                <p:nvPr/>
              </p:nvSpPr>
              <p:spPr>
                <a:xfrm rot="720600">
                  <a:off x="3751200" y="4535280"/>
                  <a:ext cx="308160" cy="1893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rot="720600">
                  <a:off x="3879360" y="4605840"/>
                  <a:ext cx="51120" cy="471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3356640" y="4509360"/>
                <a:ext cx="295920" cy="288720"/>
                <a:chOff x="3356640" y="4509360"/>
                <a:chExt cx="295920" cy="288720"/>
              </a:xfrm>
            </p:grpSpPr>
            <p:sp>
              <p:nvSpPr>
                <p:cNvPr id="758" name=""/>
                <p:cNvSpPr/>
                <p:nvPr/>
              </p:nvSpPr>
              <p:spPr>
                <a:xfrm rot="17028000">
                  <a:off x="3386160" y="4530240"/>
                  <a:ext cx="236880" cy="24660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rot="17028000">
                  <a:off x="3484800" y="4622760"/>
                  <a:ext cx="39240" cy="615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0" name=""/>
            <p:cNvGrpSpPr/>
            <p:nvPr/>
          </p:nvGrpSpPr>
          <p:grpSpPr>
            <a:xfrm>
              <a:off x="4542480" y="4410360"/>
              <a:ext cx="970920" cy="1201320"/>
              <a:chOff x="4542480" y="4410360"/>
              <a:chExt cx="970920" cy="1201320"/>
            </a:xfrm>
          </p:grpSpPr>
          <p:pic>
            <p:nvPicPr>
              <p:cNvPr id="76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542480" y="4438440"/>
                <a:ext cx="970920" cy="117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2" name=""/>
              <p:cNvSpPr/>
              <p:nvPr/>
            </p:nvSpPr>
            <p:spPr>
              <a:xfrm>
                <a:off x="4698720" y="5150160"/>
                <a:ext cx="677160" cy="24876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869720" y="5118480"/>
                <a:ext cx="346680" cy="352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64" name=""/>
              <p:cNvGrpSpPr/>
              <p:nvPr/>
            </p:nvGrpSpPr>
            <p:grpSpPr>
              <a:xfrm>
                <a:off x="5046480" y="4410360"/>
                <a:ext cx="321480" cy="245160"/>
                <a:chOff x="5046480" y="4410360"/>
                <a:chExt cx="321480" cy="245160"/>
              </a:xfrm>
            </p:grpSpPr>
            <p:sp>
              <p:nvSpPr>
                <p:cNvPr id="765" name=""/>
                <p:cNvSpPr/>
                <p:nvPr/>
              </p:nvSpPr>
              <p:spPr>
                <a:xfrm rot="720600">
                  <a:off x="5062680" y="4438080"/>
                  <a:ext cx="288720" cy="1893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rot="720600">
                  <a:off x="5182560" y="4509360"/>
                  <a:ext cx="47880" cy="471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4690800" y="4414320"/>
                <a:ext cx="280800" cy="285120"/>
                <a:chOff x="4690800" y="4414320"/>
                <a:chExt cx="280800" cy="285120"/>
              </a:xfrm>
            </p:grpSpPr>
            <p:sp>
              <p:nvSpPr>
                <p:cNvPr id="768" name=""/>
                <p:cNvSpPr/>
                <p:nvPr/>
              </p:nvSpPr>
              <p:spPr>
                <a:xfrm rot="17028000">
                  <a:off x="4712760" y="4441320"/>
                  <a:ext cx="236880" cy="2311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rot="17028000">
                  <a:off x="4811400" y="4528080"/>
                  <a:ext cx="39240" cy="5760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0" name=""/>
            <p:cNvGrpSpPr/>
            <p:nvPr/>
          </p:nvGrpSpPr>
          <p:grpSpPr>
            <a:xfrm>
              <a:off x="2768760" y="4604040"/>
              <a:ext cx="970920" cy="1200960"/>
              <a:chOff x="2768760" y="4604040"/>
              <a:chExt cx="970920" cy="1200960"/>
            </a:xfrm>
          </p:grpSpPr>
          <p:pic>
            <p:nvPicPr>
              <p:cNvPr id="77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768760" y="4632120"/>
                <a:ext cx="970920" cy="11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2" name=""/>
              <p:cNvSpPr/>
              <p:nvPr/>
            </p:nvSpPr>
            <p:spPr>
              <a:xfrm>
                <a:off x="2925000" y="5343480"/>
                <a:ext cx="677160" cy="24876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096000" y="5311800"/>
                <a:ext cx="346680" cy="352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4" name=""/>
              <p:cNvGrpSpPr/>
              <p:nvPr/>
            </p:nvGrpSpPr>
            <p:grpSpPr>
              <a:xfrm>
                <a:off x="3272760" y="4604040"/>
                <a:ext cx="321480" cy="245160"/>
                <a:chOff x="3272760" y="4604040"/>
                <a:chExt cx="321480" cy="245160"/>
              </a:xfrm>
            </p:grpSpPr>
            <p:sp>
              <p:nvSpPr>
                <p:cNvPr id="775" name=""/>
                <p:cNvSpPr/>
                <p:nvPr/>
              </p:nvSpPr>
              <p:spPr>
                <a:xfrm rot="720600">
                  <a:off x="3288960" y="4631760"/>
                  <a:ext cx="288720" cy="1893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rot="720600">
                  <a:off x="3408840" y="4703040"/>
                  <a:ext cx="47880" cy="471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2917080" y="4608000"/>
                <a:ext cx="280800" cy="285120"/>
                <a:chOff x="2917080" y="4608000"/>
                <a:chExt cx="280800" cy="285120"/>
              </a:xfrm>
            </p:grpSpPr>
            <p:sp>
              <p:nvSpPr>
                <p:cNvPr id="778" name=""/>
                <p:cNvSpPr/>
                <p:nvPr/>
              </p:nvSpPr>
              <p:spPr>
                <a:xfrm rot="17028000">
                  <a:off x="2939040" y="4635000"/>
                  <a:ext cx="236880" cy="2311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rot="17028000">
                  <a:off x="3037680" y="4721760"/>
                  <a:ext cx="39240" cy="5760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3869640" y="4314960"/>
              <a:ext cx="970920" cy="1201320"/>
              <a:chOff x="3869640" y="4314960"/>
              <a:chExt cx="970920" cy="1201320"/>
            </a:xfrm>
          </p:grpSpPr>
          <p:pic>
            <p:nvPicPr>
              <p:cNvPr id="781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869640" y="4343040"/>
                <a:ext cx="970920" cy="117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2" name=""/>
              <p:cNvSpPr/>
              <p:nvPr/>
            </p:nvSpPr>
            <p:spPr>
              <a:xfrm>
                <a:off x="4025880" y="5054760"/>
                <a:ext cx="677160" cy="248760"/>
              </a:xfrm>
              <a:custGeom>
                <a:avLst/>
                <a:gdLst/>
                <a:ahLst/>
                <a:rect l="l" t="t" r="r" b="b"/>
                <a:pathLst>
                  <a:path w="562" h="252">
                    <a:moveTo>
                      <a:pt x="138" y="0"/>
                    </a:moveTo>
                    <a:lnTo>
                      <a:pt x="438" y="8"/>
                    </a:lnTo>
                    <a:lnTo>
                      <a:pt x="562" y="224"/>
                    </a:lnTo>
                    <a:lnTo>
                      <a:pt x="470" y="248"/>
                    </a:lnTo>
                    <a:lnTo>
                      <a:pt x="400" y="96"/>
                    </a:lnTo>
                    <a:lnTo>
                      <a:pt x="454" y="252"/>
                    </a:lnTo>
                    <a:lnTo>
                      <a:pt x="322" y="248"/>
                    </a:lnTo>
                    <a:lnTo>
                      <a:pt x="304" y="96"/>
                    </a:lnTo>
                    <a:lnTo>
                      <a:pt x="304" y="240"/>
                    </a:lnTo>
                    <a:lnTo>
                      <a:pt x="112" y="240"/>
                    </a:lnTo>
                    <a:lnTo>
                      <a:pt x="208" y="96"/>
                    </a:lnTo>
                    <a:lnTo>
                      <a:pt x="90" y="240"/>
                    </a:lnTo>
                    <a:cubicBezTo>
                      <a:pt x="59" y="239"/>
                      <a:pt x="36" y="235"/>
                      <a:pt x="6" y="228"/>
                    </a:cubicBezTo>
                    <a:cubicBezTo>
                      <a:pt x="0" y="227"/>
                      <a:pt x="14" y="228"/>
                      <a:pt x="18" y="224"/>
                    </a:cubicBezTo>
                    <a:cubicBezTo>
                      <a:pt x="25" y="217"/>
                      <a:pt x="4" y="241"/>
                      <a:pt x="30" y="204"/>
                    </a:cubicBezTo>
                    <a:lnTo>
                      <a:pt x="1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660066"/>
                  </a:gs>
                  <a:gs pos="100000">
                    <a:srgbClr val="cc0099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196880" y="5023080"/>
                <a:ext cx="346680" cy="35280"/>
              </a:xfrm>
              <a:custGeom>
                <a:avLst/>
                <a:gdLst/>
                <a:ahLst/>
                <a:rect l="l" t="t" r="r" b="b"/>
                <a:pathLst>
                  <a:path w="288" h="36">
                    <a:moveTo>
                      <a:pt x="4" y="0"/>
                    </a:moveTo>
                    <a:cubicBezTo>
                      <a:pt x="11" y="0"/>
                      <a:pt x="17" y="0"/>
                      <a:pt x="24" y="0"/>
                    </a:cubicBezTo>
                    <a:lnTo>
                      <a:pt x="284" y="4"/>
                    </a:lnTo>
                    <a:lnTo>
                      <a:pt x="288" y="36"/>
                    </a:lnTo>
                    <a:lnTo>
                      <a:pt x="0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0066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84" name=""/>
              <p:cNvGrpSpPr/>
              <p:nvPr/>
            </p:nvGrpSpPr>
            <p:grpSpPr>
              <a:xfrm>
                <a:off x="4373640" y="4314960"/>
                <a:ext cx="321480" cy="245160"/>
                <a:chOff x="4373640" y="4314960"/>
                <a:chExt cx="321480" cy="245160"/>
              </a:xfrm>
            </p:grpSpPr>
            <p:sp>
              <p:nvSpPr>
                <p:cNvPr id="785" name=""/>
                <p:cNvSpPr/>
                <p:nvPr/>
              </p:nvSpPr>
              <p:spPr>
                <a:xfrm rot="720600">
                  <a:off x="4389840" y="4342680"/>
                  <a:ext cx="288720" cy="18936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rot="720600">
                  <a:off x="4509720" y="4413960"/>
                  <a:ext cx="47880" cy="4716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4017960" y="4318920"/>
                <a:ext cx="280800" cy="285120"/>
                <a:chOff x="4017960" y="4318920"/>
                <a:chExt cx="280800" cy="285120"/>
              </a:xfrm>
            </p:grpSpPr>
            <p:sp>
              <p:nvSpPr>
                <p:cNvPr id="788" name=""/>
                <p:cNvSpPr/>
                <p:nvPr/>
              </p:nvSpPr>
              <p:spPr>
                <a:xfrm rot="17028000">
                  <a:off x="4039920" y="4345920"/>
                  <a:ext cx="236880" cy="231120"/>
                </a:xfrm>
                <a:custGeom>
                  <a:avLst/>
                  <a:gdLst/>
                  <a:ahLst/>
                  <a:rect l="l" t="t" r="r" b="b"/>
                  <a:pathLst>
                    <a:path w="576" h="384">
                      <a:moveTo>
                        <a:pt x="288" y="240"/>
                      </a:moveTo>
                      <a:lnTo>
                        <a:pt x="0" y="192"/>
                      </a:lnTo>
                      <a:lnTo>
                        <a:pt x="96" y="0"/>
                      </a:lnTo>
                      <a:lnTo>
                        <a:pt x="288" y="144"/>
                      </a:lnTo>
                      <a:lnTo>
                        <a:pt x="576" y="192"/>
                      </a:lnTo>
                      <a:lnTo>
                        <a:pt x="528" y="336"/>
                      </a:lnTo>
                      <a:lnTo>
                        <a:pt x="432" y="384"/>
                      </a:lnTo>
                      <a:lnTo>
                        <a:pt x="240" y="192"/>
                      </a:lnTo>
                    </a:path>
                  </a:pathLst>
                </a:custGeom>
                <a:solidFill>
                  <a:srgbClr val="cc009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rot="17028000">
                  <a:off x="4138560" y="4432680"/>
                  <a:ext cx="39240" cy="57600"/>
                </a:xfrm>
                <a:prstGeom prst="ellipse">
                  <a:avLst/>
                </a:prstGeom>
                <a:solidFill>
                  <a:srgbClr val="6600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0" name=""/>
            <p:cNvGrpSpPr/>
            <p:nvPr/>
          </p:nvGrpSpPr>
          <p:grpSpPr>
            <a:xfrm>
              <a:off x="4052880" y="4583160"/>
              <a:ext cx="1036080" cy="1179360"/>
              <a:chOff x="4052880" y="4583160"/>
              <a:chExt cx="1036080" cy="1179360"/>
            </a:xfrm>
          </p:grpSpPr>
          <p:pic>
            <p:nvPicPr>
              <p:cNvPr id="79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052880" y="4583160"/>
                <a:ext cx="1036080" cy="1179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92" name=""/>
              <p:cNvGrpSpPr/>
              <p:nvPr/>
            </p:nvGrpSpPr>
            <p:grpSpPr>
              <a:xfrm>
                <a:off x="4238640" y="5025600"/>
                <a:ext cx="713880" cy="659160"/>
                <a:chOff x="4238640" y="5025600"/>
                <a:chExt cx="713880" cy="65916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4298040" y="5043960"/>
                  <a:ext cx="568800" cy="64080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4591080" y="5329800"/>
                  <a:ext cx="18720" cy="33156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4395600" y="5246640"/>
                  <a:ext cx="399960" cy="442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566960" y="5246640"/>
                  <a:ext cx="114120" cy="442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624200" y="5246640"/>
                  <a:ext cx="0" cy="442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329000" y="5290920"/>
                  <a:ext cx="123840" cy="1195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4738320" y="5290920"/>
                  <a:ext cx="114120" cy="12348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4452840" y="5158080"/>
                  <a:ext cx="56880" cy="4392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738320" y="5048280"/>
                  <a:ext cx="189000" cy="29016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809960" y="5259600"/>
                  <a:ext cx="142560" cy="7704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264560" y="5038200"/>
                  <a:ext cx="202320" cy="29664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4238640" y="5263200"/>
                  <a:ext cx="133200" cy="8856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4510080" y="5052960"/>
                  <a:ext cx="190080" cy="8820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4524480" y="5025600"/>
                  <a:ext cx="74520" cy="8640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4609800" y="5033520"/>
                  <a:ext cx="66600" cy="7452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8" name=""/>
            <p:cNvGrpSpPr/>
            <p:nvPr/>
          </p:nvGrpSpPr>
          <p:grpSpPr>
            <a:xfrm>
              <a:off x="4909680" y="4487400"/>
              <a:ext cx="1035720" cy="1179360"/>
              <a:chOff x="4909680" y="4487400"/>
              <a:chExt cx="1035720" cy="1179360"/>
            </a:xfrm>
          </p:grpSpPr>
          <p:pic>
            <p:nvPicPr>
              <p:cNvPr id="809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09680" y="4487400"/>
                <a:ext cx="1035720" cy="1179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10" name=""/>
              <p:cNvGrpSpPr/>
              <p:nvPr/>
            </p:nvGrpSpPr>
            <p:grpSpPr>
              <a:xfrm>
                <a:off x="5095080" y="4929840"/>
                <a:ext cx="713880" cy="659160"/>
                <a:chOff x="5095080" y="4929840"/>
                <a:chExt cx="713880" cy="65916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5154480" y="4948200"/>
                  <a:ext cx="568800" cy="640800"/>
                </a:xfrm>
                <a:custGeom>
                  <a:avLst/>
                  <a:gdLst/>
                  <a:ahLst/>
                  <a:rect l="l" t="t" r="r" b="b"/>
                  <a:pathLst>
                    <a:path w="478" h="695">
                      <a:moveTo>
                        <a:pt x="146" y="6"/>
                      </a:moveTo>
                      <a:cubicBezTo>
                        <a:pt x="158" y="0"/>
                        <a:pt x="199" y="1"/>
                        <a:pt x="206" y="10"/>
                      </a:cubicBezTo>
                      <a:cubicBezTo>
                        <a:pt x="213" y="19"/>
                        <a:pt x="193" y="47"/>
                        <a:pt x="190" y="61"/>
                      </a:cubicBezTo>
                      <a:cubicBezTo>
                        <a:pt x="187" y="75"/>
                        <a:pt x="165" y="91"/>
                        <a:pt x="190" y="97"/>
                      </a:cubicBezTo>
                      <a:cubicBezTo>
                        <a:pt x="215" y="103"/>
                        <a:pt x="318" y="109"/>
                        <a:pt x="340" y="97"/>
                      </a:cubicBezTo>
                      <a:cubicBezTo>
                        <a:pt x="362" y="85"/>
                        <a:pt x="325" y="43"/>
                        <a:pt x="322" y="28"/>
                      </a:cubicBezTo>
                      <a:cubicBezTo>
                        <a:pt x="319" y="13"/>
                        <a:pt x="317" y="10"/>
                        <a:pt x="322" y="6"/>
                      </a:cubicBezTo>
                      <a:cubicBezTo>
                        <a:pt x="327" y="2"/>
                        <a:pt x="342" y="4"/>
                        <a:pt x="350" y="6"/>
                      </a:cubicBezTo>
                      <a:cubicBezTo>
                        <a:pt x="358" y="8"/>
                        <a:pt x="362" y="3"/>
                        <a:pt x="370" y="18"/>
                      </a:cubicBezTo>
                      <a:cubicBezTo>
                        <a:pt x="378" y="33"/>
                        <a:pt x="391" y="69"/>
                        <a:pt x="398" y="94"/>
                      </a:cubicBezTo>
                      <a:cubicBezTo>
                        <a:pt x="405" y="119"/>
                        <a:pt x="411" y="142"/>
                        <a:pt x="414" y="170"/>
                      </a:cubicBezTo>
                      <a:cubicBezTo>
                        <a:pt x="417" y="198"/>
                        <a:pt x="409" y="237"/>
                        <a:pt x="414" y="262"/>
                      </a:cubicBezTo>
                      <a:cubicBezTo>
                        <a:pt x="419" y="287"/>
                        <a:pt x="433" y="293"/>
                        <a:pt x="442" y="318"/>
                      </a:cubicBezTo>
                      <a:cubicBezTo>
                        <a:pt x="451" y="343"/>
                        <a:pt x="460" y="379"/>
                        <a:pt x="466" y="412"/>
                      </a:cubicBezTo>
                      <a:cubicBezTo>
                        <a:pt x="472" y="445"/>
                        <a:pt x="478" y="486"/>
                        <a:pt x="478" y="518"/>
                      </a:cubicBezTo>
                      <a:cubicBezTo>
                        <a:pt x="478" y="550"/>
                        <a:pt x="471" y="577"/>
                        <a:pt x="466" y="604"/>
                      </a:cubicBezTo>
                      <a:cubicBezTo>
                        <a:pt x="461" y="631"/>
                        <a:pt x="451" y="669"/>
                        <a:pt x="446" y="682"/>
                      </a:cubicBezTo>
                      <a:cubicBezTo>
                        <a:pt x="441" y="695"/>
                        <a:pt x="443" y="683"/>
                        <a:pt x="438" y="682"/>
                      </a:cubicBezTo>
                      <a:cubicBezTo>
                        <a:pt x="433" y="681"/>
                        <a:pt x="424" y="680"/>
                        <a:pt x="418" y="678"/>
                      </a:cubicBezTo>
                      <a:cubicBezTo>
                        <a:pt x="412" y="676"/>
                        <a:pt x="409" y="675"/>
                        <a:pt x="402" y="670"/>
                      </a:cubicBezTo>
                      <a:cubicBezTo>
                        <a:pt x="395" y="665"/>
                        <a:pt x="383" y="656"/>
                        <a:pt x="374" y="650"/>
                      </a:cubicBezTo>
                      <a:cubicBezTo>
                        <a:pt x="365" y="644"/>
                        <a:pt x="355" y="636"/>
                        <a:pt x="346" y="634"/>
                      </a:cubicBezTo>
                      <a:cubicBezTo>
                        <a:pt x="337" y="632"/>
                        <a:pt x="331" y="636"/>
                        <a:pt x="322" y="637"/>
                      </a:cubicBezTo>
                      <a:cubicBezTo>
                        <a:pt x="313" y="638"/>
                        <a:pt x="300" y="634"/>
                        <a:pt x="292" y="637"/>
                      </a:cubicBezTo>
                      <a:cubicBezTo>
                        <a:pt x="284" y="640"/>
                        <a:pt x="282" y="647"/>
                        <a:pt x="274" y="652"/>
                      </a:cubicBezTo>
                      <a:cubicBezTo>
                        <a:pt x="266" y="657"/>
                        <a:pt x="252" y="667"/>
                        <a:pt x="244" y="667"/>
                      </a:cubicBezTo>
                      <a:cubicBezTo>
                        <a:pt x="236" y="667"/>
                        <a:pt x="239" y="657"/>
                        <a:pt x="226" y="652"/>
                      </a:cubicBezTo>
                      <a:cubicBezTo>
                        <a:pt x="213" y="647"/>
                        <a:pt x="180" y="641"/>
                        <a:pt x="166" y="638"/>
                      </a:cubicBezTo>
                      <a:cubicBezTo>
                        <a:pt x="152" y="635"/>
                        <a:pt x="151" y="633"/>
                        <a:pt x="142" y="634"/>
                      </a:cubicBezTo>
                      <a:cubicBezTo>
                        <a:pt x="133" y="635"/>
                        <a:pt x="125" y="639"/>
                        <a:pt x="114" y="646"/>
                      </a:cubicBezTo>
                      <a:cubicBezTo>
                        <a:pt x="103" y="653"/>
                        <a:pt x="85" y="667"/>
                        <a:pt x="74" y="674"/>
                      </a:cubicBezTo>
                      <a:cubicBezTo>
                        <a:pt x="63" y="681"/>
                        <a:pt x="53" y="690"/>
                        <a:pt x="46" y="686"/>
                      </a:cubicBezTo>
                      <a:cubicBezTo>
                        <a:pt x="39" y="682"/>
                        <a:pt x="41" y="671"/>
                        <a:pt x="34" y="652"/>
                      </a:cubicBezTo>
                      <a:cubicBezTo>
                        <a:pt x="27" y="633"/>
                        <a:pt x="8" y="596"/>
                        <a:pt x="4" y="571"/>
                      </a:cubicBezTo>
                      <a:cubicBezTo>
                        <a:pt x="0" y="546"/>
                        <a:pt x="8" y="523"/>
                        <a:pt x="10" y="499"/>
                      </a:cubicBezTo>
                      <a:cubicBezTo>
                        <a:pt x="12" y="475"/>
                        <a:pt x="10" y="454"/>
                        <a:pt x="16" y="427"/>
                      </a:cubicBezTo>
                      <a:cubicBezTo>
                        <a:pt x="22" y="400"/>
                        <a:pt x="36" y="363"/>
                        <a:pt x="46" y="337"/>
                      </a:cubicBezTo>
                      <a:cubicBezTo>
                        <a:pt x="56" y="311"/>
                        <a:pt x="71" y="289"/>
                        <a:pt x="78" y="270"/>
                      </a:cubicBezTo>
                      <a:cubicBezTo>
                        <a:pt x="85" y="251"/>
                        <a:pt x="85" y="238"/>
                        <a:pt x="86" y="222"/>
                      </a:cubicBezTo>
                      <a:cubicBezTo>
                        <a:pt x="87" y="206"/>
                        <a:pt x="81" y="188"/>
                        <a:pt x="82" y="172"/>
                      </a:cubicBezTo>
                      <a:cubicBezTo>
                        <a:pt x="83" y="156"/>
                        <a:pt x="86" y="143"/>
                        <a:pt x="94" y="127"/>
                      </a:cubicBezTo>
                      <a:cubicBezTo>
                        <a:pt x="102" y="111"/>
                        <a:pt x="123" y="89"/>
                        <a:pt x="130" y="76"/>
                      </a:cubicBezTo>
                      <a:cubicBezTo>
                        <a:pt x="137" y="63"/>
                        <a:pt x="133" y="61"/>
                        <a:pt x="136" y="49"/>
                      </a:cubicBezTo>
                      <a:cubicBezTo>
                        <a:pt x="139" y="37"/>
                        <a:pt x="134" y="12"/>
                        <a:pt x="146" y="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50000">
                      <a:srgbClr val="feec94"/>
                    </a:gs>
                    <a:gs pos="100000">
                      <a:srgbClr val="4d4d4d"/>
                    </a:gs>
                  </a:gsLst>
                  <a:lin ang="8100000"/>
                </a:gra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5447520" y="5234040"/>
                  <a:ext cx="18720" cy="331560"/>
                </a:xfrm>
                <a:custGeom>
                  <a:avLst/>
                  <a:gdLst/>
                  <a:ahLst/>
                  <a:rect l="l" t="t" r="r" b="b"/>
                  <a:pathLst>
                    <a:path w="16" h="360">
                      <a:moveTo>
                        <a:pt x="0" y="36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5252040" y="5150880"/>
                  <a:ext cx="399960" cy="44280"/>
                </a:xfrm>
                <a:prstGeom prst="rect">
                  <a:avLst/>
                </a:prstGeom>
                <a:solidFill>
                  <a:srgbClr val="bb5f0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5423400" y="5150880"/>
                  <a:ext cx="114120" cy="44280"/>
                </a:xfrm>
                <a:prstGeom prst="ellipse">
                  <a:avLst/>
                </a:prstGeom>
                <a:solidFill>
                  <a:srgbClr val="3333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5480640" y="5150880"/>
                  <a:ext cx="0" cy="44280"/>
                </a:xfrm>
                <a:prstGeom prst="line">
                  <a:avLst/>
                </a:prstGeom>
                <a:ln w="936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185440" y="5195160"/>
                  <a:ext cx="123840" cy="119520"/>
                </a:xfrm>
                <a:custGeom>
                  <a:avLst/>
                  <a:gdLst/>
                  <a:ahLst/>
                  <a:rect l="l" t="t" r="r" b="b"/>
                  <a:pathLst>
                    <a:path w="104" h="130">
                      <a:moveTo>
                        <a:pt x="56" y="0"/>
                      </a:moveTo>
                      <a:lnTo>
                        <a:pt x="104" y="0"/>
                      </a:lnTo>
                      <a:lnTo>
                        <a:pt x="52" y="78"/>
                      </a:lnTo>
                      <a:lnTo>
                        <a:pt x="0" y="130"/>
                      </a:lnTo>
                      <a:lnTo>
                        <a:pt x="24" y="58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94760" y="5195160"/>
                  <a:ext cx="114120" cy="123480"/>
                </a:xfrm>
                <a:custGeom>
                  <a:avLst/>
                  <a:gdLst/>
                  <a:ahLst/>
                  <a:rect l="l" t="t" r="r" b="b"/>
                  <a:pathLst>
                    <a:path w="96" h="134">
                      <a:moveTo>
                        <a:pt x="48" y="0"/>
                      </a:moveTo>
                      <a:lnTo>
                        <a:pt x="0" y="0"/>
                      </a:lnTo>
                      <a:lnTo>
                        <a:pt x="44" y="82"/>
                      </a:lnTo>
                      <a:lnTo>
                        <a:pt x="96" y="134"/>
                      </a:lnTo>
                      <a:lnTo>
                        <a:pt x="80" y="5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6480">
                  <a:solidFill>
                    <a:srgbClr val="bb5f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309280" y="5062320"/>
                  <a:ext cx="56880" cy="43920"/>
                </a:xfrm>
                <a:prstGeom prst="rect">
                  <a:avLst/>
                </a:prstGeom>
                <a:solidFill>
                  <a:srgbClr val="333333"/>
                </a:solidFill>
                <a:ln w="3240">
                  <a:solidFill>
                    <a:srgbClr val="bb5f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594760" y="4952520"/>
                  <a:ext cx="189000" cy="290160"/>
                </a:xfrm>
                <a:custGeom>
                  <a:avLst/>
                  <a:gdLst/>
                  <a:ahLst/>
                  <a:rect l="l" t="t" r="r" b="b"/>
                  <a:pathLst>
                    <a:path w="159" h="315">
                      <a:moveTo>
                        <a:pt x="0" y="5"/>
                      </a:moveTo>
                      <a:cubicBezTo>
                        <a:pt x="6" y="0"/>
                        <a:pt x="43" y="16"/>
                        <a:pt x="66" y="29"/>
                      </a:cubicBezTo>
                      <a:cubicBezTo>
                        <a:pt x="89" y="42"/>
                        <a:pt x="124" y="65"/>
                        <a:pt x="138" y="84"/>
                      </a:cubicBezTo>
                      <a:cubicBezTo>
                        <a:pt x="151" y="103"/>
                        <a:pt x="146" y="128"/>
                        <a:pt x="148" y="145"/>
                      </a:cubicBezTo>
                      <a:cubicBezTo>
                        <a:pt x="151" y="163"/>
                        <a:pt x="150" y="169"/>
                        <a:pt x="152" y="185"/>
                      </a:cubicBezTo>
                      <a:cubicBezTo>
                        <a:pt x="154" y="202"/>
                        <a:pt x="159" y="226"/>
                        <a:pt x="159" y="243"/>
                      </a:cubicBezTo>
                      <a:cubicBezTo>
                        <a:pt x="159" y="260"/>
                        <a:pt x="157" y="279"/>
                        <a:pt x="152" y="289"/>
                      </a:cubicBezTo>
                      <a:cubicBezTo>
                        <a:pt x="147" y="299"/>
                        <a:pt x="137" y="302"/>
                        <a:pt x="129" y="305"/>
                      </a:cubicBezTo>
                      <a:cubicBezTo>
                        <a:pt x="121" y="308"/>
                        <a:pt x="112" y="307"/>
                        <a:pt x="105" y="308"/>
                      </a:cubicBezTo>
                      <a:cubicBezTo>
                        <a:pt x="98" y="309"/>
                        <a:pt x="89" y="315"/>
                        <a:pt x="84" y="313"/>
                      </a:cubicBezTo>
                      <a:cubicBezTo>
                        <a:pt x="79" y="311"/>
                        <a:pt x="77" y="306"/>
                        <a:pt x="72" y="297"/>
                      </a:cubicBezTo>
                      <a:cubicBezTo>
                        <a:pt x="67" y="288"/>
                        <a:pt x="55" y="274"/>
                        <a:pt x="52" y="261"/>
                      </a:cubicBezTo>
                      <a:cubicBezTo>
                        <a:pt x="49" y="248"/>
                        <a:pt x="53" y="232"/>
                        <a:pt x="52" y="221"/>
                      </a:cubicBezTo>
                      <a:cubicBezTo>
                        <a:pt x="51" y="210"/>
                        <a:pt x="49" y="203"/>
                        <a:pt x="48" y="193"/>
                      </a:cubicBezTo>
                      <a:cubicBezTo>
                        <a:pt x="47" y="183"/>
                        <a:pt x="50" y="174"/>
                        <a:pt x="48" y="161"/>
                      </a:cubicBezTo>
                      <a:cubicBezTo>
                        <a:pt x="46" y="148"/>
                        <a:pt x="41" y="131"/>
                        <a:pt x="36" y="117"/>
                      </a:cubicBezTo>
                      <a:cubicBezTo>
                        <a:pt x="31" y="103"/>
                        <a:pt x="26" y="96"/>
                        <a:pt x="20" y="77"/>
                      </a:cubicBezTo>
                      <a:cubicBezTo>
                        <a:pt x="14" y="58"/>
                        <a:pt x="4" y="20"/>
                        <a:pt x="0" y="5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666400" y="5163840"/>
                  <a:ext cx="142560" cy="77040"/>
                </a:xfrm>
                <a:custGeom>
                  <a:avLst/>
                  <a:gdLst/>
                  <a:ahLst/>
                  <a:rect l="l" t="t" r="r" b="b"/>
                  <a:pathLst>
                    <a:path w="120" h="84">
                      <a:moveTo>
                        <a:pt x="116" y="0"/>
                      </a:moveTo>
                      <a:lnTo>
                        <a:pt x="112" y="0"/>
                      </a:lnTo>
                      <a:lnTo>
                        <a:pt x="120" y="60"/>
                      </a:lnTo>
                      <a:lnTo>
                        <a:pt x="24" y="84"/>
                      </a:lnTo>
                      <a:lnTo>
                        <a:pt x="0" y="44"/>
                      </a:lnTo>
                      <a:lnTo>
                        <a:pt x="0" y="48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5121000" y="4942440"/>
                  <a:ext cx="202320" cy="296640"/>
                </a:xfrm>
                <a:custGeom>
                  <a:avLst/>
                  <a:gdLst/>
                  <a:ahLst/>
                  <a:rect l="l" t="t" r="r" b="b"/>
                  <a:pathLst>
                    <a:path w="170" h="322">
                      <a:moveTo>
                        <a:pt x="170" y="8"/>
                      </a:moveTo>
                      <a:cubicBezTo>
                        <a:pt x="162" y="0"/>
                        <a:pt x="118" y="22"/>
                        <a:pt x="93" y="36"/>
                      </a:cubicBezTo>
                      <a:cubicBezTo>
                        <a:pt x="68" y="50"/>
                        <a:pt x="35" y="72"/>
                        <a:pt x="21" y="91"/>
                      </a:cubicBezTo>
                      <a:cubicBezTo>
                        <a:pt x="8" y="110"/>
                        <a:pt x="13" y="135"/>
                        <a:pt x="11" y="152"/>
                      </a:cubicBezTo>
                      <a:cubicBezTo>
                        <a:pt x="8" y="170"/>
                        <a:pt x="9" y="176"/>
                        <a:pt x="7" y="192"/>
                      </a:cubicBezTo>
                      <a:cubicBezTo>
                        <a:pt x="5" y="209"/>
                        <a:pt x="0" y="233"/>
                        <a:pt x="0" y="250"/>
                      </a:cubicBezTo>
                      <a:cubicBezTo>
                        <a:pt x="0" y="267"/>
                        <a:pt x="2" y="286"/>
                        <a:pt x="7" y="296"/>
                      </a:cubicBezTo>
                      <a:cubicBezTo>
                        <a:pt x="12" y="306"/>
                        <a:pt x="22" y="309"/>
                        <a:pt x="30" y="312"/>
                      </a:cubicBezTo>
                      <a:cubicBezTo>
                        <a:pt x="38" y="315"/>
                        <a:pt x="47" y="314"/>
                        <a:pt x="54" y="315"/>
                      </a:cubicBezTo>
                      <a:cubicBezTo>
                        <a:pt x="61" y="316"/>
                        <a:pt x="70" y="322"/>
                        <a:pt x="75" y="320"/>
                      </a:cubicBezTo>
                      <a:cubicBezTo>
                        <a:pt x="80" y="318"/>
                        <a:pt x="82" y="313"/>
                        <a:pt x="87" y="304"/>
                      </a:cubicBezTo>
                      <a:cubicBezTo>
                        <a:pt x="92" y="295"/>
                        <a:pt x="104" y="281"/>
                        <a:pt x="107" y="268"/>
                      </a:cubicBezTo>
                      <a:cubicBezTo>
                        <a:pt x="110" y="255"/>
                        <a:pt x="106" y="239"/>
                        <a:pt x="107" y="228"/>
                      </a:cubicBezTo>
                      <a:cubicBezTo>
                        <a:pt x="108" y="217"/>
                        <a:pt x="110" y="210"/>
                        <a:pt x="111" y="200"/>
                      </a:cubicBezTo>
                      <a:cubicBezTo>
                        <a:pt x="112" y="190"/>
                        <a:pt x="109" y="181"/>
                        <a:pt x="111" y="168"/>
                      </a:cubicBezTo>
                      <a:cubicBezTo>
                        <a:pt x="113" y="155"/>
                        <a:pt x="116" y="139"/>
                        <a:pt x="123" y="124"/>
                      </a:cubicBezTo>
                      <a:cubicBezTo>
                        <a:pt x="130" y="109"/>
                        <a:pt x="146" y="95"/>
                        <a:pt x="154" y="76"/>
                      </a:cubicBezTo>
                      <a:cubicBezTo>
                        <a:pt x="162" y="57"/>
                        <a:pt x="167" y="22"/>
                        <a:pt x="170" y="8"/>
                      </a:cubicBez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095080" y="5167440"/>
                  <a:ext cx="133200" cy="8856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0" y="64"/>
                      </a:lnTo>
                      <a:lnTo>
                        <a:pt x="92" y="96"/>
                      </a:lnTo>
                      <a:lnTo>
                        <a:pt x="108" y="48"/>
                      </a:lnTo>
                      <a:lnTo>
                        <a:pt x="112" y="4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5366520" y="4957200"/>
                  <a:ext cx="190080" cy="88200"/>
                </a:xfrm>
                <a:custGeom>
                  <a:avLst/>
                  <a:gdLst/>
                  <a:ahLst/>
                  <a:rect l="l" t="t" r="r" b="b"/>
                  <a:pathLst>
                    <a:path w="160" h="96">
                      <a:moveTo>
                        <a:pt x="28" y="4"/>
                      </a:moveTo>
                      <a:lnTo>
                        <a:pt x="84" y="32"/>
                      </a:lnTo>
                      <a:lnTo>
                        <a:pt x="96" y="20"/>
                      </a:lnTo>
                      <a:lnTo>
                        <a:pt x="104" y="0"/>
                      </a:lnTo>
                      <a:lnTo>
                        <a:pt x="136" y="4"/>
                      </a:lnTo>
                      <a:lnTo>
                        <a:pt x="144" y="32"/>
                      </a:lnTo>
                      <a:lnTo>
                        <a:pt x="160" y="60"/>
                      </a:lnTo>
                      <a:lnTo>
                        <a:pt x="160" y="84"/>
                      </a:lnTo>
                      <a:lnTo>
                        <a:pt x="128" y="92"/>
                      </a:lnTo>
                      <a:lnTo>
                        <a:pt x="100" y="92"/>
                      </a:lnTo>
                      <a:lnTo>
                        <a:pt x="56" y="96"/>
                      </a:lnTo>
                      <a:lnTo>
                        <a:pt x="12" y="84"/>
                      </a:lnTo>
                      <a:lnTo>
                        <a:pt x="0" y="66"/>
                      </a:lnTo>
                      <a:lnTo>
                        <a:pt x="28" y="4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5380920" y="4929840"/>
                  <a:ext cx="74520" cy="86400"/>
                </a:xfrm>
                <a:custGeom>
                  <a:avLst/>
                  <a:gdLst/>
                  <a:ahLst/>
                  <a:rect l="l" t="t" r="r" b="b"/>
                  <a:pathLst>
                    <a:path w="63" h="94">
                      <a:moveTo>
                        <a:pt x="24" y="0"/>
                      </a:moveTo>
                      <a:cubicBezTo>
                        <a:pt x="18" y="11"/>
                        <a:pt x="26" y="11"/>
                        <a:pt x="13" y="11"/>
                      </a:cubicBezTo>
                      <a:lnTo>
                        <a:pt x="0" y="22"/>
                      </a:lnTo>
                      <a:lnTo>
                        <a:pt x="24" y="94"/>
                      </a:lnTo>
                      <a:lnTo>
                        <a:pt x="63" y="54"/>
                      </a:lnTo>
                      <a:lnTo>
                        <a:pt x="17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466240" y="4937760"/>
                  <a:ext cx="66600" cy="74520"/>
                </a:xfrm>
                <a:custGeom>
                  <a:avLst/>
                  <a:gdLst/>
                  <a:ahLst/>
                  <a:rect l="l" t="t" r="r" b="b"/>
                  <a:pathLst>
                    <a:path w="56" h="81">
                      <a:moveTo>
                        <a:pt x="25" y="0"/>
                      </a:moveTo>
                      <a:cubicBezTo>
                        <a:pt x="31" y="11"/>
                        <a:pt x="23" y="11"/>
                        <a:pt x="36" y="11"/>
                      </a:cubicBezTo>
                      <a:lnTo>
                        <a:pt x="56" y="9"/>
                      </a:lnTo>
                      <a:lnTo>
                        <a:pt x="40" y="81"/>
                      </a:lnTo>
                      <a:lnTo>
                        <a:pt x="0" y="49"/>
                      </a:lnTo>
                      <a:lnTo>
                        <a:pt x="32" y="7"/>
                      </a:lnTo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26" name=""/>
          <p:cNvSpPr/>
          <p:nvPr/>
        </p:nvSpPr>
        <p:spPr>
          <a:xfrm flipH="1" rot="10800000">
            <a:off x="683280" y="5805360"/>
            <a:ext cx="78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addee5"/>
                </a:solidFill>
                <a:uFillTx/>
                <a:latin typeface="Times New Roman"/>
              </a:rPr>
              <a:t>( 3*30) * 125=1125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0:16:15Z</dcterms:created>
  <dc:creator>Пользователь</dc:creator>
  <dc:description/>
  <dc:language>en-US</dc:language>
  <cp:lastModifiedBy>Пользователь</cp:lastModifiedBy>
  <dcterms:modified xsi:type="dcterms:W3CDTF">2011-12-08T16:11:26Z</dcterms:modified>
  <cp:revision>4</cp:revision>
  <dc:subject/>
  <dc:title>Умножение и деления натуральных чисел</dc:title>
</cp:coreProperties>
</file>