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98B-A69D-4871-849B-FB5B62CC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92B-DF4A-4936-A6E6-F7B22CC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3E9-11E3-4C51-9FBE-F9579D86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577-C6AE-4198-8AFB-E484E1D2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337-26D9-4965-9587-066DFE89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F74-D5AF-4EEB-8E8E-06F74A1E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0169-6150-4020-B40E-108F96A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0553-CD90-4EAB-9A08-C5BF0F8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84E3-40B4-4EEA-85D3-02A4E3E7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426D-EB90-4EFF-963C-37C73028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5084-47DA-4358-9E56-267D7F7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509-0704-422C-BE69-BB773622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E795-75AD-4C49-9612-B4BF953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FACD-42C7-4818-855E-A40A6AE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8797-93F0-4568-ABE3-7E2279DE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AD4-B499-4B7E-907F-DAF3D82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5B3F-F8CA-44F7-AAED-C329922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E2E-95BB-4BA9-A8CE-B24D593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5B2-30DD-4FF2-BA51-6404127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589-9D1A-46BF-A757-A70FF78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1AE-6FBE-45CD-9E4A-FC74832D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298-F332-406C-8F75-349A507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490-A2F4-497F-BD50-65FE26A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06C-9A34-400E-953D-2D284C0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48E5-8EFA-42B3-A824-421B1F0E0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8F3E-918D-40B9-BC2C-5216481F1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множение натуральных чис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дготови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рестель Андр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еник 5 а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18440" y="3429000"/>
            <a:ext cx="2725560" cy="314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22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</a:rPr>
              <a:t>конец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всю историю человечества было придумано много способов умн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3068640"/>
            <a:ext cx="2725560" cy="321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72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692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b76a0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Умножение можно представить с помощью сложения. Например, я живу в трёхкомнатной квартире. В каждой комнате у меня лежит по два яблока. Сколько всего яб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46760" y="3287520"/>
            <a:ext cx="1247040" cy="962640"/>
            <a:chOff x="1346760" y="3287520"/>
            <a:chExt cx="1247040" cy="962640"/>
          </a:xfrm>
        </p:grpSpPr>
        <p:sp>
          <p:nvSpPr>
            <p:cNvPr id="134" name=""/>
            <p:cNvSpPr/>
            <p:nvPr/>
          </p:nvSpPr>
          <p:spPr>
            <a:xfrm rot="3003000">
              <a:off x="1482480" y="34329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3003600">
              <a:off x="1756440" y="3583800"/>
              <a:ext cx="399240" cy="41868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003000">
              <a:off x="1635120" y="39510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840320" y="3287520"/>
              <a:ext cx="753480" cy="425160"/>
              <a:chOff x="1840320" y="3287520"/>
              <a:chExt cx="753480" cy="425160"/>
            </a:xfrm>
          </p:grpSpPr>
          <p:sp>
            <p:nvSpPr>
              <p:cNvPr id="138" name=""/>
              <p:cNvSpPr/>
              <p:nvPr/>
            </p:nvSpPr>
            <p:spPr>
              <a:xfrm flipH="1" rot="3003600">
                <a:off x="1924560" y="330624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973160" y="3293280"/>
                <a:ext cx="620640" cy="419400"/>
                <a:chOff x="1973160" y="3293280"/>
                <a:chExt cx="620640" cy="41940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973160" y="3293280"/>
                  <a:ext cx="620640" cy="419400"/>
                  <a:chOff x="1973160" y="3293280"/>
                  <a:chExt cx="620640" cy="419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1206000">
                    <a:off x="2029680" y="338580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1206000">
                    <a:off x="1982160" y="346104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 flipH="1" rot="1206000">
                  <a:off x="2075760" y="340704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rot="1206000">
                  <a:off x="2150280" y="343440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rot="1206000">
                  <a:off x="2235960" y="34794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rot="1206000">
                  <a:off x="2184840" y="3382200"/>
                  <a:ext cx="73800" cy="554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rot="1206000">
                  <a:off x="2121120" y="3353400"/>
                  <a:ext cx="7956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" name=""/>
          <p:cNvSpPr txBox="1"/>
          <p:nvPr/>
        </p:nvSpPr>
        <p:spPr>
          <a:xfrm rot="5400000">
            <a:off x="2448720" y="3393360"/>
            <a:ext cx="574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720" y="2983680"/>
            <a:ext cx="941040" cy="1278720"/>
            <a:chOff x="846720" y="2983680"/>
            <a:chExt cx="941040" cy="1278720"/>
          </a:xfrm>
        </p:grpSpPr>
        <p:sp>
          <p:nvSpPr>
            <p:cNvPr id="150" name=""/>
            <p:cNvSpPr/>
            <p:nvPr/>
          </p:nvSpPr>
          <p:spPr>
            <a:xfrm flipH="1" rot="1546800">
              <a:off x="957600" y="3464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46800">
              <a:off x="1050480" y="347004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546800">
              <a:off x="1137240" y="3994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07080" y="2983680"/>
              <a:ext cx="532440" cy="736560"/>
              <a:chOff x="1207080" y="2983680"/>
              <a:chExt cx="532440" cy="736560"/>
            </a:xfrm>
          </p:grpSpPr>
          <p:sp>
            <p:nvSpPr>
              <p:cNvPr id="154" name=""/>
              <p:cNvSpPr/>
              <p:nvPr/>
            </p:nvSpPr>
            <p:spPr>
              <a:xfrm rot="1546800">
                <a:off x="1478160" y="337968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1207080" y="2983680"/>
                <a:ext cx="524520" cy="615600"/>
                <a:chOff x="1207080" y="2983680"/>
                <a:chExt cx="524520" cy="61560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207080" y="2983680"/>
                  <a:ext cx="524520" cy="615600"/>
                  <a:chOff x="1207080" y="2983680"/>
                  <a:chExt cx="524520" cy="6156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3344400">
                    <a:off x="1241640" y="3187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3344400">
                    <a:off x="1149840" y="3233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 rot="3344400">
                  <a:off x="1522800" y="33976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3344400">
                  <a:off x="1478160" y="333216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3344400">
                  <a:off x="1439640" y="3281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344400">
                  <a:off x="1540800" y="329796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3344400">
                  <a:off x="1577880" y="3347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2838240" y="3195360"/>
            <a:ext cx="1280880" cy="961560"/>
            <a:chOff x="2838240" y="3195360"/>
            <a:chExt cx="1280880" cy="961560"/>
          </a:xfrm>
        </p:grpSpPr>
        <p:sp>
          <p:nvSpPr>
            <p:cNvPr id="165" name=""/>
            <p:cNvSpPr/>
            <p:nvPr/>
          </p:nvSpPr>
          <p:spPr>
            <a:xfrm flipH="1" rot="18020400">
              <a:off x="3286440" y="3338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020400">
              <a:off x="3310560" y="351396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8020400">
              <a:off x="3814920" y="3831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838240" y="3226320"/>
              <a:ext cx="748800" cy="506160"/>
              <a:chOff x="2838240" y="3226320"/>
              <a:chExt cx="748800" cy="506160"/>
            </a:xfrm>
          </p:grpSpPr>
          <p:sp>
            <p:nvSpPr>
              <p:cNvPr id="169" name=""/>
              <p:cNvSpPr/>
              <p:nvPr/>
            </p:nvSpPr>
            <p:spPr>
              <a:xfrm rot="18020400">
                <a:off x="3299400" y="323712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2838240" y="3234960"/>
                <a:ext cx="622440" cy="497520"/>
                <a:chOff x="2838240" y="3234960"/>
                <a:chExt cx="622440" cy="49752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838240" y="3234960"/>
                  <a:ext cx="622440" cy="497520"/>
                  <a:chOff x="2838240" y="3234960"/>
                  <a:chExt cx="622440" cy="497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9818000">
                    <a:off x="2832120" y="336528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9818000">
                    <a:off x="2884680" y="34358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rot="19818000">
                  <a:off x="3291480" y="335664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9818000">
                  <a:off x="3222360" y="33958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9818000">
                  <a:off x="3151800" y="345420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9818000">
                  <a:off x="3156480" y="33494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9818000">
                  <a:off x="3209760" y="3310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3578040" y="3142800"/>
            <a:ext cx="1248840" cy="961560"/>
            <a:chOff x="3578040" y="3142800"/>
            <a:chExt cx="1248840" cy="961560"/>
          </a:xfrm>
        </p:grpSpPr>
        <p:sp>
          <p:nvSpPr>
            <p:cNvPr id="180" name=""/>
            <p:cNvSpPr/>
            <p:nvPr/>
          </p:nvSpPr>
          <p:spPr>
            <a:xfrm rot="3018600">
              <a:off x="3713760" y="328752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3018600">
              <a:off x="3987360" y="343836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018600">
              <a:off x="3866040" y="380412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073040" y="3142800"/>
              <a:ext cx="753840" cy="426960"/>
              <a:chOff x="4073040" y="3142800"/>
              <a:chExt cx="753840" cy="426960"/>
            </a:xfrm>
          </p:grpSpPr>
          <p:sp>
            <p:nvSpPr>
              <p:cNvPr id="184" name=""/>
              <p:cNvSpPr/>
              <p:nvPr/>
            </p:nvSpPr>
            <p:spPr>
              <a:xfrm flipH="1" rot="3018600">
                <a:off x="4157640" y="316116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205880" y="3148560"/>
                <a:ext cx="621000" cy="421200"/>
                <a:chOff x="4205880" y="3148560"/>
                <a:chExt cx="621000" cy="42120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4205880" y="3148560"/>
                  <a:ext cx="621000" cy="421200"/>
                  <a:chOff x="4205880" y="3148560"/>
                  <a:chExt cx="621000" cy="4212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221600">
                    <a:off x="4262760" y="324216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221600">
                    <a:off x="4215240" y="331704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 flipH="1" rot="1221600">
                  <a:off x="4309200" y="326304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1221600">
                  <a:off x="4383360" y="329040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1221600">
                  <a:off x="4469040" y="33354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221600">
                  <a:off x="4418280" y="323820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221600">
                  <a:off x="4354200" y="320940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4" name=""/>
          <p:cNvSpPr txBox="1"/>
          <p:nvPr/>
        </p:nvSpPr>
        <p:spPr>
          <a:xfrm rot="5400000">
            <a:off x="4823640" y="3393360"/>
            <a:ext cx="574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599800" y="2910600"/>
            <a:ext cx="941400" cy="1278360"/>
            <a:chOff x="5599800" y="2910600"/>
            <a:chExt cx="941400" cy="1278360"/>
          </a:xfrm>
        </p:grpSpPr>
        <p:sp>
          <p:nvSpPr>
            <p:cNvPr id="196" name=""/>
            <p:cNvSpPr/>
            <p:nvPr/>
          </p:nvSpPr>
          <p:spPr>
            <a:xfrm flipH="1" rot="1546800">
              <a:off x="5710320" y="339048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546800">
              <a:off x="5802840" y="339732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1546800">
              <a:off x="5890320" y="3921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960520" y="2910600"/>
              <a:ext cx="532080" cy="736560"/>
              <a:chOff x="5960520" y="2910600"/>
              <a:chExt cx="532080" cy="736560"/>
            </a:xfrm>
          </p:grpSpPr>
          <p:sp>
            <p:nvSpPr>
              <p:cNvPr id="200" name=""/>
              <p:cNvSpPr/>
              <p:nvPr/>
            </p:nvSpPr>
            <p:spPr>
              <a:xfrm rot="1546800">
                <a:off x="6230880" y="330696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960520" y="2910600"/>
                <a:ext cx="524520" cy="615600"/>
                <a:chOff x="5960520" y="2910600"/>
                <a:chExt cx="524520" cy="6156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960520" y="2910600"/>
                  <a:ext cx="524520" cy="615600"/>
                  <a:chOff x="5960520" y="2910600"/>
                  <a:chExt cx="524520" cy="615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3344400">
                    <a:off x="5995080" y="311472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3344400">
                    <a:off x="5903280" y="31604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 rot="3344400">
                  <a:off x="6275880" y="332460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3344400">
                  <a:off x="6231240" y="32590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3344400">
                  <a:off x="6193080" y="320796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344400">
                  <a:off x="6294240" y="32252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3344400">
                  <a:off x="6331320" y="3274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6031800" y="2983680"/>
            <a:ext cx="941400" cy="1278360"/>
            <a:chOff x="6031800" y="2983680"/>
            <a:chExt cx="941400" cy="1278360"/>
          </a:xfrm>
        </p:grpSpPr>
        <p:sp>
          <p:nvSpPr>
            <p:cNvPr id="211" name=""/>
            <p:cNvSpPr/>
            <p:nvPr/>
          </p:nvSpPr>
          <p:spPr>
            <a:xfrm flipH="1" rot="1546800">
              <a:off x="6142320" y="346356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46800">
              <a:off x="6234840" y="3470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546800">
              <a:off x="6322320" y="3994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92520" y="2983680"/>
              <a:ext cx="532080" cy="736560"/>
              <a:chOff x="6392520" y="2983680"/>
              <a:chExt cx="532080" cy="736560"/>
            </a:xfrm>
          </p:grpSpPr>
          <p:sp>
            <p:nvSpPr>
              <p:cNvPr id="215" name=""/>
              <p:cNvSpPr/>
              <p:nvPr/>
            </p:nvSpPr>
            <p:spPr>
              <a:xfrm rot="1546800">
                <a:off x="6662880" y="33800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392520" y="2983680"/>
                <a:ext cx="524520" cy="615600"/>
                <a:chOff x="6392520" y="2983680"/>
                <a:chExt cx="524520" cy="61560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6392520" y="2983680"/>
                  <a:ext cx="524520" cy="615600"/>
                  <a:chOff x="6392520" y="2983680"/>
                  <a:chExt cx="524520" cy="6156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3344400">
                    <a:off x="6427080" y="3187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3344400">
                    <a:off x="6335280" y="3233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rot="3344400">
                  <a:off x="6707880" y="33976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3344400">
                  <a:off x="6663240" y="33321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344400">
                  <a:off x="6625080" y="3281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3344400">
                  <a:off x="6726240" y="32983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344400">
                  <a:off x="6763320" y="3347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5" name=""/>
          <p:cNvGrpSpPr/>
          <p:nvPr/>
        </p:nvGrpSpPr>
        <p:grpSpPr>
          <a:xfrm>
            <a:off x="606240" y="4419360"/>
            <a:ext cx="1280880" cy="961560"/>
            <a:chOff x="606240" y="4419360"/>
            <a:chExt cx="1280880" cy="961560"/>
          </a:xfrm>
        </p:grpSpPr>
        <p:sp>
          <p:nvSpPr>
            <p:cNvPr id="226" name=""/>
            <p:cNvSpPr/>
            <p:nvPr/>
          </p:nvSpPr>
          <p:spPr>
            <a:xfrm flipH="1" rot="18020400">
              <a:off x="1054440" y="4562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8020400">
              <a:off x="1078560" y="473796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18020400">
              <a:off x="1582920" y="5055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06240" y="4450320"/>
              <a:ext cx="748800" cy="506160"/>
              <a:chOff x="606240" y="4450320"/>
              <a:chExt cx="748800" cy="506160"/>
            </a:xfrm>
          </p:grpSpPr>
          <p:sp>
            <p:nvSpPr>
              <p:cNvPr id="230" name=""/>
              <p:cNvSpPr/>
              <p:nvPr/>
            </p:nvSpPr>
            <p:spPr>
              <a:xfrm rot="18020400">
                <a:off x="1067400" y="446112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06240" y="4458960"/>
                <a:ext cx="622440" cy="497520"/>
                <a:chOff x="606240" y="4458960"/>
                <a:chExt cx="622440" cy="4975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606240" y="4458960"/>
                  <a:ext cx="622440" cy="497520"/>
                  <a:chOff x="606240" y="4458960"/>
                  <a:chExt cx="622440" cy="4975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9818000">
                    <a:off x="600120" y="458928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9818000">
                    <a:off x="652680" y="46598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 rot="19818000">
                  <a:off x="1059480" y="458064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9818000">
                  <a:off x="990360" y="46198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9818000">
                  <a:off x="919800" y="467820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9818000">
                  <a:off x="924480" y="45734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9818000">
                  <a:off x="977760" y="4534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1417320" y="4438440"/>
            <a:ext cx="1248840" cy="961560"/>
            <a:chOff x="1417320" y="4438440"/>
            <a:chExt cx="1248840" cy="961560"/>
          </a:xfrm>
        </p:grpSpPr>
        <p:sp>
          <p:nvSpPr>
            <p:cNvPr id="241" name=""/>
            <p:cNvSpPr/>
            <p:nvPr/>
          </p:nvSpPr>
          <p:spPr>
            <a:xfrm rot="3018600">
              <a:off x="1553040" y="45831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3018600">
              <a:off x="1826640" y="473400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3018600">
              <a:off x="1705320" y="509976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912320" y="4438440"/>
              <a:ext cx="753840" cy="426960"/>
              <a:chOff x="1912320" y="4438440"/>
              <a:chExt cx="753840" cy="426960"/>
            </a:xfrm>
          </p:grpSpPr>
          <p:sp>
            <p:nvSpPr>
              <p:cNvPr id="245" name=""/>
              <p:cNvSpPr/>
              <p:nvPr/>
            </p:nvSpPr>
            <p:spPr>
              <a:xfrm flipH="1" rot="3018600">
                <a:off x="1996920" y="445680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045160" y="4444200"/>
                <a:ext cx="621000" cy="421200"/>
                <a:chOff x="2045160" y="4444200"/>
                <a:chExt cx="621000" cy="42120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2045160" y="4444200"/>
                  <a:ext cx="621000" cy="421200"/>
                  <a:chOff x="2045160" y="4444200"/>
                  <a:chExt cx="621000" cy="4212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221600">
                    <a:off x="2102040" y="453780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221600">
                    <a:off x="2054520" y="461268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 flipH="1" rot="1221600">
                  <a:off x="2148480" y="455868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221600">
                  <a:off x="2222640" y="458604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1221600">
                  <a:off x="2308320" y="463104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1221600">
                  <a:off x="2257560" y="453384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1221600">
                  <a:off x="2193480" y="450504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5" name=""/>
          <p:cNvSpPr txBox="1"/>
          <p:nvPr/>
        </p:nvSpPr>
        <p:spPr>
          <a:xfrm>
            <a:off x="2700360" y="479736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32000" y="450864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2509920" cy="338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2509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Умножить число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на число </a:t>
            </a: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– это значит найти сумму </a:t>
            </a: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слагаемых, каждое из которых равно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4351320" y="3434040"/>
            <a:ext cx="441360" cy="2590560"/>
          </a:xfrm>
          <a:custGeom>
            <a:avLst/>
            <a:gdLst>
              <a:gd name="textAreaLeft" fmla="*/ 281880 w 441360"/>
              <a:gd name="textAreaRight" fmla="*/ 441720 w 4413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720" y="515772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32000" y="3860640"/>
            <a:ext cx="5473440" cy="649080"/>
            <a:chOff x="1332000" y="3860640"/>
            <a:chExt cx="5473440" cy="649080"/>
          </a:xfrm>
        </p:grpSpPr>
        <p:sp>
          <p:nvSpPr>
            <p:cNvPr id="264" name=""/>
            <p:cNvSpPr txBox="1"/>
            <p:nvPr/>
          </p:nvSpPr>
          <p:spPr>
            <a:xfrm>
              <a:off x="1332000" y="3860640"/>
              <a:ext cx="547344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  b = a + a + ...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2720" y="4292280"/>
              <a:ext cx="73080" cy="85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516720" y="3284640"/>
            <a:ext cx="2627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414972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5 + 35 + 35 + 3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508720" y="4149720"/>
            <a:ext cx="2158920" cy="738000"/>
            <a:chOff x="5508720" y="4149720"/>
            <a:chExt cx="2158920" cy="738000"/>
          </a:xfrm>
        </p:grpSpPr>
        <p:sp>
          <p:nvSpPr>
            <p:cNvPr id="270" name=""/>
            <p:cNvSpPr/>
            <p:nvPr/>
          </p:nvSpPr>
          <p:spPr>
            <a:xfrm>
              <a:off x="5508720" y="416844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683320" y="4149720"/>
                  <a:ext cx="173664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 txBox="1"/>
          <p:nvPr/>
        </p:nvSpPr>
        <p:spPr>
          <a:xfrm>
            <a:off x="0" y="242100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+ х + х + х + х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80000" y="2276640"/>
            <a:ext cx="2158920" cy="738000"/>
            <a:chOff x="5580000" y="2276640"/>
            <a:chExt cx="2158920" cy="738000"/>
          </a:xfrm>
        </p:grpSpPr>
        <p:sp>
          <p:nvSpPr>
            <p:cNvPr id="274" name=""/>
            <p:cNvSpPr/>
            <p:nvPr/>
          </p:nvSpPr>
          <p:spPr>
            <a:xfrm>
              <a:off x="5580000" y="2295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5946480" y="2276640"/>
                  <a:ext cx="1351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"/>
          <p:cNvSpPr txBox="1"/>
          <p:nvPr/>
        </p:nvSpPr>
        <p:spPr>
          <a:xfrm>
            <a:off x="0" y="328464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5 + 105 + 10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48360" y="3284640"/>
            <a:ext cx="2158920" cy="738000"/>
            <a:chOff x="5148360" y="3284640"/>
            <a:chExt cx="2158920" cy="738000"/>
          </a:xfrm>
        </p:grpSpPr>
        <p:sp>
          <p:nvSpPr>
            <p:cNvPr id="278" name=""/>
            <p:cNvSpPr/>
            <p:nvPr/>
          </p:nvSpPr>
          <p:spPr>
            <a:xfrm>
              <a:off x="5148360" y="330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194440" y="3284640"/>
                  <a:ext cx="19936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"/>
          <p:cNvSpPr txBox="1"/>
          <p:nvPr/>
        </p:nvSpPr>
        <p:spPr>
          <a:xfrm>
            <a:off x="179280" y="155736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c+d) + (c+d)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16360" y="1413000"/>
            <a:ext cx="3022560" cy="803160"/>
            <a:chOff x="4716360" y="1413000"/>
            <a:chExt cx="3022560" cy="803160"/>
          </a:xfrm>
        </p:grpSpPr>
        <p:sp>
          <p:nvSpPr>
            <p:cNvPr id="282" name=""/>
            <p:cNvSpPr/>
            <p:nvPr/>
          </p:nvSpPr>
          <p:spPr>
            <a:xfrm>
              <a:off x="4751280" y="1431720"/>
              <a:ext cx="298764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716360" y="1413000"/>
                  <a:ext cx="30225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с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Представь сумму в виде произведе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210440" y="3716280"/>
            <a:ext cx="1933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ри умножении любого числа на единицу всегда получаем это числ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24000" y="3357720"/>
            <a:ext cx="5040360" cy="1223640"/>
            <a:chOff x="2124000" y="3357720"/>
            <a:chExt cx="5040360" cy="1223640"/>
          </a:xfrm>
        </p:grpSpPr>
        <p:sp>
          <p:nvSpPr>
            <p:cNvPr id="289" name=""/>
            <p:cNvSpPr/>
            <p:nvPr/>
          </p:nvSpPr>
          <p:spPr>
            <a:xfrm>
              <a:off x="3419640" y="40050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124000" y="3357720"/>
              <a:ext cx="5040360" cy="12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1 = а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 умножении любого числа на ноль буде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39640" y="2565360"/>
            <a:ext cx="5473800" cy="576000"/>
            <a:chOff x="539640" y="2565360"/>
            <a:chExt cx="5473800" cy="576000"/>
          </a:xfrm>
        </p:grpSpPr>
        <p:sp>
          <p:nvSpPr>
            <p:cNvPr id="293" name=""/>
            <p:cNvSpPr txBox="1"/>
            <p:nvPr/>
          </p:nvSpPr>
          <p:spPr>
            <a:xfrm>
              <a:off x="539640" y="2565360"/>
              <a:ext cx="54738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  b   a   0 =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6036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964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072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344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9640" y="4149720"/>
            <a:ext cx="4392360" cy="649440"/>
            <a:chOff x="539640" y="4149720"/>
            <a:chExt cx="4392360" cy="649440"/>
          </a:xfrm>
        </p:grpSpPr>
        <p:sp>
          <p:nvSpPr>
            <p:cNvPr id="299" name=""/>
            <p:cNvSpPr/>
            <p:nvPr/>
          </p:nvSpPr>
          <p:spPr>
            <a:xfrm>
              <a:off x="342072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39640" y="4149720"/>
              <a:ext cx="439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   b   b   0 =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3964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728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87280" y="5516640"/>
            <a:ext cx="2592360" cy="576360"/>
            <a:chOff x="1187280" y="5516640"/>
            <a:chExt cx="2592360" cy="576360"/>
          </a:xfrm>
        </p:grpSpPr>
        <p:sp>
          <p:nvSpPr>
            <p:cNvPr id="304" name=""/>
            <p:cNvSpPr/>
            <p:nvPr/>
          </p:nvSpPr>
          <p:spPr>
            <a:xfrm>
              <a:off x="1979640" y="580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187280" y="5516640"/>
              <a:ext cx="25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= 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435640" y="1628640"/>
            <a:ext cx="3708360" cy="4896000"/>
          </a:xfrm>
          <a:custGeom>
            <a:avLst/>
            <a:gdLst>
              <a:gd name="textAreaLeft" fmla="*/ 846360 w 3708360"/>
              <a:gd name="textAreaRight" fmla="*/ 2862000 w 3708360"/>
              <a:gd name="textAreaTop" fmla="*/ 1117440 h 4896000"/>
              <a:gd name="textAreaBottom" fmla="*/ 37785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d2f2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16720" y="836640"/>
            <a:ext cx="1440000" cy="12650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78080" y="226080"/>
            <a:ext cx="7486920" cy="93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Реши задачу, составляя выражени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158920" cy="3522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635280" y="173520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В нашей школе 125 девоч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которых мальчишки дёргают за косички в среднем 3 раза в день кажд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             </a:t>
            </a: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колько раз были дёрнуты косички 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             </a:t>
            </a: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нтябрь у всех девочек</a:t>
            </a:r>
            <a:r>
              <a:rPr b="1" i="1" lang="en-US" sz="1800" spc="-1" strike="noStrike" u="sng">
                <a:solidFill>
                  <a:srgbClr val="66ff66"/>
                </a:solidFill>
                <a:uFillTx/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284720" y="3754800"/>
            <a:ext cx="4532400" cy="2939760"/>
            <a:chOff x="4284720" y="3754800"/>
            <a:chExt cx="4532400" cy="2939760"/>
          </a:xfrm>
        </p:grpSpPr>
        <p:grpSp>
          <p:nvGrpSpPr>
            <p:cNvPr id="312" name=""/>
            <p:cNvGrpSpPr/>
            <p:nvPr/>
          </p:nvGrpSpPr>
          <p:grpSpPr>
            <a:xfrm>
              <a:off x="6013440" y="3861000"/>
              <a:ext cx="1219320" cy="1762200"/>
              <a:chOff x="6013440" y="3861000"/>
              <a:chExt cx="1219320" cy="17622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3440" y="386100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4" name=""/>
              <p:cNvGrpSpPr/>
              <p:nvPr/>
            </p:nvGrpSpPr>
            <p:grpSpPr>
              <a:xfrm>
                <a:off x="6231960" y="4522320"/>
                <a:ext cx="840240" cy="984600"/>
                <a:chOff x="6231960" y="4522320"/>
                <a:chExt cx="840240" cy="984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302160" y="4549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646680" y="4976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16640" y="485280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18600" y="4852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85920" y="485280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38160" y="4919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20200" y="4919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83960" y="4720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20200" y="4556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904440" y="4871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2560" y="4541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31960" y="4877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51280" y="4563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68200" y="4522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9000" y="4534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7669440" y="3828600"/>
              <a:ext cx="1143000" cy="1784880"/>
              <a:chOff x="7669440" y="3828600"/>
              <a:chExt cx="1143000" cy="17848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69440" y="386100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7853400" y="4924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55000" y="487656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8255880" y="3828600"/>
                <a:ext cx="391680" cy="347400"/>
                <a:chOff x="8255880" y="3828600"/>
                <a:chExt cx="391680" cy="347400"/>
              </a:xfrm>
            </p:grpSpPr>
            <p:sp>
              <p:nvSpPr>
                <p:cNvPr id="335" name=""/>
                <p:cNvSpPr/>
                <p:nvPr/>
              </p:nvSpPr>
              <p:spPr>
                <a:xfrm rot="720600">
                  <a:off x="8281440" y="386064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720600">
                  <a:off x="8422920" y="3967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7835400" y="3833640"/>
                <a:ext cx="348840" cy="408960"/>
                <a:chOff x="7835400" y="3833640"/>
                <a:chExt cx="348840" cy="408960"/>
              </a:xfrm>
            </p:grpSpPr>
            <p:sp>
              <p:nvSpPr>
                <p:cNvPr id="338" name=""/>
                <p:cNvSpPr/>
                <p:nvPr/>
              </p:nvSpPr>
              <p:spPr>
                <a:xfrm rot="17028000">
                  <a:off x="7832520" y="3902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7028000">
                  <a:off x="7979760" y="4003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6661080" y="3754800"/>
              <a:ext cx="1219320" cy="1787400"/>
              <a:chOff x="6661080" y="3754800"/>
              <a:chExt cx="1219320" cy="17874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1080" y="378936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857640" y="4852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72200" y="480528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88920" y="3754800"/>
                <a:ext cx="414000" cy="352800"/>
                <a:chOff x="7288920" y="3754800"/>
                <a:chExt cx="414000" cy="352800"/>
              </a:xfrm>
            </p:grpSpPr>
            <p:sp>
              <p:nvSpPr>
                <p:cNvPr id="345" name=""/>
                <p:cNvSpPr/>
                <p:nvPr/>
              </p:nvSpPr>
              <p:spPr>
                <a:xfrm rot="720600">
                  <a:off x="7314480" y="3789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720600">
                  <a:off x="7465320" y="3895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840720" y="3759840"/>
                <a:ext cx="366480" cy="413280"/>
                <a:chOff x="6840720" y="3759840"/>
                <a:chExt cx="366480" cy="413280"/>
              </a:xfrm>
            </p:grpSpPr>
            <p:sp>
              <p:nvSpPr>
                <p:cNvPr id="348" name=""/>
                <p:cNvSpPr/>
                <p:nvPr/>
              </p:nvSpPr>
              <p:spPr>
                <a:xfrm rot="17028000">
                  <a:off x="6846840" y="3821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7028000">
                  <a:off x="6994080" y="3930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37440" y="4188960"/>
              <a:ext cx="1143000" cy="1784880"/>
              <a:chOff x="7237440" y="4188960"/>
              <a:chExt cx="1143000" cy="1784880"/>
            </a:xfrm>
          </p:grpSpPr>
          <p:pic>
            <p:nvPicPr>
              <p:cNvPr id="35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7440" y="422136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7421400" y="5284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23000" y="5236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7823880" y="4188960"/>
                <a:ext cx="391680" cy="347400"/>
                <a:chOff x="7823880" y="4188960"/>
                <a:chExt cx="391680" cy="347400"/>
              </a:xfrm>
            </p:grpSpPr>
            <p:sp>
              <p:nvSpPr>
                <p:cNvPr id="355" name=""/>
                <p:cNvSpPr/>
                <p:nvPr/>
              </p:nvSpPr>
              <p:spPr>
                <a:xfrm rot="720600">
                  <a:off x="7849440" y="422100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720600">
                  <a:off x="7990920" y="4327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7403400" y="4194000"/>
                <a:ext cx="348840" cy="408960"/>
                <a:chOff x="7403400" y="4194000"/>
                <a:chExt cx="348840" cy="408960"/>
              </a:xfrm>
            </p:grpSpPr>
            <p:sp>
              <p:nvSpPr>
                <p:cNvPr id="358" name=""/>
                <p:cNvSpPr/>
                <p:nvPr/>
              </p:nvSpPr>
              <p:spPr>
                <a:xfrm rot="17028000">
                  <a:off x="7400520" y="4262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7028000">
                  <a:off x="7547760" y="4364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6661080" y="4186800"/>
              <a:ext cx="1219320" cy="1787040"/>
              <a:chOff x="6661080" y="4186800"/>
              <a:chExt cx="1219320" cy="1787040"/>
            </a:xfrm>
          </p:grpSpPr>
          <p:pic>
            <p:nvPicPr>
              <p:cNvPr id="3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61080" y="4221360"/>
                <a:ext cx="12193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6857640" y="5284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72200" y="523692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288920" y="4186800"/>
                <a:ext cx="414000" cy="352440"/>
                <a:chOff x="7288920" y="4186800"/>
                <a:chExt cx="414000" cy="352440"/>
              </a:xfrm>
            </p:grpSpPr>
            <p:sp>
              <p:nvSpPr>
                <p:cNvPr id="365" name=""/>
                <p:cNvSpPr/>
                <p:nvPr/>
              </p:nvSpPr>
              <p:spPr>
                <a:xfrm rot="720600">
                  <a:off x="7314480" y="4221360"/>
                  <a:ext cx="36288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720600">
                  <a:off x="7465320" y="4327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840720" y="4191840"/>
                <a:ext cx="366480" cy="413280"/>
                <a:chOff x="6840720" y="4191840"/>
                <a:chExt cx="366480" cy="413280"/>
              </a:xfrm>
            </p:grpSpPr>
            <p:sp>
              <p:nvSpPr>
                <p:cNvPr id="368" name=""/>
                <p:cNvSpPr/>
                <p:nvPr/>
              </p:nvSpPr>
              <p:spPr>
                <a:xfrm rot="17028000">
                  <a:off x="6846840" y="4253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17028000">
                  <a:off x="6994080" y="4362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"/>
            <p:cNvGrpSpPr/>
            <p:nvPr/>
          </p:nvGrpSpPr>
          <p:grpSpPr>
            <a:xfrm>
              <a:off x="7597800" y="4292640"/>
              <a:ext cx="1219320" cy="1762200"/>
              <a:chOff x="7597800" y="4292640"/>
              <a:chExt cx="1219320" cy="1762200"/>
            </a:xfrm>
          </p:grpSpPr>
          <p:pic>
            <p:nvPicPr>
              <p:cNvPr id="3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97800" y="429264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"/>
              <p:cNvGrpSpPr/>
              <p:nvPr/>
            </p:nvGrpSpPr>
            <p:grpSpPr>
              <a:xfrm>
                <a:off x="7816320" y="4953960"/>
                <a:ext cx="840240" cy="984600"/>
                <a:chOff x="7816320" y="4953960"/>
                <a:chExt cx="840240" cy="984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88652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23104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00100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20296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7028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2252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40456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6832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0456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48880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4692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81632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13564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15256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25336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6229440" y="4292640"/>
              <a:ext cx="1219320" cy="1762200"/>
              <a:chOff x="6229440" y="4292640"/>
              <a:chExt cx="1219320" cy="1762200"/>
            </a:xfrm>
          </p:grpSpPr>
          <p:pic>
            <p:nvPicPr>
              <p:cNvPr id="3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9440" y="429264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0" name=""/>
              <p:cNvGrpSpPr/>
              <p:nvPr/>
            </p:nvGrpSpPr>
            <p:grpSpPr>
              <a:xfrm>
                <a:off x="6447960" y="4953960"/>
                <a:ext cx="840240" cy="984600"/>
                <a:chOff x="6447960" y="4953960"/>
                <a:chExt cx="840240" cy="9846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1816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86268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3264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460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90192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5416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3620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9996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3620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12044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7856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4796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6728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8420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8500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5437080" y="4188960"/>
              <a:ext cx="1143000" cy="1784880"/>
              <a:chOff x="5437080" y="4188960"/>
              <a:chExt cx="1143000" cy="1784880"/>
            </a:xfrm>
          </p:grpSpPr>
          <p:pic>
            <p:nvPicPr>
              <p:cNvPr id="4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37080" y="422136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5621040" y="5284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822640" y="5236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6023520" y="4188960"/>
                <a:ext cx="391680" cy="347400"/>
                <a:chOff x="6023520" y="4188960"/>
                <a:chExt cx="391680" cy="347400"/>
              </a:xfrm>
            </p:grpSpPr>
            <p:sp>
              <p:nvSpPr>
                <p:cNvPr id="411" name=""/>
                <p:cNvSpPr/>
                <p:nvPr/>
              </p:nvSpPr>
              <p:spPr>
                <a:xfrm rot="720600">
                  <a:off x="6049080" y="422100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720600">
                  <a:off x="6190560" y="4327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603040" y="4194000"/>
                <a:ext cx="348840" cy="408960"/>
                <a:chOff x="5603040" y="4194000"/>
                <a:chExt cx="348840" cy="408960"/>
              </a:xfrm>
            </p:grpSpPr>
            <p:sp>
              <p:nvSpPr>
                <p:cNvPr id="414" name=""/>
                <p:cNvSpPr/>
                <p:nvPr/>
              </p:nvSpPr>
              <p:spPr>
                <a:xfrm rot="17028000">
                  <a:off x="5600160" y="4262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7028000">
                  <a:off x="5747400" y="4364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724720" y="4292640"/>
              <a:ext cx="1218960" cy="1762200"/>
              <a:chOff x="5724720" y="4292640"/>
              <a:chExt cx="1218960" cy="1762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720" y="4292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8" name=""/>
              <p:cNvGrpSpPr/>
              <p:nvPr/>
            </p:nvGrpSpPr>
            <p:grpSpPr>
              <a:xfrm>
                <a:off x="5943240" y="4953960"/>
                <a:ext cx="840240" cy="984600"/>
                <a:chOff x="5943240" y="4953960"/>
                <a:chExt cx="840240" cy="9846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01344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35796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2792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32988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39720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04944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3148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9524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53148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61572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7384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94324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6256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27948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38028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4357800" y="3934080"/>
              <a:ext cx="1219320" cy="1761840"/>
              <a:chOff x="4357800" y="3934080"/>
              <a:chExt cx="1219320" cy="1761840"/>
            </a:xfrm>
          </p:grpSpPr>
          <p:pic>
            <p:nvPicPr>
              <p:cNvPr id="4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57800" y="3934080"/>
                <a:ext cx="1219320" cy="176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"/>
              <p:cNvGrpSpPr/>
              <p:nvPr/>
            </p:nvGrpSpPr>
            <p:grpSpPr>
              <a:xfrm>
                <a:off x="4576320" y="4595400"/>
                <a:ext cx="840240" cy="984600"/>
                <a:chOff x="4576320" y="4595400"/>
                <a:chExt cx="840240" cy="9846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646520" y="4622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991040" y="5049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61000" y="492588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62960" y="4925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030280" y="492588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82520" y="4992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64560" y="4992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828320" y="4793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64560" y="4629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48800" y="4944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06920" y="4614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576320" y="4950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95640" y="4636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12560" y="4595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13360" y="4607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4861080" y="4365720"/>
              <a:ext cx="1218960" cy="1762200"/>
              <a:chOff x="4861080" y="4365720"/>
              <a:chExt cx="1218960" cy="1762200"/>
            </a:xfrm>
          </p:grpSpPr>
          <p:pic>
            <p:nvPicPr>
              <p:cNvPr id="45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61080" y="436572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4" name=""/>
              <p:cNvGrpSpPr/>
              <p:nvPr/>
            </p:nvGrpSpPr>
            <p:grpSpPr>
              <a:xfrm>
                <a:off x="5079600" y="5027040"/>
                <a:ext cx="840240" cy="984600"/>
                <a:chOff x="5079600" y="5027040"/>
                <a:chExt cx="840240" cy="9846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149800" y="505440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494320" y="548136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264280" y="535752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466240" y="535752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533560" y="535752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85800" y="542376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667840" y="542376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331600" y="522540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67840" y="506124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752080" y="537660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110200" y="504576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079600" y="538200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398920" y="506808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415840" y="502704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16640" y="503892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4284720" y="4402440"/>
              <a:ext cx="1219320" cy="1787400"/>
              <a:chOff x="4284720" y="4402440"/>
              <a:chExt cx="1219320" cy="1787400"/>
            </a:xfrm>
          </p:grpSpPr>
          <p:pic>
            <p:nvPicPr>
              <p:cNvPr id="47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4720" y="443700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4481280" y="550008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695840" y="545292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4912560" y="4402440"/>
                <a:ext cx="414000" cy="352800"/>
                <a:chOff x="4912560" y="4402440"/>
                <a:chExt cx="414000" cy="352800"/>
              </a:xfrm>
            </p:grpSpPr>
            <p:sp>
              <p:nvSpPr>
                <p:cNvPr id="475" name=""/>
                <p:cNvSpPr/>
                <p:nvPr/>
              </p:nvSpPr>
              <p:spPr>
                <a:xfrm rot="720600">
                  <a:off x="4938120" y="443700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720600">
                  <a:off x="5088960" y="454320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464360" y="4407480"/>
                <a:ext cx="366480" cy="413280"/>
                <a:chOff x="4464360" y="4407480"/>
                <a:chExt cx="366480" cy="413280"/>
              </a:xfrm>
            </p:grpSpPr>
            <p:sp>
              <p:nvSpPr>
                <p:cNvPr id="478" name=""/>
                <p:cNvSpPr/>
                <p:nvPr/>
              </p:nvSpPr>
              <p:spPr>
                <a:xfrm rot="17028000">
                  <a:off x="4470480" y="446868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7028000">
                  <a:off x="4617720" y="457812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5292720" y="4762800"/>
              <a:ext cx="1219320" cy="1787400"/>
              <a:chOff x="5292720" y="4762800"/>
              <a:chExt cx="1219320" cy="1787400"/>
            </a:xfrm>
          </p:grpSpPr>
          <p:pic>
            <p:nvPicPr>
              <p:cNvPr id="48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92720" y="479736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5489280" y="5860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03840" y="581328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920560" y="4762800"/>
                <a:ext cx="414000" cy="352800"/>
                <a:chOff x="5920560" y="4762800"/>
                <a:chExt cx="414000" cy="352800"/>
              </a:xfrm>
            </p:grpSpPr>
            <p:sp>
              <p:nvSpPr>
                <p:cNvPr id="485" name=""/>
                <p:cNvSpPr/>
                <p:nvPr/>
              </p:nvSpPr>
              <p:spPr>
                <a:xfrm rot="720600">
                  <a:off x="5946120" y="4797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720600">
                  <a:off x="6096960" y="4903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472360" y="4767840"/>
                <a:ext cx="366480" cy="413280"/>
                <a:chOff x="5472360" y="4767840"/>
                <a:chExt cx="366480" cy="413280"/>
              </a:xfrm>
            </p:grpSpPr>
            <p:sp>
              <p:nvSpPr>
                <p:cNvPr id="488" name=""/>
                <p:cNvSpPr/>
                <p:nvPr/>
              </p:nvSpPr>
              <p:spPr>
                <a:xfrm rot="17028000">
                  <a:off x="5478480" y="4829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7028000">
                  <a:off x="5625720" y="4938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6877080" y="4620600"/>
              <a:ext cx="1143000" cy="1785240"/>
              <a:chOff x="6877080" y="4620600"/>
              <a:chExt cx="1143000" cy="1785240"/>
            </a:xfrm>
          </p:grpSpPr>
          <p:pic>
            <p:nvPicPr>
              <p:cNvPr id="49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77080" y="4653000"/>
                <a:ext cx="11430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7061040" y="5716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62640" y="5668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463520" y="4620600"/>
                <a:ext cx="391680" cy="347760"/>
                <a:chOff x="7463520" y="4620600"/>
                <a:chExt cx="391680" cy="347760"/>
              </a:xfrm>
            </p:grpSpPr>
            <p:sp>
              <p:nvSpPr>
                <p:cNvPr id="495" name=""/>
                <p:cNvSpPr/>
                <p:nvPr/>
              </p:nvSpPr>
              <p:spPr>
                <a:xfrm rot="720600">
                  <a:off x="7489080" y="4652640"/>
                  <a:ext cx="34020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720600">
                  <a:off x="7630560" y="4759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043040" y="4625640"/>
                <a:ext cx="348840" cy="408960"/>
                <a:chOff x="7043040" y="4625640"/>
                <a:chExt cx="348840" cy="408960"/>
              </a:xfrm>
            </p:grpSpPr>
            <p:sp>
              <p:nvSpPr>
                <p:cNvPr id="498" name=""/>
                <p:cNvSpPr/>
                <p:nvPr/>
              </p:nvSpPr>
              <p:spPr>
                <a:xfrm rot="17028000">
                  <a:off x="7040160" y="4694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7028000">
                  <a:off x="7187400" y="4795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4789440" y="4909680"/>
              <a:ext cx="1143000" cy="1784880"/>
              <a:chOff x="4789440" y="4909680"/>
              <a:chExt cx="1143000" cy="1784880"/>
            </a:xfrm>
          </p:grpSpPr>
          <p:pic>
            <p:nvPicPr>
              <p:cNvPr id="50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89440" y="494208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4973400" y="6005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75000" y="595764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5375880" y="4909680"/>
                <a:ext cx="391680" cy="347400"/>
                <a:chOff x="5375880" y="4909680"/>
                <a:chExt cx="391680" cy="347400"/>
              </a:xfrm>
            </p:grpSpPr>
            <p:sp>
              <p:nvSpPr>
                <p:cNvPr id="505" name=""/>
                <p:cNvSpPr/>
                <p:nvPr/>
              </p:nvSpPr>
              <p:spPr>
                <a:xfrm rot="720600">
                  <a:off x="5401440" y="494172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720600">
                  <a:off x="5542920" y="5048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955400" y="4914720"/>
                <a:ext cx="348840" cy="408960"/>
                <a:chOff x="4955400" y="4914720"/>
                <a:chExt cx="348840" cy="408960"/>
              </a:xfrm>
            </p:grpSpPr>
            <p:sp>
              <p:nvSpPr>
                <p:cNvPr id="508" name=""/>
                <p:cNvSpPr/>
                <p:nvPr/>
              </p:nvSpPr>
              <p:spPr>
                <a:xfrm rot="17028000">
                  <a:off x="4952520" y="4983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7028000">
                  <a:off x="5099760" y="5085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6085080" y="4477680"/>
              <a:ext cx="1143000" cy="1785240"/>
              <a:chOff x="6085080" y="4477680"/>
              <a:chExt cx="1143000" cy="1785240"/>
            </a:xfrm>
          </p:grpSpPr>
          <p:pic>
            <p:nvPicPr>
              <p:cNvPr id="51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085080" y="4510080"/>
                <a:ext cx="11430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>
                <a:off x="6269040" y="5573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70640" y="552600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671520" y="4477680"/>
                <a:ext cx="391680" cy="347760"/>
                <a:chOff x="6671520" y="4477680"/>
                <a:chExt cx="391680" cy="347760"/>
              </a:xfrm>
            </p:grpSpPr>
            <p:sp>
              <p:nvSpPr>
                <p:cNvPr id="515" name=""/>
                <p:cNvSpPr/>
                <p:nvPr/>
              </p:nvSpPr>
              <p:spPr>
                <a:xfrm rot="720600">
                  <a:off x="6697080" y="4509720"/>
                  <a:ext cx="34020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720600">
                  <a:off x="6838560" y="4616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6251040" y="4482720"/>
                <a:ext cx="348840" cy="408960"/>
                <a:chOff x="6251040" y="4482720"/>
                <a:chExt cx="348840" cy="408960"/>
              </a:xfrm>
            </p:grpSpPr>
            <p:sp>
              <p:nvSpPr>
                <p:cNvPr id="518" name=""/>
                <p:cNvSpPr/>
                <p:nvPr/>
              </p:nvSpPr>
              <p:spPr>
                <a:xfrm rot="17028000">
                  <a:off x="6248160" y="4551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7028000">
                  <a:off x="6395400" y="4653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6300720" y="4869000"/>
              <a:ext cx="1219320" cy="1762200"/>
              <a:chOff x="6300720" y="4869000"/>
              <a:chExt cx="1219320" cy="1762200"/>
            </a:xfrm>
          </p:grpSpPr>
          <p:pic>
            <p:nvPicPr>
              <p:cNvPr id="52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300720" y="486900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2" name=""/>
              <p:cNvGrpSpPr/>
              <p:nvPr/>
            </p:nvGrpSpPr>
            <p:grpSpPr>
              <a:xfrm>
                <a:off x="6519240" y="5530320"/>
                <a:ext cx="840240" cy="984600"/>
                <a:chOff x="6519240" y="5530320"/>
                <a:chExt cx="840240" cy="9846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89440" y="5557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933960" y="5984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703920" y="586080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905880" y="5860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973200" y="586080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5440" y="5927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07480" y="5927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771240" y="5728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107480" y="5564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191720" y="5879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549840" y="5549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519240" y="5885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38560" y="5571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855480" y="5530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956280" y="5542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7309080" y="4726080"/>
              <a:ext cx="1218960" cy="1762200"/>
              <a:chOff x="7309080" y="4726080"/>
              <a:chExt cx="1218960" cy="1762200"/>
            </a:xfrm>
          </p:grpSpPr>
          <p:pic>
            <p:nvPicPr>
              <p:cNvPr id="53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09080" y="472608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7527600" y="5387400"/>
                <a:ext cx="840240" cy="984600"/>
                <a:chOff x="7527600" y="5387400"/>
                <a:chExt cx="840240" cy="9846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597800" y="5414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42320" y="5841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712280" y="571788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914240" y="5717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981560" y="571788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633800" y="5784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115840" y="5784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79600" y="5585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115840" y="5421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200080" y="5736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58200" y="5406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527600" y="5742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846920" y="5428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863840" y="5387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964640" y="5399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4000" y="277560"/>
            <a:ext cx="45356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24000" y="881640"/>
            <a:ext cx="930240" cy="1491840"/>
            <a:chOff x="324000" y="881640"/>
            <a:chExt cx="930240" cy="149184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324000" y="907920"/>
              <a:ext cx="93024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473760" y="1796760"/>
              <a:ext cx="648720" cy="31104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7560" y="1757160"/>
              <a:ext cx="33228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ffffff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801000" y="881640"/>
              <a:ext cx="320040" cy="289440"/>
              <a:chOff x="801000" y="881640"/>
              <a:chExt cx="320040" cy="289440"/>
            </a:xfrm>
          </p:grpSpPr>
          <p:sp>
            <p:nvSpPr>
              <p:cNvPr id="562" name=""/>
              <p:cNvSpPr/>
              <p:nvPr/>
            </p:nvSpPr>
            <p:spPr>
              <a:xfrm rot="720600">
                <a:off x="822600" y="907560"/>
                <a:ext cx="276840" cy="2368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20600">
                <a:off x="937440" y="996480"/>
                <a:ext cx="46080" cy="5904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57920" y="885960"/>
              <a:ext cx="285480" cy="340200"/>
              <a:chOff x="457920" y="885960"/>
              <a:chExt cx="285480" cy="340200"/>
            </a:xfrm>
          </p:grpSpPr>
          <p:sp>
            <p:nvSpPr>
              <p:cNvPr id="565" name=""/>
              <p:cNvSpPr/>
              <p:nvPr/>
            </p:nvSpPr>
            <p:spPr>
              <a:xfrm rot="17028000">
                <a:off x="452520" y="945000"/>
                <a:ext cx="295920" cy="22140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7028000">
                <a:off x="575640" y="1028520"/>
                <a:ext cx="49320" cy="5508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0920" y="2539080"/>
            <a:ext cx="930240" cy="1491480"/>
            <a:chOff x="250920" y="2539080"/>
            <a:chExt cx="930240" cy="1491480"/>
          </a:xfrm>
        </p:grpSpPr>
        <p:pic>
          <p:nvPicPr>
            <p:cNvPr id="568" name="" descr=""/>
            <p:cNvPicPr/>
            <p:nvPr/>
          </p:nvPicPr>
          <p:blipFill>
            <a:blip r:embed="rId2"/>
            <a:stretch/>
          </p:blipFill>
          <p:spPr>
            <a:xfrm>
              <a:off x="250920" y="2565360"/>
              <a:ext cx="930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400680" y="3454200"/>
              <a:ext cx="648720" cy="31068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480" y="3414600"/>
              <a:ext cx="33228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ffffff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27920" y="2539080"/>
              <a:ext cx="320040" cy="289080"/>
              <a:chOff x="727920" y="2539080"/>
              <a:chExt cx="320040" cy="289080"/>
            </a:xfrm>
          </p:grpSpPr>
          <p:sp>
            <p:nvSpPr>
              <p:cNvPr id="572" name=""/>
              <p:cNvSpPr/>
              <p:nvPr/>
            </p:nvSpPr>
            <p:spPr>
              <a:xfrm rot="720600">
                <a:off x="749520" y="2565000"/>
                <a:ext cx="276840" cy="2365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720600">
                <a:off x="864360" y="2653560"/>
                <a:ext cx="46080" cy="5904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84840" y="2543400"/>
              <a:ext cx="285480" cy="340200"/>
              <a:chOff x="384840" y="2543400"/>
              <a:chExt cx="285480" cy="340200"/>
            </a:xfrm>
          </p:grpSpPr>
          <p:sp>
            <p:nvSpPr>
              <p:cNvPr id="575" name=""/>
              <p:cNvSpPr/>
              <p:nvPr/>
            </p:nvSpPr>
            <p:spPr>
              <a:xfrm rot="17028000">
                <a:off x="379440" y="2602440"/>
                <a:ext cx="295920" cy="22140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7028000">
                <a:off x="502560" y="2685960"/>
                <a:ext cx="49320" cy="5508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"/>
          <p:cNvSpPr txBox="1"/>
          <p:nvPr/>
        </p:nvSpPr>
        <p:spPr>
          <a:xfrm>
            <a:off x="1332000" y="1268280"/>
            <a:ext cx="5184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 раза за 1 день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403280" y="2924280"/>
            <a:ext cx="5832720" cy="649080"/>
            <a:chOff x="1403280" y="2924280"/>
            <a:chExt cx="5832720" cy="649080"/>
          </a:xfrm>
        </p:grpSpPr>
        <p:sp>
          <p:nvSpPr>
            <p:cNvPr id="579" name=""/>
            <p:cNvSpPr/>
            <p:nvPr/>
          </p:nvSpPr>
          <p:spPr>
            <a:xfrm>
              <a:off x="2556000" y="314172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403280" y="2924280"/>
              <a:ext cx="583272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(3   30) за сентябрь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340000" y="3830760"/>
            <a:ext cx="3851280" cy="1974240"/>
            <a:chOff x="2340000" y="3830760"/>
            <a:chExt cx="3851280" cy="1974240"/>
          </a:xfrm>
        </p:grpSpPr>
        <p:grpSp>
          <p:nvGrpSpPr>
            <p:cNvPr id="582" name=""/>
            <p:cNvGrpSpPr/>
            <p:nvPr/>
          </p:nvGrpSpPr>
          <p:grpSpPr>
            <a:xfrm>
              <a:off x="3808800" y="3908520"/>
              <a:ext cx="1036080" cy="1179360"/>
              <a:chOff x="3808800" y="3908520"/>
              <a:chExt cx="1036080" cy="1179360"/>
            </a:xfrm>
          </p:grpSpPr>
          <p:pic>
            <p:nvPicPr>
              <p:cNvPr id="5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0" y="390852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" name=""/>
              <p:cNvGrpSpPr/>
              <p:nvPr/>
            </p:nvGrpSpPr>
            <p:grpSpPr>
              <a:xfrm>
                <a:off x="3994560" y="4350960"/>
                <a:ext cx="713880" cy="659160"/>
                <a:chOff x="3994560" y="4350960"/>
                <a:chExt cx="713880" cy="659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053960" y="436932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347000" y="465516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51520" y="457200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22880" y="457200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380120" y="457200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84920" y="461628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494240" y="461628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208760" y="448344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94240" y="437364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565880" y="458496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20480" y="436356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994560" y="458856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266000" y="437832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280400" y="435096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365720" y="435888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5216040" y="3880440"/>
              <a:ext cx="970920" cy="1200960"/>
              <a:chOff x="5216040" y="3880440"/>
              <a:chExt cx="970920" cy="1200960"/>
            </a:xfrm>
          </p:grpSpPr>
          <p:pic>
            <p:nvPicPr>
              <p:cNvPr id="6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6040" y="39085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5372280" y="46198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43280" y="45882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720040" y="3880440"/>
                <a:ext cx="321480" cy="245160"/>
                <a:chOff x="5720040" y="3880440"/>
                <a:chExt cx="321480" cy="245160"/>
              </a:xfrm>
            </p:grpSpPr>
            <p:sp>
              <p:nvSpPr>
                <p:cNvPr id="605" name=""/>
                <p:cNvSpPr/>
                <p:nvPr/>
              </p:nvSpPr>
              <p:spPr>
                <a:xfrm rot="720600">
                  <a:off x="5736240" y="39081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720600">
                  <a:off x="5856120" y="39794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364360" y="3884400"/>
                <a:ext cx="280800" cy="285120"/>
                <a:chOff x="5364360" y="3884400"/>
                <a:chExt cx="280800" cy="285120"/>
              </a:xfrm>
            </p:grpSpPr>
            <p:sp>
              <p:nvSpPr>
                <p:cNvPr id="608" name=""/>
                <p:cNvSpPr/>
                <p:nvPr/>
              </p:nvSpPr>
              <p:spPr>
                <a:xfrm rot="17028000">
                  <a:off x="5386320" y="39114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7028000">
                  <a:off x="5484960" y="39981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4359240" y="3830760"/>
              <a:ext cx="1036080" cy="1203120"/>
              <a:chOff x="4359240" y="3830760"/>
              <a:chExt cx="1036080" cy="1203120"/>
            </a:xfrm>
          </p:grpSpPr>
          <p:pic>
            <p:nvPicPr>
              <p:cNvPr id="6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59240" y="386064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4526280" y="457236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08800" y="454068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4898160" y="3830760"/>
                <a:ext cx="340560" cy="249480"/>
                <a:chOff x="4898160" y="3830760"/>
                <a:chExt cx="340560" cy="249480"/>
              </a:xfrm>
            </p:grpSpPr>
            <p:sp>
              <p:nvSpPr>
                <p:cNvPr id="615" name=""/>
                <p:cNvSpPr/>
                <p:nvPr/>
              </p:nvSpPr>
              <p:spPr>
                <a:xfrm rot="720600">
                  <a:off x="4914000" y="386064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720600">
                  <a:off x="5042160" y="393120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519440" y="3834720"/>
                <a:ext cx="295920" cy="288720"/>
                <a:chOff x="4519440" y="3834720"/>
                <a:chExt cx="295920" cy="288720"/>
              </a:xfrm>
            </p:grpSpPr>
            <p:sp>
              <p:nvSpPr>
                <p:cNvPr id="618" name=""/>
                <p:cNvSpPr/>
                <p:nvPr/>
              </p:nvSpPr>
              <p:spPr>
                <a:xfrm rot="17028000">
                  <a:off x="4548960" y="385560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7028000">
                  <a:off x="4647600" y="394812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0" name=""/>
            <p:cNvGrpSpPr/>
            <p:nvPr/>
          </p:nvGrpSpPr>
          <p:grpSpPr>
            <a:xfrm>
              <a:off x="4848840" y="4121640"/>
              <a:ext cx="970920" cy="1200960"/>
              <a:chOff x="4848840" y="4121640"/>
              <a:chExt cx="970920" cy="1200960"/>
            </a:xfrm>
          </p:grpSpPr>
          <p:pic>
            <p:nvPicPr>
              <p:cNvPr id="62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48840" y="41497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5005080" y="48610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176080" y="48294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5352840" y="4121640"/>
                <a:ext cx="321480" cy="245160"/>
                <a:chOff x="5352840" y="4121640"/>
                <a:chExt cx="321480" cy="245160"/>
              </a:xfrm>
            </p:grpSpPr>
            <p:sp>
              <p:nvSpPr>
                <p:cNvPr id="625" name=""/>
                <p:cNvSpPr/>
                <p:nvPr/>
              </p:nvSpPr>
              <p:spPr>
                <a:xfrm rot="720600">
                  <a:off x="5369040" y="41493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720600">
                  <a:off x="5488920" y="42206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997160" y="4125600"/>
                <a:ext cx="280800" cy="285120"/>
                <a:chOff x="4997160" y="4125600"/>
                <a:chExt cx="280800" cy="285120"/>
              </a:xfrm>
            </p:grpSpPr>
            <p:sp>
              <p:nvSpPr>
                <p:cNvPr id="628" name=""/>
                <p:cNvSpPr/>
                <p:nvPr/>
              </p:nvSpPr>
              <p:spPr>
                <a:xfrm rot="17028000">
                  <a:off x="5019120" y="41526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7028000">
                  <a:off x="5117760" y="42393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4359240" y="4119840"/>
              <a:ext cx="1036080" cy="1202760"/>
              <a:chOff x="4359240" y="4119840"/>
              <a:chExt cx="1036080" cy="1202760"/>
            </a:xfrm>
          </p:grpSpPr>
          <p:pic>
            <p:nvPicPr>
              <p:cNvPr id="6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9240" y="4149720"/>
                <a:ext cx="103608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>
                <a:off x="4526280" y="486108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08800" y="482940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898160" y="4119840"/>
                <a:ext cx="340560" cy="249480"/>
                <a:chOff x="4898160" y="4119840"/>
                <a:chExt cx="340560" cy="249480"/>
              </a:xfrm>
            </p:grpSpPr>
            <p:sp>
              <p:nvSpPr>
                <p:cNvPr id="635" name=""/>
                <p:cNvSpPr/>
                <p:nvPr/>
              </p:nvSpPr>
              <p:spPr>
                <a:xfrm rot="720600">
                  <a:off x="4914000" y="414972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720600">
                  <a:off x="5042160" y="422028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519440" y="4123800"/>
                <a:ext cx="295920" cy="288720"/>
                <a:chOff x="4519440" y="4123800"/>
                <a:chExt cx="295920" cy="288720"/>
              </a:xfrm>
            </p:grpSpPr>
            <p:sp>
              <p:nvSpPr>
                <p:cNvPr id="638" name=""/>
                <p:cNvSpPr/>
                <p:nvPr/>
              </p:nvSpPr>
              <p:spPr>
                <a:xfrm rot="17028000">
                  <a:off x="4548960" y="414468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7028000">
                  <a:off x="4647600" y="423720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5155200" y="4197240"/>
              <a:ext cx="1036080" cy="1179360"/>
              <a:chOff x="5155200" y="4197240"/>
              <a:chExt cx="1036080" cy="1179360"/>
            </a:xfrm>
          </p:grpSpPr>
          <p:pic>
            <p:nvPicPr>
              <p:cNvPr id="64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155200" y="419724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2" name=""/>
              <p:cNvGrpSpPr/>
              <p:nvPr/>
            </p:nvGrpSpPr>
            <p:grpSpPr>
              <a:xfrm>
                <a:off x="5340960" y="4639680"/>
                <a:ext cx="713880" cy="659160"/>
                <a:chOff x="5340960" y="4639680"/>
                <a:chExt cx="713880" cy="6591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40036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69340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9792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6928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2652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43132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4064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55516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84064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91228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36688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34096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61240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2680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212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"/>
            <p:cNvGrpSpPr/>
            <p:nvPr/>
          </p:nvGrpSpPr>
          <p:grpSpPr>
            <a:xfrm>
              <a:off x="3992400" y="4197240"/>
              <a:ext cx="1036080" cy="1179360"/>
              <a:chOff x="3992400" y="4197240"/>
              <a:chExt cx="1036080" cy="11793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92400" y="419724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0" name=""/>
              <p:cNvGrpSpPr/>
              <p:nvPr/>
            </p:nvGrpSpPr>
            <p:grpSpPr>
              <a:xfrm>
                <a:off x="4178160" y="4639680"/>
                <a:ext cx="713880" cy="659160"/>
                <a:chOff x="4178160" y="4639680"/>
                <a:chExt cx="713880" cy="659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23756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53060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3512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0648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6372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26852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7784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9236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67784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4948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0408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17816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44960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6400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54932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3318840" y="4121640"/>
              <a:ext cx="970920" cy="1200960"/>
              <a:chOff x="3318840" y="4121640"/>
              <a:chExt cx="970920" cy="1200960"/>
            </a:xfrm>
          </p:grpSpPr>
          <p:pic>
            <p:nvPicPr>
              <p:cNvPr id="67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18840" y="41497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3475080" y="48610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46080" y="48294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3822840" y="4121640"/>
                <a:ext cx="321480" cy="245160"/>
                <a:chOff x="3822840" y="4121640"/>
                <a:chExt cx="321480" cy="245160"/>
              </a:xfrm>
            </p:grpSpPr>
            <p:sp>
              <p:nvSpPr>
                <p:cNvPr id="681" name=""/>
                <p:cNvSpPr/>
                <p:nvPr/>
              </p:nvSpPr>
              <p:spPr>
                <a:xfrm rot="720600">
                  <a:off x="3839040" y="41493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720600">
                  <a:off x="3958920" y="42206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467160" y="4125600"/>
                <a:ext cx="280800" cy="285120"/>
                <a:chOff x="3467160" y="4125600"/>
                <a:chExt cx="280800" cy="285120"/>
              </a:xfrm>
            </p:grpSpPr>
            <p:sp>
              <p:nvSpPr>
                <p:cNvPr id="684" name=""/>
                <p:cNvSpPr/>
                <p:nvPr/>
              </p:nvSpPr>
              <p:spPr>
                <a:xfrm rot="17028000">
                  <a:off x="3489120" y="41526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7028000">
                  <a:off x="3587760" y="42393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3563280" y="4197240"/>
              <a:ext cx="1035720" cy="1179360"/>
              <a:chOff x="3563280" y="4197240"/>
              <a:chExt cx="1035720" cy="1179360"/>
            </a:xfrm>
          </p:grpSpPr>
          <p:pic>
            <p:nvPicPr>
              <p:cNvPr id="68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3280" y="419724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8" name=""/>
              <p:cNvGrpSpPr/>
              <p:nvPr/>
            </p:nvGrpSpPr>
            <p:grpSpPr>
              <a:xfrm>
                <a:off x="3748680" y="4639680"/>
                <a:ext cx="713880" cy="659160"/>
                <a:chOff x="3748680" y="4639680"/>
                <a:chExt cx="713880" cy="659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0808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10112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90564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07700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13424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83904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4836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96288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24836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32000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77460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74868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02012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03452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11984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"/>
            <p:cNvGrpSpPr/>
            <p:nvPr/>
          </p:nvGrpSpPr>
          <p:grpSpPr>
            <a:xfrm>
              <a:off x="2401920" y="3957480"/>
              <a:ext cx="1036080" cy="1179360"/>
              <a:chOff x="2401920" y="3957480"/>
              <a:chExt cx="1036080" cy="1179360"/>
            </a:xfrm>
          </p:grpSpPr>
          <p:pic>
            <p:nvPicPr>
              <p:cNvPr id="7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01920" y="395748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6" name=""/>
              <p:cNvGrpSpPr/>
              <p:nvPr/>
            </p:nvGrpSpPr>
            <p:grpSpPr>
              <a:xfrm>
                <a:off x="2587680" y="4399920"/>
                <a:ext cx="713880" cy="659160"/>
                <a:chOff x="2587680" y="4399920"/>
                <a:chExt cx="713880" cy="659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647080" y="441828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940120" y="470412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744640" y="462096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916000" y="462096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973240" y="462096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678040" y="466524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087360" y="466524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801880" y="453240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87360" y="442260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159000" y="463392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13600" y="441252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587680" y="463752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859120" y="442728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873520" y="439992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958840" y="440784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2829600" y="4246200"/>
              <a:ext cx="1035720" cy="1179360"/>
              <a:chOff x="2829600" y="4246200"/>
              <a:chExt cx="1035720" cy="1179360"/>
            </a:xfrm>
          </p:grpSpPr>
          <p:pic>
            <p:nvPicPr>
              <p:cNvPr id="72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29600" y="424620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24" name=""/>
              <p:cNvGrpSpPr/>
              <p:nvPr/>
            </p:nvGrpSpPr>
            <p:grpSpPr>
              <a:xfrm>
                <a:off x="3015000" y="4688640"/>
                <a:ext cx="713880" cy="659160"/>
                <a:chOff x="3015000" y="4688640"/>
                <a:chExt cx="713880" cy="659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3074400" y="470700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367440" y="499284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171960" y="490968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343320" y="490968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00560" y="490968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105360" y="495396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14680" y="495396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229200" y="482112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14680" y="471132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86320" y="492264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040920" y="470124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015000" y="492624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286440" y="471600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300840" y="468864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386160" y="469656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2340000" y="4264200"/>
              <a:ext cx="1036080" cy="1203120"/>
              <a:chOff x="2340000" y="4264200"/>
              <a:chExt cx="1036080" cy="1203120"/>
            </a:xfrm>
          </p:grpSpPr>
          <p:pic>
            <p:nvPicPr>
              <p:cNvPr id="74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40000" y="429408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2507040" y="500580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689560" y="497412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2878920" y="4264200"/>
                <a:ext cx="340560" cy="249480"/>
                <a:chOff x="2878920" y="4264200"/>
                <a:chExt cx="340560" cy="249480"/>
              </a:xfrm>
            </p:grpSpPr>
            <p:sp>
              <p:nvSpPr>
                <p:cNvPr id="745" name=""/>
                <p:cNvSpPr/>
                <p:nvPr/>
              </p:nvSpPr>
              <p:spPr>
                <a:xfrm rot="720600">
                  <a:off x="2894760" y="429408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720600">
                  <a:off x="3022920" y="436464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2500200" y="4268160"/>
                <a:ext cx="295920" cy="288720"/>
                <a:chOff x="2500200" y="4268160"/>
                <a:chExt cx="295920" cy="288720"/>
              </a:xfrm>
            </p:grpSpPr>
            <p:sp>
              <p:nvSpPr>
                <p:cNvPr id="748" name=""/>
                <p:cNvSpPr/>
                <p:nvPr/>
              </p:nvSpPr>
              <p:spPr>
                <a:xfrm rot="17028000">
                  <a:off x="2529720" y="428904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7028000">
                  <a:off x="2628360" y="438156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"/>
            <p:cNvGrpSpPr/>
            <p:nvPr/>
          </p:nvGrpSpPr>
          <p:grpSpPr>
            <a:xfrm>
              <a:off x="3196440" y="4505400"/>
              <a:ext cx="1036080" cy="1203120"/>
              <a:chOff x="3196440" y="4505400"/>
              <a:chExt cx="1036080" cy="1203120"/>
            </a:xfrm>
          </p:grpSpPr>
          <p:pic>
            <p:nvPicPr>
              <p:cNvPr id="75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196440" y="453528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3363480" y="524700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546000" y="521532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3735360" y="4505400"/>
                <a:ext cx="340560" cy="249480"/>
                <a:chOff x="3735360" y="4505400"/>
                <a:chExt cx="340560" cy="249480"/>
              </a:xfrm>
            </p:grpSpPr>
            <p:sp>
              <p:nvSpPr>
                <p:cNvPr id="755" name=""/>
                <p:cNvSpPr/>
                <p:nvPr/>
              </p:nvSpPr>
              <p:spPr>
                <a:xfrm rot="720600">
                  <a:off x="3751200" y="453528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720600">
                  <a:off x="3879360" y="460584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356640" y="4509360"/>
                <a:ext cx="295920" cy="288720"/>
                <a:chOff x="3356640" y="4509360"/>
                <a:chExt cx="295920" cy="288720"/>
              </a:xfrm>
            </p:grpSpPr>
            <p:sp>
              <p:nvSpPr>
                <p:cNvPr id="758" name=""/>
                <p:cNvSpPr/>
                <p:nvPr/>
              </p:nvSpPr>
              <p:spPr>
                <a:xfrm rot="17028000">
                  <a:off x="3386160" y="453024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7028000">
                  <a:off x="3484800" y="462276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4542480" y="4410360"/>
              <a:ext cx="970920" cy="1201320"/>
              <a:chOff x="4542480" y="4410360"/>
              <a:chExt cx="970920" cy="1201320"/>
            </a:xfrm>
          </p:grpSpPr>
          <p:pic>
            <p:nvPicPr>
              <p:cNvPr id="7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42480" y="4438440"/>
                <a:ext cx="97092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"/>
              <p:cNvSpPr/>
              <p:nvPr/>
            </p:nvSpPr>
            <p:spPr>
              <a:xfrm>
                <a:off x="4698720" y="515016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69720" y="511848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5046480" y="4410360"/>
                <a:ext cx="321480" cy="245160"/>
                <a:chOff x="5046480" y="4410360"/>
                <a:chExt cx="321480" cy="245160"/>
              </a:xfrm>
            </p:grpSpPr>
            <p:sp>
              <p:nvSpPr>
                <p:cNvPr id="765" name=""/>
                <p:cNvSpPr/>
                <p:nvPr/>
              </p:nvSpPr>
              <p:spPr>
                <a:xfrm rot="720600">
                  <a:off x="5062680" y="443808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720600">
                  <a:off x="5182560" y="450936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4690800" y="4414320"/>
                <a:ext cx="280800" cy="285120"/>
                <a:chOff x="4690800" y="4414320"/>
                <a:chExt cx="280800" cy="285120"/>
              </a:xfrm>
            </p:grpSpPr>
            <p:sp>
              <p:nvSpPr>
                <p:cNvPr id="768" name=""/>
                <p:cNvSpPr/>
                <p:nvPr/>
              </p:nvSpPr>
              <p:spPr>
                <a:xfrm rot="17028000">
                  <a:off x="4712760" y="444132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17028000">
                  <a:off x="4811400" y="452808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0" name=""/>
            <p:cNvGrpSpPr/>
            <p:nvPr/>
          </p:nvGrpSpPr>
          <p:grpSpPr>
            <a:xfrm>
              <a:off x="2768760" y="4604040"/>
              <a:ext cx="970920" cy="1200960"/>
              <a:chOff x="2768760" y="4604040"/>
              <a:chExt cx="970920" cy="1200960"/>
            </a:xfrm>
          </p:grpSpPr>
          <p:pic>
            <p:nvPicPr>
              <p:cNvPr id="77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68760" y="46321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"/>
              <p:cNvSpPr/>
              <p:nvPr/>
            </p:nvSpPr>
            <p:spPr>
              <a:xfrm>
                <a:off x="2925000" y="53434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096000" y="53118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3272760" y="4604040"/>
                <a:ext cx="321480" cy="245160"/>
                <a:chOff x="3272760" y="4604040"/>
                <a:chExt cx="321480" cy="245160"/>
              </a:xfrm>
            </p:grpSpPr>
            <p:sp>
              <p:nvSpPr>
                <p:cNvPr id="775" name=""/>
                <p:cNvSpPr/>
                <p:nvPr/>
              </p:nvSpPr>
              <p:spPr>
                <a:xfrm rot="720600">
                  <a:off x="3288960" y="46317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720600">
                  <a:off x="3408840" y="47030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917080" y="4608000"/>
                <a:ext cx="280800" cy="285120"/>
                <a:chOff x="2917080" y="4608000"/>
                <a:chExt cx="280800" cy="285120"/>
              </a:xfrm>
            </p:grpSpPr>
            <p:sp>
              <p:nvSpPr>
                <p:cNvPr id="778" name=""/>
                <p:cNvSpPr/>
                <p:nvPr/>
              </p:nvSpPr>
              <p:spPr>
                <a:xfrm rot="17028000">
                  <a:off x="2939040" y="46350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7028000">
                  <a:off x="3037680" y="47217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3869640" y="4314960"/>
              <a:ext cx="970920" cy="1201320"/>
              <a:chOff x="3869640" y="4314960"/>
              <a:chExt cx="970920" cy="1201320"/>
            </a:xfrm>
          </p:grpSpPr>
          <p:pic>
            <p:nvPicPr>
              <p:cNvPr id="78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69640" y="4343040"/>
                <a:ext cx="97092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4025880" y="505476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96880" y="502308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4373640" y="4314960"/>
                <a:ext cx="321480" cy="245160"/>
                <a:chOff x="4373640" y="4314960"/>
                <a:chExt cx="321480" cy="245160"/>
              </a:xfrm>
            </p:grpSpPr>
            <p:sp>
              <p:nvSpPr>
                <p:cNvPr id="785" name=""/>
                <p:cNvSpPr/>
                <p:nvPr/>
              </p:nvSpPr>
              <p:spPr>
                <a:xfrm rot="720600">
                  <a:off x="4389840" y="434268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720600">
                  <a:off x="4509720" y="441396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4017960" y="4318920"/>
                <a:ext cx="280800" cy="285120"/>
                <a:chOff x="4017960" y="4318920"/>
                <a:chExt cx="280800" cy="285120"/>
              </a:xfrm>
            </p:grpSpPr>
            <p:sp>
              <p:nvSpPr>
                <p:cNvPr id="788" name=""/>
                <p:cNvSpPr/>
                <p:nvPr/>
              </p:nvSpPr>
              <p:spPr>
                <a:xfrm rot="17028000">
                  <a:off x="4039920" y="434592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rot="17028000">
                  <a:off x="4138560" y="443268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0" name=""/>
            <p:cNvGrpSpPr/>
            <p:nvPr/>
          </p:nvGrpSpPr>
          <p:grpSpPr>
            <a:xfrm>
              <a:off x="4052880" y="4583160"/>
              <a:ext cx="1036080" cy="1179360"/>
              <a:chOff x="4052880" y="4583160"/>
              <a:chExt cx="1036080" cy="1179360"/>
            </a:xfrm>
          </p:grpSpPr>
          <p:pic>
            <p:nvPicPr>
              <p:cNvPr id="7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052880" y="458316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2" name=""/>
              <p:cNvGrpSpPr/>
              <p:nvPr/>
            </p:nvGrpSpPr>
            <p:grpSpPr>
              <a:xfrm>
                <a:off x="4238640" y="5025600"/>
                <a:ext cx="713880" cy="659160"/>
                <a:chOff x="4238640" y="5025600"/>
                <a:chExt cx="713880" cy="6591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298040" y="504396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591080" y="532980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395600" y="524664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566960" y="524664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4200" y="524664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329000" y="529092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738320" y="529092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452840" y="515808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738320" y="504828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809960" y="525960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264560" y="503820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238640" y="526320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510080" y="505296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524480" y="502560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609800" y="503352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4909680" y="4487400"/>
              <a:ext cx="1035720" cy="1179360"/>
              <a:chOff x="4909680" y="4487400"/>
              <a:chExt cx="1035720" cy="1179360"/>
            </a:xfrm>
          </p:grpSpPr>
          <p:pic>
            <p:nvPicPr>
              <p:cNvPr id="80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09680" y="448740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0" name=""/>
              <p:cNvGrpSpPr/>
              <p:nvPr/>
            </p:nvGrpSpPr>
            <p:grpSpPr>
              <a:xfrm>
                <a:off x="5095080" y="4929840"/>
                <a:ext cx="713880" cy="659160"/>
                <a:chOff x="5095080" y="4929840"/>
                <a:chExt cx="713880" cy="6591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154480" y="494820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447520" y="523404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252040" y="515088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423400" y="515088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480640" y="515088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85440" y="519516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760" y="519516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309280" y="506232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760" y="495252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666400" y="516384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121000" y="494244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095080" y="516744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366520" y="495720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380920" y="492984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66240" y="493776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6" name=""/>
          <p:cNvSpPr/>
          <p:nvPr/>
        </p:nvSpPr>
        <p:spPr>
          <a:xfrm flipH="1" rot="10800000">
            <a:off x="683280" y="5805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addee5"/>
                </a:solidFill>
                <a:uFillTx/>
                <a:latin typeface="Times New Roman"/>
              </a:rPr>
              <a:t>( 3*30) * 125=1125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0:16:15Z</dcterms:created>
  <dc:creator>Пользователь</dc:creator>
  <dc:description/>
  <dc:language>en-US</dc:language>
  <cp:lastModifiedBy>Пользователь</cp:lastModifiedBy>
  <dcterms:modified xsi:type="dcterms:W3CDTF">2011-12-08T16:11:26Z</dcterms:modified>
  <cp:revision>4</cp:revision>
  <dc:subject/>
  <dc:title>Умножение и деления натуральных чисел</dc:title>
</cp:coreProperties>
</file>