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A60-AA91-4520-B44B-339CB01A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FD4-F3EA-45C8-B252-8978A276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B5B-4ABC-4726-9AC7-6EB9FAC9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5E8-05DD-4F66-8CDC-816ABAAA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BCF-E228-4F51-A610-02EBA06C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7CA-E1D4-4BDD-A543-3A4B5560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F4E-4F0A-4791-A2B1-5A21E553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688-9461-4EDC-B578-95B07CF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E9A-882E-4BF6-8D87-687DB66C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14E-8C6B-4299-BD52-BEDF07ED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99C-572C-486F-8CB3-6A4F5682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BDB-0A43-41B7-80AC-C962238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66EA-B397-4C0D-80DB-6BB068B078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«Роль родительской общественности в социализации младших школьников»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2880" y="46483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ступающий Харьковская О.Н., учитель начальных классов МОУ «Гимназия №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С 20 ноября по 20 декабря в гимназии проходила социальная акция «Помоги Наташе!»,приуроченная ко  Дню инвалида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Фото Беликеевой Наташи"/>
          <p:cNvPicPr/>
          <p:nvPr/>
        </p:nvPicPr>
        <p:blipFill>
          <a:blip r:embed="rId2"/>
          <a:stretch/>
        </p:blipFill>
        <p:spPr>
          <a:xfrm>
            <a:off x="380880" y="16765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таша  нуждается в лекарствах, ингаляторах, ортопедическом матрасе, хорошем массаж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вязи с этим во 2 «А» классе было проведено родительское собрание, на котором приняли решение об участии в а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i5"/>
          <p:cNvPicPr/>
          <p:nvPr/>
        </p:nvPicPr>
        <p:blipFill>
          <a:blip r:embed="rId2"/>
          <a:stretch/>
        </p:blipFill>
        <p:spPr>
          <a:xfrm>
            <a:off x="4648320" y="1676520"/>
            <a:ext cx="40320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10 году родительская общественность гимназии оказала     Наташе материальную помощь в размере 36 000 рублей, десятую часть которой –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0 рублей, передали родител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6" descr="i6"/>
          <p:cNvPicPr/>
          <p:nvPr/>
        </p:nvPicPr>
        <p:blipFill>
          <a:blip r:embed="rId2"/>
          <a:stretch/>
        </p:blipFill>
        <p:spPr>
          <a:xfrm>
            <a:off x="43434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«А» класс МОУ «Гимназия №1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7" descr="SDC16632-1"/>
          <p:cNvPicPr/>
          <p:nvPr/>
        </p:nvPicPr>
        <p:blipFill>
          <a:blip r:embed="rId2"/>
          <a:stretch/>
        </p:blipFill>
        <p:spPr>
          <a:xfrm>
            <a:off x="1066680" y="1600200"/>
            <a:ext cx="731520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Значение подобных мероприятий трудно переоценить, так как дети-инвалиды находятся в изолированном состоянии по отношению к обществу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SAM_0479"/>
          <p:cNvPicPr/>
          <p:nvPr/>
        </p:nvPicPr>
        <p:blipFill>
          <a:blip r:embed="rId2"/>
          <a:stretch/>
        </p:blipFill>
        <p:spPr>
          <a:xfrm>
            <a:off x="1066680" y="1447920"/>
            <a:ext cx="701064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 акция благотворительности – пример сочувствия. Второклассники не остались в стороне от добрых дел. Но что гораздо важнее — дети проявили заботу и доброту сердец, доказали, что не оставят человека наедине со своими проблем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чень важно, чтобы каждый ребёнок рос осознанием своей нужности, с верой в справедливость и силу доб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imes New Roman"/>
              </a:rPr>
              <a:t>Пусть чаще находятся люди, желающие организовать и участвовать в добрых делах во благо других людей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5" descr="i4"/>
          <p:cNvPicPr/>
          <p:nvPr/>
        </p:nvPicPr>
        <p:blipFill>
          <a:blip r:embed="rId2"/>
          <a:stretch/>
        </p:blipFill>
        <p:spPr>
          <a:xfrm>
            <a:off x="762120" y="2057400"/>
            <a:ext cx="74674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191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Задача школы – воспитывать человека, который бы в любой области деятельности, полезной для общества, смог подняться на наивысшую ступень гражданственнос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А. Сухомлин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8" descr="Suhomlinskii_"/>
          <p:cNvPicPr/>
          <p:nvPr/>
        </p:nvPicPr>
        <p:blipFill>
          <a:blip r:embed="rId2"/>
          <a:stretch/>
        </p:blipFill>
        <p:spPr>
          <a:xfrm>
            <a:off x="4494240" y="152280"/>
            <a:ext cx="4649760" cy="632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ентябре 2010 года наши первоклассники начали обучение в соответствии с требованиями новых ФГО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5" descr="123"/>
          <p:cNvPicPr/>
          <p:nvPr/>
        </p:nvPicPr>
        <p:blipFill>
          <a:blip r:embed="rId2"/>
          <a:stretch/>
        </p:blipFill>
        <p:spPr>
          <a:xfrm>
            <a:off x="1752480" y="246240"/>
            <a:ext cx="518184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овых стандартах особая роль отводится духовно-нравственному развитию и воспитанию младших школьников, умению учиться, преобразовывать ми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GRADUAT5"/>
          <p:cNvPicPr/>
          <p:nvPr/>
        </p:nvPicPr>
        <p:blipFill>
          <a:blip r:embed="rId2"/>
          <a:stretch/>
        </p:blipFill>
        <p:spPr>
          <a:xfrm>
            <a:off x="914400" y="380880"/>
            <a:ext cx="2743200" cy="237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UDGE2"/>
          <p:cNvPicPr/>
          <p:nvPr/>
        </p:nvPicPr>
        <p:blipFill>
          <a:blip r:embed="rId3"/>
          <a:stretch/>
        </p:blipFill>
        <p:spPr>
          <a:xfrm>
            <a:off x="5715000" y="380880"/>
            <a:ext cx="25830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няющаяся социальная и политическая среда оказывает влияние на формирование личности ребенка. В условиях современной жизни нашего общества актуальной проблемой становится способность учащихся решать социально-значимые проблемы, формирование активной гражданской позиции, патриотических убеждений, приверженность демократическим ценностям, позитивная социализация. Важным направлением в нашей деятельности является развитие социально-активной личности, формирование социально- значимых компетен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воспитании детей семья не может быть заменена никаким другим социальным институтом, так как именно в семье рождается чувство преемственности поколений, ощущение причастности к истории своего народа, прошлому, настоящему и будущему. Психологически благоприятная семейная атмосфера и эмоционально насыщенная жизнь в школе играют большую роль в воспитании учащегося. Они создают предпосылки для развития интеллекта ребенка и его духовно-нравственного воспитания. Именно поэтому так важно взаимодействие родителей и педагогов, семьи и школы в вопросах воспит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социально-педагогическая служба школы работает над созданием благоприятных условий для реализации прав ребенка, основанных на оказании помощи учащимся в преодолении трудностей социального и образовательного характера, исходя из их реальных и потенциальных возможностей и способ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Формированию у детей активной гражданской позиции и позитивной социализации в обществе способствуют различные акции и проекты.</a:t>
            </a:r>
            <a:br>
              <a:rPr sz="4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7" descr="руки"/>
          <p:cNvPicPr/>
          <p:nvPr/>
        </p:nvPicPr>
        <p:blipFill>
          <a:blip r:embed="rId2"/>
          <a:stretch/>
        </p:blipFill>
        <p:spPr>
          <a:xfrm>
            <a:off x="914400" y="16002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ладшие школьники также принимают участие в социально-значимых акц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BOOKS1"/>
          <p:cNvPicPr/>
          <p:nvPr/>
        </p:nvPicPr>
        <p:blipFill>
          <a:blip r:embed="rId2"/>
          <a:stretch/>
        </p:blipFill>
        <p:spPr>
          <a:xfrm>
            <a:off x="6324480" y="47242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EOGRPHY"/>
          <p:cNvPicPr/>
          <p:nvPr/>
        </p:nvPicPr>
        <p:blipFill>
          <a:blip r:embed="rId3"/>
          <a:stretch/>
        </p:blipFill>
        <p:spPr>
          <a:xfrm>
            <a:off x="2209680" y="3808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6-26T16:34:5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