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3FA9-BB21-44E6-A26F-0C94F1C4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CA5-BAFB-4D8F-BEE7-C7BDC63E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241-2BE4-4A4A-BC0F-05696C09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FF7-C3E6-4DF8-A611-1E5A9231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F4E-EF18-4479-A285-10DA555F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E5B-5A64-4916-AA4D-B1DCA004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AC1-39FF-4D4E-9C00-8E464B4C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DF4-F7FD-4499-BE92-229C6F31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6EB-30C9-436E-9638-CB8B227F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674-C33A-454D-8AB6-88BBEF7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2FA2-3544-44E9-8E29-DC293362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2D4-8C88-4B23-A64E-20084A8A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128E-6897-49FC-8B71-4CE8906DEF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«Роль родительской общественности в социализации младших школьников»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2880" y="464832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ыступающий Харьковская О.Н., учитель начальных классов МОУ «Гимназия №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imes New Roman"/>
              </a:rPr>
              <a:t>С 20 ноября по 20 декабря в гимназии проходила социальная акция «Помоги Наташе!»,приуроченная ко  Дню инвалида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Фото Беликеевой Наташи"/>
          <p:cNvPicPr/>
          <p:nvPr/>
        </p:nvPicPr>
        <p:blipFill>
          <a:blip r:embed="rId2"/>
          <a:stretch/>
        </p:blipFill>
        <p:spPr>
          <a:xfrm>
            <a:off x="380880" y="16765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таша  нуждается в лекарствах, ингаляторах, ортопедическом матрасе, хорошем массаж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связи с этим во 2 «А» классе было проведено родительское собрание, на котором приняли решение об участии в ак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i5"/>
          <p:cNvPicPr/>
          <p:nvPr/>
        </p:nvPicPr>
        <p:blipFill>
          <a:blip r:embed="rId2"/>
          <a:stretch/>
        </p:blipFill>
        <p:spPr>
          <a:xfrm>
            <a:off x="4648320" y="1676520"/>
            <a:ext cx="40320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2010 году родительская общественность гимназии оказала     Наташе материальную помощь в размере 36 000 рублей, десятую часть которой –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0 рублей, передали родител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6" descr="i6"/>
          <p:cNvPicPr/>
          <p:nvPr/>
        </p:nvPicPr>
        <p:blipFill>
          <a:blip r:embed="rId2"/>
          <a:stretch/>
        </p:blipFill>
        <p:spPr>
          <a:xfrm>
            <a:off x="43434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 «А» класс МОУ «Гимназия №1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7" descr="SDC16632-1"/>
          <p:cNvPicPr/>
          <p:nvPr/>
        </p:nvPicPr>
        <p:blipFill>
          <a:blip r:embed="rId2"/>
          <a:stretch/>
        </p:blipFill>
        <p:spPr>
          <a:xfrm>
            <a:off x="1066680" y="1600200"/>
            <a:ext cx="731520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Значение подобных мероприятий трудно переоценить, так как дети-инвалиды находятся в изолированном состоянии по отношению к обществу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SAM_0479"/>
          <p:cNvPicPr/>
          <p:nvPr/>
        </p:nvPicPr>
        <p:blipFill>
          <a:blip r:embed="rId2"/>
          <a:stretch/>
        </p:blipFill>
        <p:spPr>
          <a:xfrm>
            <a:off x="1066680" y="1447920"/>
            <a:ext cx="701064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 акция благотворительности – пример сочувствия. Второклассники не остались в стороне от добрых дел. Но что гораздо важнее — дети проявили заботу и доброту сердец, доказали, что не оставят человека наедине со своими проблем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чень важно, чтобы каждый ребёнок рос осознанием своей нужности, с верой в справедливость и силу доб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imes New Roman"/>
              </a:rPr>
              <a:t>Пусть чаще находятся люди, желающие организовать и участвовать в добрых делах во благо других людей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5" descr="i4"/>
          <p:cNvPicPr/>
          <p:nvPr/>
        </p:nvPicPr>
        <p:blipFill>
          <a:blip r:embed="rId2"/>
          <a:stretch/>
        </p:blipFill>
        <p:spPr>
          <a:xfrm>
            <a:off x="762120" y="2057400"/>
            <a:ext cx="74674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191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Задача школы – воспитывать человека, который бы в любой области деятельности, полезной для общества, смог подняться на наивысшую ступень гражданственност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А. Сухомлин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8" descr="Suhomlinskii_"/>
          <p:cNvPicPr/>
          <p:nvPr/>
        </p:nvPicPr>
        <p:blipFill>
          <a:blip r:embed="rId2"/>
          <a:stretch/>
        </p:blipFill>
        <p:spPr>
          <a:xfrm>
            <a:off x="4494240" y="152280"/>
            <a:ext cx="4649760" cy="632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сентябре 2010 года наши первоклассники начали обучение в соответствии с требованиями новых ФГОС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5" descr="123"/>
          <p:cNvPicPr/>
          <p:nvPr/>
        </p:nvPicPr>
        <p:blipFill>
          <a:blip r:embed="rId2"/>
          <a:stretch/>
        </p:blipFill>
        <p:spPr>
          <a:xfrm>
            <a:off x="1752480" y="246240"/>
            <a:ext cx="518184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овых стандартах особая роль отводится духовно-нравственному развитию и воспитанию младших школьников, умению учиться, преобразовывать ми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GRADUAT5"/>
          <p:cNvPicPr/>
          <p:nvPr/>
        </p:nvPicPr>
        <p:blipFill>
          <a:blip r:embed="rId2"/>
          <a:stretch/>
        </p:blipFill>
        <p:spPr>
          <a:xfrm>
            <a:off x="914400" y="380880"/>
            <a:ext cx="2743200" cy="237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UDGE2"/>
          <p:cNvPicPr/>
          <p:nvPr/>
        </p:nvPicPr>
        <p:blipFill>
          <a:blip r:embed="rId3"/>
          <a:stretch/>
        </p:blipFill>
        <p:spPr>
          <a:xfrm>
            <a:off x="5715000" y="380880"/>
            <a:ext cx="25830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няющаяся социальная и политическая среда оказывает влияние на формирование личности ребенка. В условиях современной жизни нашего общества актуальной проблемой становится способность учащихся решать социально-значимые проблемы, формирование активной гражданской позиции, патриотических убеждений, приверженность демократическим ценностям, позитивная социализация. Важным направлением в нашей деятельности является развитие социально-активной личности, формирование социально- значимых компетенц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воспитании детей семья не может быть заменена никаким другим социальным институтом, так как именно в семье рождается чувство преемственности поколений, ощущение причастности к истории своего народа, прошлому, настоящему и будущему. Психологически благоприятная семейная атмосфера и эмоционально насыщенная жизнь в школе играют большую роль в воспитании учащегося. Они создают предпосылки для развития интеллекта ребенка и его духовно-нравственного воспитания. Именно поэтому так важно взаимодействие родителей и педагогов, семьи и школы в вопросах воспит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социально-педагогическая служба школы работает над созданием благоприятных условий для реализации прав ребенка, основанных на оказании помощи учащимся в преодолении трудностей социального и образовательного характера, исходя из их реальных и потенциальных возможностей и способнос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imes New Roman"/>
              </a:rPr>
              <a:t>Формированию у детей активной гражданской позиции и позитивной социализации в обществе способствуют различные акции и проекты.</a:t>
            </a:r>
            <a:br>
              <a:rPr sz="40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7" descr="руки"/>
          <p:cNvPicPr/>
          <p:nvPr/>
        </p:nvPicPr>
        <p:blipFill>
          <a:blip r:embed="rId2"/>
          <a:stretch/>
        </p:blipFill>
        <p:spPr>
          <a:xfrm>
            <a:off x="914400" y="160020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ладшие школьники также принимают участие в социально-значимых акц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BOOKS1"/>
          <p:cNvPicPr/>
          <p:nvPr/>
        </p:nvPicPr>
        <p:blipFill>
          <a:blip r:embed="rId2"/>
          <a:stretch/>
        </p:blipFill>
        <p:spPr>
          <a:xfrm>
            <a:off x="6324480" y="47242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GEOGRPHY"/>
          <p:cNvPicPr/>
          <p:nvPr/>
        </p:nvPicPr>
        <p:blipFill>
          <a:blip r:embed="rId3"/>
          <a:stretch/>
        </p:blipFill>
        <p:spPr>
          <a:xfrm>
            <a:off x="2209680" y="3808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mLab.ws</cp:lastModifiedBy>
  <dcterms:modified xsi:type="dcterms:W3CDTF">2012-06-26T16:34:5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