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0917-5943-46E5-A08A-4029807D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5942-E4F4-4FB5-8E21-510274AD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819-5301-4307-AEAD-19ADBEC0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166-5B28-48AC-8A7D-34D5EF43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E4D5-C77C-48C2-895C-13E2A1E9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35AC-640E-44E0-A348-6C660F90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C811-9EC6-4DB4-B817-F50443B3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C822-2280-4F9C-9DF4-DBEF4AC6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E300-082C-41C0-B9E5-0D709548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0D15-3527-470D-9A3D-81568C8A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7A33-42C2-436A-AAEA-2778509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8E8B-4F1F-416E-A5B1-61A689ED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D948-70DF-4E28-A090-10FE3408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2EFE-B20E-4909-AA42-C0BB7821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3FCD-1093-480E-8FF2-B6C34DAC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E381-360A-4BDB-9163-D077586F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03F1-CCF0-4F7B-86F0-FDA129B5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021-26EF-490A-8779-661A4F55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6AD-6482-446D-AF09-BC3EAECB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B20A-1253-47ED-B797-DF23B763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D94-4C99-4882-8D93-122E902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7D5-FF3F-4EA8-BC00-DFF4CC17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41E-981C-4CF1-BBE7-C48C769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4D1-4F9C-4381-B588-B569177F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65D-3D2B-4D28-A6A3-B8237FF7C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4378-69A6-4A35-B9F7-CF37D2310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3335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ahoma"/>
              </a:rPr>
              <a:t>«Делай как МЫ!»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cc"/>
                </a:solidFill>
                <a:latin typeface="Tahoma"/>
              </a:rPr>
              <a:t>Рисуем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84360" y="1339920"/>
            <a:ext cx="784836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ahoma"/>
              </a:rPr>
              <a:t>КЛАССНЫЙ УГОЛОК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3440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ПОМНИ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ЗДОРОВЬЕ В ТВОИХ РУКАХ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569440" cy="3745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Мы, учащиеся 4-А класса МБОУ БСОШ №1, любим спорт, участвуем во всех акциях по пропаганде здорового образа жизн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ahoma"/>
              </a:rPr>
              <a:t>«ВЕСЁЛЫЕ СТАРТЫ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696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5157720"/>
            <a:ext cx="8642160" cy="1440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Это было в прошлом году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5614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2011-2012 уч. г.               Классный час  «Сохрани легкие здоровым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633744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2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ahoma"/>
              </a:rPr>
              <a:t>НАША СТЕНГАЗЕТ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7201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4e4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ahoma"/>
              </a:rPr>
              <a:t>Пишем сочинения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79200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23:17Z</dcterms:created>
  <dc:creator>антон</dc:creator>
  <dc:description/>
  <dc:language>en-US</dc:language>
  <cp:lastModifiedBy>антон</cp:lastModifiedBy>
  <dcterms:modified xsi:type="dcterms:W3CDTF">2012-07-12T04:55:17Z</dcterms:modified>
  <cp:revision>3</cp:revision>
  <dc:subject/>
  <dc:title>«Делай как МЫ!»</dc:title>
</cp:coreProperties>
</file>