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7455B-DF21-4553-8408-E50E95DA0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0D32F-38F2-4101-BA9B-81837CEAF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18A6D-6510-4F5E-BAE7-50EA5FB01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48750-CA7B-44C6-BE71-A5EBAE7A8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C2A27-704E-4198-871D-51FE3F864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099EA-915A-4459-B360-3548CCC5D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9CCDB-3F40-4E61-8804-A50867E23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4B8EA-3F67-46C1-A834-2C5DBF667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8DCF4-844C-482C-BCA7-6F32D2FC0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03BA2-950B-4D25-9E46-D99F02616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8F9CF-C1F1-4973-8711-FF6122534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8B4A2-9371-4EDE-9A61-19DD0528F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CB2BF-9E8B-407C-A3C3-D9732DEB4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BE1FA-2EA0-4AEC-A7A3-ADC7FC73F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46EC0-2327-4641-A78D-C623FD172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BFA95-5A03-4B72-A6B4-8421C661E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0DA73-8161-49C5-A69A-261518287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8549B-1094-435E-A88D-65C0413F9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D225E-C69D-49E4-8E4B-8173C00D8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B5F84-D4C2-4DAB-9A5A-B21B8B228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7289F-A8AC-4753-AA06-560A6CF73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A92C8-1414-4A56-AABC-4E918312B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C0D26-A8E1-4D1B-BCE3-1BAD265CA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3E75A-27F6-41D9-AE25-03148E2B3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724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724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FF3C1-1EDD-4548-A7A2-20C4BDBE594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12128-5068-4A39-85ED-E6189F63ADC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724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060640"/>
            <a:ext cx="9144000" cy="233352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004e4c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cc"/>
                </a:solidFill>
                <a:latin typeface="Tahoma"/>
              </a:rPr>
              <a:t>«Делай как МЫ!»</a:t>
            </a:r>
            <a:endParaRPr b="0" lang="en-US" sz="72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37160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004e4c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ffcc"/>
                </a:solidFill>
                <a:latin typeface="Tahoma"/>
              </a:rPr>
              <a:t>Рисуем…</a:t>
            </a:r>
            <a:endParaRPr b="0" lang="en-US" sz="6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684360" y="1339920"/>
            <a:ext cx="7848360" cy="50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004e4c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cc"/>
                </a:solidFill>
                <a:latin typeface="Tahoma"/>
              </a:rPr>
              <a:t>КЛАССНЫЙ УГОЛОК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900000" y="1700280"/>
            <a:ext cx="7344000" cy="48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137160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ffffff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ahoma"/>
              </a:rPr>
              <a:t>ПОМНИ: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95280" y="227664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004e4c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7200" spc="-1" strike="noStrike">
                <a:solidFill>
                  <a:srgbClr val="ffffff"/>
                </a:solidFill>
                <a:latin typeface="Tahoma"/>
              </a:rPr>
              <a:t>ЗДОРОВЬЕ В ТВОИХ РУКАХ!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179280" y="1483920"/>
            <a:ext cx="8569440" cy="3745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004e4c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i="1" lang="en-US" sz="4400" spc="-1" strike="noStrike">
                <a:solidFill>
                  <a:srgbClr val="ffffff"/>
                </a:solidFill>
                <a:latin typeface="Tahoma"/>
              </a:rPr>
              <a:t>Мы, учащиеся 4-А класса МБОУ БСОШ №1, любим спорт, участвуем во всех акциях по пропаганде здорового образа жизни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37160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004e4c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cc"/>
                </a:solidFill>
                <a:latin typeface="Tahoma"/>
              </a:rPr>
              <a:t>«ВЕСЁЛЫЕ СТАРТЫ»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1258920" y="1197000"/>
            <a:ext cx="6696000" cy="536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324000" y="5157720"/>
            <a:ext cx="8642160" cy="144000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004e4c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cc"/>
                </a:solidFill>
                <a:latin typeface="Tahoma"/>
              </a:rPr>
              <a:t>Это было в прошлом году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55640" y="260280"/>
            <a:ext cx="7561440" cy="485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137160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004e4c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cc"/>
                </a:solidFill>
                <a:latin typeface="Tahoma"/>
              </a:rPr>
              <a:t>2011-2012 уч. г.               Классный час  «Сохрани легкие здоровыми»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1476360" y="2133720"/>
            <a:ext cx="6337440" cy="42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8496000" cy="631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8496000" cy="626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cc"/>
                </a:solidFill>
                <a:latin typeface="Tahoma"/>
              </a:rPr>
              <a:t>НАША СТЕНГАЗЕТА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1042920" y="1557360"/>
            <a:ext cx="720108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004e4c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cc"/>
                </a:solidFill>
                <a:latin typeface="Tahoma"/>
              </a:rPr>
              <a:t>Пишем сочинения…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539640" y="1628640"/>
            <a:ext cx="7920000" cy="497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6T16:23:17Z</dcterms:created>
  <dc:creator>антон</dc:creator>
  <dc:description/>
  <dc:language>en-US</dc:language>
  <cp:lastModifiedBy>антон</cp:lastModifiedBy>
  <dcterms:modified xsi:type="dcterms:W3CDTF">2012-07-12T04:55:17Z</dcterms:modified>
  <cp:revision>3</cp:revision>
  <dc:subject/>
  <dc:title>«Делай как МЫ!»</dc:title>
</cp:coreProperties>
</file>