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C70B-1ABA-413D-9381-4378DEF73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119-6BDD-4D4A-B0DB-82E601E122CD}" type="slidenum">
              <a:rPr b="0" lang="ru-RU" sz="1200" spc="-1" strike="noStrike">
                <a:solidFill>
                  <a:srgbClr val="081d5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BF3A-584E-49B8-B3CF-2D83F37E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DBAE-AB88-44E1-B8F8-EB43AC8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DDF4-9CD7-40D8-8D5B-AA2D2B34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AD3E-4FC6-4102-83CE-DFD35A0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895F-FFD8-4CA3-9F4F-48D5DF49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CEF-E966-4414-9892-A9A38A5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614-DF89-43FB-A4F7-C36C4E7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EF1-2DFE-44FC-BC83-7A2D0F2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6814-274F-4E22-9F61-3D3A2C1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D36-0CD1-4165-AAEC-8D7ECDFF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C3C9-E0C3-47EC-9EEA-7807788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DCC3-0355-4CAA-BEDF-2375B3F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5E4B-F1CB-4DB0-93D2-0AAFCA5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819E-A52B-4E94-9648-C7C2772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2A5-5EC4-4C70-B86A-8698EE5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BBFB-574B-4E74-AA8A-01EFA04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69A4-F4D7-4E9A-A1D0-C620D811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9254-BA24-4DF4-9CEE-5E44D78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0263-B737-4845-9502-3B5BD3F8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9D3-6C0F-4B91-B020-71312FC5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0EB8-60ED-4C70-A2A0-7ADAE24D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DA54-91C4-44C3-91FC-250DB0DE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F3DF-B38C-4797-AE33-4391F2B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EAE0-F8B4-46B6-B2F1-D72F7149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81d58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02F-0957-4D03-B1A0-31DFD53CF3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81d58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1d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EB1-AD5C-4640-8F43-22545BB26867}" type="slidenum">
              <a:rPr b="0" lang="ru-RU" sz="14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8" descr="j0398409"/>
          <p:cNvPicPr/>
          <p:nvPr/>
        </p:nvPicPr>
        <p:blipFill>
          <a:blip r:embed="rId1"/>
          <a:stretch/>
        </p:blipFill>
        <p:spPr>
          <a:xfrm>
            <a:off x="4788000" y="650880"/>
            <a:ext cx="3959280" cy="5657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640728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f0e30"/>
                </a:solidFill>
                <a:latin typeface="Century Schoolbook"/>
              </a:rPr>
              <a:t>Образ успешного педагога</a:t>
            </a:r>
            <a:r>
              <a:rPr b="0" lang="ru-RU" sz="3600" spc="-1" strike="noStrike">
                <a:solidFill>
                  <a:srgbClr val="cf0e3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f0e30"/>
              </a:solidFill>
              <a:latin typeface="Times New Roman"/>
            </a:endParaRPr>
          </a:p>
        </p:txBody>
      </p:sp>
      <p:pic>
        <p:nvPicPr>
          <p:cNvPr id="397" name="Picture 4" descr="j0358769"/>
          <p:cNvPicPr/>
          <p:nvPr/>
        </p:nvPicPr>
        <p:blipFill>
          <a:blip r:embed="rId2"/>
          <a:stretch/>
        </p:blipFill>
        <p:spPr>
          <a:xfrm>
            <a:off x="822240" y="550800"/>
            <a:ext cx="1346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/>
          <p:cNvSpPr/>
          <p:nvPr/>
        </p:nvSpPr>
        <p:spPr>
          <a:xfrm>
            <a:off x="3203640" y="2421000"/>
            <a:ext cx="2663640" cy="1368360"/>
          </a:xfrm>
          <a:prstGeom prst="ellipse">
            <a:avLst/>
          </a:prstGeom>
          <a:solidFill>
            <a:srgbClr val="79a0fe"/>
          </a:solidFill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80718"/>
                </a:solidFill>
                <a:latin typeface="Tahoma"/>
              </a:rPr>
              <a:t>Качества успешного 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80718"/>
                </a:solidFill>
                <a:latin typeface="Tahoma"/>
              </a:rPr>
              <a:t>педагога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9" name="Line 10"/>
          <p:cNvSpPr/>
          <p:nvPr/>
        </p:nvSpPr>
        <p:spPr>
          <a:xfrm flipV="1">
            <a:off x="5506920" y="2042640"/>
            <a:ext cx="658800" cy="62892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5651640" y="3500280"/>
            <a:ext cx="1417320" cy="66060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5148360" y="3716280"/>
            <a:ext cx="358560" cy="64944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2" name="Line 13"/>
          <p:cNvSpPr/>
          <p:nvPr/>
        </p:nvSpPr>
        <p:spPr>
          <a:xfrm flipH="1">
            <a:off x="3274560" y="3716280"/>
            <a:ext cx="505080" cy="64944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3" name="Line 14"/>
          <p:cNvSpPr/>
          <p:nvPr/>
        </p:nvSpPr>
        <p:spPr>
          <a:xfrm flipH="1">
            <a:off x="2771640" y="3284640"/>
            <a:ext cx="432000" cy="1443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4" name="Line 15"/>
          <p:cNvSpPr/>
          <p:nvPr/>
        </p:nvSpPr>
        <p:spPr>
          <a:xfrm flipH="1">
            <a:off x="3038400" y="2852640"/>
            <a:ext cx="309600" cy="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5" name="Line 16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4541760" y="3789360"/>
            <a:ext cx="0" cy="10875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7" name="Line 21"/>
          <p:cNvSpPr/>
          <p:nvPr/>
        </p:nvSpPr>
        <p:spPr>
          <a:xfrm>
            <a:off x="5764320" y="2954160"/>
            <a:ext cx="350640" cy="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8" name="Line 22"/>
          <p:cNvSpPr/>
          <p:nvPr/>
        </p:nvSpPr>
        <p:spPr>
          <a:xfrm flipH="1" flipV="1">
            <a:off x="2843280" y="1341000"/>
            <a:ext cx="936720" cy="115092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409" name="Группа 2"/>
          <p:cNvGrpSpPr/>
          <p:nvPr/>
        </p:nvGrpSpPr>
        <p:grpSpPr>
          <a:xfrm>
            <a:off x="3733920" y="404640"/>
            <a:ext cx="1979640" cy="1638360"/>
            <a:chOff x="3733920" y="404640"/>
            <a:chExt cx="1979640" cy="1638360"/>
          </a:xfrm>
        </p:grpSpPr>
        <p:pic>
          <p:nvPicPr>
            <p:cNvPr id="410" name="Picture 24" descr="j0425227"/>
            <p:cNvPicPr/>
            <p:nvPr/>
          </p:nvPicPr>
          <p:blipFill>
            <a:blip r:embed="rId1"/>
            <a:stretch/>
          </p:blipFill>
          <p:spPr>
            <a:xfrm>
              <a:off x="3733920" y="1014840"/>
              <a:ext cx="1979640" cy="10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1"/>
            <p:cNvSpPr/>
            <p:nvPr/>
          </p:nvSpPr>
          <p:spPr>
            <a:xfrm>
              <a:off x="3779640" y="404640"/>
              <a:ext cx="19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Работа на перспектив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2" name="Группа 4"/>
          <p:cNvGrpSpPr/>
          <p:nvPr/>
        </p:nvGrpSpPr>
        <p:grpSpPr>
          <a:xfrm>
            <a:off x="5970600" y="488880"/>
            <a:ext cx="1552680" cy="1432440"/>
            <a:chOff x="5970600" y="488880"/>
            <a:chExt cx="1552680" cy="1432440"/>
          </a:xfrm>
        </p:grpSpPr>
        <p:pic>
          <p:nvPicPr>
            <p:cNvPr id="413" name="Picture 25" descr="j0432728"/>
            <p:cNvPicPr/>
            <p:nvPr/>
          </p:nvPicPr>
          <p:blipFill>
            <a:blip r:embed="rId2"/>
            <a:srcRect l="0" t="32512" r="0" b="0"/>
            <a:stretch/>
          </p:blipFill>
          <p:spPr>
            <a:xfrm>
              <a:off x="5975640" y="488880"/>
              <a:ext cx="1547640" cy="102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Box 3"/>
            <p:cNvSpPr/>
            <p:nvPr/>
          </p:nvSpPr>
          <p:spPr>
            <a:xfrm>
              <a:off x="5970600" y="155304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Трудолюбие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5" name="Группа 8"/>
          <p:cNvGrpSpPr/>
          <p:nvPr/>
        </p:nvGrpSpPr>
        <p:grpSpPr>
          <a:xfrm>
            <a:off x="6165720" y="1854360"/>
            <a:ext cx="2408400" cy="1503360"/>
            <a:chOff x="6165720" y="1854360"/>
            <a:chExt cx="2408400" cy="1503360"/>
          </a:xfrm>
        </p:grpSpPr>
        <p:pic>
          <p:nvPicPr>
            <p:cNvPr id="416" name="Picture 26" descr="j0422219"/>
            <p:cNvPicPr/>
            <p:nvPr/>
          </p:nvPicPr>
          <p:blipFill>
            <a:blip r:embed="rId3"/>
            <a:stretch/>
          </p:blipFill>
          <p:spPr>
            <a:xfrm>
              <a:off x="7441920" y="1854360"/>
              <a:ext cx="113220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5"/>
            <p:cNvSpPr/>
            <p:nvPr/>
          </p:nvSpPr>
          <p:spPr>
            <a:xfrm>
              <a:off x="6165720" y="242136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Творческое отношение к дел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8" name="Группа 9"/>
          <p:cNvGrpSpPr/>
          <p:nvPr/>
        </p:nvGrpSpPr>
        <p:grpSpPr>
          <a:xfrm>
            <a:off x="7068960" y="3500280"/>
            <a:ext cx="1505160" cy="2513160"/>
            <a:chOff x="7068960" y="3500280"/>
            <a:chExt cx="1505160" cy="2513160"/>
          </a:xfrm>
        </p:grpSpPr>
        <p:pic>
          <p:nvPicPr>
            <p:cNvPr id="419" name="Picture 27" descr="j0430763"/>
            <p:cNvPicPr/>
            <p:nvPr/>
          </p:nvPicPr>
          <p:blipFill>
            <a:blip r:embed="rId4"/>
            <a:stretch/>
          </p:blipFill>
          <p:spPr>
            <a:xfrm>
              <a:off x="7202160" y="4160520"/>
              <a:ext cx="137196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Box 6"/>
            <p:cNvSpPr/>
            <p:nvPr/>
          </p:nvSpPr>
          <p:spPr>
            <a:xfrm>
              <a:off x="7068960" y="3500280"/>
              <a:ext cx="15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к риск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1" name="Группа 10"/>
          <p:cNvGrpSpPr/>
          <p:nvPr/>
        </p:nvGrpSpPr>
        <p:grpSpPr>
          <a:xfrm>
            <a:off x="5124600" y="4414680"/>
            <a:ext cx="1995480" cy="1951200"/>
            <a:chOff x="5124600" y="4414680"/>
            <a:chExt cx="1995480" cy="1951200"/>
          </a:xfrm>
        </p:grpSpPr>
        <p:pic>
          <p:nvPicPr>
            <p:cNvPr id="422" name="Picture 28" descr="j0411642"/>
            <p:cNvPicPr/>
            <p:nvPr/>
          </p:nvPicPr>
          <p:blipFill>
            <a:blip r:embed="rId5"/>
            <a:stretch/>
          </p:blipFill>
          <p:spPr>
            <a:xfrm>
              <a:off x="6051960" y="5136840"/>
              <a:ext cx="1068120" cy="12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7"/>
            <p:cNvSpPr/>
            <p:nvPr/>
          </p:nvSpPr>
          <p:spPr>
            <a:xfrm>
              <a:off x="5124600" y="4414680"/>
              <a:ext cx="199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Независимость в принятии решений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4" name="Группа 12"/>
          <p:cNvGrpSpPr/>
          <p:nvPr/>
        </p:nvGrpSpPr>
        <p:grpSpPr>
          <a:xfrm>
            <a:off x="3794040" y="4865760"/>
            <a:ext cx="1727280" cy="1658520"/>
            <a:chOff x="3794040" y="4865760"/>
            <a:chExt cx="1727280" cy="1658520"/>
          </a:xfrm>
        </p:grpSpPr>
        <p:pic>
          <p:nvPicPr>
            <p:cNvPr id="425" name="Picture 29" descr="http://news07.join.com.ua/?m=20080508&amp;paged=2"/>
            <p:cNvPicPr/>
            <p:nvPr/>
          </p:nvPicPr>
          <p:blipFill>
            <a:blip r:embed="rId6"/>
            <a:stretch/>
          </p:blipFill>
          <p:spPr>
            <a:xfrm>
              <a:off x="4009680" y="4865760"/>
              <a:ext cx="142848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11"/>
            <p:cNvSpPr/>
            <p:nvPr/>
          </p:nvSpPr>
          <p:spPr>
            <a:xfrm>
              <a:off x="3794040" y="58816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быть лидером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7" name="Группа 14"/>
          <p:cNvGrpSpPr/>
          <p:nvPr/>
        </p:nvGrpSpPr>
        <p:grpSpPr>
          <a:xfrm>
            <a:off x="915840" y="4332240"/>
            <a:ext cx="3144960" cy="2165400"/>
            <a:chOff x="915840" y="4332240"/>
            <a:chExt cx="3144960" cy="2165400"/>
          </a:xfrm>
        </p:grpSpPr>
        <p:pic>
          <p:nvPicPr>
            <p:cNvPr id="428" name="Picture 30" descr="j0427686"/>
            <p:cNvPicPr/>
            <p:nvPr/>
          </p:nvPicPr>
          <p:blipFill>
            <a:blip r:embed="rId7"/>
            <a:stretch/>
          </p:blipFill>
          <p:spPr>
            <a:xfrm>
              <a:off x="915840" y="5201280"/>
              <a:ext cx="158472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13"/>
            <p:cNvSpPr/>
            <p:nvPr/>
          </p:nvSpPr>
          <p:spPr>
            <a:xfrm>
              <a:off x="2015280" y="4332240"/>
              <a:ext cx="204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к непрерывному самообразованию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0" name="Группа 16"/>
          <p:cNvGrpSpPr/>
          <p:nvPr/>
        </p:nvGrpSpPr>
        <p:grpSpPr>
          <a:xfrm>
            <a:off x="466560" y="3236760"/>
            <a:ext cx="3059280" cy="1908360"/>
            <a:chOff x="466560" y="3236760"/>
            <a:chExt cx="3059280" cy="1908360"/>
          </a:xfrm>
        </p:grpSpPr>
        <p:pic>
          <p:nvPicPr>
            <p:cNvPr id="431" name="Picture 31" descr="j0430565"/>
            <p:cNvPicPr/>
            <p:nvPr/>
          </p:nvPicPr>
          <p:blipFill>
            <a:blip r:embed="rId8"/>
            <a:stretch/>
          </p:blipFill>
          <p:spPr>
            <a:xfrm>
              <a:off x="592560" y="3893400"/>
              <a:ext cx="1403280" cy="12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15"/>
            <p:cNvSpPr/>
            <p:nvPr/>
          </p:nvSpPr>
          <p:spPr>
            <a:xfrm>
              <a:off x="466560" y="3236760"/>
              <a:ext cx="30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мление к профессиональному рост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3" name="Группа 18"/>
          <p:cNvGrpSpPr/>
          <p:nvPr/>
        </p:nvGrpSpPr>
        <p:grpSpPr>
          <a:xfrm>
            <a:off x="466560" y="1616040"/>
            <a:ext cx="2521080" cy="1620720"/>
            <a:chOff x="466560" y="1616040"/>
            <a:chExt cx="2521080" cy="1620720"/>
          </a:xfrm>
        </p:grpSpPr>
        <p:pic>
          <p:nvPicPr>
            <p:cNvPr id="434" name="Picture 32" descr="j0427810"/>
            <p:cNvPicPr/>
            <p:nvPr/>
          </p:nvPicPr>
          <p:blipFill>
            <a:blip r:embed="rId9"/>
            <a:stretch/>
          </p:blipFill>
          <p:spPr>
            <a:xfrm>
              <a:off x="1645200" y="2129400"/>
              <a:ext cx="1342440" cy="11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17"/>
            <p:cNvSpPr/>
            <p:nvPr/>
          </p:nvSpPr>
          <p:spPr>
            <a:xfrm>
              <a:off x="466560" y="1616040"/>
              <a:ext cx="201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мление к высокому качеству конечного продукта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6" name="Группа 20"/>
          <p:cNvGrpSpPr/>
          <p:nvPr/>
        </p:nvGrpSpPr>
        <p:grpSpPr>
          <a:xfrm>
            <a:off x="490680" y="399960"/>
            <a:ext cx="3035160" cy="1152720"/>
            <a:chOff x="490680" y="399960"/>
            <a:chExt cx="3035160" cy="1152720"/>
          </a:xfrm>
        </p:grpSpPr>
        <p:pic>
          <p:nvPicPr>
            <p:cNvPr id="437" name="Picture 23" descr="j0431807"/>
            <p:cNvPicPr/>
            <p:nvPr/>
          </p:nvPicPr>
          <p:blipFill>
            <a:blip r:embed="rId10"/>
            <a:stretch/>
          </p:blipFill>
          <p:spPr>
            <a:xfrm>
              <a:off x="490680" y="399960"/>
              <a:ext cx="13672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Box 19"/>
            <p:cNvSpPr/>
            <p:nvPr/>
          </p:nvSpPr>
          <p:spPr>
            <a:xfrm>
              <a:off x="1860120" y="606960"/>
              <a:ext cx="166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ссо-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устойчивость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1d58"/>
                </a:solidFill>
                <a:latin typeface="Times New Roman"/>
              </a:rPr>
              <a:t>Имидж – некая система внешних характеристик человека, которые создают или подчёркивают неповторимое внутреннее содержание личности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pic>
        <p:nvPicPr>
          <p:cNvPr id="440" name="Picture 8" descr="j0398409"/>
          <p:cNvPicPr/>
          <p:nvPr/>
        </p:nvPicPr>
        <p:blipFill>
          <a:blip r:embed="rId1"/>
          <a:stretch/>
        </p:blipFill>
        <p:spPr>
          <a:xfrm>
            <a:off x="5651640" y="2627280"/>
            <a:ext cx="27367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7:12:09Z</dcterms:created>
  <dc:creator>*</dc:creator>
  <dc:description/>
  <dc:language>en-US</dc:language>
  <cp:lastModifiedBy>Масягина ОЮ</cp:lastModifiedBy>
  <dcterms:modified xsi:type="dcterms:W3CDTF">2011-04-26T11:20:41Z</dcterms:modified>
  <cp:revision>11</cp:revision>
  <dc:subject/>
  <dc:title>Слайд 1</dc:title>
</cp:coreProperties>
</file>