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4857-8D5C-46E6-97CD-8DF978DC93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6D1-44C7-46B6-B50C-D98E6AC71046}" type="slidenum">
              <a:rPr b="0" lang="ru-RU" sz="1200" spc="-1" strike="noStrike">
                <a:solidFill>
                  <a:srgbClr val="081d5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39F7-674A-4E77-8425-41E02779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8916-7E94-470F-A1EC-19759F7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4D50-DF2D-497A-A5BB-87FCFEDC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3BEBE-5940-4EFC-BA86-E096AEB7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8B23-CED2-4D61-B5FA-47910BB6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71D-3FED-4E9B-A04B-9717A4E2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96FF-2D5C-46F3-8D75-E3C10F3F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A1D-5764-4AA6-A7AD-2C4728C8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3347-4896-4FFB-A8DA-9EDAF187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3A92-1F31-4640-8E74-5981C83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CE72-ABC5-43C1-8CEE-C9CEBC2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3B96-7552-4FC9-A117-52C477DD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7467-524F-41CB-88CF-CE814260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9C4B-B524-4EEA-B0CE-1CCB7127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CF6F-5FFE-409B-BEF2-53E3059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F720-FF72-485B-9AC2-7C92D21F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DE30-E4A9-42AE-8B70-09FF16E6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26AC1-4EAA-4406-BA3D-CA07011B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645BC-AC7C-4AC6-82B9-4C799C1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DEE7-EC85-49E4-8EF7-76932D0C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72B8-07F0-4435-BAB4-F58F0797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AB74-1572-4DFA-AACF-E5E0B429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922B5-FB5B-41EE-ACD6-B74C2311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709F-77D6-434B-94C4-DF26DE56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6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7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8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5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6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7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8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9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0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1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2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5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6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7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8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49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0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1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2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3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4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5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6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7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8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59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0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1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2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3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4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5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6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7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8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69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0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2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3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4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5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6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79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0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1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2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3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4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5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6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7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8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89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0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1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2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3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4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5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6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7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8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99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0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1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2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3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4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5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6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7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8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09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0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1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2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3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4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5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6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7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18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1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2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3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4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5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6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81d58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7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8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29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0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1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2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3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4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5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6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7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8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39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0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1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2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3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4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5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6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7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8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49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1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52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389-0A91-4E1B-B24C-BE88906312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4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7" name="AutoShape 5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8" name="AutoShape 6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199" name="AutoShape 7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3" name="AutoShape 11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4" name="AutoShape 12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5" name="AutoShape 13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6" name="AutoShape 14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7" name="AutoShape 15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8" name="AutoShape 16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09" name="AutoShape 17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0" name="AutoShape 18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1" name="AutoShape 19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2" name="AutoShape 20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3" name="AutoShape 21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4" name="AutoShape 22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5" name="AutoShape 23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6" name="AutoShape 24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7" name="AutoShape 25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8" name="AutoShape 26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19" name="AutoShape 27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0" name="AutoShape 28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1" name="AutoShape 29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2" name="AutoShape 30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3" name="AutoShape 31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4" name="AutoShape 32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5" name="AutoShape 33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6" name="AutoShape 34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7" name="AutoShape 35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8" name="AutoShape 36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29" name="AutoShape 37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0" name="AutoShape 38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1" name="AutoShape 39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2" name="AutoShape 40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3" name="AutoShape 41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4" name="AutoShape 42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5" name="AutoShape 43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6" name="AutoShape 44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45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6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39" name="AutoShape 47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0" name="AutoShape 48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1" name="AutoShape 49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2" name="AutoShape 50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3" name="AutoShape 51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4" name="AutoShape 52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5" name="AutoShape 53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6" name="AutoShape 54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7" name="AutoShape 55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8" name="AutoShape 56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49" name="AutoShape 57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0" name="AutoShape 58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1" name="AutoShape 59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2" name="AutoShape 60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3" name="AutoShape 61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4" name="AutoShape 62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5" name="AutoShape 63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6" name="AutoShape 64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7" name="AutoShape 65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8" name="AutoShape 66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59" name="AutoShape 67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0" name="AutoShape 68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1" name="AutoShape 69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2" name="AutoShape 70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3" name="AutoShape 71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4" name="AutoShape 72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5" name="Rectangle 73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6" name="AutoShape 74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7" name="AutoShape 75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8" name="AutoShape 76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69" name="AutoShape 77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0" name="AutoShape 78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7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80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3" name="AutoShape 81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4" name="AutoShape 82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5" name="AutoShape 83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6" name="AutoShape 84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7" name="AutoShape 85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8" name="AutoShape 86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79" name="AutoShape 87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0" name="AutoShape 88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1" name="AutoShape 89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2" name="AutoShape 90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3" name="AutoShape 91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4" name="AutoShape 92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5" name="AutoShape 93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6" name="AutoShape 94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7" name="AutoShape 95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8" name="AutoShape 96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89" name="AutoShape 97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0" name="AutoShape 98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1" name="AutoShape 99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2" name="AutoShape 100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3" name="AutoShape 101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4" name="AutoShape 102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5" name="AutoShape 103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6" name="AutoShape 104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7" name="AutoShape 105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8" name="AutoShape 106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299" name="AutoShape 107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0" name="AutoShape 108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1" name="AutoShape 109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2" name="AutoShape 110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3" name="AutoShape 111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4" name="AutoShape 112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5" name="AutoShape 113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6" name="AutoShape 114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7" name="AutoShape 115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8" name="AutoShape 116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09" name="AutoShape 117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0" name="AutoShape 118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1" name="AutoShape 119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2" name="AutoShape 120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21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2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5" name="AutoShape 123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6" name="AutoShape 124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7" name="AutoShape 125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8" name="AutoShape 126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19" name="AutoShape 127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0" name="AutoShape 128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81d58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1" name="AutoShape 129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2" name="AutoShape 130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3" name="AutoShape 131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4" name="AutoShape 132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5" name="AutoShape 133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6" name="AutoShape 134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7" name="AutoShape 135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8" name="AutoShape 136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29" name="AutoShape 137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0" name="AutoShape 138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1" name="AutoShape 139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2" name="AutoShape 140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3" name="AutoShape 141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4" name="AutoShape 142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5" name="AutoShape 143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6" name="AutoShape 144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7" name="AutoShape 145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8" name="AutoShape 146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39" name="AutoShape 147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9a0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0" name="AutoShape 148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1" name="AutoShape 149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81d5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2" name="AutoShape 150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39fd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3" name="AutoShape 151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4" name="Rectangle 152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5" name="AutoShape 153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cf0e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  <p:sp>
            <p:nvSpPr>
              <p:cNvPr id="346" name="AutoShape 154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81d5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f0e3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81d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678-3FC3-433E-A824-E7762C22F74D}" type="slidenum">
              <a:rPr b="0" lang="ru-RU" sz="1400" spc="-1" strike="noStrike">
                <a:solidFill>
                  <a:srgbClr val="081d5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8" descr="j0398409"/>
          <p:cNvPicPr/>
          <p:nvPr/>
        </p:nvPicPr>
        <p:blipFill>
          <a:blip r:embed="rId1"/>
          <a:stretch/>
        </p:blipFill>
        <p:spPr>
          <a:xfrm>
            <a:off x="4788000" y="650880"/>
            <a:ext cx="3959280" cy="5657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640728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f0e30"/>
                </a:solidFill>
                <a:latin typeface="Century Schoolbook"/>
              </a:rPr>
              <a:t>Образ успешного педагога</a:t>
            </a:r>
            <a:r>
              <a:rPr b="0" lang="ru-RU" sz="3600" spc="-1" strike="noStrike">
                <a:solidFill>
                  <a:srgbClr val="cf0e3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f0e30"/>
              </a:solidFill>
              <a:latin typeface="Times New Roman"/>
            </a:endParaRPr>
          </a:p>
        </p:txBody>
      </p:sp>
      <p:pic>
        <p:nvPicPr>
          <p:cNvPr id="397" name="Picture 4" descr="j0358769"/>
          <p:cNvPicPr/>
          <p:nvPr/>
        </p:nvPicPr>
        <p:blipFill>
          <a:blip r:embed="rId2"/>
          <a:stretch/>
        </p:blipFill>
        <p:spPr>
          <a:xfrm>
            <a:off x="822240" y="550800"/>
            <a:ext cx="13464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Oval 2"/>
          <p:cNvSpPr/>
          <p:nvPr/>
        </p:nvSpPr>
        <p:spPr>
          <a:xfrm>
            <a:off x="3203640" y="2421000"/>
            <a:ext cx="2663640" cy="1368360"/>
          </a:xfrm>
          <a:prstGeom prst="ellipse">
            <a:avLst/>
          </a:prstGeom>
          <a:solidFill>
            <a:srgbClr val="79a0fe"/>
          </a:solidFill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80718"/>
                </a:solidFill>
                <a:latin typeface="Tahoma"/>
              </a:rPr>
              <a:t>Качества успешного 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80718"/>
                </a:solidFill>
                <a:latin typeface="Tahoma"/>
              </a:rPr>
              <a:t>педагога</a:t>
            </a:r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399" name="Line 10"/>
          <p:cNvSpPr/>
          <p:nvPr/>
        </p:nvSpPr>
        <p:spPr>
          <a:xfrm flipV="1">
            <a:off x="5506920" y="2042640"/>
            <a:ext cx="658800" cy="62892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0" name="Line 11"/>
          <p:cNvSpPr/>
          <p:nvPr/>
        </p:nvSpPr>
        <p:spPr>
          <a:xfrm>
            <a:off x="5651640" y="3500280"/>
            <a:ext cx="1417320" cy="66060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1" name="Line 12"/>
          <p:cNvSpPr/>
          <p:nvPr/>
        </p:nvSpPr>
        <p:spPr>
          <a:xfrm>
            <a:off x="5148360" y="3716280"/>
            <a:ext cx="358560" cy="64944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2" name="Line 13"/>
          <p:cNvSpPr/>
          <p:nvPr/>
        </p:nvSpPr>
        <p:spPr>
          <a:xfrm flipH="1">
            <a:off x="3274560" y="3716280"/>
            <a:ext cx="505080" cy="64944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3" name="Line 14"/>
          <p:cNvSpPr/>
          <p:nvPr/>
        </p:nvSpPr>
        <p:spPr>
          <a:xfrm flipH="1">
            <a:off x="2771640" y="3284640"/>
            <a:ext cx="432000" cy="1443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4" name="Line 15"/>
          <p:cNvSpPr/>
          <p:nvPr/>
        </p:nvSpPr>
        <p:spPr>
          <a:xfrm flipH="1">
            <a:off x="3038400" y="2852640"/>
            <a:ext cx="309600" cy="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5" name="Line 16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4541760" y="3789360"/>
            <a:ext cx="0" cy="108756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7" name="Line 21"/>
          <p:cNvSpPr/>
          <p:nvPr/>
        </p:nvSpPr>
        <p:spPr>
          <a:xfrm>
            <a:off x="5764320" y="2954160"/>
            <a:ext cx="350640" cy="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sp>
        <p:nvSpPr>
          <p:cNvPr id="408" name="Line 22"/>
          <p:cNvSpPr/>
          <p:nvPr/>
        </p:nvSpPr>
        <p:spPr>
          <a:xfrm flipH="1" flipV="1">
            <a:off x="2843280" y="1341000"/>
            <a:ext cx="936720" cy="1150920"/>
          </a:xfrm>
          <a:prstGeom prst="line">
            <a:avLst/>
          </a:prstGeom>
          <a:ln w="38160">
            <a:solidFill>
              <a:srgbClr val="081d5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1d58"/>
              </a:solidFill>
              <a:latin typeface="Times New Roman"/>
            </a:endParaRPr>
          </a:p>
        </p:txBody>
      </p:sp>
      <p:grpSp>
        <p:nvGrpSpPr>
          <p:cNvPr id="409" name="Группа 2"/>
          <p:cNvGrpSpPr/>
          <p:nvPr/>
        </p:nvGrpSpPr>
        <p:grpSpPr>
          <a:xfrm>
            <a:off x="3733920" y="404640"/>
            <a:ext cx="1979640" cy="1638360"/>
            <a:chOff x="3733920" y="404640"/>
            <a:chExt cx="1979640" cy="1638360"/>
          </a:xfrm>
        </p:grpSpPr>
        <p:pic>
          <p:nvPicPr>
            <p:cNvPr id="410" name="Picture 24" descr="j0425227"/>
            <p:cNvPicPr/>
            <p:nvPr/>
          </p:nvPicPr>
          <p:blipFill>
            <a:blip r:embed="rId1"/>
            <a:stretch/>
          </p:blipFill>
          <p:spPr>
            <a:xfrm>
              <a:off x="3733920" y="1014840"/>
              <a:ext cx="1979640" cy="10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Box 1"/>
            <p:cNvSpPr/>
            <p:nvPr/>
          </p:nvSpPr>
          <p:spPr>
            <a:xfrm>
              <a:off x="3779640" y="404640"/>
              <a:ext cx="19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Работа на перспектив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2" name="Группа 4"/>
          <p:cNvGrpSpPr/>
          <p:nvPr/>
        </p:nvGrpSpPr>
        <p:grpSpPr>
          <a:xfrm>
            <a:off x="5970600" y="488880"/>
            <a:ext cx="1552680" cy="1432440"/>
            <a:chOff x="5970600" y="488880"/>
            <a:chExt cx="1552680" cy="1432440"/>
          </a:xfrm>
        </p:grpSpPr>
        <p:pic>
          <p:nvPicPr>
            <p:cNvPr id="413" name="Picture 25" descr="j0432728"/>
            <p:cNvPicPr/>
            <p:nvPr/>
          </p:nvPicPr>
          <p:blipFill>
            <a:blip r:embed="rId2"/>
            <a:srcRect l="0" t="32512" r="0" b="0"/>
            <a:stretch/>
          </p:blipFill>
          <p:spPr>
            <a:xfrm>
              <a:off x="5975640" y="488880"/>
              <a:ext cx="1547640" cy="102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Box 3"/>
            <p:cNvSpPr/>
            <p:nvPr/>
          </p:nvSpPr>
          <p:spPr>
            <a:xfrm>
              <a:off x="5970600" y="1553040"/>
              <a:ext cx="15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Трудолюбие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5" name="Группа 8"/>
          <p:cNvGrpSpPr/>
          <p:nvPr/>
        </p:nvGrpSpPr>
        <p:grpSpPr>
          <a:xfrm>
            <a:off x="6165720" y="1854360"/>
            <a:ext cx="2408400" cy="1503360"/>
            <a:chOff x="6165720" y="1854360"/>
            <a:chExt cx="2408400" cy="1503360"/>
          </a:xfrm>
        </p:grpSpPr>
        <p:pic>
          <p:nvPicPr>
            <p:cNvPr id="416" name="Picture 26" descr="j0422219"/>
            <p:cNvPicPr/>
            <p:nvPr/>
          </p:nvPicPr>
          <p:blipFill>
            <a:blip r:embed="rId3"/>
            <a:stretch/>
          </p:blipFill>
          <p:spPr>
            <a:xfrm>
              <a:off x="7441920" y="1854360"/>
              <a:ext cx="1132200" cy="15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TextBox 5"/>
            <p:cNvSpPr/>
            <p:nvPr/>
          </p:nvSpPr>
          <p:spPr>
            <a:xfrm>
              <a:off x="6165720" y="2421360"/>
              <a:ext cx="132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Творческое отношение к дел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18" name="Группа 9"/>
          <p:cNvGrpSpPr/>
          <p:nvPr/>
        </p:nvGrpSpPr>
        <p:grpSpPr>
          <a:xfrm>
            <a:off x="7068960" y="3500280"/>
            <a:ext cx="1505160" cy="2513160"/>
            <a:chOff x="7068960" y="3500280"/>
            <a:chExt cx="1505160" cy="2513160"/>
          </a:xfrm>
        </p:grpSpPr>
        <p:pic>
          <p:nvPicPr>
            <p:cNvPr id="419" name="Picture 27" descr="j0430763"/>
            <p:cNvPicPr/>
            <p:nvPr/>
          </p:nvPicPr>
          <p:blipFill>
            <a:blip r:embed="rId4"/>
            <a:stretch/>
          </p:blipFill>
          <p:spPr>
            <a:xfrm>
              <a:off x="7202160" y="4160520"/>
              <a:ext cx="137196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Box 6"/>
            <p:cNvSpPr/>
            <p:nvPr/>
          </p:nvSpPr>
          <p:spPr>
            <a:xfrm>
              <a:off x="7068960" y="3500280"/>
              <a:ext cx="150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к риск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1" name="Группа 10"/>
          <p:cNvGrpSpPr/>
          <p:nvPr/>
        </p:nvGrpSpPr>
        <p:grpSpPr>
          <a:xfrm>
            <a:off x="5124600" y="4414680"/>
            <a:ext cx="1995480" cy="1951200"/>
            <a:chOff x="5124600" y="4414680"/>
            <a:chExt cx="1995480" cy="1951200"/>
          </a:xfrm>
        </p:grpSpPr>
        <p:pic>
          <p:nvPicPr>
            <p:cNvPr id="422" name="Picture 28" descr="j0411642"/>
            <p:cNvPicPr/>
            <p:nvPr/>
          </p:nvPicPr>
          <p:blipFill>
            <a:blip r:embed="rId5"/>
            <a:stretch/>
          </p:blipFill>
          <p:spPr>
            <a:xfrm>
              <a:off x="6051960" y="5136840"/>
              <a:ext cx="1068120" cy="12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7"/>
            <p:cNvSpPr/>
            <p:nvPr/>
          </p:nvSpPr>
          <p:spPr>
            <a:xfrm>
              <a:off x="5124600" y="4414680"/>
              <a:ext cx="199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Независимость в принятии решений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4" name="Группа 12"/>
          <p:cNvGrpSpPr/>
          <p:nvPr/>
        </p:nvGrpSpPr>
        <p:grpSpPr>
          <a:xfrm>
            <a:off x="3794040" y="4865760"/>
            <a:ext cx="1727280" cy="1658520"/>
            <a:chOff x="3794040" y="4865760"/>
            <a:chExt cx="1727280" cy="1658520"/>
          </a:xfrm>
        </p:grpSpPr>
        <p:pic>
          <p:nvPicPr>
            <p:cNvPr id="425" name="Picture 29" descr="http://news07.join.com.ua/?m=20080508&amp;paged=2"/>
            <p:cNvPicPr/>
            <p:nvPr/>
          </p:nvPicPr>
          <p:blipFill>
            <a:blip r:embed="rId6"/>
            <a:stretch/>
          </p:blipFill>
          <p:spPr>
            <a:xfrm>
              <a:off x="4009680" y="4865760"/>
              <a:ext cx="142848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Box 11"/>
            <p:cNvSpPr/>
            <p:nvPr/>
          </p:nvSpPr>
          <p:spPr>
            <a:xfrm>
              <a:off x="3794040" y="5881680"/>
              <a:ext cx="17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быть лидером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27" name="Группа 14"/>
          <p:cNvGrpSpPr/>
          <p:nvPr/>
        </p:nvGrpSpPr>
        <p:grpSpPr>
          <a:xfrm>
            <a:off x="915840" y="4332240"/>
            <a:ext cx="3144960" cy="2165400"/>
            <a:chOff x="915840" y="4332240"/>
            <a:chExt cx="3144960" cy="2165400"/>
          </a:xfrm>
        </p:grpSpPr>
        <p:pic>
          <p:nvPicPr>
            <p:cNvPr id="428" name="Picture 30" descr="j0427686"/>
            <p:cNvPicPr/>
            <p:nvPr/>
          </p:nvPicPr>
          <p:blipFill>
            <a:blip r:embed="rId7"/>
            <a:stretch/>
          </p:blipFill>
          <p:spPr>
            <a:xfrm>
              <a:off x="915840" y="5201280"/>
              <a:ext cx="158472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Box 13"/>
            <p:cNvSpPr/>
            <p:nvPr/>
          </p:nvSpPr>
          <p:spPr>
            <a:xfrm>
              <a:off x="2015280" y="4332240"/>
              <a:ext cx="204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пособность к непрерывному самообразованию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0" name="Группа 16"/>
          <p:cNvGrpSpPr/>
          <p:nvPr/>
        </p:nvGrpSpPr>
        <p:grpSpPr>
          <a:xfrm>
            <a:off x="466560" y="3236760"/>
            <a:ext cx="3059280" cy="1908360"/>
            <a:chOff x="466560" y="3236760"/>
            <a:chExt cx="3059280" cy="1908360"/>
          </a:xfrm>
        </p:grpSpPr>
        <p:pic>
          <p:nvPicPr>
            <p:cNvPr id="431" name="Picture 31" descr="j0430565"/>
            <p:cNvPicPr/>
            <p:nvPr/>
          </p:nvPicPr>
          <p:blipFill>
            <a:blip r:embed="rId8"/>
            <a:stretch/>
          </p:blipFill>
          <p:spPr>
            <a:xfrm>
              <a:off x="592560" y="3893400"/>
              <a:ext cx="1403280" cy="125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15"/>
            <p:cNvSpPr/>
            <p:nvPr/>
          </p:nvSpPr>
          <p:spPr>
            <a:xfrm>
              <a:off x="466560" y="3236760"/>
              <a:ext cx="30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мление к профессиональному росту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3" name="Группа 18"/>
          <p:cNvGrpSpPr/>
          <p:nvPr/>
        </p:nvGrpSpPr>
        <p:grpSpPr>
          <a:xfrm>
            <a:off x="466560" y="1616040"/>
            <a:ext cx="2521080" cy="1620720"/>
            <a:chOff x="466560" y="1616040"/>
            <a:chExt cx="2521080" cy="1620720"/>
          </a:xfrm>
        </p:grpSpPr>
        <p:pic>
          <p:nvPicPr>
            <p:cNvPr id="434" name="Picture 32" descr="j0427810"/>
            <p:cNvPicPr/>
            <p:nvPr/>
          </p:nvPicPr>
          <p:blipFill>
            <a:blip r:embed="rId9"/>
            <a:stretch/>
          </p:blipFill>
          <p:spPr>
            <a:xfrm>
              <a:off x="1645200" y="2129400"/>
              <a:ext cx="1342440" cy="110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Box 17"/>
            <p:cNvSpPr/>
            <p:nvPr/>
          </p:nvSpPr>
          <p:spPr>
            <a:xfrm>
              <a:off x="466560" y="1616040"/>
              <a:ext cx="201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мление к высокому качеству конечного продукта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  <p:grpSp>
        <p:nvGrpSpPr>
          <p:cNvPr id="436" name="Группа 20"/>
          <p:cNvGrpSpPr/>
          <p:nvPr/>
        </p:nvGrpSpPr>
        <p:grpSpPr>
          <a:xfrm>
            <a:off x="490680" y="399960"/>
            <a:ext cx="3035160" cy="1152720"/>
            <a:chOff x="490680" y="399960"/>
            <a:chExt cx="3035160" cy="1152720"/>
          </a:xfrm>
        </p:grpSpPr>
        <p:pic>
          <p:nvPicPr>
            <p:cNvPr id="437" name="Picture 23" descr="j0431807"/>
            <p:cNvPicPr/>
            <p:nvPr/>
          </p:nvPicPr>
          <p:blipFill>
            <a:blip r:embed="rId10"/>
            <a:stretch/>
          </p:blipFill>
          <p:spPr>
            <a:xfrm>
              <a:off x="490680" y="399960"/>
              <a:ext cx="13672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Box 19"/>
            <p:cNvSpPr/>
            <p:nvPr/>
          </p:nvSpPr>
          <p:spPr>
            <a:xfrm>
              <a:off x="1860120" y="606960"/>
              <a:ext cx="166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Стрессо-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81d58"/>
                  </a:solidFill>
                  <a:latin typeface="Times New Roman"/>
                </a:rPr>
                <a:t>устойчивость</a:t>
              </a:r>
              <a:endParaRPr b="0" lang="en-US" sz="1800" spc="-1" strike="noStrike">
                <a:solidFill>
                  <a:srgbClr val="081d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1d58"/>
                </a:solidFill>
                <a:latin typeface="Times New Roman"/>
              </a:rPr>
              <a:t>Имидж – некая система внешних характеристик человека, которые создают или подчёркивают неповторимое внутреннее содержание личности</a:t>
            </a:r>
            <a:endParaRPr b="0" lang="en-US" sz="3200" spc="-1" strike="noStrike">
              <a:solidFill>
                <a:srgbClr val="cf0e30"/>
              </a:solidFill>
              <a:latin typeface="Times New Roman"/>
            </a:endParaRPr>
          </a:p>
        </p:txBody>
      </p:sp>
      <p:pic>
        <p:nvPicPr>
          <p:cNvPr id="440" name="Picture 8" descr="j0398409"/>
          <p:cNvPicPr/>
          <p:nvPr/>
        </p:nvPicPr>
        <p:blipFill>
          <a:blip r:embed="rId1"/>
          <a:stretch/>
        </p:blipFill>
        <p:spPr>
          <a:xfrm>
            <a:off x="5651640" y="2627280"/>
            <a:ext cx="27367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7:12:09Z</dcterms:created>
  <dc:creator>*</dc:creator>
  <dc:description/>
  <dc:language>en-US</dc:language>
  <cp:lastModifiedBy>Масягина ОЮ</cp:lastModifiedBy>
  <dcterms:modified xsi:type="dcterms:W3CDTF">2011-04-26T11:20:41Z</dcterms:modified>
  <cp:revision>11</cp:revision>
  <dc:subject/>
  <dc:title>Слайд 1</dc:title>
</cp:coreProperties>
</file>