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C77-419E-45DE-9330-6DA59FC4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137-F0BE-4CA5-9BA1-351BEB3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E93-4F35-41B1-9AF1-C328D4ED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DA0-6ADC-4DA9-B50B-3B041F48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517C-2EFB-4BC8-B757-02B819E6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CCAB-D231-434F-930A-ED8E4C9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FBC1-0AF2-4574-BF4C-CF5D59F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9570-1AE7-4E37-AA72-0BEB4DC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A38C-55A8-42FE-A090-0524975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377C-3BCF-4CCB-B337-80FD06A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5E34-0DBA-4709-8A19-ACC2BB7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3D1-0615-4557-91C3-C501053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4E25-AE41-475C-AEB0-9B6B308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364-1198-4BC6-A5F5-CBF53D4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034-6054-455F-BF51-0116D20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3D5-FD5F-4D8A-8698-C7E4D3DB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76E3-3A33-457C-8BBF-5EBB9CA6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4B3-35E8-43E8-9939-666081F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FC7-57E8-4261-9800-87846CC1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38B-2864-4539-9F26-844FCD68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DE6-2755-4D5C-A0B7-2C98771F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1E5-9679-43F4-87BB-C653311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C6D-37C5-49ED-844C-B276CB0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4CA-74FD-407C-BE13-5B648BA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7FE-8A6A-4535-97C6-CC349A8533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834-C790-4022-AD68-263D66EF3A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blarix.ru/pric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Работа с разным материалом.  Аппликация из и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ойных  деревье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Хвойные деревья"/>
          <p:cNvPicPr/>
          <p:nvPr/>
        </p:nvPicPr>
        <p:blipFill>
          <a:blip r:embed="rId1"/>
          <a:stretch/>
        </p:blipFill>
        <p:spPr>
          <a:xfrm>
            <a:off x="3059280" y="378936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Хвойные деревья"/>
          <p:cNvPicPr/>
          <p:nvPr/>
        </p:nvPicPr>
        <p:blipFill>
          <a:blip r:embed="rId2"/>
          <a:stretch/>
        </p:blipFill>
        <p:spPr>
          <a:xfrm>
            <a:off x="1258920" y="386064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Хвойные деревья"/>
          <p:cNvPicPr/>
          <p:nvPr/>
        </p:nvPicPr>
        <p:blipFill>
          <a:blip r:embed="rId3"/>
          <a:stretch/>
        </p:blipFill>
        <p:spPr>
          <a:xfrm>
            <a:off x="5219640" y="3789360"/>
            <a:ext cx="3313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ые сестрич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вчонки-невелички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етке-елочке сид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олоть меня х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40360" y="1484280"/>
            <a:ext cx="4103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е всегда в лесу найде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йдем гулять и встре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т колючая , как еж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имою в платье лет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отографии  Хвойные от 40 см - 300 см. Сосна, Ель, Пихта, Туя (доставка по РТ и соседям)"/>
          <p:cNvPicPr/>
          <p:nvPr/>
        </p:nvPicPr>
        <p:blipFill>
          <a:blip r:embed="rId1"/>
          <a:stretch/>
        </p:blipFill>
        <p:spPr>
          <a:xfrm>
            <a:off x="5796000" y="2708280"/>
            <a:ext cx="28573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оде сосен, вроде е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зимою без и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лиственниц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76640"/>
            <a:ext cx="45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ственница- это дерево, имеющее листья-хвою, но они зимой опадают, как у лиственных дерев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2178000" cy="335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17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на и ель- целебные деревья. Молодые веточки  и шишки ели- прекрасное средство от цинги. Настой из них принимают при недостатке витамина С, при ангинах, бронхитах, астме. Лечат цингу также хвоей и молодыми побегами лиственницы, которые содержат много аскорбиновой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тракт из хвои употребляют для ванн при лечении нервных и сердечно-сосудист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Ð•Ð»Ð¾Ð²Ñ‹Ðµ Ð²ÐµÑ‚Ð¾Ñ‡ÐºÐ¸ Фото со стока - 4154518"/>
          <p:cNvPicPr/>
          <p:nvPr/>
        </p:nvPicPr>
        <p:blipFill>
          <a:blip r:embed="rId1"/>
          <a:stretch/>
        </p:blipFill>
        <p:spPr>
          <a:xfrm>
            <a:off x="684360" y="0"/>
            <a:ext cx="3816360" cy="1484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745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41623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а и  ель радуют детвору в новогодние праздники. Древесина хвойных пород дерева применяются в кораблестроении и строительстве благодаря своим высоким каче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Новогодняя елка"/>
          <p:cNvPicPr/>
          <p:nvPr/>
        </p:nvPicPr>
        <p:blipFill>
          <a:blip r:embed="rId1"/>
          <a:stretch/>
        </p:blipFill>
        <p:spPr>
          <a:xfrm>
            <a:off x="5219640" y="2205000"/>
            <a:ext cx="3648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2835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ЗА РАБОТУ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27880" y="2852640"/>
            <a:ext cx="2309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52:59Z</dcterms:created>
  <dc:creator>Customer</dc:creator>
  <dc:description/>
  <dc:language>en-US</dc:language>
  <cp:lastModifiedBy>Customer</cp:lastModifiedBy>
  <dcterms:modified xsi:type="dcterms:W3CDTF">2012-07-12T17:34:07Z</dcterms:modified>
  <cp:revision>3</cp:revision>
  <dc:subject/>
  <dc:title>Слайд 1</dc:title>
</cp:coreProperties>
</file>