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E9E-9FD6-4DE7-828B-5884D3D6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3AF-5B77-4E47-9F34-464F6C60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D08-7C7A-4666-922D-FF18ED4F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5C32-E5DA-4987-9CBF-678C7A80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5D3-8F06-41D6-8AB9-2D86332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6BA9-3F1B-4F1D-B0A8-DAB9614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7BB9-A51D-4806-A725-A13FDB2F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9551-0238-4F8C-BAD0-F999F9B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E240-5C90-4379-BC42-AD7BEBA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DCD2-34E7-411B-928B-006DE86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B961-CFB3-41F9-AC86-4E3CD30F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5269-C64C-4A1B-84FD-8DD7D61F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733-724B-4936-AEC6-99F103A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4E4-33A6-4E90-8E76-9BC7152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6ECB-7592-4325-948C-890228E6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7737-B750-45D1-9238-2161F452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2E0-8AC2-4FF5-8C80-AA249497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D99-C578-4C20-87F5-DDFA41B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FF4-CAE8-4436-8ACA-35C375E0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E2C-791D-457A-9646-C677C822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9EE-8829-4EE7-B352-89C47AC1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75A-3007-4FBA-9FEA-EF625F9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A03-D87A-451E-9111-010CD5F5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263-0910-4E2B-9E7F-673BBFD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B68-BFED-4D07-B8C1-18F196F61B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EB42-EB49-4462-8E31-C07C7ED8E6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blarix.ru/price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 Работа с разным материалом.  Аппликация из иго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ойных  деревье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Хвойные деревья"/>
          <p:cNvPicPr/>
          <p:nvPr/>
        </p:nvPicPr>
        <p:blipFill>
          <a:blip r:embed="rId1"/>
          <a:stretch/>
        </p:blipFill>
        <p:spPr>
          <a:xfrm>
            <a:off x="3059280" y="3789360"/>
            <a:ext cx="1976400" cy="197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Хвойные деревья"/>
          <p:cNvPicPr/>
          <p:nvPr/>
        </p:nvPicPr>
        <p:blipFill>
          <a:blip r:embed="rId2"/>
          <a:stretch/>
        </p:blipFill>
        <p:spPr>
          <a:xfrm>
            <a:off x="1258920" y="386064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Хвойные деревья"/>
          <p:cNvPicPr/>
          <p:nvPr/>
        </p:nvPicPr>
        <p:blipFill>
          <a:blip r:embed="rId3"/>
          <a:stretch/>
        </p:blipFill>
        <p:spPr>
          <a:xfrm>
            <a:off x="5219640" y="3789360"/>
            <a:ext cx="3313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ые сестрич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вчонки-невелички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етке-елочке сидя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олоть меня х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40360" y="1484280"/>
            <a:ext cx="41036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е всегда в лесу найдеш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йдем гулять и встрет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ит колючая , как еж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имою в платье лет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Фотографии  Хвойные от 40 см - 300 см. Сосна, Ель, Пихта, Туя (доставка по РТ и соседям)"/>
          <p:cNvPicPr/>
          <p:nvPr/>
        </p:nvPicPr>
        <p:blipFill>
          <a:blip r:embed="rId1"/>
          <a:stretch/>
        </p:blipFill>
        <p:spPr>
          <a:xfrm>
            <a:off x="5796000" y="2708280"/>
            <a:ext cx="28573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оде сосен, вроде ел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зимою без иго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лиственниц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276640"/>
            <a:ext cx="4572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ственница- это дерево, имеющее листья-хвою, но они зимой опадают, как у лиственных деревь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2178000" cy="335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17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на и ель- целебные деревья. Молодые веточки  и шишки ели- прекрасное средство от цинги. Настой из них принимают при недостатке витамина С, при ангинах, бронхитах, астме. Лечат цингу также хвоей и молодыми побегами лиственницы, которые содержат много аскорбиновой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тракт из хвои употребляют для ванн при лечении нервных и сердечно-сосудист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Ð•Ð»Ð¾Ð²Ñ‹Ðµ Ð²ÐµÑ‚Ð¾Ñ‡ÐºÐ¸ Фото со стока - 4154518"/>
          <p:cNvPicPr/>
          <p:nvPr/>
        </p:nvPicPr>
        <p:blipFill>
          <a:blip r:embed="rId1"/>
          <a:stretch/>
        </p:blipFill>
        <p:spPr>
          <a:xfrm>
            <a:off x="684360" y="0"/>
            <a:ext cx="3816360" cy="1484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745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57360"/>
            <a:ext cx="41623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на и  ель радуют детвору в новогодние праздники. Древесина хвойных пород дерева применяются в кораблестроении и строительстве благодаря своим высоким каче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Новогодняя елка"/>
          <p:cNvPicPr/>
          <p:nvPr/>
        </p:nvPicPr>
        <p:blipFill>
          <a:blip r:embed="rId1"/>
          <a:stretch/>
        </p:blipFill>
        <p:spPr>
          <a:xfrm>
            <a:off x="5219640" y="2205000"/>
            <a:ext cx="3648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2835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ЗА РАБОТУ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527880" y="2852640"/>
            <a:ext cx="23097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6:52:59Z</dcterms:created>
  <dc:creator>Customer</dc:creator>
  <dc:description/>
  <dc:language>en-US</dc:language>
  <cp:lastModifiedBy>Customer</cp:lastModifiedBy>
  <dcterms:modified xsi:type="dcterms:W3CDTF">2012-07-12T17:34:07Z</dcterms:modified>
  <cp:revision>3</cp:revision>
  <dc:subject/>
  <dc:title>Слайд 1</dc:title>
</cp:coreProperties>
</file>