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6890-2DBF-46A8-A816-E48DC273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863-C65F-41FA-8657-B08098F9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897-93CE-4516-93D4-C2FF4AED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4FC-74CB-43CD-A211-8751BB27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BBF0-592A-4F6B-A3E5-97C590F2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0153-F892-4B7D-8429-693DB50F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7FD1-8195-46D8-A533-AE44C64A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0886-DE24-4043-B478-88DDD592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5C58-B89E-4E68-A28F-2FD96EFB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FA70-03D2-4D85-964A-F4887E0A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DFC5-F14D-43B2-9B31-C9AA65CF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8DD-A9BA-4704-9D5C-636196BB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B537-AC61-4AEB-80E1-A4CA191A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95AD-0206-4B12-B653-1B1A14AE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D944-401F-4D6A-BF04-6B87DF45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9ECA-5EFD-4E26-8474-BD497185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E25F-3007-429F-BBA5-4D892E3C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C19-3923-4D23-8FB0-FFF7372A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E48-5E58-4C7D-810A-802311FD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E93-D096-4E11-AC3A-CDC5B730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59A-E094-43CF-9CFD-EF9FFE24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C92F-60B2-45FB-9889-3C86DDC2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5FC-1535-47B9-BBF9-633B19AE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E5D-2277-402D-B8BB-80442496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2F6B-A0C8-48E7-931C-A017AE6A34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6F0A-8F2B-4B5A-AF5C-CEC70CEC12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8380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7200" spc="-1" strike="noStrike">
                <a:solidFill>
                  <a:srgbClr val="330033"/>
                </a:solidFill>
                <a:latin typeface="Times New Roman"/>
              </a:rPr>
              <a:t>П  Р  О  Е  К  Т</a:t>
            </a:r>
            <a:br>
              <a:rPr sz="72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Образовательная область «Технология»</a:t>
            </a:r>
            <a:br>
              <a:rPr sz="24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Выполнил работу   ученик 11 «а» класса</a:t>
            </a:r>
            <a:br>
              <a:rPr sz="20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МОУ СОШ №4 г.о.Железнодорожный Московской области</a:t>
            </a:r>
            <a:br>
              <a:rPr sz="2000"/>
            </a:b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ВОРОНИН РОМАН</a:t>
            </a:r>
            <a:br>
              <a:rPr sz="24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Руководитель проекта – Кученов Г.Г. </a:t>
            </a:r>
            <a:br>
              <a:rPr sz="24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Учитель технологии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4920" y="37335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Изготовление декоративного издел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Кривой меч – АКИНА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52280" y="228600"/>
          <a:ext cx="8763120" cy="6553080"/>
        </p:xfrm>
        <a:graphic>
          <a:graphicData uri="http://schemas.openxmlformats.org/drawingml/2006/table">
            <a:tbl>
              <a:tblPr/>
              <a:tblGrid>
                <a:gridCol w="533520"/>
                <a:gridCol w="2487600"/>
                <a:gridCol w="4108320"/>
                <a:gridCol w="1633680"/>
              </a:tblGrid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лить по контуру изделие с припу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ла, верст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рогать острие меча и боковые стор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анок, верс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гать рукоять меча до закругления со всех стор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анок, верс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истить рукоять меча  и  основание кли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шпили, верс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истить все стороны до необходимых размер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шпили, верс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истить все стороны до гладкой поверх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ждачная бумага разной зернист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Picture 48" descr="Ятаган ЧБ ЭСК2"/>
          <p:cNvPicPr/>
          <p:nvPr/>
        </p:nvPicPr>
        <p:blipFill>
          <a:blip r:embed="rId1"/>
          <a:stretch/>
        </p:blipFill>
        <p:spPr>
          <a:xfrm>
            <a:off x="3352680" y="304920"/>
            <a:ext cx="3810240" cy="1295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0" descr="Ятаган сбоку 1б"/>
          <p:cNvPicPr/>
          <p:nvPr/>
        </p:nvPicPr>
        <p:blipFill>
          <a:blip r:embed="rId2"/>
          <a:stretch/>
        </p:blipFill>
        <p:spPr>
          <a:xfrm>
            <a:off x="3276720" y="1752480"/>
            <a:ext cx="380988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3" descr="Ятаган сбоку 1обр"/>
          <p:cNvPicPr/>
          <p:nvPr/>
        </p:nvPicPr>
        <p:blipFill>
          <a:blip r:embed="rId3"/>
          <a:stretch/>
        </p:blipFill>
        <p:spPr>
          <a:xfrm>
            <a:off x="3276720" y="3429000"/>
            <a:ext cx="3848040" cy="91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4" descr="Ятаган сбоку 1в"/>
          <p:cNvPicPr/>
          <p:nvPr/>
        </p:nvPicPr>
        <p:blipFill>
          <a:blip r:embed="rId4"/>
          <a:stretch/>
        </p:blipFill>
        <p:spPr>
          <a:xfrm>
            <a:off x="3352680" y="2514600"/>
            <a:ext cx="3733920" cy="781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9" descr="Ятаган сбоку 4 Ч"/>
          <p:cNvPicPr/>
          <p:nvPr/>
        </p:nvPicPr>
        <p:blipFill>
          <a:blip r:embed="rId5"/>
          <a:stretch/>
        </p:blipFill>
        <p:spPr>
          <a:xfrm>
            <a:off x="3276720" y="4419720"/>
            <a:ext cx="3886200" cy="103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9" descr="Ятаган 2з"/>
          <p:cNvPicPr/>
          <p:nvPr/>
        </p:nvPicPr>
        <p:blipFill>
          <a:blip r:embed="rId6"/>
          <a:stretch/>
        </p:blipFill>
        <p:spPr>
          <a:xfrm>
            <a:off x="3276720" y="5562720"/>
            <a:ext cx="388620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Экологическая оценка проекта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ив весь технологический процесс изготовления изделия, мы не выявили ни одного фактора, который мог бы нарушить окружающую среду или повлиять на факторы жизнедеятельности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каких химических, вредных веществ в процессе изготовления нашего изделия выделено не было и не будет, так как, всё изготавливается из древесины ручными инструментами – ножовкой, рубанком, рашпилем, наждачной бума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ходы изготовления изделия – стружки и опилки, можно использовать для подстилки животным в живом уго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Экономическая оценка проекта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кономического обоснования проекта приведем расч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рат  и   просчитаем   полученный эффект  от  проделан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ы.      Затраты на закупку сырья и материал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Доска (сосна) длинной 60 см. по цене 15 руб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Наждачная бумага любой зернистости  – 100руб. за м2.; необходимо 50 см., стоимость составит 50 руб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Мохно использовать Лак на водной основе – 1л. по 50руб., необходимо 200гр., что составит 10 руб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не учитывать амортизационные издержки испольнования ножовки, рубанка, рашпиля и верстака, то всего затратим материалов на сумму 75 руб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раты на электроэнергию В процессе изготовления изделия из расчета 4часа. на одно изделие не превысят 25 руб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ому, стоимость изготовления изделия менее 100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Заключени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готовление изделия макета Кривого меча будет посильно учащимся любой школы в учебных мастерских на кружковых занятиях, а так же и на уроках техн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результат, мы добились в процессе проектирования решение всех поставленных зада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полнительное, углубленное изучение различных способов обработки древесины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учились быстро и своевременно добывать различную техническую и историческую информацию в книгах и Интерне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но решали вопросы рационализации и изобретательства, чтобы достичь необходимого результа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стигли хороших технико-экономических показателей в результате выполнения проек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оим решением смогли создать условия, которые обеспечат помощь в решении вопросов технического и патриотического воспитания, развития у молодых людей любви к труду, творчеству и тяге к зна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нченко Г.К. Клинок в бою: 5000 лет сражений Оружейная коллекция. Яуза.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А.Пономарёва. Проектная деятельность на уроке Технологии 5-11кл. Волгоград.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лди Генри Лайон - Мэйлан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ия «Мечи»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ьи из Интер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0033"/>
                </a:solidFill>
                <a:latin typeface="Times New Roman"/>
              </a:rPr>
              <a:t>«ОТ ПРОСТОГО К СЛОЖНОМУ,</a:t>
            </a:r>
            <a:br>
              <a:rPr sz="3600"/>
            </a:br>
            <a:r>
              <a:rPr b="1" i="1" lang="en-US" sz="3600" spc="-1" strike="noStrike">
                <a:solidFill>
                  <a:srgbClr val="330033"/>
                </a:solidFill>
                <a:latin typeface="Times New Roman"/>
              </a:rPr>
              <a:t>  ОТ УВЛЕЧЕНИЯ К ПРИЗВАНИЮ!»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Мечи2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0033"/>
                </a:solidFill>
                <a:latin typeface="Times New Roman"/>
              </a:rPr>
              <a:t>Введение: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изучение предметов истории, изучение способов  изготовления настоящих раритетов и способов изготовления мак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Изучить основные свойства древесины и способы её обработ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Ознакомиться с основными приёмами изготовления изде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Овладение навыками самоорганизации; умение ставить перед собой цели, планировать деятельность; развивать навыки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-38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Анализ актуальности темы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брать данную тему проекта меня подтолкнуло увлечение историческим оружием. Сначала я увлекался детскими игрушками – мечами, кинжалами, но в процессе изучения приёмов обработки древесины стал в школьном  кружке изготовлять макеты исторического оружия, интересуясь назначением  оригиналов. Даже  выбранный мной сегодня персидский Кривой меч - Акинак имеет прототипы европейских моряков – Фальчиону и русских воинов - Тесак. В отличие от прямолинейного собрата, он предназначался в первую очередь для рубящего удара. Изгиб рубящей кромки делал клинок более прочным, а высокое расположение центра тяжести значительно увеличивало его пробивную силу даже через кольчугу. Мною так же были изготовлены макеты копья индейцев, гладиаторского короткого меча, самолёта -бомбардировщика, И при создание макета КРИВОГО МЕЧА - Акинака я старался совместить все исторические размеры предмета и красоту рисунка древеси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Назначение издели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Как наглядное пособие на уроках истории и исторических круж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Может служить в качестве украшения кварти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Наглядное пособие на уроках технологии и в кружковых работа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Можно использовать в качестве подар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Реквизит для театральных постано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Проблем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результате обсуждения и разработки конструкции Маке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ивого меча, а так же анализа подобных изделий из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евесины мы выделили ряд проблем, котор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обходимо решить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блема № 1: Необходимость достижения прочности и надежности изделия для длительного использова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блема № 2: Обеспечение простоты и легкости в изготовле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блема № 3: Обеспечение выполнения изделия необходимыми материал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блема № 4: Разработать технологию изготовления изделия так, чтобы процесс изготовления можно было применить на практике в любой шко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Межпредметные связи: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анализа поставленных задач мы определ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учета межпредметных связей для успеш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я проек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асчет экономического обоснования – матема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Изучение назначения и применения оригиналов - ис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Изучение и выбор материалов – технология, физ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Разработка конструкции с её изображением – чер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Художественная оформление изделия – изобразитель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усство, чер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Экологическая оценка проекта – биология, хим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84872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Технологический раздел</a:t>
            </a:r>
            <a:br>
              <a:rPr sz="3800"/>
            </a:b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Изготовление изделия из дерева –</a:t>
            </a:r>
            <a:br>
              <a:rPr sz="3200"/>
            </a:b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«Макет Кривой меч – Акинак»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Picture 28" descr="Ятаган сбоку 4 Ч"/>
          <p:cNvPicPr/>
          <p:nvPr/>
        </p:nvPicPr>
        <p:blipFill>
          <a:blip r:embed="rId1"/>
          <a:stretch/>
        </p:blipFill>
        <p:spPr>
          <a:xfrm>
            <a:off x="1600200" y="4724280"/>
            <a:ext cx="6705720" cy="146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43000" y="2048040"/>
            <a:ext cx="709596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Технологическая карта</a:t>
            </a:r>
            <a:br>
              <a:rPr sz="3600"/>
            </a:b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Изготовление изделия из дерева – «Макет Кривой меч – Акинак»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2280" y="1600200"/>
          <a:ext cx="8991720" cy="4697280"/>
        </p:xfrm>
        <a:graphic>
          <a:graphicData uri="http://schemas.openxmlformats.org/drawingml/2006/table">
            <a:tbl>
              <a:tblPr/>
              <a:tblGrid>
                <a:gridCol w="852480"/>
                <a:gridCol w="2248200"/>
                <a:gridCol w="4214520"/>
                <a:gridCol w="1676520"/>
              </a:tblGrid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ое изобра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менты и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рать заготовку размером 550х150х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ка, карандаш, пи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рогать пласти и кром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стак, руба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ить разметку на плоскостях загот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блон, каранда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Picture 58" descr="1а"/>
          <p:cNvPicPr/>
          <p:nvPr/>
        </p:nvPicPr>
        <p:blipFill>
          <a:blip r:embed="rId1"/>
          <a:stretch/>
        </p:blipFill>
        <p:spPr>
          <a:xfrm>
            <a:off x="3276720" y="2286000"/>
            <a:ext cx="4038480" cy="1763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0" descr="Ятаган сбоку ЗАГ"/>
          <p:cNvPicPr/>
          <p:nvPr/>
        </p:nvPicPr>
        <p:blipFill>
          <a:blip r:embed="rId2"/>
          <a:stretch/>
        </p:blipFill>
        <p:spPr>
          <a:xfrm>
            <a:off x="3505320" y="4114800"/>
            <a:ext cx="3809880" cy="776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1" descr="Ятаган Шаблон2"/>
          <p:cNvPicPr/>
          <p:nvPr/>
        </p:nvPicPr>
        <p:blipFill>
          <a:blip r:embed="rId3"/>
          <a:stretch/>
        </p:blipFill>
        <p:spPr>
          <a:xfrm>
            <a:off x="3276720" y="5029200"/>
            <a:ext cx="4114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7-04T13:29:3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