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6A1-4A58-4B6D-A1E2-F7F7CD94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4F7-6D7E-40C5-BACE-E9A651E4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F25-7FB3-4887-AB60-9FF62773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B59-64AF-4FCD-A2D9-A75CC352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1E2F-67C8-4BF0-B472-F90827EA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F44F-395B-4EBC-804F-3BA7C2A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F98F-5B0D-4C40-837A-7E93F19D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9B67-EA67-4D2A-B305-F6C5C195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28CD-F5F3-4C3F-B495-8EACEF31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A4A6-AA09-43A9-AA6F-BE2FAAC4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377F-ABAD-4779-9C1C-BD289EA3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C1D-A79F-4615-A305-D0801F75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0206-01C8-420D-BA06-5406FD8C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9E14-4518-474D-851C-035A9B84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C8D6-AA09-43B6-BDD4-069F8A14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526-B0A8-4184-B821-EA55F748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79B9-9CCC-4E8C-A40D-CBE85137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4A8-563D-4ADE-885C-183B4F6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001-F40D-46B6-8700-EAA4E10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2D5-EBA8-47D6-B278-2FB91924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5CB-E126-42E5-952F-BB238C0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8FF-DA20-49C9-91EE-3D89D9C4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E32-1A73-434B-8FAC-FACE0CFF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A14-9A1A-45FF-93D8-4B25B1D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5A62-956B-4F82-B6CA-AC8AE90742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7EFE-B750-42D4-89DE-2095BF3772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330033"/>
                </a:solidFill>
                <a:latin typeface="Times New Roman"/>
              </a:rPr>
              <a:t>П  Р  О  Е  К  Т</a:t>
            </a:r>
            <a:br>
              <a:rPr sz="72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бразовательная область «Технология»</a:t>
            </a:r>
            <a:br>
              <a:rPr sz="24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Выполнил работу   ученик 11 «а» класса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МОУ СОШ №4 г.о.Железнодорожный Московской области</a:t>
            </a:r>
            <a:br>
              <a:rPr sz="20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ОРОНИН РОМАН</a:t>
            </a:r>
            <a:br>
              <a:rPr sz="24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Руководитель проекта – Кученов Г.Г. </a:t>
            </a:r>
            <a:br>
              <a:rPr sz="24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Учитель технологии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37335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готовление декоративного изде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Кривой меч – АКИНА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2280" y="228600"/>
          <a:ext cx="8763120" cy="6553080"/>
        </p:xfrm>
        <a:graphic>
          <a:graphicData uri="http://schemas.openxmlformats.org/drawingml/2006/table">
            <a:tbl>
              <a:tblPr/>
              <a:tblGrid>
                <a:gridCol w="533520"/>
                <a:gridCol w="2487600"/>
                <a:gridCol w="4108320"/>
                <a:gridCol w="1633680"/>
              </a:tblGrid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лить по контуру изделие с припу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ла, верс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огать острие меча и боковые сто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анок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ать рукоять меча до закругления со всех сто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анок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истить рукоять меча  и  основание кл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шпили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истить все стороны до необходимых размер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шпили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истить все стороны до гладкой поверх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дачная бумага разной зернист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8" descr="Ятаган ЧБ ЭСК2"/>
          <p:cNvPicPr/>
          <p:nvPr/>
        </p:nvPicPr>
        <p:blipFill>
          <a:blip r:embed="rId1"/>
          <a:stretch/>
        </p:blipFill>
        <p:spPr>
          <a:xfrm>
            <a:off x="3352680" y="304920"/>
            <a:ext cx="38102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0" descr="Ятаган сбоку 1б"/>
          <p:cNvPicPr/>
          <p:nvPr/>
        </p:nvPicPr>
        <p:blipFill>
          <a:blip r:embed="rId2"/>
          <a:stretch/>
        </p:blipFill>
        <p:spPr>
          <a:xfrm>
            <a:off x="3276720" y="1752480"/>
            <a:ext cx="380988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Ятаган сбоку 1обр"/>
          <p:cNvPicPr/>
          <p:nvPr/>
        </p:nvPicPr>
        <p:blipFill>
          <a:blip r:embed="rId3"/>
          <a:stretch/>
        </p:blipFill>
        <p:spPr>
          <a:xfrm>
            <a:off x="3276720" y="3429000"/>
            <a:ext cx="3848040" cy="91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Ятаган сбоку 1в"/>
          <p:cNvPicPr/>
          <p:nvPr/>
        </p:nvPicPr>
        <p:blipFill>
          <a:blip r:embed="rId4"/>
          <a:stretch/>
        </p:blipFill>
        <p:spPr>
          <a:xfrm>
            <a:off x="3352680" y="2514600"/>
            <a:ext cx="373392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9" descr="Ятаган сбоку 4 Ч"/>
          <p:cNvPicPr/>
          <p:nvPr/>
        </p:nvPicPr>
        <p:blipFill>
          <a:blip r:embed="rId5"/>
          <a:stretch/>
        </p:blipFill>
        <p:spPr>
          <a:xfrm>
            <a:off x="3276720" y="4419720"/>
            <a:ext cx="3886200" cy="103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Ятаган 2з"/>
          <p:cNvPicPr/>
          <p:nvPr/>
        </p:nvPicPr>
        <p:blipFill>
          <a:blip r:embed="rId6"/>
          <a:stretch/>
        </p:blipFill>
        <p:spPr>
          <a:xfrm>
            <a:off x="3276720" y="5562720"/>
            <a:ext cx="388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Экологическая оценка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 весь технологический процесс изготовления изделия, мы не выявили ни одного фактора, который мог бы нарушить окружающую среду или повлиять на факторы жизнедеятель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аких химических, вредных веществ в процессе изготовления нашего изделия выделено не было и не будет, так как, всё изготавливается из древесины ручными инструментами – ножовкой, рубанком, рашпилем, наждачной бума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ходы изготовления изделия – стружки и опилки, можно использовать для подстилки животным в живом уго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Экономическая оценка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кономического обоснования проекта приведем рас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рат  и   просчитаем   полученный эффект  от  продела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.      Затраты на закупку сырья и материа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оска (сосна) длинной 60 см. по цене 15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Наждачная бумага любой зернистости  – 100руб. за м2.; необходимо 50 см., стоимость составит 50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Мохно использовать Лак на водной основе – 1л. по 50руб., необходимо 200гр., что составит 10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 учитывать амортизационные издержки испольнования ножовки, рубанка, рашпиля и верстака, то всего затратим материалов на сумму 75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раты на электроэнергию В процессе изготовления изделия из расчета 4часа. на одно изделие не превысят 25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, стоимость изготовления изделия менее 100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Заключ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готовление изделия макета Кривого меча будет посильно учащимся любой школы в учебных мастерских на кружковых занятиях, а так же и на уроках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результат, мы добились в процессе проектирования решение всех поставленных зада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ое, углубленное изучение различных способов обработки древесины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ились быстро и своевременно добывать различную техническую и историческую информацию в книгах и Интерне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 решали вопросы рационализации и изобретательства, чтобы достичь необходимого результа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игли хороших технико-экономических показателей в результате выполнения проек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им решением смогли создать условия, которые обеспечат помощь в решении вопросов технического и патриотического воспитания, развития у молодых людей любви к труду, творчеству и тяге к зна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ченко Г.К. Клинок в бою: 5000 лет сражений Оружейная коллекция. Яуза.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А.Пономарёва. Проектная деятельность на уроке Технологии 5-11кл. Волгоград.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ди Генри Лайон - Мэйлан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ия «Мечи»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из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33"/>
                </a:solidFill>
                <a:latin typeface="Times New Roman"/>
              </a:rPr>
              <a:t>«ОТ ПРОСТОГО К СЛОЖНОМУ,</a:t>
            </a:r>
            <a:br>
              <a:rPr sz="3600"/>
            </a:br>
            <a:r>
              <a:rPr b="1" i="1" lang="en-US" sz="3600" spc="-1" strike="noStrike">
                <a:solidFill>
                  <a:srgbClr val="330033"/>
                </a:solidFill>
                <a:latin typeface="Times New Roman"/>
              </a:rPr>
              <a:t>  ОТ УВЛЕЧЕНИЯ К ПРИЗВАНИЮ!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Мечи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Введение: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изучение предметов истории, изучение способов  изготовления настоящих раритетов и способов изготовления мак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зучить основные свойства древесины и способы её обрабо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знакомиться с основными приёмами изготовления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владение навыками самоорганизации; умение ставить перед собой цели, планировать деятельность; развивать навык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нализ актуальности тем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данную тему проекта меня подтолкнуло увлечение историческим оружием. Сначала я увлекался детскими игрушками – мечами, кинжалами, но в процессе изучения приёмов обработки древесины стал в школьном  кружке изготовлять макеты исторического оружия, интересуясь назначением  оригиналов. Даже  выбранный мной сегодня персидский Кривой меч - Акинак имеет прототипы европейских моряков – Фальчиону и русских воинов - Тесак. В отличие от прямолинейного собрата, он предназначался в первую очередь для рубящего удара. Изгиб рубящей кромки делал клинок более прочным, а высокое расположение центра тяжести значительно увеличивало его пробивную силу даже через кольчугу. Мною так же были изготовлены макеты копья индейцев, гладиаторского короткого меча, самолёта -бомбардировщика, И при создание макета КРИВОГО МЕЧА - Акинака я старался совместить все исторические размеры предмета и красоту рисунка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Назначение издел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Как наглядное пособие на уроках истории и исторических круж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Может служить в качестве украшения кварти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Наглядное пособие на уроках технологии и в кружковых работ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Можно использовать в качестве пода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Реквизит для театральных по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роблем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результате обсуждения и разработки конструкции Мак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ивого меча, а так же анализа подобных изделий и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евесины мы выделили ряд проблем,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обходимо реш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1: Необходимость достижения прочности и надежности изделия для длительного использо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2: Обеспечение простоты и легкости в изготовле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3: Обеспечение выполнения изделия необходимыми материал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4: Разработать технологию изготовления изделия так, чтобы процесс изготовления можно было применить на практике в любой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Межпредметные связи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анализа поставленных задач мы определ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учета межпредметных связей для успеш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асчет экономического обоснования – матема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зучение назначения и применения оригиналов -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учение и выбор материалов – технология, физ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Разработка конструкции с её изображением – чер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Художественная оформление изделия – изобразите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, чер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Экологическая оценка проекта – биология, хим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487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ехнологический раздел</a:t>
            </a:r>
            <a:br>
              <a:rPr sz="38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Изготовление изделия из дерева –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«Макет Кривой меч – Акинак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28" descr="Ятаган сбоку 4 Ч"/>
          <p:cNvPicPr/>
          <p:nvPr/>
        </p:nvPicPr>
        <p:blipFill>
          <a:blip r:embed="rId1"/>
          <a:stretch/>
        </p:blipFill>
        <p:spPr>
          <a:xfrm>
            <a:off x="1600200" y="4724280"/>
            <a:ext cx="670572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43000" y="2048040"/>
            <a:ext cx="709596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Технологическая карта</a:t>
            </a:r>
            <a:br>
              <a:rPr sz="36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зготовление изделия из дерева – «Макет Кривой меч – Акинак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600200"/>
          <a:ext cx="8991720" cy="4697280"/>
        </p:xfrm>
        <a:graphic>
          <a:graphicData uri="http://schemas.openxmlformats.org/drawingml/2006/table">
            <a:tbl>
              <a:tblPr/>
              <a:tblGrid>
                <a:gridCol w="852480"/>
                <a:gridCol w="2248200"/>
                <a:gridCol w="4214520"/>
                <a:gridCol w="167652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ать заготовку размером 550х150х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а, карандаш, п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огать пласти и кро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стак, руба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ь разметку на плоскостях за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лон, каранда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58" descr="1а"/>
          <p:cNvPicPr/>
          <p:nvPr/>
        </p:nvPicPr>
        <p:blipFill>
          <a:blip r:embed="rId1"/>
          <a:stretch/>
        </p:blipFill>
        <p:spPr>
          <a:xfrm>
            <a:off x="3276720" y="2286000"/>
            <a:ext cx="4038480" cy="176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0" descr="Ятаган сбоку ЗАГ"/>
          <p:cNvPicPr/>
          <p:nvPr/>
        </p:nvPicPr>
        <p:blipFill>
          <a:blip r:embed="rId2"/>
          <a:stretch/>
        </p:blipFill>
        <p:spPr>
          <a:xfrm>
            <a:off x="3505320" y="4114800"/>
            <a:ext cx="3809880" cy="77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1" descr="Ятаган Шаблон2"/>
          <p:cNvPicPr/>
          <p:nvPr/>
        </p:nvPicPr>
        <p:blipFill>
          <a:blip r:embed="rId3"/>
          <a:stretch/>
        </p:blipFill>
        <p:spPr>
          <a:xfrm>
            <a:off x="3276720" y="5029200"/>
            <a:ext cx="4114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04T13:29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